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11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516-ECBC-457D-93C1-E419DA43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B02-3DAA-459F-B99C-4EB09F7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490-A50A-43B2-81B8-C6EF265E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4AA-F55F-43B5-A39F-EB931EC0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940F-B01D-4B0E-A6A7-3F3CB20A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8DBA-DC8B-4296-A6A1-5E1B6AA5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4125-2F58-470E-AE0D-7FB4FA5C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A223-7CE1-40B2-928E-E0FB7947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CB0F-6032-4252-AF1A-B8ED86F4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FD5B-62E5-4FCA-9457-5D96E408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EEF8-42BC-454F-A594-1F76A053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2E2-DDAB-4AAB-9ABF-33ED7AAE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BE36-B8C3-41CB-9AAF-2D7852E9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6DC4-D038-40E0-B433-1EA4638B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2DDB-0CAC-454E-9AFE-A736225E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0B79-1E9C-48E5-82A6-C1669833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4FEB-EC6D-46EA-8D42-D119ED49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6A5-F843-4A52-BC7E-F33F76E8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8EF-EEC4-47A1-8F22-E1C2AA5B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0A5-160E-425C-A44B-C09C8965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E6F-6FC2-4235-A4B3-B54DAEA2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50F-9F54-4242-B217-1152F753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C5B-44D7-43F3-B786-C8CE7A99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5CB-3149-42CB-8A99-BE877C16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686E-771E-4964-9078-1F460BD729A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056D-EFDB-4153-8215-F4547F4A1DE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habrahabr.ru/company/intel/blog/110234/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http://im0-tub-ru.yandex.net/i?id=65f23968576b76a2dec5f7a9c739b502-87-144&amp;n=21"/>
          <p:cNvPicPr/>
          <p:nvPr/>
        </p:nvPicPr>
        <p:blipFill>
          <a:blip r:embed="rId1"/>
          <a:stretch/>
        </p:blipFill>
        <p:spPr>
          <a:xfrm>
            <a:off x="4572000" y="15084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Evolutie tehnologica"/>
          <p:cNvPicPr/>
          <p:nvPr/>
        </p:nvPicPr>
        <p:blipFill>
          <a:blip r:embed="rId2"/>
          <a:stretch/>
        </p:blipFill>
        <p:spPr>
          <a:xfrm>
            <a:off x="4572000" y="3429000"/>
            <a:ext cx="4176720" cy="32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Нанотехнологии выходят в открытый космос Нанотехнологии Nanonewsnet"/>
          <p:cNvPicPr/>
          <p:nvPr/>
        </p:nvPicPr>
        <p:blipFill>
          <a:blip r:embed="rId3"/>
          <a:stretch/>
        </p:blipFill>
        <p:spPr>
          <a:xfrm>
            <a:off x="179280" y="15084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Применение солнечных батарей"/>
          <p:cNvPicPr/>
          <p:nvPr/>
        </p:nvPicPr>
        <p:blipFill>
          <a:blip r:embed="rId4"/>
          <a:stretch/>
        </p:blipFill>
        <p:spPr>
          <a:xfrm>
            <a:off x="179280" y="3429000"/>
            <a:ext cx="4176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189000" y="792000"/>
            <a:ext cx="8746920" cy="136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46"/>
          <p:cNvGrpSpPr/>
          <p:nvPr/>
        </p:nvGrpSpPr>
        <p:grpSpPr>
          <a:xfrm>
            <a:off x="807480" y="2814480"/>
            <a:ext cx="7320600" cy="1811880"/>
            <a:chOff x="807480" y="2814480"/>
            <a:chExt cx="7320600" cy="1811880"/>
          </a:xfrm>
        </p:grpSpPr>
        <p:sp>
          <p:nvSpPr>
            <p:cNvPr id="124" name="Text Box 5"/>
            <p:cNvSpPr/>
            <p:nvPr/>
          </p:nvSpPr>
          <p:spPr>
            <a:xfrm>
              <a:off x="807480" y="2967480"/>
              <a:ext cx="992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Si</a:t>
              </a:r>
              <a:r>
                <a:rPr b="0" lang="ru-RU" sz="4400" spc="-1" strike="noStrike" baseline="30000">
                  <a:solidFill>
                    <a:srgbClr val="ffff00"/>
                  </a:solidFill>
                  <a:latin typeface="Times New Roman"/>
                </a:rPr>
                <a:t>+4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4249440" y="2967480"/>
              <a:ext cx="75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Si</a:t>
              </a:r>
              <a:r>
                <a:rPr b="0" lang="ru-RU" sz="4000" spc="-1" strike="noStrike" baseline="30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7209720" y="2814480"/>
              <a:ext cx="91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Times New Roman"/>
                </a:rPr>
                <a:t>Si</a:t>
              </a:r>
              <a:r>
                <a:rPr b="0" lang="ru-RU" sz="4400" spc="-1" strike="noStrike" baseline="30000">
                  <a:solidFill>
                    <a:srgbClr val="ffff00"/>
                  </a:solidFill>
                  <a:latin typeface="Times New Roman"/>
                </a:rPr>
                <a:t>-4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226600" y="2814480"/>
              <a:ext cx="19134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осстановител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4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5163840" y="2814480"/>
              <a:ext cx="146556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Окислител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+ 4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2182320" y="4046760"/>
              <a:ext cx="206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l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, F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, 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5315400" y="4046760"/>
              <a:ext cx="65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>
              <a:off x="5024160" y="3738240"/>
              <a:ext cx="18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 flipH="1">
              <a:off x="2288520" y="3738240"/>
              <a:ext cx="180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700280"/>
          </a:xfrm>
          <a:prstGeom prst="rect">
            <a:avLst/>
          </a:prstGeom>
          <a:ln w="0">
            <a:noFill/>
          </a:ln>
        </p:spPr>
      </p:pic>
      <p:pic>
        <p:nvPicPr>
          <p:cNvPr id="134" name="Получение кремниевой кислоты.wmv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5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360360" y="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3964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932968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роизводство кислотоупорных сплав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Из расплавленного кварца делают химическую посуду (термостойкая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932968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ЖК-пане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932968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Производство стекла, цемента, фарфора, фаянса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932968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</a:rPr>
              <a:t>В солнечных батаре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10"/>
          <p:cNvPicPr/>
          <p:nvPr/>
        </p:nvPicPr>
        <p:blipFill>
          <a:blip r:embed="rId2"/>
          <a:srcRect l="3750" t="4724" r="7440" b="4724"/>
          <a:stretch/>
        </p:blipFill>
        <p:spPr>
          <a:xfrm>
            <a:off x="7559640" y="3500280"/>
            <a:ext cx="1584360" cy="136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11"/>
          <p:cNvPicPr/>
          <p:nvPr/>
        </p:nvPicPr>
        <p:blipFill>
          <a:blip r:embed="rId3"/>
          <a:stretch/>
        </p:blipFill>
        <p:spPr>
          <a:xfrm>
            <a:off x="4284720" y="4941720"/>
            <a:ext cx="1584360" cy="1473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7"/>
          <p:cNvPicPr/>
          <p:nvPr/>
        </p:nvPicPr>
        <p:blipFill>
          <a:blip r:embed="rId4"/>
          <a:stretch/>
        </p:blipFill>
        <p:spPr>
          <a:xfrm>
            <a:off x="5508720" y="4005360"/>
            <a:ext cx="194472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8"/>
          <p:cNvPicPr/>
          <p:nvPr/>
        </p:nvPicPr>
        <p:blipFill>
          <a:blip r:embed="rId5"/>
          <a:stretch/>
        </p:blipFill>
        <p:spPr>
          <a:xfrm>
            <a:off x="6732720" y="5013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6"/>
          <a:stretch/>
        </p:blipFill>
        <p:spPr>
          <a:xfrm>
            <a:off x="395280" y="5084640"/>
            <a:ext cx="2016000" cy="135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1"/>
          <p:cNvPicPr/>
          <p:nvPr/>
        </p:nvPicPr>
        <p:blipFill>
          <a:blip r:embed="rId7"/>
          <a:stretch/>
        </p:blipFill>
        <p:spPr>
          <a:xfrm>
            <a:off x="2411280" y="4724280"/>
            <a:ext cx="183528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969840" y="1847880"/>
            <a:ext cx="8008920" cy="232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Астронет Популярная библиотека химических элементов"/>
          <p:cNvPicPr/>
          <p:nvPr/>
        </p:nvPicPr>
        <p:blipFill>
          <a:blip r:embed="rId2"/>
          <a:stretch/>
        </p:blipFill>
        <p:spPr>
          <a:xfrm>
            <a:off x="755640" y="3789360"/>
            <a:ext cx="23036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176040" y="12600"/>
            <a:ext cx="8229600" cy="135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08000" y="1267920"/>
            <a:ext cx="857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тельная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формировать и систематизировать знания о местоположении кремния в периодической системе, свойствах, получении и применении кремния и его соедин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вающая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умения выделять главное и формулировать вывод, умений проводить лабораторный экспери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спитательная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спитывать культуру взаимоотношений при работе в группах (парах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7245360" y="930240"/>
            <a:ext cx="1584360" cy="130968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2" descr=""/>
          <p:cNvPicPr/>
          <p:nvPr/>
        </p:nvPicPr>
        <p:blipFill>
          <a:blip r:embed="rId2"/>
          <a:stretch/>
        </p:blipFill>
        <p:spPr>
          <a:xfrm>
            <a:off x="396720" y="19080"/>
            <a:ext cx="8229600" cy="1127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50920" y="980640"/>
            <a:ext cx="691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эпоху палеолита, т.е. 800-1 000 тысячелетий тому назад, кремний помог человеку в борьбе за жизнь. Этот твердый камень, от которого легко отбить кусок с острыми краями, послужил материалом для первого оружия (наконечником копий и стрел) и первых орудий труда (топоров, ножей и т.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зднее, когда на смену камню пришли медь, бронза, железо, кремень нашел использование в виде огни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ровые компьютерные компании находятся в «Кремниевой долине». Именно кремний служит материалом для изготовления современных процессоров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ременный процессор является самым сложным готовым продуктом на Земле. Инженеры-технологи научились изготавливать процессоры из пес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7245360" y="2260440"/>
            <a:ext cx="1617480" cy="1536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7245360" y="3762360"/>
            <a:ext cx="162864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7245360" y="5186520"/>
            <a:ext cx="162864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347640" y="404640"/>
            <a:ext cx="2374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с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C:\Users\Наталья\Pictures\1.jpg"/>
          <p:cNvPicPr/>
          <p:nvPr/>
        </p:nvPicPr>
        <p:blipFill>
          <a:blip r:embed="rId1"/>
          <a:stretch/>
        </p:blipFill>
        <p:spPr>
          <a:xfrm>
            <a:off x="324000" y="1197000"/>
            <a:ext cx="1876320" cy="243828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pic>
        <p:nvPicPr>
          <p:cNvPr id="98" name="Picture 3" descr="C:\Users\Наталья\Pictures\2.jpg"/>
          <p:cNvPicPr/>
          <p:nvPr/>
        </p:nvPicPr>
        <p:blipFill>
          <a:blip r:embed="rId2"/>
          <a:stretch/>
        </p:blipFill>
        <p:spPr>
          <a:xfrm>
            <a:off x="971640" y="3357720"/>
            <a:ext cx="2305080" cy="172548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pic>
        <p:nvPicPr>
          <p:cNvPr id="99" name="Picture 4" descr="C:\Users\Наталья\Pictures\3.jpg"/>
          <p:cNvPicPr/>
          <p:nvPr/>
        </p:nvPicPr>
        <p:blipFill>
          <a:blip r:embed="rId3"/>
          <a:stretch/>
        </p:blipFill>
        <p:spPr>
          <a:xfrm>
            <a:off x="6588000" y="907920"/>
            <a:ext cx="1944720" cy="174780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pic>
        <p:nvPicPr>
          <p:cNvPr id="100" name="Рисунок 8" descr="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360" y="836640"/>
            <a:ext cx="2160720" cy="161604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sp>
        <p:nvSpPr>
          <p:cNvPr id="101" name="TextBox 1"/>
          <p:cNvSpPr/>
          <p:nvPr/>
        </p:nvSpPr>
        <p:spPr>
          <a:xfrm>
            <a:off x="2195640" y="242100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Горны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Arial"/>
              </a:rPr>
              <a:t>хруст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446520" y="40464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ремнез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4356000" y="2924280"/>
            <a:ext cx="18003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baseline="-25000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Arial"/>
              </a:rPr>
              <a:t>SiO</a:t>
            </a:r>
            <a:r>
              <a:rPr b="1" lang="ru-RU" sz="54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6"/>
          <a:stretch/>
        </p:blipFill>
        <p:spPr>
          <a:xfrm>
            <a:off x="7308720" y="4005360"/>
            <a:ext cx="1508400" cy="195084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sp>
        <p:nvSpPr>
          <p:cNvPr id="105" name="Rectangle 15"/>
          <p:cNvSpPr/>
          <p:nvPr/>
        </p:nvSpPr>
        <p:spPr>
          <a:xfrm>
            <a:off x="723852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мет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6" descr=""/>
          <p:cNvPicPr/>
          <p:nvPr/>
        </p:nvPicPr>
        <p:blipFill>
          <a:blip r:embed="rId7"/>
          <a:stretch/>
        </p:blipFill>
        <p:spPr>
          <a:xfrm>
            <a:off x="5003640" y="4581360"/>
            <a:ext cx="2124360" cy="177336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sp>
        <p:nvSpPr>
          <p:cNvPr id="107" name="Rectangle 17"/>
          <p:cNvSpPr/>
          <p:nvPr/>
        </p:nvSpPr>
        <p:spPr>
          <a:xfrm>
            <a:off x="5511240" y="414972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г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8" descr=""/>
          <p:cNvPicPr/>
          <p:nvPr/>
        </p:nvPicPr>
        <p:blipFill>
          <a:blip r:embed="rId8"/>
          <a:stretch/>
        </p:blipFill>
        <p:spPr>
          <a:xfrm>
            <a:off x="3203640" y="5157720"/>
            <a:ext cx="1623960" cy="138924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sp>
        <p:nvSpPr>
          <p:cNvPr id="109" name="Rectangle 19"/>
          <p:cNvSpPr/>
          <p:nvPr/>
        </p:nvSpPr>
        <p:spPr>
          <a:xfrm>
            <a:off x="3419640" y="4581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Цит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5092560" y="981000"/>
            <a:ext cx="34560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K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2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O • Al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2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O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3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• 6SiO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2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ортокл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(полевой шпа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79280" y="981000"/>
            <a:ext cx="432144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Al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2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O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3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•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2SiO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2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• 2H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2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O  каолин (основная часть глин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3" descr="%D0%BA%D0%B0%D0%BE%D0%BB%D0%B8%D0%BD%D0%B8%D1%82"/>
          <p:cNvPicPr/>
          <p:nvPr/>
        </p:nvPicPr>
        <p:blipFill>
          <a:blip r:embed="rId1"/>
          <a:stretch/>
        </p:blipFill>
        <p:spPr>
          <a:xfrm>
            <a:off x="485640" y="2852640"/>
            <a:ext cx="4015080" cy="2737080"/>
          </a:xfrm>
          <a:prstGeom prst="rect">
            <a:avLst/>
          </a:prstGeom>
          <a:ln w="9360">
            <a:solidFill>
              <a:srgbClr val="41008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3" name="Picture 15" descr="%D0%BE%D1%80%D1%82%D0%BE%D0%BA%D0%BB%D0%B0%D0%B7"/>
          <p:cNvPicPr/>
          <p:nvPr/>
        </p:nvPicPr>
        <p:blipFill>
          <a:blip r:embed="rId2"/>
          <a:stretch/>
        </p:blipFill>
        <p:spPr>
          <a:xfrm>
            <a:off x="5092560" y="2851200"/>
            <a:ext cx="3727440" cy="2738520"/>
          </a:xfrm>
          <a:prstGeom prst="rect">
            <a:avLst/>
          </a:prstGeom>
          <a:ln w="9360">
            <a:solidFill>
              <a:srgbClr val="41008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000" y="30240"/>
            <a:ext cx="8280360" cy="15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Распространённость кремния в природ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4360" y="1843200"/>
            <a:ext cx="7851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8894880" cy="1322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50920" y="1557360"/>
            <a:ext cx="6408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ёмно-серого ц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провод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вёрдый (твердость по шкале Мооса – 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лавления 1415 °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5434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еет металлический блес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6659640" y="2133720"/>
            <a:ext cx="2227320" cy="168732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sp>
        <p:nvSpPr>
          <p:cNvPr id="119" name="Rectangle 5"/>
          <p:cNvSpPr/>
          <p:nvPr/>
        </p:nvSpPr>
        <p:spPr>
          <a:xfrm>
            <a:off x="1547640" y="3933720"/>
            <a:ext cx="525780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учение крем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Mg = 2MgO + S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(ТБ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900</a:t>
            </a:r>
            <a:r>
              <a:rPr b="0" lang="ru-RU" sz="16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C  =  2CO + 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476280" y="255600"/>
            <a:ext cx="8594640" cy="1182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395280" y="102888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Положение кремния в ПСХ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Химический знак – 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Порядковый номер –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Атомная масса – 28,0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Кремний находится в IV группе, гл. подгруппе, 3 пери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Рассмотрим строение ато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Число протонов, электронов, нейтро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4р+; 14ē; 14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Электронная форму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s2 2s2 2p6 3s2 3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Семейство - р-элемен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Важнейшие степени окисления:   -4; 0; +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Характер элемента - неметал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09:36:07Z</dcterms:created>
  <dc:creator>Ярослав</dc:creator>
  <dc:description/>
  <dc:language>en-US</dc:language>
  <cp:lastModifiedBy>пользователь</cp:lastModifiedBy>
  <dcterms:modified xsi:type="dcterms:W3CDTF">2015-01-20T09:03:27Z</dcterms:modified>
  <cp:revision>18</cp:revision>
  <dc:subject/>
  <dc:title>Слайд 1</dc:title>
</cp:coreProperties>
</file>