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435-C4D4-44F3-9C2E-929B28AF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E3B-C7A0-403B-BB51-5629CEF6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500-E503-43A5-A22E-C2CD75B7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129-988B-46E2-9722-92EAA5DC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8C206-19A4-4E1A-9A44-7411BFB3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9DC29-37DB-4074-B893-40501648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AFF83-AC48-40BE-BEEB-C6066824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F05F7-A703-4763-A455-26C22AE8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5E1C7-DEF8-417A-B97B-D05C00AA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CD0D9-9BF6-4CA3-A2FC-52C331E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9D579-80F1-4A00-AA75-6E5FB15A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DE5-06A1-408F-AF59-6AFBB457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4375F-0B23-42DD-9D47-E76F74C2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54F8A-85B2-429A-AE34-A547380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02015-A496-484E-84FA-8130F3B9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A20C8-C007-468A-95B3-495AF364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55D35-46FE-4473-8DAA-714B482A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FFD-A554-4451-9E74-54955BB6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417-501B-4E61-926A-D0297C94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642-B349-4946-A927-E7A97C6E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FFD-ECFA-4AD4-A121-16FA4E20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E04-A88E-4862-AEC3-0B524D70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E38-BEBA-4BD1-ADE1-66438F70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9DE-E44F-4997-8823-B68C6859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A9F0-F713-46A7-BD72-0FD457129A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511E-5E67-4F71-8FA5-87CDA1D5C5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808"/>
                </a:solidFill>
                <a:latin typeface="Tahoma"/>
              </a:rPr>
              <a:t>Литературное   чтение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Схема 5" descr=""/>
          <p:cNvPicPr/>
          <p:nvPr/>
        </p:nvPicPr>
        <p:blipFill>
          <a:blip r:embed="rId2"/>
          <a:stretch/>
        </p:blipFill>
        <p:spPr>
          <a:xfrm>
            <a:off x="237960" y="1579680"/>
            <a:ext cx="8418600" cy="4473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SmartArt 3" descr=""/>
          <p:cNvPicPr/>
          <p:nvPr/>
        </p:nvPicPr>
        <p:blipFill>
          <a:blip r:embed="rId2"/>
          <a:stretch/>
        </p:blipFill>
        <p:spPr>
          <a:xfrm>
            <a:off x="-195120" y="566640"/>
            <a:ext cx="9394560" cy="5462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631280" cy="381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808"/>
                </a:solidFill>
                <a:latin typeface="Tahoma"/>
              </a:rPr>
              <a:t>Мораль – вывод  или  поучение,  в  котором  выражена  главная  мысль  басн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525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08"/>
                </a:solidFill>
                <a:latin typeface="Tahoma"/>
              </a:rPr>
              <a:t>Басня – краткий,  нравоучительный  рассказ,  в  котором  персонажами  являются  люди,  животны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15728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Нравоучительный  рассказ – это  рассказ,  в котором  есть  поучение,  внушение  нравственных  прави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808"/>
                </a:solidFill>
                <a:uFillTx/>
                <a:latin typeface="Tahoma"/>
              </a:rPr>
              <a:t>Высмеив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808"/>
                </a:solidFill>
                <a:uFillTx/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Лож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Глуп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Жад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Трус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Л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Ле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808"/>
                </a:solidFill>
                <a:uFillTx/>
                <a:latin typeface="Tahoma"/>
              </a:rPr>
              <a:t>Одобряе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Чес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Храбр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Трудолюб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Добродуш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Милосер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Щедр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Скром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808"/>
                </a:solidFill>
                <a:latin typeface="Tahoma"/>
              </a:rPr>
              <a:t>Пословицы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17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808"/>
                </a:solidFill>
                <a:latin typeface="Tahoma"/>
              </a:rPr>
              <a:t>Лучше  горькая  правда,  чем  красивая  лож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808"/>
                </a:solidFill>
                <a:latin typeface="Tahoma"/>
              </a:rPr>
              <a:t>Делу  время,  потехе – час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808"/>
                </a:solidFill>
                <a:latin typeface="Tahoma"/>
              </a:rPr>
              <a:t>Один  за  всех  и  все  за  одног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631280" cy="381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808"/>
                </a:solidFill>
                <a:latin typeface="Tahoma"/>
              </a:rPr>
              <a:t>Мораль – вывод  или  поучение,  в  котором  выражена  главная  мысль  басн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525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ван Андреевич Кры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асн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Слон и Мось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image4"/>
          <p:cNvPicPr/>
          <p:nvPr/>
        </p:nvPicPr>
        <p:blipFill>
          <a:blip r:embed="rId2"/>
          <a:stretch/>
        </p:blipFill>
        <p:spPr>
          <a:xfrm>
            <a:off x="2143080" y="3071880"/>
            <a:ext cx="4834080" cy="361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Зеваки – тот,  кто  слоняется  по  улицам  без  де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Напоказ – обратить  внимание  для 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Забияка – человек,  который  любит  затевать  сс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Отколе – отк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Шавка – непородистая  собака,  дворняж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Диковинка – старинная,  удивительная  вещь  или  явл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image2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95280" y="458136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Ива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Андреевич Кры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(1769-184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3354480" y="857160"/>
            <a:ext cx="578952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image3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image4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image5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image6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image7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age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395280" y="458136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Ива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Андреевич Кры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(1769-184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3354480" y="857160"/>
            <a:ext cx="591192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5840" y="1905120"/>
            <a:ext cx="84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учить басню Крылова И.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Слон и Мось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928800" y="0"/>
            <a:ext cx="6303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1357200" y="-54000"/>
            <a:ext cx="5500800" cy="6872400"/>
          </a:xfrm>
          <a:prstGeom prst="rect">
            <a:avLst/>
          </a:prstGeom>
          <a:ln w="0">
            <a:noFill/>
          </a:ln>
        </p:spPr>
      </p:pic>
      <p:sp>
        <p:nvSpPr>
          <p:cNvPr id="90" name="WordArt 6"/>
          <p:cNvSpPr txBox="1"/>
          <p:nvPr/>
        </p:nvSpPr>
        <p:spPr>
          <a:xfrm>
            <a:off x="4933800" y="5227560"/>
            <a:ext cx="421020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орона и Лис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wipe dir="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339408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808"/>
                </a:solidFill>
                <a:latin typeface="Tahoma"/>
              </a:rPr>
              <a:t>ЛЕБЕДЬ,  ЩУКА  И  РАК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3995640" y="522360"/>
            <a:ext cx="467064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rcRect l="2865" t="10415" r="0" b="0"/>
          <a:stretch/>
        </p:blipFill>
        <p:spPr>
          <a:xfrm>
            <a:off x="1500120" y="428760"/>
            <a:ext cx="5813640" cy="614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Схема 5" descr=""/>
          <p:cNvPicPr/>
          <p:nvPr/>
        </p:nvPicPr>
        <p:blipFill>
          <a:blip r:embed="rId2"/>
          <a:stretch/>
        </p:blipFill>
        <p:spPr>
          <a:xfrm>
            <a:off x="281160" y="1566720"/>
            <a:ext cx="8375400" cy="4473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Схема 5" descr=""/>
          <p:cNvPicPr/>
          <p:nvPr/>
        </p:nvPicPr>
        <p:blipFill>
          <a:blip r:embed="rId2"/>
          <a:stretch/>
        </p:blipFill>
        <p:spPr>
          <a:xfrm>
            <a:off x="341280" y="1639800"/>
            <a:ext cx="8242200" cy="4475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Схема 5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242200" cy="4473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9:30:34Z</dcterms:created>
  <dc:creator>Пользователь</dc:creator>
  <dc:description/>
  <dc:language>en-US</dc:language>
  <cp:lastModifiedBy>User</cp:lastModifiedBy>
  <dcterms:modified xsi:type="dcterms:W3CDTF">2011-03-16T20:30:27Z</dcterms:modified>
  <cp:revision>14</cp:revision>
  <dc:subject/>
  <dc:title>Литературное   чтение</dc:title>
</cp:coreProperties>
</file>