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EFD2-3921-4D74-AA9A-2D6BD586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5864-9292-4720-A895-5B301FBEA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1E6-82F1-4C36-B7F1-97DFE8C3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354-F313-4757-9509-CAABF446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F6B-DD45-4586-8E6F-CA28C1E9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912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920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904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912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920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2AC-79D8-46D0-A222-15CA1B04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D4A7-3760-48DB-A532-0DEBB4D0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CB6E-2B3E-46B6-B208-59D2A5F0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BD07-CF42-41FC-9122-110CEDAC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549E-5B08-4D6C-AEFD-D334BF57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F3FA-7B98-45AB-8F25-3870F988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59040" y="274320"/>
            <a:ext cx="72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6FF8-3B34-4E53-96AA-F7ACC9C1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9C3F-62A1-47B4-98B7-615FC765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F34-7A9D-435F-8555-EE0ED619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4F90-0D2C-4C0F-877F-87FC4461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AE28-37F2-4036-AF1F-FF647A8F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3A82-66AA-42DE-B4D0-99B36D63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8236-2543-475C-B1D7-A7612DD0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912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3920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904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912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3920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568B-9210-4A75-8E4C-C072A1B1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E99-450D-46BB-ADDA-3D9CE05F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4F2-947F-4B47-B7D6-1CC65364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769-9C93-4F67-BD03-976D979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59040" y="274320"/>
            <a:ext cx="72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3F0-0364-49C7-9524-6D1CFEFA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B80-FE18-4E8B-8DAB-9A58E852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838-E004-421C-9A04-0389B2CF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0C9-04BC-4A06-BC92-69BF78A4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D063-D8D1-4041-82C9-63EBC9AF0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B59B-7DD4-44E6-8C0B-17FFA870A0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7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Окончание Смутного времени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104920" y="1690560"/>
            <a:ext cx="7039080" cy="5167440"/>
          </a:xfrm>
          <a:prstGeom prst="rect">
            <a:avLst/>
          </a:prstGeom>
          <a:ln w="0">
            <a:noFill/>
          </a:ln>
        </p:spPr>
      </p:pic>
      <p:pic>
        <p:nvPicPr>
          <p:cNvPr id="91" name="1 - Nabat.mp3" descr=""/>
          <p:cNvPicPr/>
          <p:nvPr/>
        </p:nvPicPr>
        <p:blipFill>
          <a:blip r:embed="rId2"/>
          <a:stretch/>
        </p:blipFill>
        <p:spPr>
          <a:xfrm>
            <a:off x="8659800" y="63770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4077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Содержимое 3" descr="https://ds03.infourok.ru/uploads/ex/01d9/00042088-34546f2a/1/hello_html_6843e332.jpg"/>
          <p:cNvPicPr/>
          <p:nvPr/>
        </p:nvPicPr>
        <p:blipFill>
          <a:blip r:embed="rId1"/>
          <a:srcRect l="0" t="0" r="3328" b="0"/>
          <a:stretch/>
        </p:blipFill>
        <p:spPr>
          <a:xfrm>
            <a:off x="0" y="0"/>
            <a:ext cx="2773440" cy="37339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228600" y="3916440"/>
            <a:ext cx="2193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ьма Мин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5" descr="http://istoricheskij-portret.ru/wp-content/uploads/2015/12/w111.jpg"/>
          <p:cNvPicPr/>
          <p:nvPr/>
        </p:nvPicPr>
        <p:blipFill>
          <a:blip r:embed="rId2"/>
          <a:stretch/>
        </p:blipFill>
        <p:spPr>
          <a:xfrm>
            <a:off x="3003480" y="0"/>
            <a:ext cx="2665440" cy="37180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3017880" y="3902040"/>
            <a:ext cx="2574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митрий Пожар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7" descr="Susanin[1]"/>
          <p:cNvPicPr/>
          <p:nvPr/>
        </p:nvPicPr>
        <p:blipFill>
          <a:blip r:embed="rId3"/>
          <a:srcRect l="0" t="5794" r="0" b="0"/>
          <a:stretch/>
        </p:blipFill>
        <p:spPr>
          <a:xfrm>
            <a:off x="5942160" y="0"/>
            <a:ext cx="3201840" cy="48164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6340320" y="4952880"/>
            <a:ext cx="2544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ван Сусан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2 - Благовест..mp3" descr=""/>
          <p:cNvPicPr/>
          <p:nvPr/>
        </p:nvPicPr>
        <p:blipFill>
          <a:blip r:embed="rId4"/>
          <a:stretch/>
        </p:blipFill>
        <p:spPr>
          <a:xfrm>
            <a:off x="8213760" y="62326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037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417920" y="125280"/>
            <a:ext cx="4488120" cy="673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b167"/>
          <p:cNvPicPr/>
          <p:nvPr/>
        </p:nvPicPr>
        <p:blipFill>
          <a:blip r:embed="rId2"/>
          <a:stretch/>
        </p:blipFill>
        <p:spPr>
          <a:xfrm>
            <a:off x="272880" y="206280"/>
            <a:ext cx="3233880" cy="39243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6720" y="274320"/>
            <a:ext cx="867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параграф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 выбо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ридумайте кроссворд на тему «Смутное время в Росс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Напишите «письмо в прошлое» М.Ф. Романову, К. Минину и Д. Пожарскому (по своему выбору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563400" y="790560"/>
            <a:ext cx="8062920" cy="504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1563840" y="5830920"/>
            <a:ext cx="728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 Русская земля встала против польских захватчиков и предате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49360" y="2160"/>
            <a:ext cx="83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Проблемный вопрос уро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Какова роль народа в ликвидации Смутного времен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_S_Prokofev_Vstavajte_lyudi_russkie.mp3" descr=""/>
          <p:cNvPicPr/>
          <p:nvPr/>
        </p:nvPicPr>
        <p:blipFill>
          <a:blip r:embed="rId2"/>
          <a:stretch/>
        </p:blipFill>
        <p:spPr>
          <a:xfrm>
            <a:off x="8199360" y="6354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2989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rcRect l="0" t="0" r="1899" b="0"/>
          <a:stretch/>
        </p:blipFill>
        <p:spPr>
          <a:xfrm>
            <a:off x="-20520" y="831960"/>
            <a:ext cx="9164520" cy="57909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431640" y="206280"/>
            <a:ext cx="84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звание Кузьмы Минина к нижегородц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9640" y="0"/>
            <a:ext cx="8155080" cy="57974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2" name="Text Box 3"/>
          <p:cNvSpPr/>
          <p:nvPr/>
        </p:nvSpPr>
        <p:spPr>
          <a:xfrm>
            <a:off x="1673280" y="5900760"/>
            <a:ext cx="636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t">
            <a:noAutofit/>
          </a:bodyPr>
          <a:p>
            <a:pPr>
              <a:spcBef>
                <a:spcPts val="913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 Лисснер. Изгнание польских интервен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13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Московского Кремля в 1612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169920"/>
            <a:ext cx="281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ановлен в 1818 году на Красной площ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нём надпись: «Князю Пожарскому и гражданину Минину благодарная Россия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349054_architecture_fun_photo_18"/>
          <p:cNvPicPr/>
          <p:nvPr/>
        </p:nvPicPr>
        <p:blipFill>
          <a:blip r:embed="rId1"/>
          <a:stretch/>
        </p:blipFill>
        <p:spPr>
          <a:xfrm>
            <a:off x="2766960" y="128520"/>
            <a:ext cx="6492960" cy="53024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3898800" y="5295960"/>
            <a:ext cx="52452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ник Минину и Пожарск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ульптор – И.П.Март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5075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1613 году новым царём был избран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6-летний Михаил Фёдорович Ром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hist02"/>
          <p:cNvPicPr/>
          <p:nvPr/>
        </p:nvPicPr>
        <p:blipFill>
          <a:blip r:embed="rId1"/>
          <a:stretch/>
        </p:blipFill>
        <p:spPr>
          <a:xfrm>
            <a:off x="1116000" y="1341360"/>
            <a:ext cx="7143840" cy="52866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иг Ивана Сусан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Содержимое 4" descr="http://deduhova.ru/statesman/wp-content/uploads/2015/12/1433005741_ivan_susanin.jpg"/>
          <p:cNvPicPr/>
          <p:nvPr/>
        </p:nvPicPr>
        <p:blipFill>
          <a:blip r:embed="rId1"/>
          <a:stretch/>
        </p:blipFill>
        <p:spPr>
          <a:xfrm>
            <a:off x="620640" y="914400"/>
            <a:ext cx="7274160" cy="49528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1722600" y="598968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 И. Скотти «Подвиг Ивана Сусанин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Мой фильм - Сусанин.wmv" descr=""/>
          <p:cNvPicPr/>
          <p:nvPr/>
        </p:nvPicPr>
        <p:blipFill>
          <a:blip r:embed="rId1"/>
          <a:stretch/>
        </p:blipFill>
        <p:spPr>
          <a:xfrm>
            <a:off x="-455760" y="0"/>
            <a:ext cx="10255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457200"/>
            <a:ext cx="4054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мятник Ивану Сусанин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в Костроме был установлен в 1967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ульпт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А. Лави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Содержимое 3" descr="http://expertiza.org/occupant/28HERO/Susanin.jpg"/>
          <p:cNvPicPr/>
          <p:nvPr/>
        </p:nvPicPr>
        <p:blipFill>
          <a:blip r:embed="rId1"/>
          <a:stretch/>
        </p:blipFill>
        <p:spPr>
          <a:xfrm>
            <a:off x="3828960" y="334800"/>
            <a:ext cx="4705560" cy="6218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56:05Z</dcterms:created>
  <dc:creator>1</dc:creator>
  <dc:description/>
  <dc:language>en-US</dc:language>
  <cp:lastModifiedBy>Вера</cp:lastModifiedBy>
  <dcterms:modified xsi:type="dcterms:W3CDTF">2017-12-11T16:22:03Z</dcterms:modified>
  <cp:revision>45</cp:revision>
  <dc:subject/>
  <dc:title>Слайд 1</dc:title>
</cp:coreProperties>
</file>