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h6.ggpht.com/_eT6aiJQXZ0Y/ShKvmS9-vCI/AAAAAAAAGFY/RoW-t-qpcLk/s288/img285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h6.ggpht.com/_eT6aiJQXZ0Y/ShKvmS9-vCI/AAAAAAAAGFY/RoW-t-qpcLk/s288/img285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95280" y="3573360"/>
            <a:ext cx="359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65364" fill="hold"/>
                                        <p:tgtEl>
                                          <p:spTgt spid="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316400" y="3213000"/>
            <a:ext cx="482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яжёлый топор для колки д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1268280"/>
            <a:ext cx="37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КОЛУ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4611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11280" y="47628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ЗАВАЛИ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516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евысокая земляная насыпь вдоль наружных стен из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Изба - бывшая землянка, &quot;выросшая из земли&quot; - деревня - Каталог статей - Arhi-Logos"/>
          <p:cNvPicPr/>
          <p:nvPr/>
        </p:nvPicPr>
        <p:blipFill>
          <a:blip r:embed="rId1"/>
          <a:stretch/>
        </p:blipFill>
        <p:spPr>
          <a:xfrm>
            <a:off x="900000" y="1484280"/>
            <a:ext cx="72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Лещина обыкновенная орешник лесной орех"/>
          <p:cNvPicPr/>
          <p:nvPr/>
        </p:nvPicPr>
        <p:blipFill>
          <a:blip r:embed="rId1"/>
          <a:srcRect l="6749" t="2851" r="6062" b="10932"/>
          <a:stretch/>
        </p:blipFill>
        <p:spPr>
          <a:xfrm>
            <a:off x="395280" y="260280"/>
            <a:ext cx="2430360" cy="32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25911" t="31946" r="54900" b="45399"/>
          <a:stretch/>
        </p:blipFill>
        <p:spPr>
          <a:xfrm>
            <a:off x="3132000" y="4149720"/>
            <a:ext cx="2664000" cy="1901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13439" t="5300" r="54655" b="49079"/>
          <a:stretch/>
        </p:blipFill>
        <p:spPr>
          <a:xfrm>
            <a:off x="6012000" y="189000"/>
            <a:ext cx="236844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10890" t="0" r="12694" b="0"/>
          <a:stretch/>
        </p:blipFill>
        <p:spPr>
          <a:xfrm>
            <a:off x="3132000" y="189000"/>
            <a:ext cx="2381400" cy="3313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rcRect l="9071" t="1876" r="9298" b="0"/>
          <a:stretch/>
        </p:blipFill>
        <p:spPr>
          <a:xfrm>
            <a:off x="6012000" y="3857760"/>
            <a:ext cx="2447640" cy="2408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24494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Лещина обыкновенная орешник лесной орех"/>
          <p:cNvPicPr/>
          <p:nvPr/>
        </p:nvPicPr>
        <p:blipFill>
          <a:blip r:embed="rId1"/>
          <a:stretch/>
        </p:blipFill>
        <p:spPr>
          <a:xfrm>
            <a:off x="0" y="1557360"/>
            <a:ext cx="3718080" cy="501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Лесной орех Лекарственные травы - Сборы и свойства трав."/>
          <p:cNvPicPr/>
          <p:nvPr/>
        </p:nvPicPr>
        <p:blipFill>
          <a:blip r:embed="rId2"/>
          <a:stretch/>
        </p:blipFill>
        <p:spPr>
          <a:xfrm>
            <a:off x="3851280" y="2781360"/>
            <a:ext cx="5076720" cy="378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132000" y="260280"/>
            <a:ext cx="6012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ЛЕЩ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орешник, лесной оре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836640"/>
            <a:ext cx="558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К.Паустовский. «Стальное колечк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2100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РАССКАЗ ИЛИ СКАЗК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StalnoeKolechko1.jpg"/>
          <p:cNvPicPr/>
          <p:nvPr/>
        </p:nvPicPr>
        <p:blipFill>
          <a:blip r:embed="rId1"/>
          <a:stretch/>
        </p:blipFill>
        <p:spPr>
          <a:xfrm>
            <a:off x="6372360" y="3500280"/>
            <a:ext cx="2306520" cy="30229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paustovskiy_10.jpg"/>
          <p:cNvPicPr/>
          <p:nvPr/>
        </p:nvPicPr>
        <p:blipFill>
          <a:blip r:embed="rId2"/>
          <a:stretch/>
        </p:blipFill>
        <p:spPr>
          <a:xfrm>
            <a:off x="684360" y="260280"/>
            <a:ext cx="2500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55736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ство с произведением К.Г.Паустовского «Стальное колечк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ие жанровой принадлежности 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89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11592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268280"/>
            <a:ext cx="82072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делить признаки рассказа и сказки в произведении «Стальное колечк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зировать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вивать речь, пополнять словарный за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вивать навыки созна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653000"/>
            <a:ext cx="16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834920" y="4005360"/>
            <a:ext cx="865080" cy="93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4076640"/>
            <a:ext cx="863640" cy="93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ртинка 48 из 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333360"/>
            <a:ext cx="287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StalnoeKolechko6.jpg"/>
          <p:cNvPicPr/>
          <p:nvPr/>
        </p:nvPicPr>
        <p:blipFill>
          <a:blip r:embed="rId1"/>
          <a:srcRect l="0" t="0" r="0" b="30556"/>
          <a:stretch/>
        </p:blipFill>
        <p:spPr>
          <a:xfrm>
            <a:off x="179280" y="260280"/>
            <a:ext cx="4300560" cy="3571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StalnoeKolechko7.jpg"/>
          <p:cNvPicPr/>
          <p:nvPr/>
        </p:nvPicPr>
        <p:blipFill>
          <a:blip r:embed="rId2"/>
          <a:srcRect l="0" t="0" r="0" b="30556"/>
          <a:stretch/>
        </p:blipFill>
        <p:spPr>
          <a:xfrm>
            <a:off x="4716360" y="189000"/>
            <a:ext cx="4299120" cy="36432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" descr="StalnoeKolechko9.jpg"/>
          <p:cNvPicPr/>
          <p:nvPr/>
        </p:nvPicPr>
        <p:blipFill>
          <a:blip r:embed="rId3"/>
          <a:srcRect l="0" t="23874" r="0" b="0"/>
          <a:stretch/>
        </p:blipFill>
        <p:spPr>
          <a:xfrm>
            <a:off x="2771640" y="3933720"/>
            <a:ext cx="29527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StalnoeKolechko15.jpg"/>
          <p:cNvPicPr/>
          <p:nvPr/>
        </p:nvPicPr>
        <p:blipFill>
          <a:blip r:embed="rId1"/>
          <a:stretch/>
        </p:blipFill>
        <p:spPr>
          <a:xfrm>
            <a:off x="4859280" y="1268280"/>
            <a:ext cx="3943440" cy="5133960"/>
          </a:xfrm>
          <a:prstGeom prst="rect">
            <a:avLst/>
          </a:prstGeom>
          <a:ln w="12600">
            <a:solidFill>
              <a:srgbClr val="77933c"/>
            </a:solidFill>
            <a:miter/>
          </a:ln>
        </p:spPr>
      </p:pic>
      <p:pic>
        <p:nvPicPr>
          <p:cNvPr id="109" name="Рисунок 1" descr="StalnoeKolechko13.jpg"/>
          <p:cNvPicPr/>
          <p:nvPr/>
        </p:nvPicPr>
        <p:blipFill>
          <a:blip r:embed="rId2"/>
          <a:stretch/>
        </p:blipFill>
        <p:spPr>
          <a:xfrm>
            <a:off x="250920" y="1268280"/>
            <a:ext cx="4464000" cy="3345120"/>
          </a:xfrm>
          <a:prstGeom prst="rect">
            <a:avLst/>
          </a:prstGeom>
          <a:ln w="1260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kniga48.jpg"/>
          <p:cNvPicPr/>
          <p:nvPr/>
        </p:nvPicPr>
        <p:blipFill>
          <a:blip r:embed="rId1"/>
          <a:stretch/>
        </p:blipFill>
        <p:spPr>
          <a:xfrm>
            <a:off x="2700360" y="1989000"/>
            <a:ext cx="3600360" cy="324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Урок литературного чтения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StalnoeKolechko18.jpg"/>
          <p:cNvPicPr/>
          <p:nvPr/>
        </p:nvPicPr>
        <p:blipFill>
          <a:blip r:embed="rId1"/>
          <a:stretch/>
        </p:blipFill>
        <p:spPr>
          <a:xfrm>
            <a:off x="1908000" y="260280"/>
            <a:ext cx="52689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436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084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4653000"/>
            <a:ext cx="16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34920" y="4005360"/>
            <a:ext cx="865080" cy="93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4076640"/>
            <a:ext cx="863640" cy="93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Картинка 48 из 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333360"/>
            <a:ext cx="287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paustovskij.jpg"/>
          <p:cNvPicPr/>
          <p:nvPr/>
        </p:nvPicPr>
        <p:blipFill>
          <a:blip r:embed="rId1"/>
          <a:stretch/>
        </p:blipFill>
        <p:spPr>
          <a:xfrm>
            <a:off x="395280" y="404640"/>
            <a:ext cx="3046320" cy="39610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3780000" y="549360"/>
            <a:ext cx="489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«Мы живем в мире сбывшихся сказок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К.Г.Пауст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" descr="StalnoeKolechko21.jpg"/>
          <p:cNvPicPr/>
          <p:nvPr/>
        </p:nvPicPr>
        <p:blipFill>
          <a:blip r:embed="rId2"/>
          <a:srcRect l="0" t="0" r="0" b="32730"/>
          <a:stretch/>
        </p:blipFill>
        <p:spPr>
          <a:xfrm>
            <a:off x="4284720" y="2790720"/>
            <a:ext cx="44290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476280"/>
            <a:ext cx="856944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«Стараясь о счастье других, мы находим своё собственное счастье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2" descr="StalnoeKolechko23.jpg"/>
          <p:cNvPicPr/>
          <p:nvPr/>
        </p:nvPicPr>
        <p:blipFill>
          <a:blip r:embed="rId1"/>
          <a:stretch/>
        </p:blipFill>
        <p:spPr>
          <a:xfrm>
            <a:off x="2124000" y="2133720"/>
            <a:ext cx="32990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30200" y="98100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Что было бы дальше, если колечко надеть на мизинец. Продолжить сказку так, чтобы чудеса были не фантастическими, а реальными, как у К.Паустов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26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16692"/>
          <a:stretch/>
        </p:blipFill>
        <p:spPr>
          <a:xfrm>
            <a:off x="1692360" y="3068640"/>
            <a:ext cx="5832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paustovskiy_10.jpg"/>
          <p:cNvPicPr/>
          <p:nvPr/>
        </p:nvPicPr>
        <p:blipFill>
          <a:blip r:embed="rId1"/>
          <a:stretch/>
        </p:blipFill>
        <p:spPr>
          <a:xfrm>
            <a:off x="108000" y="404640"/>
            <a:ext cx="4251240" cy="612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360" y="692280"/>
            <a:ext cx="525636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нстантин Георгиевич Пауст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892-196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3860640"/>
            <a:ext cx="34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«Стальное колечк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talnoeKolechko1.jpg"/>
          <p:cNvPicPr/>
          <p:nvPr/>
        </p:nvPicPr>
        <p:blipFill>
          <a:blip r:embed="rId1"/>
          <a:stretch/>
        </p:blipFill>
        <p:spPr>
          <a:xfrm>
            <a:off x="2484360" y="260280"/>
            <a:ext cx="49276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64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Верно ли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7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Дед Данил и Варюша жили в деревне Мохово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41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916280"/>
            <a:ext cx="8675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Times New Roman"/>
              </a:rPr>
              <a:t>Дед Кузьма и Варюша жили в деревне Мохов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068640"/>
            <a:ext cx="87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В субботу Варюша пошла за махоркой в соседнее село Перебо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68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933720"/>
            <a:ext cx="87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Times New Roman"/>
              </a:rPr>
              <a:t>В воскресенье Варюша пошла за махоркой в соседнее село Перебо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229360"/>
            <a:ext cx="856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На платформе девочка встретила двух бойц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4172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64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Верно ли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172360" cy="57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Боец попросил подарить ему махорк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1413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916280"/>
            <a:ext cx="734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Times New Roman"/>
              </a:rPr>
              <a:t>Боец попросил продать ему махор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3068640"/>
            <a:ext cx="87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Боец отсыпал в карман шинели добрую горсть махор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0864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3933720"/>
            <a:ext cx="874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0200" y="4508640"/>
            <a:ext cx="87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Боец надел Варюше на средний палец маленькое серебряное колечк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852640"/>
            <a:ext cx="6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Times New Roman"/>
              </a:rPr>
              <a:t>Боец надел Варюше на средний палец маленькое стальное колечк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337440" cy="4754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115920"/>
            <a:ext cx="86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ПЛАТФОР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57340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озвышение, площадка для посадки пассажиров, погрузки баг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Заседание клуба &quot;Красная ромашка&quot; в Музее-квартире Мусы Джалиля - - Новости и афиша музеев России - - www.Museum.ru"/>
          <p:cNvPicPr/>
          <p:nvPr/>
        </p:nvPicPr>
        <p:blipFill>
          <a:blip r:embed="rId1"/>
          <a:srcRect l="0" t="1134" r="0" b="0"/>
          <a:stretch/>
        </p:blipFill>
        <p:spPr>
          <a:xfrm>
            <a:off x="611280" y="333360"/>
            <a:ext cx="2711520" cy="638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348000" y="54936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ШИН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1628640"/>
            <a:ext cx="554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Форменное пальто со складкой на спине и хляст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Шинель командира РККА обр.1943 года, СССР"/>
          <p:cNvPicPr/>
          <p:nvPr/>
        </p:nvPicPr>
        <p:blipFill>
          <a:blip r:embed="rId2"/>
          <a:stretch/>
        </p:blipFill>
        <p:spPr>
          <a:xfrm>
            <a:off x="4356000" y="3789360"/>
            <a:ext cx="3646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Фотографии автора :: cfysx :: Клуб Foto.ru"/>
          <p:cNvPicPr/>
          <p:nvPr/>
        </p:nvPicPr>
        <p:blipFill>
          <a:blip r:embed="rId1"/>
          <a:stretch/>
        </p:blipFill>
        <p:spPr>
          <a:xfrm>
            <a:off x="1547640" y="1197000"/>
            <a:ext cx="6120000" cy="4076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35280" y="33336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ОКОЛ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44500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городь вокруг деревни или у края дерев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ha</cp:lastModifiedBy>
  <dcterms:modified xsi:type="dcterms:W3CDTF">2016-01-24T19:21:43Z</dcterms:modified>
  <cp:revision>75</cp:revision>
  <dc:subject/>
  <dc:title>Слайд 1</dc:title>
</cp:coreProperties>
</file>