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6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B535-D416-4F6E-80B8-EFF1EB5D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367-99AB-4B41-908C-C461B0FD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57CA-0684-4FC0-B65C-9805E230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59C2-8ABC-4E2C-B91B-82C8A658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73B0-4812-4D82-AD3C-392D65C0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4557-80A9-4D17-919F-DBEDB2D3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0ED6-70D2-4C29-BAB8-47AF63E4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55CA-D0B2-4213-8C89-9A120982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D3EC-28E3-4E19-B2C3-A379C8A8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C66B-65FE-4720-A642-41A5BF57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AF5D-6169-4EFF-9371-4B780FE9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6FA0-692A-47B4-B216-ADF0D78C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436F-C52D-4D71-82C6-37AAA666BA6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"/>
          <p:cNvSpPr/>
          <p:nvPr/>
        </p:nvSpPr>
        <p:spPr>
          <a:xfrm>
            <a:off x="8640" y="6596280"/>
            <a:ext cx="16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8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b0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Рисунок 9" descr="babochka60.gif"/>
          <p:cNvPicPr/>
          <p:nvPr/>
        </p:nvPicPr>
        <p:blipFill>
          <a:blip r:embed="rId3"/>
          <a:stretch/>
        </p:blipFill>
        <p:spPr>
          <a:xfrm>
            <a:off x="468360" y="836640"/>
            <a:ext cx="819000" cy="234324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10" descr="babochka60.gif"/>
          <p:cNvPicPr/>
          <p:nvPr/>
        </p:nvPicPr>
        <p:blipFill>
          <a:blip r:embed="rId4"/>
          <a:stretch/>
        </p:blipFill>
        <p:spPr>
          <a:xfrm>
            <a:off x="468360" y="3429000"/>
            <a:ext cx="819000" cy="234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ihi.ru/2008/07/15/546" TargetMode="External"/><Relationship Id="rId2" Type="http://schemas.openxmlformats.org/officeDocument/2006/relationships/hyperlink" Target="http://viki.rdf.ru/item/2031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1258920" y="522936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66247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униципальное обще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«Средняя общеобразовательная школа № 43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города Твери</a:t>
            </a:r>
            <a:br>
              <a:rPr sz="5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5640" y="169992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92d050"/>
                </a:solidFill>
                <a:latin typeface="Georgia"/>
              </a:rPr>
              <a:t>Добро</a:t>
            </a:r>
            <a:r>
              <a:rPr b="1" lang="ru-RU" sz="8800" spc="-1" strike="noStrike">
                <a:solidFill>
                  <a:srgbClr val="898989"/>
                </a:solidFill>
                <a:latin typeface="Georgia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1" lang="ru-RU" sz="8800" spc="-1" strike="noStrike">
                <a:solidFill>
                  <a:srgbClr val="898989"/>
                </a:solidFill>
                <a:latin typeface="Georgia"/>
              </a:rPr>
              <a:t> </a:t>
            </a:r>
            <a:r>
              <a:rPr b="1" lang="ru-RU" sz="8800" spc="-1" strike="noStrike">
                <a:solidFill>
                  <a:srgbClr val="c00000"/>
                </a:solidFill>
                <a:latin typeface="Georgia"/>
              </a:rPr>
              <a:t>зл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(Основы светской эти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Составители 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учителя начальных классов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Белоусова С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Капустина Е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Круц О.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Рябова Г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Цветкова И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1116000" y="455760"/>
            <a:ext cx="6192720" cy="59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9360"/>
                <a:tab algn="l" pos="419040"/>
                <a:tab algn="l" pos="6285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Georgia"/>
                <a:ea typeface="Calibri"/>
              </a:rPr>
              <a:t>Список лите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279360"/>
                <a:tab algn="l" pos="419040"/>
                <a:tab algn="l" pos="6285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Calibri"/>
              </a:rPr>
              <a:t>Основы светской этики. 4 – 5 классы : учебник для общеобразовательных учреждений. – М. : Просвещение, 2011. – 63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279360"/>
                <a:tab algn="l" pos="419040"/>
                <a:tab algn="l" pos="6285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Calibri"/>
              </a:rPr>
              <a:t>Бушелева Б.В. Поговорим о воспитанности. Книга для учащихся. - М.: Просвещение, 198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279360"/>
                <a:tab algn="l" pos="419040"/>
                <a:tab algn="l" pos="6285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Calibri"/>
              </a:rPr>
              <a:t>Крылатая мудрость / сост. А.П. Куцко/ - Ростовское книжное издательство, 197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279360"/>
                <a:tab algn="l" pos="419040"/>
                <a:tab algn="l" pos="6285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Calibri"/>
              </a:rPr>
              <a:t>Психология: Словарь / Под общ. Ред. А.В. Петровского, М.Г. Ярошевского/. - М.Просвещение, 19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279360"/>
                <a:tab algn="l" pos="419040"/>
                <a:tab algn="l" pos="6285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Calibri"/>
              </a:rPr>
              <a:t>Философская энциклопедия. Т. 2. - М.: Просвещение, 196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9360"/>
                <a:tab algn="l" pos="419040"/>
                <a:tab algn="l" pos="6285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Calibri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Georgia"/>
                <a:ea typeface="Calibri"/>
                <a:hlinkClick r:id="rId1"/>
              </a:rPr>
              <a:t>http://www.stihi.ru/2008/07/15/546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Calibri"/>
              </a:rPr>
              <a:t> Леон Кон. Стихотворение «Камеш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9360"/>
                <a:tab algn="l" pos="419040"/>
                <a:tab algn="l" pos="6285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Calibri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Georgia"/>
                <a:ea typeface="Calibri"/>
                <a:hlinkClick r:id="rId2"/>
              </a:rPr>
              <a:t>http://viki.rdf.ru/item/2031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Calibri"/>
              </a:rPr>
              <a:t> - клип «Дорогою добра» Автор : Григорий Семе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9360"/>
                <a:tab algn="l" pos="419040"/>
                <a:tab algn="l" pos="6285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Calibri"/>
              </a:rPr>
              <a:t>Использованы ресурсы  сети Интер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9360"/>
                <a:tab algn="l" pos="419040"/>
                <a:tab algn="l" pos="6285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258920" y="549360"/>
            <a:ext cx="756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Georgia"/>
                <a:ea typeface="Calibri"/>
              </a:rPr>
              <a:t>Добрый человек не тот, кто умеет делать добро, а тот кто не умеет делать зла.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1150920" y="2421000"/>
            <a:ext cx="76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Georgia"/>
                <a:ea typeface="Times New Roman"/>
              </a:rPr>
              <a:t>Добро и зло - это две реки, которые так хорошо смешали свои воды, что невозможно их раздели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1042920" y="4269600"/>
            <a:ext cx="785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Georgia"/>
                <a:ea typeface="Calibri"/>
              </a:rPr>
              <a:t>Добро и зло - названия, обозначающие наши склонности или наши антипатии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6321240" y="177336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Calibri"/>
              </a:rPr>
              <a:t>В.О.Ключев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7081560" y="37893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. Бу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7164360" y="5589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Calibri"/>
              </a:rPr>
              <a:t>Т. Гобб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9952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внодуш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3945600" y="3244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утк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363204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3776760" y="3213000"/>
            <a:ext cx="269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4207680" y="3244680"/>
            <a:ext cx="11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3735720" y="3244680"/>
            <a:ext cx="28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д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1"/>
          <p:cNvSpPr/>
          <p:nvPr/>
        </p:nvSpPr>
        <p:spPr>
          <a:xfrm>
            <a:off x="3926520" y="3244680"/>
            <a:ext cx="21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ж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D:\Рабочий стол\орксэ\96c33ac7e53cc829b2b9ebe1973e3b41.jpg"/>
          <p:cNvPicPr/>
          <p:nvPr/>
        </p:nvPicPr>
        <p:blipFill>
          <a:blip r:embed="rId1"/>
          <a:stretch/>
        </p:blipFill>
        <p:spPr>
          <a:xfrm>
            <a:off x="1258920" y="0"/>
            <a:ext cx="708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-0.02104 L -0.26771 -0.28324 E">
                                      <p:cBhvr>
                                        <p:cTn id="3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87283E-006 L 0.22778 -0.27261 E">
                                      <p:cBhvr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4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83 -0.00069 L -0.32795 -0.00069 E">
                                      <p:cBhvr>
                                        <p:cTn id="51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98 0.03678 L -0.30747 0.29903 E">
                                      <p:cBhvr>
                                        <p:cTn id="5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2000"/>
                            </p:stCondLst>
                            <p:childTnLst>
                              <p:par>
                                <p:cTn id="6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02 E">
                                      <p:cBhvr>
                                        <p:cTn id="6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376092"/>
                </a:solidFill>
                <a:latin typeface="Georgia"/>
              </a:rPr>
              <a:t>Что такое добро 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99640" y="1268280"/>
            <a:ext cx="78692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  <a:ea typeface="Times New Roman"/>
              </a:rPr>
              <a:t>Добро – нечто положительное, хорошее, полезное,             противоположное з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 algn="ctr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Times New Roman"/>
              </a:rPr>
              <a:t>Доброта – это отзывчивость, душевное расположение к людям, стремление делать    добро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Из Толкового словаря Ожег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ff0000"/>
                </a:solidFill>
                <a:latin typeface="Georgia"/>
              </a:rPr>
              <a:t>Что такое зло?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00000" y="980640"/>
            <a:ext cx="7786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Зло – понятие нравственности, противоположное понятию добра, означает намеренное, умышленное, сознательное причинение кому-либо вреда, ущерба, стр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 algn="ctr">
              <a:lnSpc>
                <a:spcPct val="100000"/>
              </a:lnSpc>
              <a:spcBef>
                <a:spcPts val="1001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Georgia"/>
                <a:ea typeface="Times New Roman"/>
              </a:rPr>
              <a:t>Зло – нечто дурное, вредное, противоположное добру</a:t>
            </a:r>
            <a:r>
              <a:rPr b="1" i="1" lang="ru-RU" sz="4000" spc="-1" strike="noStrike">
                <a:solidFill>
                  <a:srgbClr val="604a7b"/>
                </a:solidFill>
                <a:latin typeface="Georg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(Из Толкового словаря Ожег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Georgia"/>
              </a:rPr>
              <a:t>Притча о Добре и З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14400" y="105228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Когда-то давно старый индеец открыл своему внуку жизненную истин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- В каждом человеке идет борьба, очень похожая на борьбу двух волков. Один волк представляет зло – зависть, ревность, эгоизм, амбиции, ложь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Другой волк представляет добро – мир, любовь, надежду, истину, доброту, верность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Маленький индеец, тронутый до глубины души словами деда, на несколько мгновений задумался, а потом спросил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- А какой волк в конце побеждает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Старый индеец едва заметно улыбнулся и ответил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- Всегда побеждает тот волк, которого ты кормишь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D:\Рабочий стол\орксэ\1332001720_00.gif"/>
          <p:cNvPicPr/>
          <p:nvPr/>
        </p:nvPicPr>
        <p:blipFill>
          <a:blip r:embed="rId1"/>
          <a:stretch/>
        </p:blipFill>
        <p:spPr>
          <a:xfrm>
            <a:off x="-541440" y="-617400"/>
            <a:ext cx="9685440" cy="7475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0923268735948e39f88c0a2066550876"/>
          <p:cNvPicPr/>
          <p:nvPr/>
        </p:nvPicPr>
        <p:blipFill>
          <a:blip r:embed="rId2"/>
          <a:stretch/>
        </p:blipFill>
        <p:spPr>
          <a:xfrm>
            <a:off x="-612720" y="-460440"/>
            <a:ext cx="9756720" cy="73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D:\Рабочий стол\орксэ\1360649176_sdelaem-mir-dobree-7.jpg"/>
          <p:cNvPicPr/>
          <p:nvPr/>
        </p:nvPicPr>
        <p:blipFill>
          <a:blip r:embed="rId1"/>
          <a:stretch/>
        </p:blipFill>
        <p:spPr>
          <a:xfrm>
            <a:off x="171360" y="-6480"/>
            <a:ext cx="8728200" cy="69249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3"/>
          <p:cNvSpPr/>
          <p:nvPr/>
        </p:nvSpPr>
        <p:spPr>
          <a:xfrm>
            <a:off x="5651640" y="692280"/>
            <a:ext cx="309708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5580000" y="782640"/>
            <a:ext cx="32400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Georgia"/>
              </a:rPr>
              <a:t>КАМЕШКИ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70c0"/>
                </a:solidFill>
                <a:latin typeface="Georgia"/>
              </a:rPr>
              <a:t>Учила меня бабушка:</a:t>
            </a:r>
            <a:br>
              <a:rPr sz="1400"/>
            </a:br>
            <a:r>
              <a:rPr b="1" lang="ru-RU" sz="1400" spc="-1" strike="noStrike">
                <a:solidFill>
                  <a:srgbClr val="0070c0"/>
                </a:solidFill>
                <a:latin typeface="Georgia"/>
              </a:rPr>
              <a:t>Живем под одним небушком,</a:t>
            </a:r>
            <a:br>
              <a:rPr sz="1400"/>
            </a:br>
            <a:r>
              <a:rPr b="1" lang="ru-RU" sz="1400" spc="-1" strike="noStrike">
                <a:solidFill>
                  <a:srgbClr val="0070c0"/>
                </a:solidFill>
                <a:latin typeface="Georgia"/>
              </a:rPr>
              <a:t>Швырнули в тебя камешком – </a:t>
            </a:r>
            <a:br>
              <a:rPr sz="1400"/>
            </a:br>
            <a:r>
              <a:rPr b="1" lang="ru-RU" sz="1400" spc="-1" strike="noStrike">
                <a:solidFill>
                  <a:srgbClr val="0070c0"/>
                </a:solidFill>
                <a:latin typeface="Georgia"/>
              </a:rPr>
              <a:t>Ответь на него хлебушком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70c0"/>
                </a:solidFill>
                <a:latin typeface="Georgia"/>
              </a:rPr>
              <a:t>Всегда стараясь следовать</a:t>
            </a:r>
            <a:br>
              <a:rPr sz="1400"/>
            </a:br>
            <a:r>
              <a:rPr b="1" lang="ru-RU" sz="1400" spc="-1" strike="noStrike">
                <a:solidFill>
                  <a:srgbClr val="0070c0"/>
                </a:solidFill>
                <a:latin typeface="Georgia"/>
              </a:rPr>
              <a:t>Советам своей бабушки,</a:t>
            </a:r>
            <a:br>
              <a:rPr sz="1400"/>
            </a:br>
            <a:r>
              <a:rPr b="1" lang="ru-RU" sz="1400" spc="-1" strike="noStrike">
                <a:solidFill>
                  <a:srgbClr val="0070c0"/>
                </a:solidFill>
                <a:latin typeface="Georgia"/>
              </a:rPr>
              <a:t>Порой, в ответ на хлебушек,</a:t>
            </a:r>
            <a:br>
              <a:rPr sz="1400"/>
            </a:br>
            <a:r>
              <a:rPr b="1" lang="ru-RU" sz="1400" spc="-1" strike="noStrike">
                <a:solidFill>
                  <a:srgbClr val="0070c0"/>
                </a:solidFill>
                <a:latin typeface="Georgia"/>
              </a:rPr>
              <a:t>Вновь получал я камешки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70c0"/>
                </a:solidFill>
                <a:latin typeface="Georgia"/>
              </a:rPr>
              <a:t>Но все же не озлобился,</a:t>
            </a:r>
            <a:br>
              <a:rPr sz="1400"/>
            </a:br>
            <a:r>
              <a:rPr b="1" lang="ru-RU" sz="1400" spc="-1" strike="noStrike">
                <a:solidFill>
                  <a:srgbClr val="0070c0"/>
                </a:solidFill>
                <a:latin typeface="Georgia"/>
              </a:rPr>
              <a:t>Проникся этой мудростью:</a:t>
            </a:r>
            <a:br>
              <a:rPr sz="1400"/>
            </a:br>
            <a:r>
              <a:rPr b="1" lang="ru-RU" sz="1400" spc="-1" strike="noStrike">
                <a:solidFill>
                  <a:srgbClr val="0070c0"/>
                </a:solidFill>
                <a:latin typeface="Georgia"/>
              </a:rPr>
              <a:t>В добре удача кроется,</a:t>
            </a:r>
            <a:br>
              <a:rPr sz="1400"/>
            </a:br>
            <a:r>
              <a:rPr b="1" lang="ru-RU" sz="1400" spc="-1" strike="noStrike">
                <a:solidFill>
                  <a:srgbClr val="0070c0"/>
                </a:solidFill>
                <a:latin typeface="Georgia"/>
              </a:rPr>
              <a:t>А не в злобливой глупости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70c0"/>
                </a:solidFill>
                <a:latin typeface="Georgia"/>
              </a:rPr>
              <a:t>Уже и сам я дедушка,</a:t>
            </a:r>
            <a:br>
              <a:rPr sz="1400"/>
            </a:br>
            <a:r>
              <a:rPr b="1" lang="ru-RU" sz="1400" spc="-1" strike="noStrike">
                <a:solidFill>
                  <a:srgbClr val="0070c0"/>
                </a:solidFill>
                <a:latin typeface="Georgia"/>
              </a:rPr>
              <a:t>Не за горами краешек.</a:t>
            </a:r>
            <a:br>
              <a:rPr sz="1400"/>
            </a:br>
            <a:r>
              <a:rPr b="1" lang="ru-RU" sz="1400" spc="-1" strike="noStrike">
                <a:solidFill>
                  <a:srgbClr val="0070c0"/>
                </a:solidFill>
                <a:latin typeface="Georgia"/>
              </a:rPr>
              <a:t>Учу я внука: «Хлебушек</a:t>
            </a:r>
            <a:br>
              <a:rPr sz="1400"/>
            </a:br>
            <a:r>
              <a:rPr b="1" lang="ru-RU" sz="1400" spc="-1" strike="noStrike">
                <a:solidFill>
                  <a:srgbClr val="0070c0"/>
                </a:solidFill>
                <a:latin typeface="Georgia"/>
              </a:rPr>
              <a:t>Подай в ответ на камешек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8362800" cy="60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1547640" y="1989000"/>
            <a:ext cx="6264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Красоту уносят год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доброту не унесут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1150920" y="350028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eorgia"/>
              </a:rPr>
              <a:t>Без добрых дел нет доброго имен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2411280" y="4724280"/>
            <a:ext cx="50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Доброе слово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оловина счасть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1476360" y="1125360"/>
            <a:ext cx="7199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Добрые дела красят человека.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3576240" y="404640"/>
            <a:ext cx="22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Послов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Дорога добра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13305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7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9T18:04:16Z</dcterms:created>
  <dc:creator>User</dc:creator>
  <dc:description/>
  <dc:language>en-US</dc:language>
  <cp:lastModifiedBy>Светлана Васильевна</cp:lastModifiedBy>
  <dcterms:modified xsi:type="dcterms:W3CDTF">2016-01-26T12:09:29Z</dcterms:modified>
  <cp:revision>70</cp:revision>
  <dc:subject/>
  <dc:title>Основы светской этики</dc:title>
</cp:coreProperties>
</file>