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jpeg" ContentType="image/jpeg"/>
  <Override PartName="/ppt/media/image12.png" ContentType="image/png"/>
  <Override PartName="/ppt/media/image21.gif" ContentType="image/gif"/>
  <Override PartName="/ppt/media/image14.png" ContentType="image/png"/>
  <Override PartName="/ppt/media/image17.png" ContentType="image/png"/>
  <Override PartName="/ppt/media/image32.jpeg" ContentType="image/jpeg"/>
  <Override PartName="/ppt/media/image3.png" ContentType="image/png"/>
  <Override PartName="/ppt/media/image8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BB5-A64E-41DE-A02F-88325A07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9ED-7A05-4391-8A26-8BF4600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62D-15B0-4AC8-930A-97243F44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109-D277-4566-BF02-18204A2E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F6AE-617F-4114-B439-A826355B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2742-584B-4B89-AC7B-1BF1F044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9D5F-413E-48EF-8E4C-39B95B54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06DF-7D59-4B6C-82D3-5CFEDC40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5210-7E0D-4F3A-8833-6779FB2F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7F00-EBA4-4755-B825-EAABE25A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66F8-A003-4FA1-B23D-68A9A094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FC7-767B-498F-AA28-B884514A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F465-0169-4406-819C-8D852C3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55BC-D7F3-4349-A343-17FC7D7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90F1-CE64-49E1-99C3-9E45435D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2A7F-440C-4974-8925-ACA4F89B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A121-919D-4C46-BB09-E80E6CED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E2E-45A0-435D-9F45-3C6DA45A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4C6-B34F-49E2-A182-7A4FEF10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973-5EC9-48F4-91D2-6367DF68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EF3-5288-4271-88DD-EB40D260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15C-3E6D-4894-9820-8CB9CC60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44B-72B2-4495-9025-E442F23A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117-82E4-4F43-97E6-7FD2011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3D0C-E4D5-441B-A97C-C699898B64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4795-A2E6-4A59-BB9C-15323AFE89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1E69-4828-48DB-B121-25EA1FA666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0A18-912C-4527-807F-4EBDD13C5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1332000" y="112536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День космонавт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95640" y="386064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2 апр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556000" y="333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рок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j0300519"/>
          <p:cNvPicPr/>
          <p:nvPr/>
        </p:nvPicPr>
        <p:blipFill>
          <a:blip r:embed="rId1"/>
          <a:stretch/>
        </p:blipFill>
        <p:spPr>
          <a:xfrm flipH="1">
            <a:off x="468000" y="4365720"/>
            <a:ext cx="1733400" cy="150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Kartinochki (10)"/>
          <p:cNvPicPr/>
          <p:nvPr/>
        </p:nvPicPr>
        <p:blipFill>
          <a:blip r:embed="rId2"/>
          <a:stretch/>
        </p:blipFill>
        <p:spPr>
          <a:xfrm>
            <a:off x="6516720" y="4005360"/>
            <a:ext cx="1851120" cy="216828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3780000" y="5084640"/>
            <a:ext cx="1968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3132000" y="6093000"/>
            <a:ext cx="2880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БОУ СОШ № 34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89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Содержимое 3" descr=""/>
          <p:cNvPicPr/>
          <p:nvPr/>
        </p:nvPicPr>
        <p:blipFill>
          <a:blip r:embed="rId1"/>
          <a:stretch/>
        </p:blipFill>
        <p:spPr>
          <a:xfrm>
            <a:off x="262080" y="1798560"/>
            <a:ext cx="8619840" cy="50659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1" descr="a11"/>
          <p:cNvPicPr/>
          <p:nvPr/>
        </p:nvPicPr>
        <p:blipFill>
          <a:blip r:embed="rId2"/>
          <a:stretch/>
        </p:blipFill>
        <p:spPr>
          <a:xfrm>
            <a:off x="7308720" y="404640"/>
            <a:ext cx="1368720" cy="1211400"/>
          </a:xfrm>
          <a:prstGeom prst="rect">
            <a:avLst/>
          </a:prstGeom>
          <a:ln w="0">
            <a:noFill/>
          </a:ln>
        </p:spPr>
      </p:pic>
      <p:sp>
        <p:nvSpPr>
          <p:cNvPr id="66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3900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Плане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434960"/>
            <a:ext cx="3683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00"/>
                </a:solidFill>
                <a:latin typeface="Calibri"/>
              </a:rPr>
              <a:t>Небесное тело, движущееся вокруг Солнца и светящееся его отраженным светом.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3" descr="E:\Картинки\Природа\Космос\Мир планет.JPG"/>
          <p:cNvPicPr/>
          <p:nvPr/>
        </p:nvPicPr>
        <p:blipFill>
          <a:blip r:embed="rId1"/>
          <a:stretch/>
        </p:blipFill>
        <p:spPr>
          <a:xfrm>
            <a:off x="4427640" y="1611360"/>
            <a:ext cx="4083120" cy="4813200"/>
          </a:xfrm>
          <a:prstGeom prst="rect">
            <a:avLst/>
          </a:prstGeom>
          <a:ln w="0">
            <a:noFill/>
          </a:ln>
        </p:spPr>
      </p:pic>
      <p:sp>
        <p:nvSpPr>
          <p:cNvPr id="6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17928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Задача.  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Ближайшими планетами к Земле являются Венера и Мар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 подсчётам учёных полёт от Земли к Венере и обратно составит 505 дней, а от Земли до Марса и обратно  на 139 дней меньше, чем на Венеру и обратно. Сколько дней будет длиться полёт от Земли к Марсу и обра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7" descr="марс"/>
          <p:cNvPicPr/>
          <p:nvPr/>
        </p:nvPicPr>
        <p:blipFill>
          <a:blip r:embed="rId1"/>
          <a:stretch/>
        </p:blipFill>
        <p:spPr>
          <a:xfrm>
            <a:off x="250920" y="170028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венера"/>
          <p:cNvPicPr/>
          <p:nvPr/>
        </p:nvPicPr>
        <p:blipFill>
          <a:blip r:embed="rId2"/>
          <a:stretch/>
        </p:blipFill>
        <p:spPr>
          <a:xfrm>
            <a:off x="6873840" y="1773360"/>
            <a:ext cx="1801800" cy="17431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0" descr="земля"/>
          <p:cNvPicPr/>
          <p:nvPr/>
        </p:nvPicPr>
        <p:blipFill>
          <a:blip r:embed="rId3"/>
          <a:stretch/>
        </p:blipFill>
        <p:spPr>
          <a:xfrm>
            <a:off x="3276720" y="1700280"/>
            <a:ext cx="1849320" cy="1778040"/>
          </a:xfrm>
          <a:prstGeom prst="rect">
            <a:avLst/>
          </a:prstGeom>
          <a:ln w="0">
            <a:noFill/>
          </a:ln>
        </p:spPr>
      </p:pic>
      <p:sp>
        <p:nvSpPr>
          <p:cNvPr id="674" name="Двойная стрелка влево/вправо 14"/>
          <p:cNvSpPr/>
          <p:nvPr/>
        </p:nvSpPr>
        <p:spPr>
          <a:xfrm>
            <a:off x="1979640" y="2276640"/>
            <a:ext cx="1224000" cy="144360"/>
          </a:xfrm>
          <a:prstGeom prst="leftRightArrow">
            <a:avLst>
              <a:gd name="adj1" fmla="val 50000"/>
              <a:gd name="adj2" fmla="val 500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Двойная стрелка влево/вправо 15"/>
          <p:cNvSpPr/>
          <p:nvPr/>
        </p:nvSpPr>
        <p:spPr>
          <a:xfrm>
            <a:off x="5435640" y="2421000"/>
            <a:ext cx="1368360" cy="144360"/>
          </a:xfrm>
          <a:prstGeom prst="leftRight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ce6f2"/>
                </a:solidFill>
                <a:latin typeface="Calibri"/>
              </a:rPr>
              <a:t>Сколько планет входит в Солнечную систем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3" descr="E:\Документы\школа\из интернета\2411-untitled.jpg"/>
          <p:cNvPicPr/>
          <p:nvPr/>
        </p:nvPicPr>
        <p:blipFill>
          <a:blip r:embed="rId1"/>
          <a:stretch/>
        </p:blipFill>
        <p:spPr>
          <a:xfrm>
            <a:off x="1071720" y="1714680"/>
            <a:ext cx="6900840" cy="4654440"/>
          </a:xfrm>
          <a:prstGeom prst="rect">
            <a:avLst/>
          </a:prstGeom>
          <a:ln w="0">
            <a:noFill/>
          </a:ln>
        </p:spPr>
      </p:pic>
      <p:sp>
        <p:nvSpPr>
          <p:cNvPr id="6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4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4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еши уравн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узнай сколько спутников у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WordArt 6"/>
          <p:cNvSpPr txBox="1"/>
          <p:nvPr/>
        </p:nvSpPr>
        <p:spPr>
          <a:xfrm>
            <a:off x="324000" y="5300640"/>
            <a:ext cx="3887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Х+ 34= 6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681" name="WordArt 7"/>
          <p:cNvSpPr txBox="1"/>
          <p:nvPr/>
        </p:nvSpPr>
        <p:spPr>
          <a:xfrm>
            <a:off x="468360" y="1268280"/>
            <a:ext cx="360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к- 50= 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682" name="WordArt 8"/>
          <p:cNvSpPr txBox="1"/>
          <p:nvPr/>
        </p:nvSpPr>
        <p:spPr>
          <a:xfrm>
            <a:off x="395280" y="3357720"/>
            <a:ext cx="360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У : 10=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683" name="WordArt 9"/>
          <p:cNvSpPr txBox="1"/>
          <p:nvPr/>
        </p:nvSpPr>
        <p:spPr>
          <a:xfrm>
            <a:off x="4932360" y="3500280"/>
            <a:ext cx="360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8 х  а = 16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684" name="WordArt 8"/>
          <p:cNvSpPr txBox="1"/>
          <p:nvPr/>
        </p:nvSpPr>
        <p:spPr>
          <a:xfrm>
            <a:off x="4932360" y="5157720"/>
            <a:ext cx="388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c + 20= 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685" name="WordArt 8"/>
          <p:cNvSpPr txBox="1"/>
          <p:nvPr/>
        </p:nvSpPr>
        <p:spPr>
          <a:xfrm>
            <a:off x="5003640" y="1413000"/>
            <a:ext cx="3672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13 : B=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686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6d9f1"/>
                </a:solidFill>
                <a:latin typeface="Calibri"/>
              </a:rPr>
              <a:t>Какие планеты имеют спутники и скольк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Юпитер – 6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атурн – 6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Уран –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Нептун –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Марс –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Земля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E:\Документы\школа\из интернета\1256679051_luna.jpg"/>
          <p:cNvPicPr/>
          <p:nvPr/>
        </p:nvPicPr>
        <p:blipFill>
          <a:blip r:embed="rId1"/>
          <a:stretch/>
        </p:blipFill>
        <p:spPr>
          <a:xfrm>
            <a:off x="4140360" y="1844640"/>
            <a:ext cx="4376520" cy="4071960"/>
          </a:xfrm>
          <a:prstGeom prst="rect">
            <a:avLst/>
          </a:prstGeom>
          <a:ln w="0">
            <a:noFill/>
          </a:ln>
        </p:spPr>
      </p:pic>
      <p:sp>
        <p:nvSpPr>
          <p:cNvPr id="690" name="Прямоугольник 5"/>
          <p:cNvSpPr/>
          <p:nvPr/>
        </p:nvSpPr>
        <p:spPr>
          <a:xfrm>
            <a:off x="5577840" y="5929200"/>
            <a:ext cx="10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835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 Black"/>
              </a:rPr>
              <a:t>Звёзд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Схема 3" descr=""/>
          <p:cNvPicPr/>
          <p:nvPr/>
        </p:nvPicPr>
        <p:blipFill>
          <a:blip r:embed="rId1"/>
          <a:stretch/>
        </p:blipFill>
        <p:spPr>
          <a:xfrm>
            <a:off x="738360" y="1395360"/>
            <a:ext cx="7594560" cy="5133960"/>
          </a:xfrm>
          <a:prstGeom prst="rect">
            <a:avLst/>
          </a:prstGeom>
          <a:ln w="0">
            <a:noFill/>
          </a:ln>
        </p:spPr>
      </p:pic>
      <p:sp>
        <p:nvSpPr>
          <p:cNvPr id="69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Group 9"/>
          <p:cNvGrpSpPr/>
          <p:nvPr/>
        </p:nvGrpSpPr>
        <p:grpSpPr>
          <a:xfrm>
            <a:off x="4500720" y="2060640"/>
            <a:ext cx="4343400" cy="2971800"/>
            <a:chOff x="4500720" y="2060640"/>
            <a:chExt cx="4343400" cy="2971800"/>
          </a:xfrm>
        </p:grpSpPr>
        <p:sp>
          <p:nvSpPr>
            <p:cNvPr id="696" name="AutoShape 10"/>
            <p:cNvSpPr/>
            <p:nvPr/>
          </p:nvSpPr>
          <p:spPr>
            <a:xfrm>
              <a:off x="5415480" y="2060640"/>
              <a:ext cx="3428640" cy="2514960"/>
            </a:xfrm>
            <a:prstGeom prst="rtTriangl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1"/>
            <p:cNvSpPr/>
            <p:nvPr/>
          </p:nvSpPr>
          <p:spPr>
            <a:xfrm>
              <a:off x="6443640" y="4575600"/>
              <a:ext cx="9147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7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2"/>
            <p:cNvSpPr/>
            <p:nvPr/>
          </p:nvSpPr>
          <p:spPr>
            <a:xfrm>
              <a:off x="4500720" y="2975040"/>
              <a:ext cx="7995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Группа 24"/>
          <p:cNvGrpSpPr/>
          <p:nvPr/>
        </p:nvGrpSpPr>
        <p:grpSpPr>
          <a:xfrm>
            <a:off x="179280" y="4284720"/>
            <a:ext cx="5977080" cy="2388960"/>
            <a:chOff x="179280" y="4284720"/>
            <a:chExt cx="5977080" cy="2388960"/>
          </a:xfrm>
        </p:grpSpPr>
        <p:sp>
          <p:nvSpPr>
            <p:cNvPr id="700" name="Rectangle 14"/>
            <p:cNvSpPr/>
            <p:nvPr/>
          </p:nvSpPr>
          <p:spPr>
            <a:xfrm>
              <a:off x="975240" y="4284720"/>
              <a:ext cx="2702880" cy="1871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15"/>
            <p:cNvSpPr/>
            <p:nvPr/>
          </p:nvSpPr>
          <p:spPr>
            <a:xfrm>
              <a:off x="1907640" y="6156000"/>
              <a:ext cx="1152000" cy="51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0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6"/>
            <p:cNvSpPr/>
            <p:nvPr/>
          </p:nvSpPr>
          <p:spPr>
            <a:xfrm>
              <a:off x="179280" y="5001480"/>
              <a:ext cx="822240" cy="64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с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7"/>
            <p:cNvSpPr/>
            <p:nvPr/>
          </p:nvSpPr>
          <p:spPr>
            <a:xfrm>
              <a:off x="3564000" y="5220360"/>
              <a:ext cx="1533960" cy="919080"/>
            </a:xfrm>
            <a:prstGeom prst="rect">
              <a:avLst/>
            </a:prstGeom>
            <a:solidFill>
              <a:srgbClr val="33cccc"/>
            </a:solidFill>
            <a:ln w="0">
              <a:solidFill>
                <a:srgbClr val="33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19"/>
            <p:cNvSpPr/>
            <p:nvPr/>
          </p:nvSpPr>
          <p:spPr>
            <a:xfrm>
              <a:off x="3942000" y="4455720"/>
              <a:ext cx="822960" cy="64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с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20"/>
            <p:cNvSpPr/>
            <p:nvPr/>
          </p:nvSpPr>
          <p:spPr>
            <a:xfrm>
              <a:off x="5364360" y="5328360"/>
              <a:ext cx="792000" cy="64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с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28"/>
          <p:cNvGrpSpPr/>
          <p:nvPr/>
        </p:nvGrpSpPr>
        <p:grpSpPr>
          <a:xfrm>
            <a:off x="324000" y="0"/>
            <a:ext cx="4276080" cy="3657600"/>
            <a:chOff x="324000" y="0"/>
            <a:chExt cx="4276080" cy="3657600"/>
          </a:xfrm>
        </p:grpSpPr>
        <p:sp>
          <p:nvSpPr>
            <p:cNvPr id="707" name="Rectangle 29"/>
            <p:cNvSpPr/>
            <p:nvPr/>
          </p:nvSpPr>
          <p:spPr>
            <a:xfrm>
              <a:off x="1231560" y="457200"/>
              <a:ext cx="2331720" cy="2743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0"/>
            <p:cNvSpPr/>
            <p:nvPr/>
          </p:nvSpPr>
          <p:spPr>
            <a:xfrm>
              <a:off x="1749240" y="800280"/>
              <a:ext cx="1297440" cy="194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31"/>
            <p:cNvSpPr/>
            <p:nvPr/>
          </p:nvSpPr>
          <p:spPr>
            <a:xfrm>
              <a:off x="2008800" y="3314880"/>
              <a:ext cx="9064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 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32"/>
            <p:cNvSpPr/>
            <p:nvPr/>
          </p:nvSpPr>
          <p:spPr>
            <a:xfrm>
              <a:off x="3692520" y="1714680"/>
              <a:ext cx="9075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8 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33"/>
            <p:cNvSpPr/>
            <p:nvPr/>
          </p:nvSpPr>
          <p:spPr>
            <a:xfrm>
              <a:off x="324000" y="2781000"/>
              <a:ext cx="792000" cy="41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 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2916360" y="0"/>
              <a:ext cx="6631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1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Box 22"/>
          <p:cNvSpPr/>
          <p:nvPr/>
        </p:nvSpPr>
        <p:spPr>
          <a:xfrm>
            <a:off x="4500720" y="404640"/>
            <a:ext cx="431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Фигура меньшей площа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подскажет цвет самых горячих звёз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Нижний колонтитул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6" descr="8f28c9c5fc"/>
          <p:cNvPicPr/>
          <p:nvPr/>
        </p:nvPicPr>
        <p:blipFill>
          <a:blip r:embed="rId1"/>
          <a:stretch/>
        </p:blipFill>
        <p:spPr>
          <a:xfrm>
            <a:off x="826920" y="404640"/>
            <a:ext cx="2305080" cy="23036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4"/>
          <p:cNvSpPr/>
          <p:nvPr/>
        </p:nvSpPr>
        <p:spPr>
          <a:xfrm>
            <a:off x="684360" y="2781360"/>
            <a:ext cx="748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тоб глаза твои зорче был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тоб очки тебе не носи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Эти лёгкие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едлагаю повтори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Dетская студия - Зорепад - Чип и Дэйл (орг)(224).mp3" descr=""/>
          <p:cNvPicPr/>
          <p:nvPr/>
        </p:nvPicPr>
        <p:blipFill>
          <a:blip r:embed="rId2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1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56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3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11 -0.01619 C 0.07778 -0.03816 0.06979 -0.03376 0.0809 -0.03862 C 0.08715 -0.04741 0.08316 -0.04348 0.09357 -0.0481 C 0.09635 -0.04926 0.10208 -0.0518 0.10208 -0.05157 C 0.10955 -0.05851 0.11892 -0.05966 0.12743 -0.06313 C 0.13368 -0.06568 0.13941 -0.06845 0.14548 -0.07053 C 0.15555 -0.07909 0.16597 -0.07886 0.17812 -0.08002 C 0.21198 -0.09135 0.2908 -0.08695 0.31198 -0.08742 C 0.35573 -0.08626 0.39913 -0.08441 0.44288 -0.08187 C 0.45746 -0.08002 0.47205 -0.07701 0.48663 -0.07423 C 0.49653 -0.07238 0.50642 -0.07192 0.51614 -0.06868 C 0.53368 -0.0629 0.55069 -0.05388 0.56823 -0.0481 C 0.57083 -0.04579 0.57257 -0.04232 0.57535 -0.04047 C 0.57795 -0.03862 0.58125 -0.03885 0.58368 -0.03677 C 0.58889 -0.03237 0.59479 -0.02821 0.60069 -0.02544 C 0.60868 -0.00948 0.59809 -0.02821 0.60764 -0.01804 C 0.60903 -0.01665 0.60937 -0.0141 0.61041 -0.01249 C 0.61423 -0.00624 0.61267 -0.0104 0.61753 -0.00485 C 0.625 0.0037 0.63073 0.01619 0.63871 0.02313 C 0.64028 0.02961 0.64288 0.03539 0.64427 0.04209 C 0.64878 0.06314 0.65173 0.08488 0.65694 0.10569 C 0.6625 0.15171 0.65798 0.19542 0.65694 0.24283 C 0.65503 0.32563 0.66163 0.29626 0.65416 0.32725 C 0.65364 0.33233 0.65347 0.33719 0.65278 0.34228 C 0.65208 0.34852 0.65 0.36101 0.65 0.36124 C 0.64791 0.38969 0.64271 0.41467 0.63576 0.44172 C 0.63316 0.45144 0.63177 0.46115 0.62743 0.46971 C 0.62465 0.48104 0.61128 0.50116 0.60347 0.5074 C 0.59982 0.51041 0.59514 0.51087 0.59219 0.5148 C 0.58663 0.5222 0.58298 0.52729 0.57535 0.52984 C 0.5743 0.53169 0.57378 0.53423 0.57239 0.53516 C 0.56944 0.5377 0.55399 0.54487 0.55 0.54672 C 0.53976 0.55065 0.53021 0.55666 0.52014 0.56175 C 0.50712 0.56823 0.49201 0.56915 0.47812 0.571 C 0.46649 0.57586 0.45347 0.57609 0.44114 0.57863 C 0.41649 0.58349 0.39201 0.58788 0.36666 0.58997 C 0.30486 0.58858 0.24288 0.58788 0.1809 0.58603 C 0.16788 0.58557 0.15503 0.57748 0.14288 0.57285 C 0.12482 0.56615 0.10712 0.5599 0.08941 0.55227 C 0.08003 0.54811 0.07205 0.53839 0.06267 0.53516 C 0.05295 0.5266 0.05746 0.52937 0.05 0.52614 C 0.0467 0.52174 0.03871 0.5148 0.03871 0.5148 C 0.03559 0.50902 0.03333 0.50555 0.02882 0.50162 C 0.02396 0.49191 0.01736 0.4889 0.01041 0.48289 C 0.00798 0.47318 0.00972 0.47873 0.00347 0.46601 C 0.0026 0.46416 0.00156 0.46208 0.00069 0.46046 C -0.00035 0.45861 -0.00226 0.45467 -0.00226 0.45491 C -0.01129 0.41837 -0.02188 0.38044 -0.02465 0.34228 C -0.02535 0.33418 -0.02535 0.32586 -0.02622 0.31776 C -0.02726 0.30898 -0.03038 0.29163 -0.03038 0.29186 C -0.03125 0.27845 -0.03229 0.26527 -0.03316 0.25208 C -0.03368 0.24584 -0.03455 0.23335 -0.03455 0.23358 C -0.03403 0.20838 -0.03403 0.1834 -0.03316 0.15842 C -0.03264 0.14108 -0.02674 0.12419 -0.02327 0.10777 C -0.01945 0.08973 -0.01632 0.06892 -0.00643 0.05504 C -0.00278 0.04047 0.0092 0.02614 0.01892 0.01758 C 0.01979 0.01573 0.02031 0.01319 0.0217 0.01203 C 0.0243 0.00995 0.03021 0.00833 0.03021 0.00856 C 0.03472 0.00185 0.03194 -3.20999000000006E-006 0.03871 -0.003 C 0.04184 -0.00925 0.04305 -0.01202 0.04844 -0.01434 C 0.04948 -0.01549 0.05017 -0.01734 0.05139 -0.01804 C 0.05399 -0.01965 0.05972 -0.02174 0.05972 -0.0215 C 0.06389 -0.02706 0.06875 -0.02798 0.07378 -0.03122 E">
                                      <p:cBhvr>
                                        <p:cTn id="262" dur="8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0879 C 0.08403 -0.02012 0.08872 -0.02937 0.10052 -0.03307 C 0.13177 -0.05388 0.16424 -0.05943 0.19914 -0.06313 C 0.23785 -0.07169 0.27743 -0.07354 0.31598 -0.08372 C 0.35209 -0.08302 0.38837 -0.08349 0.42448 -0.08187 C 0.43959 -0.08117 0.45469 -0.07377 0.46945 -0.07053 C 0.4849 -0.06707 0.50139 -0.0666 0.51736 -0.06498 C 0.52535 -0.06244 0.53299 -0.06082 0.54132 -0.05943 C 0.54792 -0.05712 0.55434 -0.05435 0.56111 -0.0518 C 0.56389 -0.05065 0.56667 -0.04926 0.56945 -0.0481 C 0.57084 -0.04741 0.57379 -0.04625 0.57379 -0.04602 C 0.58177 -0.03538 0.57761 -0.03816 0.5849 -0.03492 C 0.58594 -0.03376 0.58664 -0.03214 0.58785 -0.03122 C 0.58907 -0.03029 0.5908 -0.03053 0.59202 -0.02937 C 0.60087 -0.01966 0.58854 -0.02636 0.59914 -0.02174 C 0.60365 -0.01295 0.61111 -0.00462 0.61875 -0.00115 C 0.62101 0.00347 0.62396 0.00856 0.62726 0.01203 C 0.63004 0.0148 0.63577 0.01943 0.63577 0.01966 C 0.63872 0.02544 0.64202 0.0296 0.6441 0.03631 C 0.64844 0.05065 0.64427 0.04441 0.64983 0.05134 C 0.65625 0.07794 0.66181 0.105 0.66667 0.13206 C 0.66962 0.17831 0.66875 0.15518 0.66528 0.23312 C 0.66441 0.25347 0.66146 0.27359 0.65955 0.29348 C 0.65608 0.32886 0.65625 0.36772 0.64844 0.40218 C 0.64618 0.41212 0.64167 0.42114 0.63854 0.43039 C 0.63507 0.44103 0.63195 0.45375 0.62587 0.46231 C 0.62396 0.46994 0.62101 0.47109 0.61736 0.47734 C 0.61528 0.48081 0.61181 0.48844 0.61181 0.48867 C 0.6099 0.4963 0.60539 0.50208 0.60191 0.50925 C 0.60104 0.5111 0.59914 0.5148 0.59914 0.51503 C 0.59861 0.51688 0.59844 0.51989 0.59757 0.5222 C 0.59688 0.52359 0.59532 0.52429 0.59479 0.52614 C 0.59358 0.5296 0.59358 0.53354 0.59202 0.53724 C 0.59115 0.53909 0.59011 0.54094 0.58924 0.54279 C 0.58716 0.55389 0.58195 0.56129 0.57379 0.56499 C 0.56893 0.57169 0.56615 0.57424 0.55955 0.57678 C 0.55295 0.58256 0.54705 0.58349 0.53993 0.58603 C 0.53021 0.58904 0.52153 0.5939 0.51164 0.59737 C 0.49809 0.60176 0.48438 0.60939 0.47084 0.6124 C 0.44514 0.61795 0.41997 0.62165 0.39479 0.62535 C 0.34948 0.62211 0.30816 0.61864 0.2625 0.61795 C 0.24931 0.61494 0.23646 0.61379 0.22309 0.6124 C 0.20122 0.60361 0.17795 0.60384 0.15539 0.59922 C 0.1441 0.5939 0.15261 0.5976 0.12865 0.59367 C 0.11893 0.59205 0.10886 0.58835 0.09914 0.58603 C 0.0941 0.57979 0.08837 0.5791 0.08212 0.57678 C 0.07257 0.57308 0.06268 0.56984 0.054 0.56314 C 0.03455 0.54903 0.01962 0.52614 0.00469 0.50532 C 0.00295 0.49838 0.00018 0.4926 -0.00243 0.48659 C -0.00416 0.48266 -0.00798 0.47526 -0.00798 0.47549 C -0.00955 0.46485 -0.01336 0.46207 -0.0151 0.45282 C -0.01718 0.44219 -0.01771 0.4364 -0.02205 0.42669 C -0.02343 0.41328 -0.02604 0.40009 -0.02916 0.38714 C -0.03142 0.34806 -0.03142 0.35985 -0.02916 0.30458 C -0.02847 0.28562 -0.02343 0.26527 -0.02066 0.24653 C -0.0184 0.23173 -0.0125 0.21809 -0.01076 0.20329 C -0.00868 0.1864 -0.00659 0.15541 0.00052 0.14131 C 0.00261 0.12789 0.00452 0.11332 0.01042 0.10199 C 0.01441 0.08118 0.00886 0.10685 0.01459 0.08881 C 0.01754 0.07979 0.01736 0.07355 0.02309 0.06638 C 0.025 0.05874 0.02778 0.05574 0.03143 0.04949 C 0.0382 0.03793 0.04289 0.02243 0.054 0.01758 C 0.05695 0.00578 0.06667 0.00833 0.07084 0.0007 C 0.0724 -0.00208 0.07275 -0.00555 0.07379 -0.00879 Z">
                                      <p:cBhvr>
                                        <p:cTn id="265" dur="8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11 -0.01619 C 0.06424 -0.0037 0.06632 -0.00162 0.07517 0.00625 C 0.0849 0.0148 0.07031 0.00416 0.0809 0.01573 C 0.08212 0.01688 0.08385 0.01665 0.08507 0.01758 C 0.08802 0.01966 0.0908 0.02243 0.09358 0.02498 C 0.1 0.03053 0.10434 0.03608 0.11181 0.04001 C 0.11597 0.04533 0.12049 0.05088 0.12604 0.05319 C 0.13125 0.05851 0.13663 0.06545 0.14288 0.06822 C 0.14792 0.07493 0.15434 0.0821 0.16111 0.08511 C 0.17118 0.09783 0.15625 0.08002 0.16823 0.09066 C 0.16962 0.09205 0.17083 0.09459 0.1724 0.09621 C 0.17969 0.10384 0.18698 0.11078 0.19496 0.11702 C 0.20052 0.12142 0.20399 0.1272 0.21042 0.12997 C 0.21146 0.13136 0.21215 0.13298 0.21337 0.1339 C 0.21458 0.13483 0.21632 0.1346 0.21753 0.13575 C 0.22656 0.14524 0.21406 0.13853 0.22448 0.14316 C 0.22587 0.14501 0.22708 0.14732 0.22882 0.14894 C 0.23003 0.15009 0.23177 0.14963 0.23299 0.15079 C 0.23958 0.15726 0.2434 0.16605 0.25139 0.16952 C 0.25417 0.17206 0.25694 0.17438 0.25972 0.17692 C 0.26146 0.17854 0.26233 0.18131 0.26406 0.1827 C 0.26667 0.18455 0.2724 0.1864 0.2724 0.18663 C 0.2776 0.19311 0.28299 0.19912 0.28941 0.20328 C 0.2941 0.20953 0.29826 0.21161 0.30347 0.21647 C 0.3125 0.22502 0.30295 0.21994 0.31181 0.22387 C 0.31736 0.23081 0.32448 0.23242 0.33021 0.2389 C 0.33785 0.24746 0.34583 0.25694 0.35556 0.26133 C 0.3625 0.27105 0.35295 0.25856 0.36406 0.26896 C 0.36562 0.27035 0.36667 0.2729 0.36823 0.27452 C 0.37187 0.27798 0.37569 0.28076 0.37951 0.284 C 0.39444 0.29672 0.40816 0.31036 0.42309 0.32331 C 0.42483 0.3247 0.42917 0.33164 0.43021 0.33279 C 0.43576 0.33858 0.44496 0.34875 0.45139 0.35153 C 0.45573 0.35754 0.45955 0.36008 0.46545 0.36263 C 0.47083 0.36772 0.47292 0.37188 0.47951 0.37396 C 0.48611 0.38298 0.4941 0.39246 0.5033 0.39639 C 0.51042 0.40287 0.51753 0.40888 0.52448 0.41536 C 0.52639 0.41721 0.5283 0.41906 0.53021 0.42091 C 0.53142 0.4223 0.53437 0.42461 0.53437 0.42484 C 0.53524 0.42646 0.53594 0.42877 0.53715 0.43016 C 0.53837 0.43155 0.5401 0.43131 0.54149 0.43224 C 0.54705 0.4364 0.55087 0.44265 0.55694 0.44519 C 0.56146 0.45143 0.56701 0.45537 0.5724 0.46022 C 0.57483 0.46254 0.5809 0.46392 0.5809 0.46415 C 0.58871 0.47086 0.5967 0.47919 0.60486 0.48474 C 0.6099 0.48797 0.61215 0.49353 0.61753 0.49584 C 0.62066 0.50023 0.62413 0.50301 0.62743 0.50717 C 0.62257 0.51341 0.62656 0.51064 0.62031 0.50717 C 0.61858 0.50625 0.61667 0.50601 0.61476 0.50532 C 0.59496 0.50601 0.57535 0.50578 0.55556 0.50717 C 0.54792 0.50763 0.53299 0.51087 0.53299 0.5111 C 0.48212 0.50902 0.43472 0.50671 0.38507 0.50162 C 0.36875 0.49306 0.3474 0.49353 0.33021 0.49214 C 0.23819 0.49283 0.14618 0.49283 0.05417 0.49399 C 0.03889 0.49422 0.0217 0.50185 0.00625 0.50347 C -0.00174 0.50231 -0.0099 0.50254 -0.01771 0.49977 C -0.0191 0.49931 -0.01597 0.49699 -0.01493 0.49584 C -0.01215 0.49306 -0.0092 0.49098 -0.00642 0.48844 C -0.00017 0.48289 0.00608 0.47479 0.01337 0.47155 C 0.01615 0.4704 0.01892 0.46901 0.0217 0.46785 C 0.02309 0.46716 0.02604 0.466 0.02604 0.46624 C 0.03108 0.45884 0.0401 0.45768 0.04705 0.45467 C 0.04861 0.45398 0.04983 0.4519 0.05139 0.45097 C 0.06007 0.44519 0.07031 0.43987 0.07951 0.43594 C 0.08819 0.42831 0.09913 0.4253 0.10903 0.42091 C 0.12031 0.41605 0.1066 0.42206 0.11753 0.41721 C 0.11892 0.41651 0.1217 0.41536 0.1217 0.41559 C 0.13576 0.40264 0.15746 0.39847 0.17378 0.39269 C 0.18212 0.38969 0.18958 0.38575 0.19774 0.38159 C 0.20538 0.37766 0.2158 0.37674 0.22309 0.37211 C 0.22986 0.36772 0.23698 0.36332 0.24427 0.36078 C 0.25434 0.35199 0.24948 0.35453 0.25833 0.35153 C 0.26267 0.34551 0.26927 0.34459 0.27517 0.34205 C 0.27656 0.34135 0.27951 0.3402 0.27951 0.34043 C 0.2809 0.33904 0.28212 0.33719 0.28368 0.33649 C 0.28594 0.33534 0.28871 0.33603 0.2908 0.33464 C 0.29253 0.33349 0.29323 0.33025 0.29496 0.32886 C 0.29878 0.32586 0.30347 0.32516 0.30764 0.32331 C 0.31163 0.32146 0.31493 0.31753 0.31892 0.31591 C 0.32743 0.31267 0.32257 0.31452 0.33299 0.31013 C 0.33854 0.30782 0.33906 0.30111 0.34288 0.29695 C 0.3441 0.29579 0.34583 0.29602 0.34705 0.2951 C 0.34983 0.29302 0.35278 0.29024 0.35556 0.2877 C 0.35799 0.28562 0.36128 0.28515 0.36406 0.284 C 0.36545 0.2833 0.36823 0.28215 0.36823 0.28238 C 0.37465 0.27313 0.36684 0.28284 0.37517 0.27637 C 0.38542 0.26827 0.39288 0.25416 0.40486 0.25023 C 0.40556 0.24884 0.4066 0.24746 0.40764 0.2463 C 0.40885 0.24491 0.41059 0.24422 0.41181 0.2426 C 0.41944 0.23266 0.41233 0.23682 0.42031 0.23335 C 0.42431 0.2278 0.42847 0.22641 0.43299 0.22202 C 0.43455 0.2204 0.43524 0.21785 0.43715 0.21647 C 0.43941 0.21462 0.44201 0.21415 0.44427 0.21254 C 0.44722 0.21045 0.44983 0.20722 0.45278 0.20513 C 0.45469 0.20398 0.45625 0.20259 0.45833 0.20143 C 0.46389 0.1938 0.46649 0.18964 0.47361 0.1864 C 0.47934 0.17553 0.48819 0.16721 0.49635 0.16004 C 0.49931 0.15217 0.50104 0.14986 0.50625 0.14501 C 0.51302 0.13113 0.50365 0.14801 0.51476 0.13575 C 0.51788 0.13229 0.52326 0.12165 0.52604 0.11702 C 0.5309 0.10916 0.52691 0.11725 0.53437 0.10754 C 0.53906 0.1013 0.53906 0.09528 0.54566 0.09251 C 0.55191 0.07956 0.54375 0.09505 0.55417 0.08118 C 0.56371 0.06846 0.57378 0.04834 0.58507 0.03816 C 0.58819 0.03192 0.58958 0.02914 0.59496 0.02683 C 0.5967 0.01989 0.59983 0.01873 0.60347 0.01365 C 0.60625 0.00278 0.60278 0.01272 0.60903 0.00439 C 0.61111 0.00162 0.61267 -0.00231 0.61476 -0.00509 C 0.61597 -0.01017 0.61823 -0.01249 0.61181 -0.01249 C 0.58785 -0.01249 0.56406 -0.01133 0.5401 -0.01064 C 0.49392 -0.00393 0.44705 -0.00069 0.40069 0.00069 C 0.32795 -0.00116 0.25503 -0.00324 0.18229 -0.00509 C 0.15937 -0.00578 0.13594 -0.01318 0.11337 -0.01804 C 0.08976 -0.02313 0.06667 -0.02382 0.04288 -0.02382 E">
                                      <p:cBhvr>
                                        <p:cTn id="268" dur="8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000"/>
                            </p:stCondLst>
                            <p:childTnLst>
                              <p:par>
                                <p:cTn id="2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0879 C 0.10052 -0.00694 0.12605 -0.0007 0.15261 0.00254 C 0.19445 0.01596 0.2316 0.01457 0.27657 0.01572 C 0.31077 0.02127 0.34514 0.02544 0.37952 0.03053 C 0.46632 0.02844 0.54827 0.03307 0.6316 0.00624 C 0.63299 0.00694 0.63542 0.00624 0.63577 0.00809 C 0.63612 0.00994 0.63091 0.01619 0.63021 0.01757 C 0.62327 0.02983 0.6158 0.04047 0.60764 0.05134 C 0.59809 0.06406 0.58872 0.08002 0.57796 0.09065 C 0.57066 0.09806 0.5625 0.10499 0.55556 0.11309 C 0.54167 0.12951 0.55573 0.11633 0.53993 0.12997 C 0.53594 0.13344 0.53247 0.13899 0.52882 0.14315 C 0.5257 0.14662 0.52188 0.14893 0.51893 0.15263 C 0.50973 0.16466 0.5198 0.15657 0.50903 0.16374 C 0.50816 0.16512 0.5073 0.16651 0.50625 0.16767 C 0.50487 0.16905 0.50313 0.16975 0.50191 0.17137 C 0.49618 0.17877 0.49115 0.18686 0.48507 0.1938 C 0.47987 0.19958 0.47639 0.20583 0.46962 0.20883 C 0.46129 0.21947 0.45191 0.23011 0.4415 0.23705 C 0.44098 0.2389 0.44098 0.24121 0.43993 0.2426 C 0.43889 0.24398 0.43716 0.24352 0.43577 0.24445 C 0.43108 0.24769 0.42969 0.25162 0.42448 0.25393 C 0.41667 0.26434 0.40695 0.27359 0.39636 0.27821 C 0.38438 0.29509 0.404 0.2685 0.38924 0.28399 C 0.38785 0.28538 0.38768 0.28816 0.38646 0.28954 C 0.38143 0.29509 0.37587 0.29741 0.36962 0.29903 C 0.35868 0.30758 0.36511 0.30342 0.34983 0.31013 C 0.34184 0.3136 0.33855 0.31915 0.33021 0.32146 C 0.32327 0.32747 0.3158 0.33187 0.30764 0.33464 C 0.29636 0.34435 0.31181 0.3321 0.29636 0.34019 C 0.29375 0.34158 0.29184 0.34435 0.28924 0.34574 C 0.27934 0.35083 0.28542 0.34459 0.27796 0.34967 C 0.27309 0.35291 0.26771 0.35823 0.2625 0.36077 C 0.25886 0.36263 0.25487 0.36286 0.25122 0.36448 C 0.24688 0.37049 0.23664 0.37303 0.23021 0.37581 C 0.22518 0.38205 0.21823 0.3839 0.21181 0.38714 C 0.2007 0.39269 0.18959 0.39732 0.17796 0.40032 C 0.17118 0.40633 0.16355 0.40749 0.15556 0.40957 C 0.14358 0.41281 0.13212 0.41882 0.12032 0.42275 C 0.11007 0.43154 0.09844 0.43756 0.08646 0.44149 C 0.07674 0.45028 0.06459 0.45236 0.05417 0.46022 C 0.04757 0.46508 0.05226 0.463 0.04566 0.466 C 0.04289 0.46739 0.03716 0.4697 0.03716 0.46993 C 0.03056 0.47548 0.02535 0.48265 0.01893 0.48843 C 0.01476 0.49676 0.01789 0.49144 0.0132 0.49769 C 0.01216 0.49907 0.00903 0.50162 0.01042 0.50162 C 0.06181 0.50162 0.11389 0.49422 0.16528 0.49213 C 0.28334 0.49329 0.39844 0.49607 0.51615 0.49769 C 0.54289 0.50023 0.56858 0.50647 0.59497 0.51087 C 0.60921 0.51711 0.62431 0.51596 0.63855 0.5222 C 0.64132 0.52336 0.64427 0.52474 0.64705 0.5259 C 0.64844 0.52659 0.65122 0.52775 0.65122 0.52775 C 0.65035 0.5259 0.64983 0.52336 0.64844 0.5222 C 0.64584 0.52012 0.63993 0.5185 0.63993 0.51873 C 0.63282 0.51179 0.62448 0.50902 0.61615 0.50532 C 0.6125 0.50069 0.60921 0.50069 0.60487 0.49769 C 0.59862 0.49352 0.59323 0.48959 0.58646 0.48658 C 0.58177 0.48011 0.5783 0.47918 0.5724 0.47525 C 0.56789 0.46646 0.57118 0.4704 0.56112 0.466 C 0.55261 0.4623 0.54601 0.45513 0.53716 0.45282 C 0.52865 0.44403 0.52535 0.44819 0.51754 0.44149 C 0.5099 0.43501 0.49827 0.43224 0.48924 0.4283 C 0.48438 0.42183 0.48195 0.41929 0.47518 0.4172 C 0.47066 0.41096 0.46389 0.4068 0.45834 0.40217 C 0.45591 0.40009 0.45122 0.39639 0.45122 0.39662 C 0.44636 0.38645 0.44966 0.39176 0.43855 0.38136 C 0.43716 0.37997 0.43438 0.37766 0.43438 0.37789 C 0.43143 0.37164 0.41632 0.35407 0.41042 0.35152 C 0.40799 0.34921 0.40608 0.34574 0.4033 0.34389 C 0.4007 0.34227 0.39497 0.34019 0.39497 0.34042 C 0.39358 0.33834 0.39167 0.33695 0.39063 0.33464 C 0.38976 0.33302 0.39011 0.33048 0.38924 0.32886 C 0.38542 0.32238 0.37552 0.31637 0.37101 0.31013 C 0.36493 0.3018 0.37205 0.3062 0.36389 0.30273 C 0.3599 0.29463 0.3573 0.29671 0.35122 0.29139 C 0.34532 0.28631 0.34358 0.28099 0.33716 0.27821 C 0.33299 0.27266 0.33021 0.26942 0.32448 0.26711 C 0.31858 0.25879 0.31094 0.25162 0.3033 0.2463 C 0.29532 0.23034 0.30591 0.24907 0.29636 0.2389 C 0.28733 0.22918 0.30122 0.23612 0.28785 0.23127 C 0.27952 0.22016 0.28872 0.2308 0.27657 0.22201 C 0.26771 0.21554 0.27396 0.21855 0.26823 0.21253 C 0.26285 0.20675 0.2625 0.20953 0.25556 0.20328 C 0.24601 0.19472 0.23872 0.18362 0.22726 0.17877 C 0.21927 0.17067 0.21528 0.16489 0.20625 0.16188 C 0.20105 0.15518 0.19532 0.15194 0.18924 0.14685 C 0.18525 0.13968 0.18021 0.13483 0.17379 0.13205 C 0.16389 0.12326 0.15417 0.11448 0.14427 0.10569 C 0.13924 0.10129 0.13629 0.09713 0.13021 0.09435 C 0.12171 0.08325 0.12639 0.08626 0.11754 0.08325 C 0.10313 0.06822 0.10973 0.07308 0.09914 0.06637 C 0.09497 0.06059 0.08959 0.05874 0.08507 0.05319 C 0.079 0.04602 0.07066 0.03469 0.06684 0.02497 C 0.06424 0.01827 0.0625 0.00994 0.06112 0.00254 C 0.06059 2.15540999999988E-006 0.05973 -0.00509 0.05973 -0.00486 E">
                                      <p:cBhvr>
                                        <p:cTn id="271" dur="10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94912E-006 C -0.01458 0.00462 -0.02604 0.01804 -0.03524 0.03376 C -0.03837 0.03885 -0.03889 0.04394 -0.04219 0.04879 C -0.04393 0.05481 -0.04774 0.05966 -0.04931 0.06568 C -0.05156 0.07447 -0.05261 0.08071 -0.05643 0.08811 C -0.05729 0.09181 -0.05747 0.0962 -0.0592 0.09944 C -0.06007 0.10129 -0.06129 0.10291 -0.06198 0.10499 C -0.06615 0.11794 -0.06858 0.13274 -0.07188 0.14616 C -0.07431 0.15587 -0.075 0.16628 -0.07743 0.17622 C -0.0809 0.21854 -0.08559 0.26133 -0.08872 0.30388 C -0.08906 0.30943 -0.08958 0.31521 -0.09011 0.32076 C -0.09115 0.33395 -0.09306 0.36008 -0.09306 0.36008 C -0.09167 0.40356 -0.09167 0.4105 -0.08455 0.44449 C -0.08281 0.45305 -0.08229 0.46068 -0.07743 0.46693 C -0.07361 0.48242 -0.07396 0.47525 -0.0691 0.48774 C -0.06528 0.49745 -0.07014 0.48959 -0.06476 0.49722 C -0.0625 0.50624 -0.05243 0.51965 -0.04653 0.52497 C -0.04358 0.53122 -0.0375 0.53978 -0.03247 0.54209 C -0.02448 0.55781 -0.0349 0.53862 -0.02535 0.55157 C -0.02049 0.55805 -0.02118 0.55943 -0.01406 0.56244 C -0.00955 0.56915 0.00087 0.58094 0.00694 0.58348 C 0.00885 0.58395 0.01076 0.58464 0.01267 0.58533 C 0.01545 0.58626 0.02118 0.5888 0.02118 0.5888 C 0.04844 0.58626 0.05885 0.58718 0.08021 0.5777 C 0.08385 0.57285 0.08576 0.56868 0.0901 0.56475 C 0.09375 0.55712 0.09774 0.55157 0.10139 0.54371 C 0.10451 0.53769 0.10503 0.53307 0.10989 0.52891 C 0.11163 0.51965 0.11302 0.51064 0.11684 0.50277 C 0.12066 0.48219 0.11545 0.50647 0.12118 0.48959 C 0.12847 0.46831 0.12014 0.48589 0.12673 0.47271 C 0.13003 0.45513 0.13212 0.42923 0.13941 0.41466 C 0.14201 0.39708 0.14514 0.37904 0.1493 0.36193 C 0.15069 0.34574 0.15208 0.3314 0.15781 0.31706 C 0.15972 0.30157 0.16094 0.28515 0.16476 0.27012 C 0.16788 0.22918 0.16528 0.24607 0.17048 0.21947 C 0.17205 0.19958 0.17274 0.17877 0.17604 0.15934 C 0.17899 0.14107 0.18385 0.12326 0.18732 0.10499 C 0.18923 0.09459 0.19114 0.07701 0.19722 0.06938 C 0.19965 0.0592 0.20364 0.05111 0.20851 0.04301 C 0.21753 0.02775 0.21111 0.03168 0.21962 0.02798 C 0.225 0.02127 0.22187 0.0259 0.22812 0.01295 C 0.22899 0.0111 0.23125 0.01087 0.23246 0.00925 C 0.23542 0.00578 0.23802 0.00185 0.2408 -0.00185 C 0.24167 -0.00324 0.24236 -0.00532 0.24357 -0.00578 C 0.24635 -0.00694 0.2493 -0.00833 0.25208 -0.00948 C 0.25347 -0.01018 0.25625 -0.01134 0.25625 -0.01134 C 0.26753 -0.00995 0.27691 -0.00717 0.28732 -0.00185 C 0.28871 4.94911999999992E-006 0.28993 0.00208 0.29149 0.0037 C 0.29288 0.00508 0.29462 0.00578 0.29583 0.0074 C 0.29826 0.0104 0.30278 0.01688 0.30278 0.01688 C 0.30746 0.03584 0.30017 0.00786 0.30694 0.02798 C 0.31059 0.03862 0.31267 0.05064 0.31545 0.06175 C 0.3184 0.07354 0.31979 0.0858 0.32257 0.09759 C 0.32413 0.11841 0.32517 0.13899 0.32951 0.15934 C 0.33264 0.19796 0.33281 0.23705 0.33385 0.27567 C 0.33437 0.29509 0.33489 0.31452 0.33524 0.33395 C 0.33576 0.35962 0.33594 0.38506 0.33663 0.41073 C 0.33715 0.42669 0.33889 0.43732 0.3408 0.45212 C 0.3441 0.47641 0.34913 0.49953 0.35347 0.52336 C 0.3559 0.537 0.35903 0.54833 0.36753 0.55689 C 0.37257 0.56221 0.37413 0.56938 0.38021 0.57215 C 0.38646 0.58002 0.39601 0.58071 0.40417 0.58348 C 0.40712 0.58441 0.41267 0.58718 0.41267 0.58718 C 0.42309 0.58464 0.42882 0.5851 0.43663 0.5777 C 0.44097 0.56891 0.44271 0.57331 0.44653 0.5666 C 0.45035 0.55966 0.45208 0.55157 0.45625 0.54579 C 0.45868 0.53746 0.46337 0.53168 0.46614 0.52336 C 0.47135 0.5074 0.47413 0.48936 0.47743 0.47271 C 0.47951 0.46253 0.48264 0.45282 0.48455 0.44264 C 0.48819 0.42206 0.48785 0.40101 0.49288 0.38089 C 0.49427 0.3691 0.49531 0.36286 0.5 0.35268 C 0.50208 0.34158 0.50278 0.32978 0.50555 0.31891 C 0.50712 0.29949 0.51111 0.28145 0.51406 0.26249 C 0.5151 0.25624 0.51562 0.25 0.51684 0.24375 C 0.51753 0.24005 0.51962 0.23265 0.51962 0.23265 C 0.52205 0.20236 0.52361 0.17067 0.52812 0.14061 C 0.52934 0.13298 0.53229 0.12581 0.53385 0.11817 C 0.53698 0.10314 0.53993 0.08788 0.54357 0.07308 C 0.54844 0.05342 0.5526 0.02682 0.56753 0.01688 C 0.57118 0.0215 0.57309 0.0259 0.57743 0.02983 C 0.58003 0.04093 0.57673 0.03076 0.58316 0.03931 C 0.58524 0.04209 0.58663 0.04579 0.58871 0.04879 C 0.59236 0.0636 0.58732 0.04463 0.59288 0.0599 C 0.59357 0.06175 0.59323 0.06429 0.59427 0.06568 C 0.59531 0.06706 0.59722 0.06683 0.59861 0.06753 C 0.60139 0.07863 0.60347 0.09343 0.60851 0.10314 C 0.61198 0.1265 0.61823 0.1494 0.62257 0.17229 C 0.62378 0.17946 0.62535 0.18617 0.62673 0.19311 C 0.62778 0.19819 0.62951 0.20814 0.62951 0.20814 C 0.63351 0.25092 0.63455 0.29533 0.6408 0.33765 C 0.63923 0.38251 0.64149 0.42067 0.6309 0.46114 C 0.62847 0.47063 0.62812 0.47965 0.62396 0.48774 C 0.62187 0.49838 0.61736 0.50786 0.61406 0.51757 C 0.6092 0.53284 0.6059 0.55111 0.59722 0.56244 C 0.59375 0.57678 0.59878 0.56013 0.59149 0.57215 C 0.59062 0.57377 0.59114 0.57608 0.5901 0.5777 C 0.58871 0.57978 0.58628 0.58002 0.58455 0.5814 C 0.58194 0.58441 0.57986 0.58788 0.57743 0.59089 C 0.57205 0.59782 0.56649 0.60939 0.56059 0.61517 C 0.54948 0.62696 0.55573 0.6191 0.54653 0.62627 C 0.52101 0.64708 0.5066 0.64916 0.47604 0.65263 C 0.44948 0.66165 0.42153 0.66235 0.39427 0.6642 C 0.32899 0.66281 0.26389 0.66212 0.19861 0.66027 C 0.17621 0.65957 0.1526 0.65402 0.1309 0.64708 C 0.11927 0.64361 0.11042 0.6376 0.09861 0.63598 C 0.08715 0.63113 0.07517 0.62858 0.06337 0.62465 C 0.05677 0.62257 0.06146 0.62326 0.05486 0.6191 C 0.05121 0.61679 0.04566 0.61586 0.04219 0.61517 C 0.03212 0.61008 0.02153 0.60684 0.01128 0.60199 C 0.00712 0.60037 0.00295 0.59644 -0.00139 0.59435 C -0.00452 0.58834 -0.0059 0.5858 -0.01129 0.58348 C -0.01215 0.5821 -0.01302 0.58071 -0.01406 0.57955 C -0.01684 0.57678 -0.02014 0.57539 -0.02257 0.57215 C -0.02813 0.56475 -0.0316 0.55805 -0.03802 0.55157 C -0.03941 0.54833 -0.04028 0.54463 -0.04219 0.54209 C -0.04323 0.5407 -0.04531 0.54116 -0.04653 0.54024 C -0.05243 0.53399 -0.05417 0.53029 -0.05781 0.52336 C -0.06042 0.51318 -0.06615 0.5037 -0.07049 0.49514 C -0.07396 0.48797 -0.0757 0.47988 -0.07882 0.47271 C -0.08125 0.46693 -0.08646 0.46392 -0.08872 0.45768 C -0.09132 0.45074 -0.09167 0.4438 -0.09445 0.43709 C -0.09618 0.42784 -0.09792 0.41767 -0.10278 0.41073 C -0.10538 0.40009 -0.1059 0.38945 -0.10851 0.37881 C -0.11337 0.33372 -0.11268 0.29764 -0.11129 0.24953 C -0.11094 0.23705 -0.11111 0.21323 -0.10417 0.20421 C -0.10208 0.19079 -0.10208 0.1753 -0.09445 0.16512 C -0.0941 0.16281 -0.09202 0.14824 -0.09149 0.14616 C -0.08993 0.13991 -0.08663 0.13529 -0.08455 0.12928 C -0.07986 0.11517 -0.07761 0.09297 -0.06754 0.08441 C -0.06545 0.07585 -0.06754 0.07238 -0.06059 0.06938 C -0.05278 0.05643 -0.04896 0.03908 -0.0408 0.02613 C -0.03733 0.02081 -0.03264 0.01688 -0.02952 0.0111 C -0.02535 0.0037 -0.01476 -0.01226 -0.00851 -0.01504 C -0.00469 -0.02313 0.00104 -0.02683 0.00694 -0.03192 C 0.02222 -0.0451 0.04149 -0.05065 0.0592 -0.05643 C 0.07014 -0.06615 0.08611 -0.06591 0.09861 -0.06753 C 0.11979 -0.07031 0.1408 -0.07424 0.16198 -0.07701 C 0.18351 -0.08418 0.20607 -0.0858 0.22812 -0.08835 C 0.27639 -0.08742 0.31371 -0.0902 0.35781 -0.08072 C 0.3651 -0.07748 0.37274 -0.07748 0.38021 -0.07516 C 0.39427 -0.07077 0.40885 -0.06591 0.42257 -0.06013 C 0.43125 -0.0525 0.44635 -0.04949 0.45625 -0.04695 C 0.46354 -0.0451 0.47153 -0.04071 0.47882 -0.0377 C 0.48472 -0.03539 0.48976 -0.03215 0.49583 -0.03007 C 0.49861 -0.02914 0.50139 -0.02752 0.50417 -0.02637 C 0.50555 -0.02567 0.50851 -0.02452 0.50851 -0.02452 C 0.51805 -0.01596 0.50625 -0.02567 0.51962 -0.01874 C 0.52396 -0.01642 0.52812 -0.01203 0.53246 -0.00948 C 0.53976 -0.00509 0.54844 -0.00255 0.55625 4.94912E-006 C 0.56076 0.0037 0.56562 0.00647 0.57048 0.00925 C 0.57309 0.01087 0.57882 0.01295 0.57882 0.01295 C 0.58437 0.02428 0.58594 0.02058 0.59288 0.02798 C 0.59687 0.03214 0.59913 0.03515 0.60417 0.03746 C 0.60868 0.04625 0.61597 0.05203 0.61962 0.06175 C 0.62396 0.07331 0.62986 0.08279 0.63524 0.09366 C 0.63889 0.10083 0.64184 0.10823 0.64653 0.11447 C 0.65156 0.13483 0.65555 0.15587 0.66059 0.17622 C 0.66337 0.18755 0.66423 0.19866 0.66753 0.20999 C 0.66805 0.21484 0.66823 0.21993 0.66892 0.22502 C 0.66927 0.22687 0.67031 0.22872 0.67048 0.2308 C 0.6717 0.2419 0.67326 0.26457 0.67326 0.26457 C 0.67239 0.28839 0.67187 0.31198 0.67048 0.3358 C 0.66979 0.34759 0.66371 0.35985 0.66198 0.37141 C 0.65989 0.38529 0.65677 0.39916 0.65347 0.41258 C 0.64878 0.43131 0.64531 0.44935 0.63941 0.46693 C 0.63437 0.48242 0.63958 0.4741 0.63385 0.48219 C 0.63107 0.49306 0.62847 0.50578 0.62257 0.5141 C 0.61857 0.53006 0.61493 0.54533 0.60555 0.55689 C 0.60451 0.56336 0.60434 0.57007 0.59861 0.57007 E">
                                      <p:cBhvr>
                                        <p:cTn id="274" dur="15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9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861 0.57008 C 0.59097 0.56661 0.59618 0.56384 0.58872 0.56083 C 0.58403 0.55112 0.5776 0.54603 0.5717 0.53793 C 0.56632 0.51666 0.575 0.54973 0.56754 0.52706 C 0.56424 0.51712 0.56267 0.50556 0.56059 0.49492 C 0.5599 0.49191 0.55972 0.48844 0.55903 0.48544 C 0.55816 0.48174 0.55625 0.47457 0.55625 0.47457 C 0.55451 0.45121 0.55174 0.42808 0.54931 0.40472 C 0.54879 0.34806 0.54861 0.29117 0.54792 0.23428 C 0.54722 0.18849 0.54288 0.16259 0.53368 0.12165 C 0.52951 0.10338 0.52813 0.08511 0.51823 0.07101 C 0.51771 0.06916 0.51754 0.06731 0.51684 0.06546 C 0.51615 0.06337 0.51476 0.06199 0.51406 0.0599 C 0.50903 0.04441 0.51424 0.05227 0.50833 0.04487 C 0.50695 0.03886 0.50139 0.02799 0.50139 0.02799 C 0.49965 0.02082 0.49306 0.00764 0.48872 0.00348 C 0.48472 -0.01271 0.49045 0.00741 0.48438 -0.00578 C 0.48073 -0.01387 0.48559 -0.00971 0.48021 -0.01711 C 0.47882 -0.01873 0.47726 -0.01942 0.47604 -0.02081 C 0.47448 -0.02243 0.47292 -0.02428 0.4717 -0.02636 C 0.47066 -0.02821 0.47014 -0.03052 0.46892 -0.03214 C 0.46441 -0.03746 0.45851 -0.04162 0.45347 -0.04532 C 0.45052 -0.0474 0.44809 -0.05133 0.44497 -0.05272 C 0.43594 -0.05665 0.44306 -0.05388 0.42674 -0.05827 C 0.42413 -0.05897 0.41962 -0.06035 0.41962 -0.06035 C 0.41163 -0.05966 0.40347 -0.06035 0.39566 -0.05827 C 0.39323 -0.05758 0.3901 -0.04948 0.38872 -0.04717 C 0.38472 -0.04093 0.38108 -0.03515 0.37743 -0.02844 C 0.37587 -0.01965 0.3724 -0.01688 0.36892 -0.00948 C 0.36667 0.00556 0.36267 0.02013 0.36059 0.03539 C 0.35712 0.05921 0.3559 0.08326 0.35208 0.10685 C 0.34965 0.18016 0.35434 0.25949 0.3408 0.33187 C 0.33958 0.35546 0.33611 0.3779 0.33368 0.40126 C 0.32951 0.44103 0.32656 0.48266 0.31684 0.52128 C 0.31458 0.54025 0.31094 0.55528 0.29861 0.56615 C 0.29445 0.57401 0.29115 0.57841 0.28438 0.58118 C 0.27483 0.58997 0.26701 0.58488 0.25625 0.58118 C 0.25434 0.58002 0.2526 0.57841 0.2507 0.57748 C 0.24792 0.57609 0.24219 0.57401 0.24219 0.57401 C 0.23559 0.56754 0.24063 0.57147 0.23229 0.568 C 0.22951 0.56707 0.22396 0.56453 0.22396 0.56453 C 0.21719 0.55574 0.21858 0.54695 0.21406 0.53793 C 0.20781 0.52568 0.20608 0.51088 0.2 0.49885 C 0.19809 0.48798 0.19653 0.47734 0.19427 0.4667 C 0.19306 0.46115 0.19149 0.4556 0.1901 0.45005 C 0.18958 0.44797 0.18872 0.4445 0.18872 0.4445 C 0.1875 0.4341 0.18576 0.42461 0.18438 0.41421 C 0.1809 0.35431 0.18368 0.29418 0.17743 0.23428 C 0.17656 0.21416 0.1757 0.19843 0.1717 0.1797 C 0.16945 0.14339 0.16719 0.10731 0.16337 0.07101 C 0.16198 0.05829 0.16181 0.0458 0.15903 0.03354 C 0.15434 0.01296 0.15122 -0.01156 0.13368 -0.01896 C 0.12188 -0.01734 0.11962 -0.01919 0.11267 -0.00948 C 0.10885 0.00602 0.11424 -0.01271 0.10833 -0.00022 C 0.10174 0.01365 0.11233 -0.00231 0.10417 0.00926 C 0.1026 0.01573 0.1007 0.01943 0.09705 0.02429 C 0.09549 0.0303 0.0901 0.04117 0.0901 0.04117 C 0.08837 0.05019 0.08698 0.05782 0.08299 0.06546 C 0.0783 0.08442 0.07188 0.10408 0.06892 0.12373 C 0.06701 0.13669 0.0651 0.15056 0.06198 0.16305 C 0.05868 0.1945 0.05851 0.22804 0.05208 0.25879 C 0.05104 0.27521 0.05226 0.29533 0.04497 0.30944 C 0.04358 0.32262 0.04097 0.33558 0.03941 0.34876 C 0.03854 0.37558 0.03785 0.40264 0.03663 0.42947 C 0.03507 0.46462 0.02535 0.49885 0.01823 0.53238 C 0.01563 0.54464 0.01406 0.56453 0.00556 0.5717 C 2.4999999999999E-006 0.59459 -0.02465 0.57887 -0.03802 0.57748 C -0.04792 0.57309 -0.04375 0.5754 -0.05069 0.5717 C -0.05503 0.56615 -0.05625 0.56245 -0.06198 0.55898 C -0.06389 0.55528 -0.06528 0.55089 -0.06771 0.54742 C -0.0691 0.5458 -0.07066 0.54418 -0.07187 0.54187 C -0.07674 0.534 -0.07899 0.52406 -0.08316 0.51573 C -0.08524 0.50163 -0.08646 0.49076 -0.08733 0.47619 C -0.08646 0.426 -0.08472 0.37952 -0.08038 0.33002 C -0.07847 0.30805 -0.07656 0.28238 -0.0691 0.26249 C -0.06805 0.25301 -0.06805 0.24353 -0.06632 0.23428 C -0.06406 0.22202 -0.06007 0.21069 -0.05781 0.19843 C -0.05555 0.18641 -0.05469 0.17369 -0.0493 0.16305 C -0.0467 0.14524 -0.04149 0.1309 -0.03663 0.11425 C -0.03403 0.10546 -0.03351 0.09922 -0.02969 0.09182 C -0.02552 0.07424 -0.01892 0.06037 -0.01128 0.04487 C -0.00955 0.0414 -0.00885 0.03701 -0.00712 0.03354 C -0.00417 0.02753 -0.00017 0.02267 0.00278 0.01666 C 0.00469 0.01296 0.00885 0.01249 0.01129 0.00926 C 0.02413 -0.00832 0.01302 0.00417 0.0224 -0.00208 C 0.02934 -0.0067 0.02969 -0.01248 0.03802 -0.01526 C 0.04688 -0.02243 0.04879 -0.02543 0.05903 -0.02844 C 0.06389 -0.0326 0.06771 -0.03399 0.07326 -0.03584 C 0.08455 -0.04347 0.0724 -0.0363 0.08872 -0.04139 C 0.09705 -0.04393 0.09635 -0.04602 0.10417 -0.04902 C 0.11181 -0.05203 0.12031 -0.05434 0.12813 -0.05642 C 0.1382 -0.06197 0.14826 -0.06267 0.15903 -0.06405 C 0.17865 -0.0666 0.19757 -0.06868 0.21684 -0.07331 C 0.25903 -0.07261 0.30122 -0.07261 0.34358 -0.07146 C 0.37049 -0.07076 0.39705 -0.06082 0.42396 -0.05827 C 0.42483 -0.05804 0.43802 -0.05527 0.43941 -0.05457 C 0.44097 -0.05388 0.44201 -0.0518 0.44358 -0.05087 C 0.45226 -0.04602 0.46267 -0.04486 0.4717 -0.04139 C 0.47517 -0.03838 0.48038 -0.03399 0.48438 -0.03214 C 0.48802 -0.03029 0.49566 -0.02844 0.49566 -0.02844 C 0.5 -0.02543 0.50382 -0.0215 0.50833 -0.01896 C 0.51528 -0.01479 0.51233 -0.01919 0.51823 -0.01526 C 0.52917 -0.00786 0.53924 0.00116 0.5507 0.00741 C 0.55122 0.00926 0.55104 0.0118 0.55208 0.01296 C 0.55382 0.01481 0.56458 0.02082 0.56754 0.02221 C 0.57431 0.03169 0.57899 0.04441 0.58872 0.04857 C 0.59201 0.06152 0.58733 0.04672 0.59427 0.05805 C 0.59566 0.06014 0.59566 0.06337 0.59705 0.06546 C 0.59948 0.06916 0.60295 0.07147 0.60556 0.07494 C 0.60938 0.08997 0.60365 0.07216 0.61129 0.08234 C 0.61528 0.08766 0.61754 0.09506 0.62101 0.10107 C 0.6224 0.10685 0.62465 0.11263 0.62674 0.11795 C 0.6283 0.12188 0.63229 0.12928 0.63229 0.12928 C 0.6342 0.14247 0.63629 0.15657 0.6408 0.1686 C 0.64514 0.20445 0.64323 0.24237 0.6507 0.27753 C 0.64931 0.33326 0.65139 0.39224 0.63941 0.44635 C 0.63472 0.46717 0.63195 0.49376 0.6224 0.51203 C 0.61962 0.52313 0.61493 0.53238 0.60972 0.54187 C 0.60608 0.54857 0.6059 0.55412 0.6 0.5569 C 0.59549 0.56522 0.58993 0.57239 0.58438 0.57956 C 0.58195 0.58234 0.5783 0.58373 0.57604 0.58673 C 0.57535 0.58789 0.57135 0.59367 0.57031 0.59436 C 0.56771 0.59668 0.56476 0.59853 0.56198 0.59991 C 0.5592 0.60153 0.55347 0.60385 0.55347 0.60385 C 0.53993 0.6161 0.52431 0.62235 0.50833 0.62651 C 0.48872 0.63946 0.46389 0.639 0.44219 0.64154 C 0.4257 0.64316 0.4092 0.64594 0.39288 0.64871 C 0.32674 0.64686 0.26042 0.64802 0.19427 0.64316 C 0.17014 0.64154 0.14514 0.63345 0.12101 0.62998 C 0.11129 0.62674 0.10122 0.62558 0.09149 0.62258 C 0.08195 0.61911 0.07292 0.61194 0.06337 0.6094 C 0.05747 0.60801 0.04566 0.60523 0.0408 0.60176 C 0.03594 0.59853 0.03177 0.59483 0.02674 0.59274 C 0.02326 0.58766 0.02031 0.58511 0.01545 0.58326 C 0.01129 0.57887 0.00868 0.57725 0.00556 0.5717 C 2.4999999999999E-006 0.56222 -0.00295 0.55297 -0.01128 0.54742 C -0.0158 0.53886 -0.01736 0.52753 -0.01979 0.51758 C -0.02344 0.50186 -0.02865 0.48613 -0.03524 0.47225 C -0.03785 0.45098 -0.04219 0.43016 -0.04514 0.40866 C -0.04444 0.3025 -0.05017 0.18086 -0.03246 0.07286 C -0.03108 0.04418 -0.02674 0.01527 -0.02674 -0.01341 E">
                                      <p:cBhvr>
                                        <p:cTn id="277" dur="15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Изучение космо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6" descr="IMG_0005"/>
          <p:cNvPicPr/>
          <p:nvPr/>
        </p:nvPicPr>
        <p:blipFill>
          <a:blip r:embed="rId1"/>
          <a:stretch/>
        </p:blipFill>
        <p:spPr>
          <a:xfrm>
            <a:off x="971640" y="3716280"/>
            <a:ext cx="3230640" cy="23796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5" descr="IMG_0004"/>
          <p:cNvPicPr/>
          <p:nvPr/>
        </p:nvPicPr>
        <p:blipFill>
          <a:blip r:embed="rId2"/>
          <a:stretch/>
        </p:blipFill>
        <p:spPr>
          <a:xfrm>
            <a:off x="4716360" y="3716280"/>
            <a:ext cx="3373560" cy="2409840"/>
          </a:xfrm>
          <a:prstGeom prst="rect">
            <a:avLst/>
          </a:prstGeom>
          <a:ln w="0">
            <a:noFill/>
          </a:ln>
        </p:spPr>
      </p:pic>
      <p:sp>
        <p:nvSpPr>
          <p:cNvPr id="722" name="Прямоугольник 5"/>
          <p:cNvSpPr/>
          <p:nvPr/>
        </p:nvSpPr>
        <p:spPr>
          <a:xfrm>
            <a:off x="1987560" y="6093000"/>
            <a:ext cx="57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Первый  искусственный спу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" descr="E:\Документы\школа\из интернета\hyakutake.jpg"/>
          <p:cNvPicPr/>
          <p:nvPr/>
        </p:nvPicPr>
        <p:blipFill>
          <a:blip r:embed="rId3"/>
          <a:stretch/>
        </p:blipFill>
        <p:spPr>
          <a:xfrm>
            <a:off x="5580000" y="981000"/>
            <a:ext cx="3095640" cy="22147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" descr="E:\Документы\школа\из интернета\933a9dbd06ea397e016c960d3a4_prev.jpg"/>
          <p:cNvPicPr/>
          <p:nvPr/>
        </p:nvPicPr>
        <p:blipFill>
          <a:blip r:embed="rId4"/>
          <a:stretch/>
        </p:blipFill>
        <p:spPr>
          <a:xfrm>
            <a:off x="250920" y="981000"/>
            <a:ext cx="3097080" cy="2133720"/>
          </a:xfrm>
          <a:prstGeom prst="rect">
            <a:avLst/>
          </a:prstGeom>
          <a:ln w="0">
            <a:noFill/>
          </a:ln>
        </p:spPr>
      </p:pic>
      <p:sp>
        <p:nvSpPr>
          <p:cNvPr id="725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000" y="2491920"/>
            <a:ext cx="83628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егодня мы скучать не буд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ро лень , тоску мы позабуд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ы оторвёмся от Земли ту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Где бороздят просторы кораб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Где вечный мрак, спокойствие Вселенно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то место, что зовётся Солнечной систем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8f28c9c5fc"/>
          <p:cNvPicPr/>
          <p:nvPr/>
        </p:nvPicPr>
        <p:blipFill>
          <a:blip r:embed="rId1"/>
          <a:stretch/>
        </p:blipFill>
        <p:spPr>
          <a:xfrm>
            <a:off x="324000" y="189000"/>
            <a:ext cx="1295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92" name="WordArt 2"/>
          <p:cNvGrpSpPr/>
          <p:nvPr/>
        </p:nvGrpSpPr>
        <p:grpSpPr>
          <a:xfrm>
            <a:off x="1889280" y="171360"/>
            <a:ext cx="7016760" cy="2048040"/>
            <a:chOff x="1889280" y="171360"/>
            <a:chExt cx="7016760" cy="2048040"/>
          </a:xfrm>
        </p:grpSpPr>
        <p:pic>
          <p:nvPicPr>
            <p:cNvPr id="93" name="WordArt 2" descr=""/>
            <p:cNvPicPr/>
            <p:nvPr/>
          </p:nvPicPr>
          <p:blipFill>
            <a:blip r:embed="rId2"/>
            <a:stretch/>
          </p:blipFill>
          <p:spPr>
            <a:xfrm>
              <a:off x="1889280" y="171360"/>
              <a:ext cx="701676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908000" y="189000"/>
              <a:ext cx="698508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c000"/>
                  </a:solidFill>
                  <a:latin typeface="Arial"/>
                </a:rPr>
                <a:t>Космический калейдоско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058 Земляне - Трава у дома.mp3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284328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7"/>
          <p:cNvGrpSpPr/>
          <p:nvPr/>
        </p:nvGrpSpPr>
        <p:grpSpPr>
          <a:xfrm>
            <a:off x="3059280" y="2637000"/>
            <a:ext cx="3168000" cy="1584000"/>
            <a:chOff x="3059280" y="2637000"/>
            <a:chExt cx="3168000" cy="1584000"/>
          </a:xfrm>
        </p:grpSpPr>
        <p:sp>
          <p:nvSpPr>
            <p:cNvPr id="727" name="AutoShape 8"/>
            <p:cNvSpPr/>
            <p:nvPr/>
          </p:nvSpPr>
          <p:spPr>
            <a:xfrm>
              <a:off x="3059280" y="2637000"/>
              <a:ext cx="3168000" cy="158400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9"/>
            <p:cNvSpPr/>
            <p:nvPr/>
          </p:nvSpPr>
          <p:spPr>
            <a:xfrm>
              <a:off x="4068000" y="2997720"/>
              <a:ext cx="151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100-</a:t>
              </a:r>
              <a:r>
                <a:rPr b="1" lang="ru-RU" sz="3600" spc="-1" strike="noStrike">
                  <a:solidFill>
                    <a:srgbClr val="990000"/>
                  </a:solidFill>
                  <a:latin typeface="Times New Roman"/>
                </a:rPr>
                <a:t>О</a:t>
              </a: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0"/>
          <p:cNvGrpSpPr/>
          <p:nvPr/>
        </p:nvGrpSpPr>
        <p:grpSpPr>
          <a:xfrm>
            <a:off x="250920" y="2708280"/>
            <a:ext cx="2736720" cy="1873080"/>
            <a:chOff x="250920" y="2708280"/>
            <a:chExt cx="2736720" cy="1873080"/>
          </a:xfrm>
        </p:grpSpPr>
        <p:sp>
          <p:nvSpPr>
            <p:cNvPr id="730" name="AutoShape 11"/>
            <p:cNvSpPr/>
            <p:nvPr/>
          </p:nvSpPr>
          <p:spPr>
            <a:xfrm>
              <a:off x="250920" y="2708280"/>
              <a:ext cx="2736720" cy="18730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2"/>
            <p:cNvSpPr/>
            <p:nvPr/>
          </p:nvSpPr>
          <p:spPr>
            <a:xfrm>
              <a:off x="898560" y="3284640"/>
              <a:ext cx="14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648-</a:t>
              </a:r>
              <a:r>
                <a:rPr b="1" lang="ru-RU" sz="3600" spc="-1" strike="noStrike">
                  <a:solidFill>
                    <a:srgbClr val="990000"/>
                  </a:solidFill>
                  <a:latin typeface="Times New Roman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3"/>
          <p:cNvGrpSpPr/>
          <p:nvPr/>
        </p:nvGrpSpPr>
        <p:grpSpPr>
          <a:xfrm>
            <a:off x="3059280" y="4581360"/>
            <a:ext cx="2880720" cy="1584360"/>
            <a:chOff x="3059280" y="4581360"/>
            <a:chExt cx="2880720" cy="1584360"/>
          </a:xfrm>
        </p:grpSpPr>
        <p:sp>
          <p:nvSpPr>
            <p:cNvPr id="733" name="AutoShape 14"/>
            <p:cNvSpPr/>
            <p:nvPr/>
          </p:nvSpPr>
          <p:spPr>
            <a:xfrm>
              <a:off x="3059280" y="4581360"/>
              <a:ext cx="2880720" cy="15843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 Box 15"/>
            <p:cNvSpPr/>
            <p:nvPr/>
          </p:nvSpPr>
          <p:spPr>
            <a:xfrm>
              <a:off x="3717360" y="5013720"/>
              <a:ext cx="169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501-</a:t>
              </a:r>
              <a:r>
                <a:rPr b="1" lang="ru-RU" sz="3600" spc="-1" strike="noStrike">
                  <a:solidFill>
                    <a:srgbClr val="990000"/>
                  </a:solidFill>
                  <a:latin typeface="Times New Roman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16"/>
          <p:cNvGrpSpPr/>
          <p:nvPr/>
        </p:nvGrpSpPr>
        <p:grpSpPr>
          <a:xfrm>
            <a:off x="5940360" y="4869000"/>
            <a:ext cx="3025440" cy="1655640"/>
            <a:chOff x="5940360" y="4869000"/>
            <a:chExt cx="3025440" cy="1655640"/>
          </a:xfrm>
        </p:grpSpPr>
        <p:sp>
          <p:nvSpPr>
            <p:cNvPr id="736" name="AutoShape 17"/>
            <p:cNvSpPr/>
            <p:nvPr/>
          </p:nvSpPr>
          <p:spPr>
            <a:xfrm>
              <a:off x="5940360" y="4869000"/>
              <a:ext cx="3025440" cy="16556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8"/>
            <p:cNvSpPr/>
            <p:nvPr/>
          </p:nvSpPr>
          <p:spPr>
            <a:xfrm>
              <a:off x="6947640" y="5374080"/>
              <a:ext cx="137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60-</a:t>
              </a:r>
              <a:r>
                <a:rPr b="1" lang="ru-RU" sz="3600" spc="-1" strike="noStrike">
                  <a:solidFill>
                    <a:srgbClr val="99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19"/>
          <p:cNvGrpSpPr/>
          <p:nvPr/>
        </p:nvGrpSpPr>
        <p:grpSpPr>
          <a:xfrm>
            <a:off x="6407280" y="2781360"/>
            <a:ext cx="2736720" cy="1873080"/>
            <a:chOff x="6407280" y="2781360"/>
            <a:chExt cx="2736720" cy="1873080"/>
          </a:xfrm>
        </p:grpSpPr>
        <p:sp>
          <p:nvSpPr>
            <p:cNvPr id="739" name="AutoShape 20"/>
            <p:cNvSpPr/>
            <p:nvPr/>
          </p:nvSpPr>
          <p:spPr>
            <a:xfrm>
              <a:off x="6407280" y="2781360"/>
              <a:ext cx="2736720" cy="18730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21"/>
            <p:cNvSpPr/>
            <p:nvPr/>
          </p:nvSpPr>
          <p:spPr>
            <a:xfrm>
              <a:off x="7020000" y="3357720"/>
              <a:ext cx="14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210- </a:t>
              </a:r>
              <a:r>
                <a:rPr b="1" lang="ru-RU" sz="36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22"/>
          <p:cNvGrpSpPr/>
          <p:nvPr/>
        </p:nvGrpSpPr>
        <p:grpSpPr>
          <a:xfrm>
            <a:off x="5076720" y="981000"/>
            <a:ext cx="2952360" cy="1800360"/>
            <a:chOff x="5076720" y="981000"/>
            <a:chExt cx="2952360" cy="1800360"/>
          </a:xfrm>
        </p:grpSpPr>
        <p:sp>
          <p:nvSpPr>
            <p:cNvPr id="742" name="AutoShape 23"/>
            <p:cNvSpPr/>
            <p:nvPr/>
          </p:nvSpPr>
          <p:spPr>
            <a:xfrm>
              <a:off x="5076720" y="981000"/>
              <a:ext cx="2952360" cy="180036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24"/>
            <p:cNvSpPr/>
            <p:nvPr/>
          </p:nvSpPr>
          <p:spPr>
            <a:xfrm>
              <a:off x="5797440" y="1484640"/>
              <a:ext cx="150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120-</a:t>
              </a:r>
              <a:r>
                <a:rPr b="1" lang="ru-RU" sz="3600" spc="-1" strike="noStrike">
                  <a:solidFill>
                    <a:srgbClr val="990000"/>
                  </a:solidFill>
                  <a:latin typeface="Times New Roman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Text Box 25"/>
          <p:cNvSpPr/>
          <p:nvPr/>
        </p:nvSpPr>
        <p:spPr>
          <a:xfrm>
            <a:off x="1816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6"/>
          <p:cNvSpPr/>
          <p:nvPr/>
        </p:nvSpPr>
        <p:spPr>
          <a:xfrm>
            <a:off x="179280" y="189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очитай название первого искусственного спутник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27"/>
          <p:cNvGrpSpPr/>
          <p:nvPr/>
        </p:nvGrpSpPr>
        <p:grpSpPr>
          <a:xfrm>
            <a:off x="1332000" y="981000"/>
            <a:ext cx="2952360" cy="1656000"/>
            <a:chOff x="1332000" y="981000"/>
            <a:chExt cx="2952360" cy="1656000"/>
          </a:xfrm>
        </p:grpSpPr>
        <p:sp>
          <p:nvSpPr>
            <p:cNvPr id="747" name="AutoShape 28"/>
            <p:cNvSpPr/>
            <p:nvPr/>
          </p:nvSpPr>
          <p:spPr>
            <a:xfrm>
              <a:off x="1332000" y="981000"/>
              <a:ext cx="2952360" cy="165600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29"/>
            <p:cNvSpPr/>
            <p:nvPr/>
          </p:nvSpPr>
          <p:spPr>
            <a:xfrm>
              <a:off x="2123280" y="1484640"/>
              <a:ext cx="158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128-</a:t>
              </a:r>
              <a:r>
                <a:rPr b="1" lang="ru-RU" sz="3600" spc="-1" strike="noStrike">
                  <a:solidFill>
                    <a:srgbClr val="99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33"/>
          <p:cNvGrpSpPr/>
          <p:nvPr/>
        </p:nvGrpSpPr>
        <p:grpSpPr>
          <a:xfrm>
            <a:off x="324000" y="4941720"/>
            <a:ext cx="2807640" cy="1656000"/>
            <a:chOff x="324000" y="4941720"/>
            <a:chExt cx="2807640" cy="1656000"/>
          </a:xfrm>
        </p:grpSpPr>
        <p:sp>
          <p:nvSpPr>
            <p:cNvPr id="750" name="AutoShape 34"/>
            <p:cNvSpPr/>
            <p:nvPr/>
          </p:nvSpPr>
          <p:spPr>
            <a:xfrm>
              <a:off x="324000" y="4941720"/>
              <a:ext cx="2807640" cy="165600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35"/>
            <p:cNvSpPr/>
            <p:nvPr/>
          </p:nvSpPr>
          <p:spPr>
            <a:xfrm>
              <a:off x="1043640" y="5445360"/>
              <a:ext cx="14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Times New Roman"/>
                </a:rPr>
                <a:t>450-</a:t>
              </a:r>
              <a:r>
                <a:rPr b="1" lang="ru-RU" sz="3600" spc="-1" strike="noStrike">
                  <a:solidFill>
                    <a:srgbClr val="990000"/>
                  </a:solidFill>
                  <a:latin typeface="Times New Roman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Юрий Алексеевич Гаг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4695840" cy="38102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5572080" y="2071800"/>
            <a:ext cx="2998800" cy="4500360"/>
          </a:xfrm>
          <a:prstGeom prst="rect">
            <a:avLst/>
          </a:prstGeom>
          <a:ln w="0">
            <a:noFill/>
          </a:ln>
        </p:spPr>
      </p:pic>
      <p:sp>
        <p:nvSpPr>
          <p:cNvPr id="755" name="Прямоугольник 5"/>
          <p:cNvSpPr/>
          <p:nvPr/>
        </p:nvSpPr>
        <p:spPr>
          <a:xfrm>
            <a:off x="656640" y="5357880"/>
            <a:ext cx="368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12 апреля 1961 год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первый полет в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6"/>
          <p:cNvSpPr/>
          <p:nvPr/>
        </p:nvSpPr>
        <p:spPr>
          <a:xfrm>
            <a:off x="5793840" y="1285920"/>
            <a:ext cx="267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Ракета-нос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ак назывался космический корабль, на котором Ю.Гагарин совершил кругосветное путешествие по орби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99640" y="907560"/>
            <a:ext cx="3310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418 + 19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536 – 2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783+ 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992 – 23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187 + 10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900 – 296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539640" y="4581360"/>
          <a:ext cx="8280360" cy="2024280"/>
        </p:xfrm>
        <a:graphic>
          <a:graphicData uri="http://schemas.openxmlformats.org/drawingml/2006/table">
            <a:tbl>
              <a:tblPr/>
              <a:tblGrid>
                <a:gridCol w="1036800"/>
                <a:gridCol w="1033560"/>
                <a:gridCol w="1036440"/>
                <a:gridCol w="1033560"/>
                <a:gridCol w="1036440"/>
                <a:gridCol w="1033560"/>
                <a:gridCol w="1036800"/>
                <a:gridCol w="1033200"/>
              </a:tblGrid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5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3d4a8"/>
                        </a:gs>
                        <a:gs pos="100000">
                          <a:srgbClr val="005cb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5867280" y="907920"/>
            <a:ext cx="2279880" cy="3421080"/>
          </a:xfrm>
          <a:prstGeom prst="rect">
            <a:avLst/>
          </a:prstGeom>
          <a:ln w="0">
            <a:noFill/>
          </a:ln>
        </p:spPr>
      </p:pic>
      <p:sp>
        <p:nvSpPr>
          <p:cNvPr id="76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3" descr="D:\РАЗНЫЕ КАРТИНКИ\открытки\день космонавтики\первые советские космонавты.jpg"/>
          <p:cNvPicPr/>
          <p:nvPr/>
        </p:nvPicPr>
        <p:blipFill>
          <a:blip r:embed="rId1"/>
          <a:stretch/>
        </p:blipFill>
        <p:spPr>
          <a:xfrm>
            <a:off x="324000" y="1268280"/>
            <a:ext cx="8502480" cy="5214960"/>
          </a:xfrm>
          <a:prstGeom prst="rect">
            <a:avLst/>
          </a:prstGeom>
          <a:ln w="0">
            <a:noFill/>
          </a:ln>
        </p:spPr>
      </p:pic>
      <p:sp>
        <p:nvSpPr>
          <p:cNvPr id="764" name="Заголовок 1"/>
          <p:cNvSpPr/>
          <p:nvPr/>
        </p:nvSpPr>
        <p:spPr>
          <a:xfrm>
            <a:off x="539640" y="260280"/>
            <a:ext cx="8229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ервые советские космонав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ический квад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Прямая соединительная линия 7"/>
          <p:cNvSpPr/>
          <p:nvPr/>
        </p:nvSpPr>
        <p:spPr>
          <a:xfrm>
            <a:off x="1000080" y="4786200"/>
            <a:ext cx="4929120" cy="1800"/>
          </a:xfrm>
          <a:prstGeom prst="line">
            <a:avLst/>
          </a:prstGeom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Группа 17"/>
          <p:cNvGrpSpPr/>
          <p:nvPr/>
        </p:nvGrpSpPr>
        <p:grpSpPr>
          <a:xfrm>
            <a:off x="1000080" y="1785960"/>
            <a:ext cx="4929120" cy="4573440"/>
            <a:chOff x="1000080" y="1785960"/>
            <a:chExt cx="4929120" cy="4573440"/>
          </a:xfrm>
        </p:grpSpPr>
        <p:sp>
          <p:nvSpPr>
            <p:cNvPr id="769" name="Прямоугольник 3"/>
            <p:cNvSpPr/>
            <p:nvPr/>
          </p:nvSpPr>
          <p:spPr>
            <a:xfrm>
              <a:off x="1000080" y="1785960"/>
              <a:ext cx="4929120" cy="4572000"/>
            </a:xfrm>
            <a:prstGeom prst="rect">
              <a:avLst/>
            </a:prstGeom>
            <a:noFill/>
            <a:ln w="507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Прямая соединительная линия 5"/>
            <p:cNvSpPr/>
            <p:nvPr/>
          </p:nvSpPr>
          <p:spPr>
            <a:xfrm>
              <a:off x="1000080" y="3286080"/>
              <a:ext cx="4929120" cy="1440"/>
            </a:xfrm>
            <a:prstGeom prst="line">
              <a:avLst/>
            </a:prstGeom>
            <a:ln w="507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Прямая соединительная линия 9"/>
            <p:cNvSpPr/>
            <p:nvPr/>
          </p:nvSpPr>
          <p:spPr>
            <a:xfrm flipH="1">
              <a:off x="2570040" y="1787400"/>
              <a:ext cx="2880" cy="4572000"/>
            </a:xfrm>
            <a:prstGeom prst="line">
              <a:avLst/>
            </a:prstGeom>
            <a:ln w="507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Прямая соединительная линия 11"/>
            <p:cNvSpPr/>
            <p:nvPr/>
          </p:nvSpPr>
          <p:spPr>
            <a:xfrm flipH="1">
              <a:off x="4284720" y="1787400"/>
              <a:ext cx="2880" cy="4572000"/>
            </a:xfrm>
            <a:prstGeom prst="line">
              <a:avLst/>
            </a:prstGeom>
            <a:ln w="507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TextBox 13"/>
          <p:cNvSpPr/>
          <p:nvPr/>
        </p:nvSpPr>
        <p:spPr>
          <a:xfrm>
            <a:off x="4429080" y="48578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4"/>
          <p:cNvSpPr/>
          <p:nvPr/>
        </p:nvSpPr>
        <p:spPr>
          <a:xfrm>
            <a:off x="2714760" y="3357720"/>
            <a:ext cx="142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Овал 18"/>
          <p:cNvSpPr/>
          <p:nvPr/>
        </p:nvSpPr>
        <p:spPr>
          <a:xfrm>
            <a:off x="6588000" y="1341360"/>
            <a:ext cx="1714680" cy="178596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9"/>
          <p:cNvSpPr/>
          <p:nvPr/>
        </p:nvSpPr>
        <p:spPr>
          <a:xfrm>
            <a:off x="6804000" y="1557360"/>
            <a:ext cx="121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20"/>
          <p:cNvSpPr/>
          <p:nvPr/>
        </p:nvSpPr>
        <p:spPr>
          <a:xfrm>
            <a:off x="3071880" y="185724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1"/>
          <p:cNvSpPr/>
          <p:nvPr/>
        </p:nvSpPr>
        <p:spPr>
          <a:xfrm>
            <a:off x="1428840" y="485784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22"/>
          <p:cNvSpPr/>
          <p:nvPr/>
        </p:nvSpPr>
        <p:spPr>
          <a:xfrm>
            <a:off x="1357200" y="1857240"/>
            <a:ext cx="7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3"/>
          <p:cNvSpPr/>
          <p:nvPr/>
        </p:nvSpPr>
        <p:spPr>
          <a:xfrm>
            <a:off x="1500120" y="3357720"/>
            <a:ext cx="7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4786200" y="3357720"/>
            <a:ext cx="7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25"/>
          <p:cNvSpPr/>
          <p:nvPr/>
        </p:nvSpPr>
        <p:spPr>
          <a:xfrm>
            <a:off x="1116000" y="4941720"/>
            <a:ext cx="12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6"/>
          <p:cNvSpPr/>
          <p:nvPr/>
        </p:nvSpPr>
        <p:spPr>
          <a:xfrm>
            <a:off x="2700360" y="18446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27"/>
          <p:cNvSpPr/>
          <p:nvPr/>
        </p:nvSpPr>
        <p:spPr>
          <a:xfrm>
            <a:off x="1116000" y="18446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28"/>
          <p:cNvSpPr/>
          <p:nvPr/>
        </p:nvSpPr>
        <p:spPr>
          <a:xfrm>
            <a:off x="1116000" y="3357720"/>
            <a:ext cx="12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29"/>
          <p:cNvSpPr/>
          <p:nvPr/>
        </p:nvSpPr>
        <p:spPr>
          <a:xfrm>
            <a:off x="4427640" y="33577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30"/>
          <p:cNvSpPr/>
          <p:nvPr/>
        </p:nvSpPr>
        <p:spPr>
          <a:xfrm>
            <a:off x="3000240" y="4857840"/>
            <a:ext cx="7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2"/>
          <p:cNvSpPr/>
          <p:nvPr/>
        </p:nvSpPr>
        <p:spPr>
          <a:xfrm>
            <a:off x="4714920" y="185724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3"/>
          <p:cNvSpPr/>
          <p:nvPr/>
        </p:nvSpPr>
        <p:spPr>
          <a:xfrm>
            <a:off x="4716360" y="1916280"/>
            <a:ext cx="7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10" descr="j0300519"/>
          <p:cNvPicPr/>
          <p:nvPr/>
        </p:nvPicPr>
        <p:blipFill>
          <a:blip r:embed="rId1"/>
          <a:stretch/>
        </p:blipFill>
        <p:spPr>
          <a:xfrm flipH="1">
            <a:off x="6659640" y="4653000"/>
            <a:ext cx="1735200" cy="1509840"/>
          </a:xfrm>
          <a:prstGeom prst="rect">
            <a:avLst/>
          </a:prstGeom>
          <a:ln w="0">
            <a:noFill/>
          </a:ln>
        </p:spPr>
      </p:pic>
      <p:sp>
        <p:nvSpPr>
          <p:cNvPr id="791" name="Нижний колонтитул 3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5"/>
          <p:cNvSpPr/>
          <p:nvPr/>
        </p:nvSpPr>
        <p:spPr>
          <a:xfrm>
            <a:off x="1116000" y="2602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ь космонавт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1908000" y="1268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2 апре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4" descr="Kartinochki (10)"/>
          <p:cNvPicPr/>
          <p:nvPr/>
        </p:nvPicPr>
        <p:blipFill>
          <a:blip r:embed="rId1"/>
          <a:stretch/>
        </p:blipFill>
        <p:spPr>
          <a:xfrm>
            <a:off x="5867280" y="4292640"/>
            <a:ext cx="1851120" cy="2170080"/>
          </a:xfrm>
          <a:prstGeom prst="rect">
            <a:avLst/>
          </a:prstGeom>
          <a:ln w="0">
            <a:noFill/>
          </a:ln>
        </p:spPr>
      </p:pic>
      <p:grpSp>
        <p:nvGrpSpPr>
          <p:cNvPr id="795" name="WordArt 2"/>
          <p:cNvGrpSpPr/>
          <p:nvPr/>
        </p:nvGrpSpPr>
        <p:grpSpPr>
          <a:xfrm>
            <a:off x="304920" y="2041560"/>
            <a:ext cx="8454960" cy="2262240"/>
            <a:chOff x="304920" y="2041560"/>
            <a:chExt cx="8454960" cy="2262240"/>
          </a:xfrm>
        </p:grpSpPr>
        <p:pic>
          <p:nvPicPr>
            <p:cNvPr id="796" name="WordArt 2" descr=""/>
            <p:cNvPicPr/>
            <p:nvPr/>
          </p:nvPicPr>
          <p:blipFill>
            <a:blip r:embed="rId2"/>
            <a:stretch/>
          </p:blipFill>
          <p:spPr>
            <a:xfrm>
              <a:off x="304920" y="2041560"/>
              <a:ext cx="845496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324000" y="2060640"/>
              <a:ext cx="842472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c000"/>
                  </a:solidFill>
                  <a:latin typeface="Arial"/>
                </a:rPr>
                <a:t>Космический калейдоско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3"/>
          <p:cNvGrpSpPr/>
          <p:nvPr/>
        </p:nvGrpSpPr>
        <p:grpSpPr>
          <a:xfrm>
            <a:off x="2700360" y="4292640"/>
            <a:ext cx="1801800" cy="1917720"/>
            <a:chOff x="2700360" y="4292640"/>
            <a:chExt cx="1801800" cy="1917720"/>
          </a:xfrm>
        </p:grpSpPr>
        <p:sp>
          <p:nvSpPr>
            <p:cNvPr id="799" name="AutoShape 54"/>
            <p:cNvSpPr/>
            <p:nvPr/>
          </p:nvSpPr>
          <p:spPr>
            <a:xfrm>
              <a:off x="2700360" y="4292640"/>
              <a:ext cx="1801800" cy="191772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55"/>
            <p:cNvSpPr/>
            <p:nvPr/>
          </p:nvSpPr>
          <p:spPr>
            <a:xfrm rot="2513400">
              <a:off x="3409200" y="5042880"/>
              <a:ext cx="383040" cy="417240"/>
            </a:xfrm>
            <a:prstGeom prst="irregularSeal2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56"/>
            <p:cNvSpPr/>
            <p:nvPr/>
          </p:nvSpPr>
          <p:spPr>
            <a:xfrm>
              <a:off x="2719080" y="4333680"/>
              <a:ext cx="1763640" cy="1835280"/>
            </a:xfrm>
            <a:custGeom>
              <a:avLst/>
              <a:gdLst>
                <a:gd name="textAreaLeft" fmla="*/ 402480 w 1763640"/>
                <a:gd name="textAreaRight" fmla="*/ 1361160 w 1763640"/>
                <a:gd name="textAreaTop" fmla="*/ 419040 h 1835280"/>
                <a:gd name="textAreaBottom" fmla="*/ 1416240 h 18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57"/>
            <p:cNvSpPr/>
            <p:nvPr/>
          </p:nvSpPr>
          <p:spPr>
            <a:xfrm>
              <a:off x="3160440" y="4751280"/>
              <a:ext cx="958680" cy="1000800"/>
            </a:xfrm>
            <a:custGeom>
              <a:avLst/>
              <a:gdLst>
                <a:gd name="textAreaLeft" fmla="*/ 218880 w 958680"/>
                <a:gd name="textAreaRight" fmla="*/ 739800 w 958680"/>
                <a:gd name="textAreaTop" fmla="*/ 228240 h 1000800"/>
                <a:gd name="textAreaBottom" fmla="*/ 772560 h 100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49"/>
          <p:cNvGrpSpPr/>
          <p:nvPr/>
        </p:nvGrpSpPr>
        <p:grpSpPr>
          <a:xfrm>
            <a:off x="2664000" y="4319640"/>
            <a:ext cx="1873080" cy="1873080"/>
            <a:chOff x="2664000" y="4319640"/>
            <a:chExt cx="1873080" cy="1873080"/>
          </a:xfrm>
        </p:grpSpPr>
        <p:sp>
          <p:nvSpPr>
            <p:cNvPr id="804" name="AutoShape 50"/>
            <p:cNvSpPr/>
            <p:nvPr/>
          </p:nvSpPr>
          <p:spPr>
            <a:xfrm>
              <a:off x="2664000" y="4319640"/>
              <a:ext cx="1873080" cy="18730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51"/>
            <p:cNvSpPr/>
            <p:nvPr/>
          </p:nvSpPr>
          <p:spPr>
            <a:xfrm rot="2513400">
              <a:off x="3400920" y="5052240"/>
              <a:ext cx="398160" cy="407160"/>
            </a:xfrm>
            <a:prstGeom prst="irregularSeal2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52"/>
            <p:cNvSpPr/>
            <p:nvPr/>
          </p:nvSpPr>
          <p:spPr>
            <a:xfrm>
              <a:off x="2683440" y="4359960"/>
              <a:ext cx="1833480" cy="1792080"/>
            </a:xfrm>
            <a:custGeom>
              <a:avLst/>
              <a:gdLst>
                <a:gd name="textAreaLeft" fmla="*/ 418320 w 1833480"/>
                <a:gd name="textAreaRight" fmla="*/ 1415160 w 1833480"/>
                <a:gd name="textAreaTop" fmla="*/ 408960 h 1792080"/>
                <a:gd name="textAreaBottom" fmla="*/ 1383120 h 179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40"/>
          <p:cNvGrpSpPr/>
          <p:nvPr/>
        </p:nvGrpSpPr>
        <p:grpSpPr>
          <a:xfrm>
            <a:off x="2627280" y="4292640"/>
            <a:ext cx="1944720" cy="2016000"/>
            <a:chOff x="2627280" y="4292640"/>
            <a:chExt cx="1944720" cy="2016000"/>
          </a:xfrm>
        </p:grpSpPr>
        <p:sp>
          <p:nvSpPr>
            <p:cNvPr id="808" name="AutoShape 41"/>
            <p:cNvSpPr/>
            <p:nvPr/>
          </p:nvSpPr>
          <p:spPr>
            <a:xfrm>
              <a:off x="2627280" y="4292640"/>
              <a:ext cx="1944720" cy="2016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55261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42"/>
            <p:cNvSpPr/>
            <p:nvPr/>
          </p:nvSpPr>
          <p:spPr>
            <a:xfrm rot="2513400">
              <a:off x="3392280" y="5081040"/>
              <a:ext cx="413280" cy="438120"/>
            </a:xfrm>
            <a:prstGeom prst="irregularSeal2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43"/>
            <p:cNvSpPr/>
            <p:nvPr/>
          </p:nvSpPr>
          <p:spPr>
            <a:xfrm>
              <a:off x="2647440" y="4335840"/>
              <a:ext cx="1903320" cy="1928880"/>
            </a:xfrm>
            <a:custGeom>
              <a:avLst/>
              <a:gdLst>
                <a:gd name="textAreaLeft" fmla="*/ 434520 w 1903320"/>
                <a:gd name="textAreaRight" fmla="*/ 1468800 w 1903320"/>
                <a:gd name="textAreaTop" fmla="*/ 440280 h 1928880"/>
                <a:gd name="textAreaBottom" fmla="*/ 148860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Group 44"/>
            <p:cNvGrpSpPr/>
            <p:nvPr/>
          </p:nvGrpSpPr>
          <p:grpSpPr>
            <a:xfrm>
              <a:off x="2729880" y="4335840"/>
              <a:ext cx="1696680" cy="1621800"/>
              <a:chOff x="2729880" y="4335840"/>
              <a:chExt cx="1696680" cy="1621800"/>
            </a:xfrm>
          </p:grpSpPr>
          <p:sp>
            <p:nvSpPr>
              <p:cNvPr id="812" name="AutoShape 45"/>
              <p:cNvSpPr/>
              <p:nvPr/>
            </p:nvSpPr>
            <p:spPr>
              <a:xfrm>
                <a:off x="3138120" y="4667040"/>
                <a:ext cx="874440" cy="9939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Oval 46"/>
              <p:cNvSpPr/>
              <p:nvPr/>
            </p:nvSpPr>
            <p:spPr>
              <a:xfrm>
                <a:off x="2729880" y="5626440"/>
                <a:ext cx="502560" cy="33120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Oval 47"/>
              <p:cNvSpPr/>
              <p:nvPr/>
            </p:nvSpPr>
            <p:spPr>
              <a:xfrm>
                <a:off x="3326760" y="4335840"/>
                <a:ext cx="502560" cy="331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Oval 48"/>
              <p:cNvSpPr/>
              <p:nvPr/>
            </p:nvSpPr>
            <p:spPr>
              <a:xfrm>
                <a:off x="3924000" y="5626440"/>
                <a:ext cx="502560" cy="331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6" name="Group 27"/>
          <p:cNvGrpSpPr/>
          <p:nvPr/>
        </p:nvGrpSpPr>
        <p:grpSpPr>
          <a:xfrm>
            <a:off x="2627280" y="4292640"/>
            <a:ext cx="2016000" cy="2088720"/>
            <a:chOff x="2627280" y="4292640"/>
            <a:chExt cx="2016000" cy="2088720"/>
          </a:xfrm>
        </p:grpSpPr>
        <p:sp>
          <p:nvSpPr>
            <p:cNvPr id="817" name="AutoShape 28"/>
            <p:cNvSpPr/>
            <p:nvPr/>
          </p:nvSpPr>
          <p:spPr>
            <a:xfrm>
              <a:off x="2627280" y="4292640"/>
              <a:ext cx="1995480" cy="20887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 rot="2513400">
              <a:off x="3411720" y="5110200"/>
              <a:ext cx="424080" cy="453960"/>
            </a:xfrm>
            <a:prstGeom prst="irregularSeal2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30"/>
            <p:cNvSpPr/>
            <p:nvPr/>
          </p:nvSpPr>
          <p:spPr>
            <a:xfrm>
              <a:off x="2647800" y="4292640"/>
              <a:ext cx="1995480" cy="20437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31"/>
            <p:cNvSpPr/>
            <p:nvPr/>
          </p:nvSpPr>
          <p:spPr>
            <a:xfrm>
              <a:off x="3369960" y="5019120"/>
              <a:ext cx="551880" cy="545040"/>
            </a:xfrm>
            <a:prstGeom prst="smileyFace">
              <a:avLst>
                <a:gd name="adj" fmla="val 928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6"/>
          <p:cNvGrpSpPr/>
          <p:nvPr/>
        </p:nvGrpSpPr>
        <p:grpSpPr>
          <a:xfrm>
            <a:off x="2248920" y="3886920"/>
            <a:ext cx="2753280" cy="2828880"/>
            <a:chOff x="2248920" y="3886920"/>
            <a:chExt cx="2753280" cy="2828880"/>
          </a:xfrm>
        </p:grpSpPr>
        <p:grpSp>
          <p:nvGrpSpPr>
            <p:cNvPr id="822" name="Group 17"/>
            <p:cNvGrpSpPr/>
            <p:nvPr/>
          </p:nvGrpSpPr>
          <p:grpSpPr>
            <a:xfrm>
              <a:off x="2248920" y="3886920"/>
              <a:ext cx="2753280" cy="2828880"/>
              <a:chOff x="2248920" y="3886920"/>
              <a:chExt cx="2753280" cy="2828880"/>
            </a:xfrm>
          </p:grpSpPr>
          <p:sp>
            <p:nvSpPr>
              <p:cNvPr id="823" name="AutoShape 18"/>
              <p:cNvSpPr/>
              <p:nvPr/>
            </p:nvSpPr>
            <p:spPr>
              <a:xfrm>
                <a:off x="2627280" y="4249800"/>
                <a:ext cx="1995120" cy="211464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9"/>
              <p:cNvSpPr/>
              <p:nvPr/>
            </p:nvSpPr>
            <p:spPr>
              <a:xfrm rot="5400000">
                <a:off x="3187440" y="4331160"/>
                <a:ext cx="873720" cy="1952280"/>
              </a:xfrm>
              <a:prstGeom prst="ellipse">
                <a:avLst/>
              </a:prstGeom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20"/>
              <p:cNvSpPr/>
              <p:nvPr/>
            </p:nvSpPr>
            <p:spPr>
              <a:xfrm rot="1662600">
                <a:off x="2627280" y="4249800"/>
                <a:ext cx="1995120" cy="2068560"/>
              </a:xfrm>
              <a:custGeom>
                <a:avLst/>
                <a:gdLst>
                  <a:gd name="textAreaLeft" fmla="*/ 821880 w 1995120"/>
                  <a:gd name="textAreaRight" fmla="*/ 1173240 w 1995120"/>
                  <a:gd name="textAreaTop" fmla="*/ 852120 h 2068560"/>
                  <a:gd name="textAreaBottom" fmla="*/ 1216440 h 206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3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AutoShape 21"/>
              <p:cNvSpPr/>
              <p:nvPr/>
            </p:nvSpPr>
            <p:spPr>
              <a:xfrm rot="19970400">
                <a:off x="2632320" y="4220640"/>
                <a:ext cx="1986120" cy="2160720"/>
              </a:xfrm>
              <a:custGeom>
                <a:avLst/>
                <a:gdLst>
                  <a:gd name="textAreaLeft" fmla="*/ 818280 w 1986120"/>
                  <a:gd name="textAreaRight" fmla="*/ 1167840 w 1986120"/>
                  <a:gd name="textAreaTop" fmla="*/ 890280 h 2160720"/>
                  <a:gd name="textAreaBottom" fmla="*/ 1270440 h 216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703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Oval 22"/>
            <p:cNvSpPr/>
            <p:nvPr/>
          </p:nvSpPr>
          <p:spPr>
            <a:xfrm>
              <a:off x="3560760" y="4249440"/>
              <a:ext cx="169560" cy="105768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99c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3"/>
            <p:cNvSpPr/>
            <p:nvPr/>
          </p:nvSpPr>
          <p:spPr>
            <a:xfrm>
              <a:off x="3560760" y="5307480"/>
              <a:ext cx="169560" cy="10573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99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4"/>
            <p:cNvSpPr/>
            <p:nvPr/>
          </p:nvSpPr>
          <p:spPr>
            <a:xfrm rot="5400000">
              <a:off x="3043800" y="4818600"/>
              <a:ext cx="183600" cy="97668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99c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5"/>
            <p:cNvSpPr/>
            <p:nvPr/>
          </p:nvSpPr>
          <p:spPr>
            <a:xfrm rot="16200000">
              <a:off x="4062960" y="4818600"/>
              <a:ext cx="183600" cy="97668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ccff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26"/>
            <p:cNvSpPr/>
            <p:nvPr/>
          </p:nvSpPr>
          <p:spPr>
            <a:xfrm>
              <a:off x="3369600" y="4985280"/>
              <a:ext cx="551520" cy="59760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10"/>
          <p:cNvGrpSpPr/>
          <p:nvPr/>
        </p:nvGrpSpPr>
        <p:grpSpPr>
          <a:xfrm>
            <a:off x="2180520" y="3832560"/>
            <a:ext cx="2910960" cy="2937600"/>
            <a:chOff x="2180520" y="3832560"/>
            <a:chExt cx="2910960" cy="2937600"/>
          </a:xfrm>
        </p:grpSpPr>
        <p:sp>
          <p:nvSpPr>
            <p:cNvPr id="833" name="AutoShape 11"/>
            <p:cNvSpPr/>
            <p:nvPr/>
          </p:nvSpPr>
          <p:spPr>
            <a:xfrm>
              <a:off x="2627280" y="4249800"/>
              <a:ext cx="2016000" cy="21146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2"/>
            <p:cNvSpPr/>
            <p:nvPr/>
          </p:nvSpPr>
          <p:spPr>
            <a:xfrm>
              <a:off x="3227760" y="4249800"/>
              <a:ext cx="814680" cy="211464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13"/>
            <p:cNvSpPr/>
            <p:nvPr/>
          </p:nvSpPr>
          <p:spPr>
            <a:xfrm>
              <a:off x="2627280" y="4249800"/>
              <a:ext cx="2016000" cy="2068560"/>
            </a:xfrm>
            <a:custGeom>
              <a:avLst/>
              <a:gdLst>
                <a:gd name="textAreaLeft" fmla="*/ 830520 w 2016000"/>
                <a:gd name="textAreaRight" fmla="*/ 1185480 w 2016000"/>
                <a:gd name="textAreaTop" fmla="*/ 852120 h 2068560"/>
                <a:gd name="textAreaBottom" fmla="*/ 1216440 h 206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AutoShape 14"/>
            <p:cNvSpPr/>
            <p:nvPr/>
          </p:nvSpPr>
          <p:spPr>
            <a:xfrm rot="19326000">
              <a:off x="2632320" y="4221000"/>
              <a:ext cx="2007000" cy="2160720"/>
            </a:xfrm>
            <a:custGeom>
              <a:avLst/>
              <a:gdLst>
                <a:gd name="textAreaLeft" fmla="*/ 826920 w 2007000"/>
                <a:gd name="textAreaRight" fmla="*/ 1180080 w 2007000"/>
                <a:gd name="textAreaTop" fmla="*/ 890280 h 2160720"/>
                <a:gd name="textAreaBottom" fmla="*/ 127044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767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15"/>
            <p:cNvSpPr/>
            <p:nvPr/>
          </p:nvSpPr>
          <p:spPr>
            <a:xfrm>
              <a:off x="3399480" y="5031360"/>
              <a:ext cx="471240" cy="50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Нижний колонтитул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82080" y="-1307520"/>
            <a:ext cx="9199440" cy="9212760"/>
            <a:chOff x="82080" y="-1307520"/>
            <a:chExt cx="9199440" cy="9212760"/>
          </a:xfrm>
        </p:grpSpPr>
        <p:sp>
          <p:nvSpPr>
            <p:cNvPr id="98" name="AutoShape 5"/>
            <p:cNvSpPr/>
            <p:nvPr/>
          </p:nvSpPr>
          <p:spPr>
            <a:xfrm>
              <a:off x="1403280" y="88560"/>
              <a:ext cx="6551640" cy="64566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>
              <a:off x="3354480" y="88560"/>
              <a:ext cx="2648160" cy="6456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1403280" y="88560"/>
              <a:ext cx="6550560" cy="6315480"/>
            </a:xfrm>
            <a:custGeom>
              <a:avLst/>
              <a:gdLst>
                <a:gd name="textAreaLeft" fmla="*/ 2698920 w 6550560"/>
                <a:gd name="textAreaRight" fmla="*/ 3851640 w 6550560"/>
                <a:gd name="textAreaTop" fmla="*/ 2602080 h 6315480"/>
                <a:gd name="textAreaBottom" fmla="*/ 3713400 h 631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ddebc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"/>
            <p:cNvSpPr/>
            <p:nvPr/>
          </p:nvSpPr>
          <p:spPr>
            <a:xfrm rot="19326000">
              <a:off x="1420560" y="0"/>
              <a:ext cx="6521760" cy="6597720"/>
            </a:xfrm>
            <a:custGeom>
              <a:avLst/>
              <a:gdLst>
                <a:gd name="textAreaLeft" fmla="*/ 2687040 w 6521760"/>
                <a:gd name="textAreaRight" fmla="*/ 3834720 w 6521760"/>
                <a:gd name="textAreaTop" fmla="*/ 2718360 h 6597720"/>
                <a:gd name="textAreaBottom" fmla="*/ 3879360 h 659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767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912480" y="2474640"/>
              <a:ext cx="1531080" cy="15440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86400" y="-1319040"/>
            <a:ext cx="9228240" cy="9235440"/>
            <a:chOff x="86400" y="-1319040"/>
            <a:chExt cx="9228240" cy="9235440"/>
          </a:xfrm>
        </p:grpSpPr>
        <p:sp>
          <p:nvSpPr>
            <p:cNvPr id="104" name="AutoShape 12"/>
            <p:cNvSpPr/>
            <p:nvPr/>
          </p:nvSpPr>
          <p:spPr>
            <a:xfrm>
              <a:off x="1403280" y="88560"/>
              <a:ext cx="6588360" cy="64566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3365280" y="88560"/>
              <a:ext cx="2662920" cy="6456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4"/>
            <p:cNvSpPr/>
            <p:nvPr/>
          </p:nvSpPr>
          <p:spPr>
            <a:xfrm>
              <a:off x="1403280" y="88560"/>
              <a:ext cx="6587280" cy="6315480"/>
            </a:xfrm>
            <a:custGeom>
              <a:avLst/>
              <a:gdLst>
                <a:gd name="textAreaLeft" fmla="*/ 2714040 w 6587280"/>
                <a:gd name="textAreaRight" fmla="*/ 3873240 w 6587280"/>
                <a:gd name="textAreaTop" fmla="*/ 2602080 h 6315480"/>
                <a:gd name="textAreaBottom" fmla="*/ 3713400 h 631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5"/>
            <p:cNvSpPr/>
            <p:nvPr/>
          </p:nvSpPr>
          <p:spPr>
            <a:xfrm rot="19326000">
              <a:off x="1421280" y="0"/>
              <a:ext cx="6558480" cy="6597720"/>
            </a:xfrm>
            <a:custGeom>
              <a:avLst/>
              <a:gdLst>
                <a:gd name="textAreaLeft" fmla="*/ 2702160 w 6558480"/>
                <a:gd name="textAreaRight" fmla="*/ 3856320 w 6558480"/>
                <a:gd name="textAreaTop" fmla="*/ 2718360 h 6597720"/>
                <a:gd name="textAreaBottom" fmla="*/ 3879360 h 659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767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6"/>
            <p:cNvSpPr/>
            <p:nvPr/>
          </p:nvSpPr>
          <p:spPr>
            <a:xfrm>
              <a:off x="3926520" y="2474640"/>
              <a:ext cx="1539720" cy="15440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7"/>
          <p:cNvGrpSpPr/>
          <p:nvPr/>
        </p:nvGrpSpPr>
        <p:grpSpPr>
          <a:xfrm>
            <a:off x="275040" y="-1126080"/>
            <a:ext cx="8817840" cy="8849160"/>
            <a:chOff x="275040" y="-1126080"/>
            <a:chExt cx="8817840" cy="8849160"/>
          </a:xfrm>
        </p:grpSpPr>
        <p:grpSp>
          <p:nvGrpSpPr>
            <p:cNvPr id="110" name="Group 18"/>
            <p:cNvGrpSpPr/>
            <p:nvPr/>
          </p:nvGrpSpPr>
          <p:grpSpPr>
            <a:xfrm>
              <a:off x="275040" y="-1126080"/>
              <a:ext cx="8817840" cy="8849160"/>
              <a:chOff x="275040" y="-1126080"/>
              <a:chExt cx="8817840" cy="8849160"/>
            </a:xfrm>
          </p:grpSpPr>
          <p:sp>
            <p:nvSpPr>
              <p:cNvPr id="111" name="AutoShape 19"/>
              <p:cNvSpPr/>
              <p:nvPr/>
            </p:nvSpPr>
            <p:spPr>
              <a:xfrm>
                <a:off x="1403280" y="88560"/>
                <a:ext cx="6555600" cy="645660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20"/>
              <p:cNvSpPr/>
              <p:nvPr/>
            </p:nvSpPr>
            <p:spPr>
              <a:xfrm rot="5400000">
                <a:off x="3346200" y="109800"/>
                <a:ext cx="2667960" cy="6414120"/>
              </a:xfrm>
              <a:prstGeom prst="ellipse">
                <a:avLst/>
              </a:prstGeom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21"/>
              <p:cNvSpPr/>
              <p:nvPr/>
            </p:nvSpPr>
            <p:spPr>
              <a:xfrm rot="1662600">
                <a:off x="1402920" y="88560"/>
                <a:ext cx="6554520" cy="6315480"/>
              </a:xfrm>
              <a:custGeom>
                <a:avLst/>
                <a:gdLst>
                  <a:gd name="textAreaLeft" fmla="*/ 2700720 w 6554520"/>
                  <a:gd name="textAreaRight" fmla="*/ 3853800 w 6554520"/>
                  <a:gd name="textAreaTop" fmla="*/ 2602080 h 6315480"/>
                  <a:gd name="textAreaBottom" fmla="*/ 3713400 h 631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3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22"/>
              <p:cNvSpPr/>
              <p:nvPr/>
            </p:nvSpPr>
            <p:spPr>
              <a:xfrm rot="19970400">
                <a:off x="1420920" y="0"/>
                <a:ext cx="6525720" cy="6597720"/>
              </a:xfrm>
              <a:custGeom>
                <a:avLst/>
                <a:gdLst>
                  <a:gd name="textAreaLeft" fmla="*/ 2688840 w 6525720"/>
                  <a:gd name="textAreaRight" fmla="*/ 3836880 w 6525720"/>
                  <a:gd name="textAreaTop" fmla="*/ 2718360 h 6597720"/>
                  <a:gd name="textAreaBottom" fmla="*/ 3879360 h 659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703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Oval 23"/>
            <p:cNvSpPr/>
            <p:nvPr/>
          </p:nvSpPr>
          <p:spPr>
            <a:xfrm>
              <a:off x="4471200" y="87480"/>
              <a:ext cx="558000" cy="32292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99c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4"/>
            <p:cNvSpPr/>
            <p:nvPr/>
          </p:nvSpPr>
          <p:spPr>
            <a:xfrm>
              <a:off x="4471200" y="3317040"/>
              <a:ext cx="558000" cy="322812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99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5"/>
            <p:cNvSpPr/>
            <p:nvPr/>
          </p:nvSpPr>
          <p:spPr>
            <a:xfrm rot="5400000">
              <a:off x="2795400" y="1711440"/>
              <a:ext cx="560880" cy="320904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99c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6"/>
            <p:cNvSpPr/>
            <p:nvPr/>
          </p:nvSpPr>
          <p:spPr>
            <a:xfrm rot="16200000">
              <a:off x="6143040" y="1711800"/>
              <a:ext cx="560880" cy="320904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ccff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7"/>
            <p:cNvSpPr/>
            <p:nvPr/>
          </p:nvSpPr>
          <p:spPr>
            <a:xfrm>
              <a:off x="3842640" y="2333880"/>
              <a:ext cx="1812960" cy="182484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8"/>
          <p:cNvGrpSpPr/>
          <p:nvPr/>
        </p:nvGrpSpPr>
        <p:grpSpPr>
          <a:xfrm>
            <a:off x="1403280" y="0"/>
            <a:ext cx="6840720" cy="6668640"/>
            <a:chOff x="1403280" y="0"/>
            <a:chExt cx="6840720" cy="6668640"/>
          </a:xfrm>
        </p:grpSpPr>
        <p:sp>
          <p:nvSpPr>
            <p:cNvPr id="121" name="AutoShape 29"/>
            <p:cNvSpPr/>
            <p:nvPr/>
          </p:nvSpPr>
          <p:spPr>
            <a:xfrm>
              <a:off x="1403280" y="720"/>
              <a:ext cx="6771240" cy="66679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00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0"/>
            <p:cNvSpPr/>
            <p:nvPr/>
          </p:nvSpPr>
          <p:spPr>
            <a:xfrm rot="2513400">
              <a:off x="4066560" y="2609640"/>
              <a:ext cx="1439640" cy="1449720"/>
            </a:xfrm>
            <a:prstGeom prst="irregularSeal2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1"/>
            <p:cNvSpPr/>
            <p:nvPr/>
          </p:nvSpPr>
          <p:spPr>
            <a:xfrm>
              <a:off x="1473840" y="0"/>
              <a:ext cx="6770160" cy="65242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2"/>
            <p:cNvSpPr/>
            <p:nvPr/>
          </p:nvSpPr>
          <p:spPr>
            <a:xfrm>
              <a:off x="3922920" y="2319480"/>
              <a:ext cx="1872720" cy="1739880"/>
            </a:xfrm>
            <a:prstGeom prst="smileyFace">
              <a:avLst>
                <a:gd name="adj" fmla="val 928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52"/>
          <p:cNvGrpSpPr/>
          <p:nvPr/>
        </p:nvGrpSpPr>
        <p:grpSpPr>
          <a:xfrm>
            <a:off x="1332000" y="0"/>
            <a:ext cx="6912000" cy="6669000"/>
            <a:chOff x="1332000" y="0"/>
            <a:chExt cx="6912000" cy="6669000"/>
          </a:xfrm>
        </p:grpSpPr>
        <p:sp>
          <p:nvSpPr>
            <p:cNvPr id="126" name="AutoShape 53"/>
            <p:cNvSpPr/>
            <p:nvPr/>
          </p:nvSpPr>
          <p:spPr>
            <a:xfrm>
              <a:off x="1332000" y="0"/>
              <a:ext cx="6912000" cy="6669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dcebf5"/>
                </a:gs>
                <a:gs pos="100000">
                  <a:srgbClr val="55261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54"/>
            <p:cNvSpPr/>
            <p:nvPr/>
          </p:nvSpPr>
          <p:spPr>
            <a:xfrm rot="2513400">
              <a:off x="4096080" y="2608560"/>
              <a:ext cx="1453680" cy="1449720"/>
            </a:xfrm>
            <a:prstGeom prst="irregularSeal2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55"/>
            <p:cNvSpPr/>
            <p:nvPr/>
          </p:nvSpPr>
          <p:spPr>
            <a:xfrm>
              <a:off x="1478160" y="143640"/>
              <a:ext cx="6691320" cy="6379560"/>
            </a:xfrm>
            <a:custGeom>
              <a:avLst/>
              <a:gdLst>
                <a:gd name="textAreaLeft" fmla="*/ 1527480 w 6691320"/>
                <a:gd name="textAreaRight" fmla="*/ 5163840 w 6691320"/>
                <a:gd name="textAreaTop" fmla="*/ 1456200 h 6379560"/>
                <a:gd name="textAreaBottom" fmla="*/ 4923360 h 63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768680" y="143640"/>
              <a:ext cx="5964840" cy="5364000"/>
              <a:chOff x="1768680" y="143640"/>
              <a:chExt cx="5964840" cy="5364000"/>
            </a:xfrm>
          </p:grpSpPr>
          <p:sp>
            <p:nvSpPr>
              <p:cNvPr id="130" name="AutoShape 57"/>
              <p:cNvSpPr/>
              <p:nvPr/>
            </p:nvSpPr>
            <p:spPr>
              <a:xfrm>
                <a:off x="3204360" y="1238760"/>
                <a:ext cx="3074040" cy="32871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8"/>
              <p:cNvSpPr/>
              <p:nvPr/>
            </p:nvSpPr>
            <p:spPr>
              <a:xfrm>
                <a:off x="1768680" y="4412520"/>
                <a:ext cx="1766520" cy="10951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59"/>
              <p:cNvSpPr/>
              <p:nvPr/>
            </p:nvSpPr>
            <p:spPr>
              <a:xfrm>
                <a:off x="3867480" y="143640"/>
                <a:ext cx="1766880" cy="1095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60"/>
              <p:cNvSpPr/>
              <p:nvPr/>
            </p:nvSpPr>
            <p:spPr>
              <a:xfrm>
                <a:off x="5967000" y="4412520"/>
                <a:ext cx="1766520" cy="10951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Group 61"/>
          <p:cNvGrpSpPr/>
          <p:nvPr/>
        </p:nvGrpSpPr>
        <p:grpSpPr>
          <a:xfrm>
            <a:off x="1332000" y="0"/>
            <a:ext cx="6912000" cy="6669000"/>
            <a:chOff x="1332000" y="0"/>
            <a:chExt cx="6912000" cy="6669000"/>
          </a:xfrm>
        </p:grpSpPr>
        <p:sp>
          <p:nvSpPr>
            <p:cNvPr id="135" name="AutoShape 62"/>
            <p:cNvSpPr/>
            <p:nvPr/>
          </p:nvSpPr>
          <p:spPr>
            <a:xfrm>
              <a:off x="1332000" y="0"/>
              <a:ext cx="6912000" cy="6669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3"/>
            <p:cNvSpPr/>
            <p:nvPr/>
          </p:nvSpPr>
          <p:spPr>
            <a:xfrm rot="2513400">
              <a:off x="4050720" y="2609280"/>
              <a:ext cx="1469880" cy="1450080"/>
            </a:xfrm>
            <a:prstGeom prst="irregularSeal2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4"/>
            <p:cNvSpPr/>
            <p:nvPr/>
          </p:nvSpPr>
          <p:spPr>
            <a:xfrm>
              <a:off x="1404000" y="143640"/>
              <a:ext cx="6764760" cy="6380640"/>
            </a:xfrm>
            <a:custGeom>
              <a:avLst/>
              <a:gdLst>
                <a:gd name="textAreaLeft" fmla="*/ 1544040 w 6764760"/>
                <a:gd name="textAreaRight" fmla="*/ 5220720 w 6764760"/>
                <a:gd name="textAreaTop" fmla="*/ 1456560 h 6380640"/>
                <a:gd name="textAreaBottom" fmla="*/ 4924080 h 638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65"/>
          <p:cNvGrpSpPr/>
          <p:nvPr/>
        </p:nvGrpSpPr>
        <p:grpSpPr>
          <a:xfrm>
            <a:off x="1332000" y="0"/>
            <a:ext cx="6960600" cy="6669000"/>
            <a:chOff x="1332000" y="0"/>
            <a:chExt cx="6960600" cy="6669000"/>
          </a:xfrm>
        </p:grpSpPr>
        <p:sp>
          <p:nvSpPr>
            <p:cNvPr id="139" name="AutoShape 66"/>
            <p:cNvSpPr/>
            <p:nvPr/>
          </p:nvSpPr>
          <p:spPr>
            <a:xfrm>
              <a:off x="1332000" y="0"/>
              <a:ext cx="6908760" cy="666900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67"/>
            <p:cNvSpPr/>
            <p:nvPr/>
          </p:nvSpPr>
          <p:spPr>
            <a:xfrm rot="2513400">
              <a:off x="6526440" y="4180680"/>
              <a:ext cx="1469160" cy="1451520"/>
            </a:xfrm>
            <a:prstGeom prst="irregularSeal2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68"/>
            <p:cNvSpPr/>
            <p:nvPr/>
          </p:nvSpPr>
          <p:spPr>
            <a:xfrm>
              <a:off x="1481760" y="286920"/>
              <a:ext cx="6761880" cy="6381720"/>
            </a:xfrm>
            <a:custGeom>
              <a:avLst/>
              <a:gdLst>
                <a:gd name="textAreaLeft" fmla="*/ 1543680 w 6761880"/>
                <a:gd name="textAreaRight" fmla="*/ 5218200 w 6761880"/>
                <a:gd name="textAreaTop" fmla="*/ 1456920 h 6381720"/>
                <a:gd name="textAreaBottom" fmla="*/ 4924800 h 638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69"/>
            <p:cNvSpPr/>
            <p:nvPr/>
          </p:nvSpPr>
          <p:spPr>
            <a:xfrm>
              <a:off x="3058560" y="1545120"/>
              <a:ext cx="3675600" cy="3480840"/>
            </a:xfrm>
            <a:custGeom>
              <a:avLst/>
              <a:gdLst>
                <a:gd name="textAreaLeft" fmla="*/ 839160 w 3675600"/>
                <a:gd name="textAreaRight" fmla="*/ 2836440 w 3675600"/>
                <a:gd name="textAreaTop" fmla="*/ 794520 h 3480840"/>
                <a:gd name="textAreaBottom" fmla="*/ 2686320 h 348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Группа 88"/>
          <p:cNvGrpSpPr/>
          <p:nvPr/>
        </p:nvGrpSpPr>
        <p:grpSpPr>
          <a:xfrm>
            <a:off x="1258920" y="0"/>
            <a:ext cx="7058160" cy="6669000"/>
            <a:chOff x="1258920" y="0"/>
            <a:chExt cx="7058160" cy="6669000"/>
          </a:xfrm>
        </p:grpSpPr>
        <p:grpSp>
          <p:nvGrpSpPr>
            <p:cNvPr id="144" name="Group 74"/>
            <p:cNvGrpSpPr/>
            <p:nvPr/>
          </p:nvGrpSpPr>
          <p:grpSpPr>
            <a:xfrm>
              <a:off x="1258920" y="0"/>
              <a:ext cx="7056360" cy="6669000"/>
              <a:chOff x="1258920" y="0"/>
              <a:chExt cx="7056360" cy="6669000"/>
            </a:xfrm>
          </p:grpSpPr>
          <p:sp>
            <p:nvSpPr>
              <p:cNvPr id="145" name="AutoShape 75"/>
              <p:cNvSpPr/>
              <p:nvPr/>
            </p:nvSpPr>
            <p:spPr>
              <a:xfrm>
                <a:off x="1258920" y="0"/>
                <a:ext cx="7056360" cy="666900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3366ff">
                      <a:alpha val="62352"/>
                    </a:srgbClr>
                  </a:gs>
                  <a:gs pos="100000">
                    <a:srgbClr val="333399">
                      <a:alpha val="67058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76"/>
              <p:cNvSpPr/>
              <p:nvPr/>
            </p:nvSpPr>
            <p:spPr>
              <a:xfrm rot="2513400">
                <a:off x="3960720" y="2464560"/>
                <a:ext cx="1499400" cy="1452600"/>
              </a:xfrm>
              <a:prstGeom prst="irregularSeal2">
                <a:avLst/>
              </a:prstGeom>
              <a:gradFill rotWithShape="0">
                <a:gsLst>
                  <a:gs pos="0">
                    <a:srgbClr val="3366ff">
                      <a:alpha val="62352"/>
                    </a:srgbClr>
                  </a:gs>
                  <a:gs pos="100000">
                    <a:srgbClr val="333399">
                      <a:alpha val="67058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AutoShape 77"/>
            <p:cNvSpPr/>
            <p:nvPr/>
          </p:nvSpPr>
          <p:spPr>
            <a:xfrm rot="10800000">
              <a:off x="3961800" y="1305360"/>
              <a:ext cx="1651320" cy="115776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8"/>
            <p:cNvSpPr/>
            <p:nvPr/>
          </p:nvSpPr>
          <p:spPr>
            <a:xfrm>
              <a:off x="3962160" y="3916080"/>
              <a:ext cx="1648440" cy="1156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 rot="16075200">
              <a:off x="5414400" y="2664720"/>
              <a:ext cx="1596960" cy="11995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0"/>
            <p:cNvSpPr/>
            <p:nvPr/>
          </p:nvSpPr>
          <p:spPr>
            <a:xfrm rot="5265600">
              <a:off x="2409120" y="2667240"/>
              <a:ext cx="1599120" cy="119736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85"/>
            <p:cNvSpPr/>
            <p:nvPr/>
          </p:nvSpPr>
          <p:spPr>
            <a:xfrm>
              <a:off x="4412160" y="4350960"/>
              <a:ext cx="750600" cy="5792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86"/>
            <p:cNvSpPr/>
            <p:nvPr/>
          </p:nvSpPr>
          <p:spPr>
            <a:xfrm>
              <a:off x="2610360" y="3045240"/>
              <a:ext cx="750600" cy="5781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87"/>
            <p:cNvSpPr/>
            <p:nvPr/>
          </p:nvSpPr>
          <p:spPr>
            <a:xfrm>
              <a:off x="4412160" y="1450080"/>
              <a:ext cx="750600" cy="5781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8"/>
            <p:cNvSpPr/>
            <p:nvPr/>
          </p:nvSpPr>
          <p:spPr>
            <a:xfrm>
              <a:off x="6063840" y="2900520"/>
              <a:ext cx="750600" cy="5803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9"/>
            <p:cNvSpPr/>
            <p:nvPr/>
          </p:nvSpPr>
          <p:spPr>
            <a:xfrm>
              <a:off x="1859760" y="2756160"/>
              <a:ext cx="599760" cy="115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90"/>
            <p:cNvSpPr/>
            <p:nvPr/>
          </p:nvSpPr>
          <p:spPr>
            <a:xfrm rot="16078800">
              <a:off x="4573440" y="4908600"/>
              <a:ext cx="578160" cy="120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007676"/>
                </a:gs>
                <a:gs pos="100000">
                  <a:srgbClr val="00ffff"/>
                </a:gs>
              </a:gsLst>
              <a:lin ang="552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91"/>
            <p:cNvSpPr/>
            <p:nvPr/>
          </p:nvSpPr>
          <p:spPr>
            <a:xfrm rot="5107800">
              <a:off x="4421880" y="124920"/>
              <a:ext cx="580320" cy="119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676"/>
                </a:gs>
                <a:gs pos="50000">
                  <a:srgbClr val="00ffff"/>
                </a:gs>
                <a:gs pos="100000">
                  <a:srgbClr val="007676"/>
                </a:gs>
              </a:gsLst>
              <a:lin ang="294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92"/>
            <p:cNvSpPr/>
            <p:nvPr/>
          </p:nvSpPr>
          <p:spPr>
            <a:xfrm rot="10800000">
              <a:off x="7115400" y="2610360"/>
              <a:ext cx="599760" cy="115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3"/>
            <p:cNvSpPr/>
            <p:nvPr/>
          </p:nvSpPr>
          <p:spPr>
            <a:xfrm rot="13630800">
              <a:off x="2620800" y="4630320"/>
              <a:ext cx="579240" cy="600840"/>
            </a:xfrm>
            <a:custGeom>
              <a:avLst/>
              <a:gdLst>
                <a:gd name="textAreaLeft" fmla="*/ 135000 w 579240"/>
                <a:gd name="textAreaRight" fmla="*/ 444240 w 579240"/>
                <a:gd name="textAreaTop" fmla="*/ 63360 h 600840"/>
                <a:gd name="textAreaBottom" fmla="*/ 380520 h 60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94"/>
            <p:cNvSpPr/>
            <p:nvPr/>
          </p:nvSpPr>
          <p:spPr>
            <a:xfrm rot="8613000">
              <a:off x="6213240" y="4495320"/>
              <a:ext cx="603000" cy="581400"/>
            </a:xfrm>
            <a:custGeom>
              <a:avLst/>
              <a:gdLst>
                <a:gd name="textAreaLeft" fmla="*/ 140400 w 603000"/>
                <a:gd name="textAreaRight" fmla="*/ 462240 w 603000"/>
                <a:gd name="textAreaTop" fmla="*/ 61200 h 581400"/>
                <a:gd name="textAreaBottom" fmla="*/ 36828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95"/>
            <p:cNvSpPr/>
            <p:nvPr/>
          </p:nvSpPr>
          <p:spPr>
            <a:xfrm rot="19289400">
              <a:off x="2609280" y="1305720"/>
              <a:ext cx="601920" cy="580320"/>
            </a:xfrm>
            <a:custGeom>
              <a:avLst/>
              <a:gdLst>
                <a:gd name="textAreaLeft" fmla="*/ 140400 w 601920"/>
                <a:gd name="textAreaRight" fmla="*/ 461520 w 601920"/>
                <a:gd name="textAreaTop" fmla="*/ 61200 h 580320"/>
                <a:gd name="textAreaBottom" fmla="*/ 367560 h 58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96"/>
            <p:cNvSpPr/>
            <p:nvPr/>
          </p:nvSpPr>
          <p:spPr>
            <a:xfrm rot="2830800">
              <a:off x="6224040" y="1294560"/>
              <a:ext cx="580320" cy="600840"/>
            </a:xfrm>
            <a:custGeom>
              <a:avLst/>
              <a:gdLst>
                <a:gd name="textAreaLeft" fmla="*/ 135360 w 580320"/>
                <a:gd name="textAreaRight" fmla="*/ 444960 w 580320"/>
                <a:gd name="textAreaTop" fmla="*/ 63360 h 600840"/>
                <a:gd name="textAreaBottom" fmla="*/ 380520 h 60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97"/>
            <p:cNvSpPr/>
            <p:nvPr/>
          </p:nvSpPr>
          <p:spPr>
            <a:xfrm rot="5400000">
              <a:off x="3072240" y="5497920"/>
              <a:ext cx="728280" cy="750600"/>
            </a:xfrm>
            <a:prstGeom prst="diamond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98"/>
            <p:cNvSpPr/>
            <p:nvPr/>
          </p:nvSpPr>
          <p:spPr>
            <a:xfrm>
              <a:off x="5913720" y="5511240"/>
              <a:ext cx="756000" cy="726120"/>
            </a:xfrm>
            <a:prstGeom prst="diamond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99"/>
            <p:cNvSpPr/>
            <p:nvPr/>
          </p:nvSpPr>
          <p:spPr>
            <a:xfrm rot="20836800">
              <a:off x="7412760" y="4062600"/>
              <a:ext cx="754920" cy="725040"/>
            </a:xfrm>
            <a:prstGeom prst="diamond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00"/>
            <p:cNvSpPr/>
            <p:nvPr/>
          </p:nvSpPr>
          <p:spPr>
            <a:xfrm rot="17069400">
              <a:off x="7275240" y="1730160"/>
              <a:ext cx="729360" cy="750600"/>
            </a:xfrm>
            <a:prstGeom prst="diamond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01"/>
            <p:cNvSpPr/>
            <p:nvPr/>
          </p:nvSpPr>
          <p:spPr>
            <a:xfrm rot="15600600">
              <a:off x="5622480" y="136440"/>
              <a:ext cx="729360" cy="748440"/>
            </a:xfrm>
            <a:prstGeom prst="diamond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2"/>
            <p:cNvSpPr/>
            <p:nvPr/>
          </p:nvSpPr>
          <p:spPr>
            <a:xfrm rot="12018600">
              <a:off x="3060000" y="145440"/>
              <a:ext cx="756000" cy="725040"/>
            </a:xfrm>
            <a:prstGeom prst="diamond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03"/>
            <p:cNvSpPr/>
            <p:nvPr/>
          </p:nvSpPr>
          <p:spPr>
            <a:xfrm rot="6006600">
              <a:off x="1568160" y="4196160"/>
              <a:ext cx="731160" cy="750600"/>
            </a:xfrm>
            <a:prstGeom prst="diamond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04"/>
            <p:cNvSpPr/>
            <p:nvPr/>
          </p:nvSpPr>
          <p:spPr>
            <a:xfrm rot="9082200">
              <a:off x="1557000" y="1742760"/>
              <a:ext cx="754920" cy="725040"/>
            </a:xfrm>
            <a:prstGeom prst="diamond">
              <a:avLst/>
            </a:pr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05"/>
            <p:cNvSpPr/>
            <p:nvPr/>
          </p:nvSpPr>
          <p:spPr>
            <a:xfrm>
              <a:off x="4562640" y="6091200"/>
              <a:ext cx="601560" cy="434880"/>
            </a:xfrm>
            <a:custGeom>
              <a:avLst/>
              <a:gdLst>
                <a:gd name="textAreaLeft" fmla="*/ 185760 w 601560"/>
                <a:gd name="textAreaRight" fmla="*/ 415800 w 601560"/>
                <a:gd name="textAreaTop" fmla="*/ 165960 h 434880"/>
                <a:gd name="textAreaBottom" fmla="*/ 332280 h 434880"/>
              </a:gdLst>
              <a:ahLst/>
              <a:rect l="textAreaLeft" t="textAreaTop" r="textAreaRight" b="textAreaBottom"/>
              <a:pathLst>
                <a:path w="613834" h="447296">
                  <a:moveTo>
                    <a:pt x="1" y="170851"/>
                  </a:moveTo>
                  <a:lnTo>
                    <a:pt x="234465" y="170853"/>
                  </a:lnTo>
                  <a:lnTo>
                    <a:pt x="306917" y="0"/>
                  </a:lnTo>
                  <a:lnTo>
                    <a:pt x="379369" y="170853"/>
                  </a:lnTo>
                  <a:lnTo>
                    <a:pt x="613833" y="170851"/>
                  </a:lnTo>
                  <a:lnTo>
                    <a:pt x="424147" y="276443"/>
                  </a:lnTo>
                  <a:lnTo>
                    <a:pt x="496602" y="447295"/>
                  </a:lnTo>
                  <a:lnTo>
                    <a:pt x="306917" y="341701"/>
                  </a:lnTo>
                  <a:lnTo>
                    <a:pt x="117232" y="447295"/>
                  </a:lnTo>
                  <a:lnTo>
                    <a:pt x="189687" y="276443"/>
                  </a:lnTo>
                  <a:close/>
                </a:path>
              </a:pathLst>
            </a:cu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06"/>
            <p:cNvSpPr/>
            <p:nvPr/>
          </p:nvSpPr>
          <p:spPr>
            <a:xfrm>
              <a:off x="2158920" y="1015920"/>
              <a:ext cx="601560" cy="434880"/>
            </a:xfrm>
            <a:custGeom>
              <a:avLst/>
              <a:gdLst>
                <a:gd name="textAreaLeft" fmla="*/ 185760 w 601560"/>
                <a:gd name="textAreaRight" fmla="*/ 415800 w 601560"/>
                <a:gd name="textAreaTop" fmla="*/ 165960 h 434880"/>
                <a:gd name="textAreaBottom" fmla="*/ 332280 h 434880"/>
              </a:gdLst>
              <a:ahLst/>
              <a:rect l="textAreaLeft" t="textAreaTop" r="textAreaRight" b="textAreaBottom"/>
              <a:pathLst>
                <a:path w="613834" h="447296">
                  <a:moveTo>
                    <a:pt x="1" y="170851"/>
                  </a:moveTo>
                  <a:lnTo>
                    <a:pt x="234465" y="170853"/>
                  </a:lnTo>
                  <a:lnTo>
                    <a:pt x="306917" y="0"/>
                  </a:lnTo>
                  <a:lnTo>
                    <a:pt x="379369" y="170853"/>
                  </a:lnTo>
                  <a:lnTo>
                    <a:pt x="613833" y="170851"/>
                  </a:lnTo>
                  <a:lnTo>
                    <a:pt x="424147" y="276443"/>
                  </a:lnTo>
                  <a:lnTo>
                    <a:pt x="496602" y="447295"/>
                  </a:lnTo>
                  <a:lnTo>
                    <a:pt x="306917" y="341701"/>
                  </a:lnTo>
                  <a:lnTo>
                    <a:pt x="117232" y="447295"/>
                  </a:lnTo>
                  <a:lnTo>
                    <a:pt x="189687" y="276443"/>
                  </a:lnTo>
                  <a:close/>
                </a:path>
              </a:pathLst>
            </a:cu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7"/>
            <p:cNvSpPr/>
            <p:nvPr/>
          </p:nvSpPr>
          <p:spPr>
            <a:xfrm>
              <a:off x="4411800" y="0"/>
              <a:ext cx="601560" cy="434880"/>
            </a:xfrm>
            <a:custGeom>
              <a:avLst/>
              <a:gdLst>
                <a:gd name="textAreaLeft" fmla="*/ 185760 w 601560"/>
                <a:gd name="textAreaRight" fmla="*/ 415800 w 601560"/>
                <a:gd name="textAreaTop" fmla="*/ 165960 h 434880"/>
                <a:gd name="textAreaBottom" fmla="*/ 332280 h 434880"/>
              </a:gdLst>
              <a:ahLst/>
              <a:rect l="textAreaLeft" t="textAreaTop" r="textAreaRight" b="textAreaBottom"/>
              <a:pathLst>
                <a:path w="613833" h="447296">
                  <a:moveTo>
                    <a:pt x="1" y="170851"/>
                  </a:moveTo>
                  <a:lnTo>
                    <a:pt x="234465" y="170853"/>
                  </a:lnTo>
                  <a:lnTo>
                    <a:pt x="306917" y="0"/>
                  </a:lnTo>
                  <a:lnTo>
                    <a:pt x="379368" y="170853"/>
                  </a:lnTo>
                  <a:lnTo>
                    <a:pt x="613832" y="170851"/>
                  </a:lnTo>
                  <a:lnTo>
                    <a:pt x="424146" y="276443"/>
                  </a:lnTo>
                  <a:lnTo>
                    <a:pt x="496602" y="447295"/>
                  </a:lnTo>
                  <a:lnTo>
                    <a:pt x="306917" y="341701"/>
                  </a:lnTo>
                  <a:lnTo>
                    <a:pt x="117231" y="447295"/>
                  </a:lnTo>
                  <a:lnTo>
                    <a:pt x="189687" y="276443"/>
                  </a:lnTo>
                  <a:close/>
                </a:path>
              </a:pathLst>
            </a:cu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08"/>
            <p:cNvSpPr/>
            <p:nvPr/>
          </p:nvSpPr>
          <p:spPr>
            <a:xfrm>
              <a:off x="6664680" y="871560"/>
              <a:ext cx="601560" cy="433080"/>
            </a:xfrm>
            <a:custGeom>
              <a:avLst/>
              <a:gdLst>
                <a:gd name="textAreaLeft" fmla="*/ 185760 w 601560"/>
                <a:gd name="textAreaRight" fmla="*/ 415800 w 601560"/>
                <a:gd name="textAreaTop" fmla="*/ 165240 h 433080"/>
                <a:gd name="textAreaBottom" fmla="*/ 330840 h 433080"/>
              </a:gdLst>
              <a:ahLst/>
              <a:rect l="textAreaLeft" t="textAreaTop" r="textAreaRight" b="textAreaBottom"/>
              <a:pathLst>
                <a:path w="613834" h="445663">
                  <a:moveTo>
                    <a:pt x="1" y="170228"/>
                  </a:moveTo>
                  <a:lnTo>
                    <a:pt x="234465" y="170229"/>
                  </a:lnTo>
                  <a:lnTo>
                    <a:pt x="306917" y="0"/>
                  </a:lnTo>
                  <a:lnTo>
                    <a:pt x="379369" y="170229"/>
                  </a:lnTo>
                  <a:lnTo>
                    <a:pt x="613833" y="170228"/>
                  </a:lnTo>
                  <a:lnTo>
                    <a:pt x="424147" y="275434"/>
                  </a:lnTo>
                  <a:lnTo>
                    <a:pt x="496602" y="445662"/>
                  </a:lnTo>
                  <a:lnTo>
                    <a:pt x="306917" y="340454"/>
                  </a:lnTo>
                  <a:lnTo>
                    <a:pt x="117232" y="445662"/>
                  </a:lnTo>
                  <a:lnTo>
                    <a:pt x="189687" y="275434"/>
                  </a:lnTo>
                  <a:close/>
                </a:path>
              </a:pathLst>
            </a:cu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09"/>
            <p:cNvSpPr/>
            <p:nvPr/>
          </p:nvSpPr>
          <p:spPr>
            <a:xfrm>
              <a:off x="7715520" y="3044880"/>
              <a:ext cx="601560" cy="434880"/>
            </a:xfrm>
            <a:custGeom>
              <a:avLst/>
              <a:gdLst>
                <a:gd name="textAreaLeft" fmla="*/ 185760 w 601560"/>
                <a:gd name="textAreaRight" fmla="*/ 415800 w 601560"/>
                <a:gd name="textAreaTop" fmla="*/ 165960 h 434880"/>
                <a:gd name="textAreaBottom" fmla="*/ 332280 h 434880"/>
              </a:gdLst>
              <a:ahLst/>
              <a:rect l="textAreaLeft" t="textAreaTop" r="textAreaRight" b="textAreaBottom"/>
              <a:pathLst>
                <a:path w="613834" h="447296">
                  <a:moveTo>
                    <a:pt x="1" y="170851"/>
                  </a:moveTo>
                  <a:lnTo>
                    <a:pt x="234465" y="170853"/>
                  </a:lnTo>
                  <a:lnTo>
                    <a:pt x="306917" y="0"/>
                  </a:lnTo>
                  <a:lnTo>
                    <a:pt x="379369" y="170853"/>
                  </a:lnTo>
                  <a:lnTo>
                    <a:pt x="613833" y="170851"/>
                  </a:lnTo>
                  <a:lnTo>
                    <a:pt x="424147" y="276443"/>
                  </a:lnTo>
                  <a:lnTo>
                    <a:pt x="496602" y="447295"/>
                  </a:lnTo>
                  <a:lnTo>
                    <a:pt x="306917" y="341701"/>
                  </a:lnTo>
                  <a:lnTo>
                    <a:pt x="117232" y="447295"/>
                  </a:lnTo>
                  <a:lnTo>
                    <a:pt x="189687" y="276443"/>
                  </a:lnTo>
                  <a:close/>
                </a:path>
              </a:pathLst>
            </a:cu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10"/>
            <p:cNvSpPr/>
            <p:nvPr/>
          </p:nvSpPr>
          <p:spPr>
            <a:xfrm>
              <a:off x="6813720" y="5076720"/>
              <a:ext cx="603000" cy="431640"/>
            </a:xfrm>
            <a:custGeom>
              <a:avLst/>
              <a:gdLst>
                <a:gd name="textAreaLeft" fmla="*/ 186120 w 603000"/>
                <a:gd name="textAreaRight" fmla="*/ 416880 w 603000"/>
                <a:gd name="textAreaTop" fmla="*/ 164880 h 431640"/>
                <a:gd name="textAreaBottom" fmla="*/ 329760 h 431640"/>
              </a:gdLst>
              <a:ahLst/>
              <a:rect l="textAreaLeft" t="textAreaTop" r="textAreaRight" b="textAreaBottom"/>
              <a:pathLst>
                <a:path w="615454" h="444031">
                  <a:moveTo>
                    <a:pt x="1" y="169604"/>
                  </a:moveTo>
                  <a:lnTo>
                    <a:pt x="235084" y="169605"/>
                  </a:lnTo>
                  <a:lnTo>
                    <a:pt x="307727" y="0"/>
                  </a:lnTo>
                  <a:lnTo>
                    <a:pt x="380370" y="169605"/>
                  </a:lnTo>
                  <a:lnTo>
                    <a:pt x="615453" y="169604"/>
                  </a:lnTo>
                  <a:lnTo>
                    <a:pt x="425266" y="274425"/>
                  </a:lnTo>
                  <a:lnTo>
                    <a:pt x="497913" y="444030"/>
                  </a:lnTo>
                  <a:lnTo>
                    <a:pt x="307727" y="339207"/>
                  </a:lnTo>
                  <a:lnTo>
                    <a:pt x="117541" y="444030"/>
                  </a:lnTo>
                  <a:lnTo>
                    <a:pt x="190188" y="274425"/>
                  </a:lnTo>
                  <a:close/>
                </a:path>
              </a:pathLst>
            </a:cu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11"/>
            <p:cNvSpPr/>
            <p:nvPr/>
          </p:nvSpPr>
          <p:spPr>
            <a:xfrm rot="4383000">
              <a:off x="1343160" y="3110760"/>
              <a:ext cx="581040" cy="452160"/>
            </a:xfrm>
            <a:custGeom>
              <a:avLst/>
              <a:gdLst>
                <a:gd name="textAreaLeft" fmla="*/ 179640 w 581040"/>
                <a:gd name="textAreaRight" fmla="*/ 401400 w 581040"/>
                <a:gd name="textAreaTop" fmla="*/ 172800 h 452160"/>
                <a:gd name="textAreaBottom" fmla="*/ 345600 h 452160"/>
              </a:gdLst>
              <a:ahLst/>
              <a:rect l="textAreaLeft" t="textAreaTop" r="textAreaRight" b="textAreaBottom"/>
              <a:pathLst>
                <a:path w="597483" h="461590">
                  <a:moveTo>
                    <a:pt x="1" y="176311"/>
                  </a:moveTo>
                  <a:lnTo>
                    <a:pt x="228219" y="176312"/>
                  </a:lnTo>
                  <a:lnTo>
                    <a:pt x="298742" y="0"/>
                  </a:lnTo>
                  <a:lnTo>
                    <a:pt x="369264" y="176312"/>
                  </a:lnTo>
                  <a:lnTo>
                    <a:pt x="597482" y="176311"/>
                  </a:lnTo>
                  <a:lnTo>
                    <a:pt x="412849" y="285277"/>
                  </a:lnTo>
                  <a:lnTo>
                    <a:pt x="483374" y="461588"/>
                  </a:lnTo>
                  <a:lnTo>
                    <a:pt x="298742" y="352621"/>
                  </a:lnTo>
                  <a:lnTo>
                    <a:pt x="114109" y="461588"/>
                  </a:lnTo>
                  <a:lnTo>
                    <a:pt x="184634" y="285277"/>
                  </a:lnTo>
                  <a:close/>
                </a:path>
              </a:pathLst>
            </a:cu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lin ang="10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12"/>
            <p:cNvSpPr/>
            <p:nvPr/>
          </p:nvSpPr>
          <p:spPr>
            <a:xfrm>
              <a:off x="2158920" y="5221440"/>
              <a:ext cx="601560" cy="434880"/>
            </a:xfrm>
            <a:custGeom>
              <a:avLst/>
              <a:gdLst>
                <a:gd name="textAreaLeft" fmla="*/ 185760 w 601560"/>
                <a:gd name="textAreaRight" fmla="*/ 415800 w 601560"/>
                <a:gd name="textAreaTop" fmla="*/ 165960 h 434880"/>
                <a:gd name="textAreaBottom" fmla="*/ 332280 h 434880"/>
              </a:gdLst>
              <a:ahLst/>
              <a:rect l="textAreaLeft" t="textAreaTop" r="textAreaRight" b="textAreaBottom"/>
              <a:pathLst>
                <a:path w="613834" h="447296">
                  <a:moveTo>
                    <a:pt x="1" y="170851"/>
                  </a:moveTo>
                  <a:lnTo>
                    <a:pt x="234465" y="170853"/>
                  </a:lnTo>
                  <a:lnTo>
                    <a:pt x="306917" y="0"/>
                  </a:lnTo>
                  <a:lnTo>
                    <a:pt x="379369" y="170853"/>
                  </a:lnTo>
                  <a:lnTo>
                    <a:pt x="613833" y="170851"/>
                  </a:lnTo>
                  <a:lnTo>
                    <a:pt x="424147" y="276443"/>
                  </a:lnTo>
                  <a:lnTo>
                    <a:pt x="496602" y="447295"/>
                  </a:lnTo>
                  <a:lnTo>
                    <a:pt x="306917" y="341701"/>
                  </a:lnTo>
                  <a:lnTo>
                    <a:pt x="117232" y="447295"/>
                  </a:lnTo>
                  <a:lnTo>
                    <a:pt x="189687" y="276443"/>
                  </a:lnTo>
                  <a:close/>
                </a:path>
              </a:pathLst>
            </a:cu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186"/>
          <p:cNvSpPr txBox="1"/>
          <p:nvPr/>
        </p:nvSpPr>
        <p:spPr>
          <a:xfrm>
            <a:off x="611280" y="26028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смический лабирин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0" name="Group 200"/>
          <p:cNvGrpSpPr/>
          <p:nvPr/>
        </p:nvGrpSpPr>
        <p:grpSpPr>
          <a:xfrm>
            <a:off x="539640" y="1219320"/>
            <a:ext cx="8604360" cy="5167080"/>
            <a:chOff x="539640" y="1219320"/>
            <a:chExt cx="8604360" cy="5167080"/>
          </a:xfrm>
        </p:grpSpPr>
        <p:sp>
          <p:nvSpPr>
            <p:cNvPr id="181" name="AutoShape 131"/>
            <p:cNvSpPr/>
            <p:nvPr/>
          </p:nvSpPr>
          <p:spPr>
            <a:xfrm>
              <a:off x="685800" y="1219320"/>
              <a:ext cx="1289160" cy="376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40 :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32"/>
            <p:cNvSpPr/>
            <p:nvPr/>
          </p:nvSpPr>
          <p:spPr>
            <a:xfrm>
              <a:off x="2311560" y="1474920"/>
              <a:ext cx="6141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33"/>
            <p:cNvSpPr/>
            <p:nvPr/>
          </p:nvSpPr>
          <p:spPr>
            <a:xfrm>
              <a:off x="6172200" y="1797120"/>
              <a:ext cx="617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34"/>
            <p:cNvSpPr/>
            <p:nvPr/>
          </p:nvSpPr>
          <p:spPr>
            <a:xfrm>
              <a:off x="6494400" y="2752560"/>
              <a:ext cx="6177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35"/>
            <p:cNvSpPr/>
            <p:nvPr/>
          </p:nvSpPr>
          <p:spPr>
            <a:xfrm>
              <a:off x="5651640" y="3429000"/>
              <a:ext cx="990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36"/>
            <p:cNvSpPr/>
            <p:nvPr/>
          </p:nvSpPr>
          <p:spPr>
            <a:xfrm>
              <a:off x="6300720" y="4292640"/>
              <a:ext cx="9763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37"/>
            <p:cNvSpPr/>
            <p:nvPr/>
          </p:nvSpPr>
          <p:spPr>
            <a:xfrm>
              <a:off x="6300720" y="508464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38"/>
            <p:cNvSpPr/>
            <p:nvPr/>
          </p:nvSpPr>
          <p:spPr>
            <a:xfrm>
              <a:off x="5364000" y="5950080"/>
              <a:ext cx="8985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39"/>
            <p:cNvSpPr/>
            <p:nvPr/>
          </p:nvSpPr>
          <p:spPr>
            <a:xfrm>
              <a:off x="4859280" y="5157720"/>
              <a:ext cx="792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40"/>
            <p:cNvSpPr/>
            <p:nvPr/>
          </p:nvSpPr>
          <p:spPr>
            <a:xfrm>
              <a:off x="4211640" y="3716280"/>
              <a:ext cx="6145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41"/>
            <p:cNvSpPr/>
            <p:nvPr/>
          </p:nvSpPr>
          <p:spPr>
            <a:xfrm>
              <a:off x="3132000" y="3645000"/>
              <a:ext cx="61452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42"/>
            <p:cNvSpPr/>
            <p:nvPr/>
          </p:nvSpPr>
          <p:spPr>
            <a:xfrm>
              <a:off x="2268360" y="5589720"/>
              <a:ext cx="76212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43"/>
            <p:cNvSpPr/>
            <p:nvPr/>
          </p:nvSpPr>
          <p:spPr>
            <a:xfrm>
              <a:off x="2124000" y="278136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44"/>
            <p:cNvSpPr/>
            <p:nvPr/>
          </p:nvSpPr>
          <p:spPr>
            <a:xfrm>
              <a:off x="900000" y="3716280"/>
              <a:ext cx="1035000" cy="4478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45"/>
            <p:cNvSpPr/>
            <p:nvPr/>
          </p:nvSpPr>
          <p:spPr>
            <a:xfrm>
              <a:off x="858960" y="2130480"/>
              <a:ext cx="61740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46"/>
            <p:cNvSpPr/>
            <p:nvPr/>
          </p:nvSpPr>
          <p:spPr>
            <a:xfrm>
              <a:off x="2050920" y="22050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7"/>
            <p:cNvSpPr/>
            <p:nvPr/>
          </p:nvSpPr>
          <p:spPr>
            <a:xfrm>
              <a:off x="5148360" y="2349360"/>
              <a:ext cx="100008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48"/>
            <p:cNvSpPr/>
            <p:nvPr/>
          </p:nvSpPr>
          <p:spPr>
            <a:xfrm>
              <a:off x="4932360" y="443700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х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49"/>
            <p:cNvSpPr/>
            <p:nvPr/>
          </p:nvSpPr>
          <p:spPr>
            <a:xfrm>
              <a:off x="3708360" y="44370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50"/>
            <p:cNvSpPr/>
            <p:nvPr/>
          </p:nvSpPr>
          <p:spPr>
            <a:xfrm>
              <a:off x="3635280" y="299736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1"/>
            <p:cNvSpPr/>
            <p:nvPr/>
          </p:nvSpPr>
          <p:spPr>
            <a:xfrm>
              <a:off x="2050920" y="436572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52"/>
            <p:cNvSpPr/>
            <p:nvPr/>
          </p:nvSpPr>
          <p:spPr>
            <a:xfrm>
              <a:off x="539640" y="292428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3"/>
            <p:cNvSpPr/>
            <p:nvPr/>
          </p:nvSpPr>
          <p:spPr>
            <a:xfrm>
              <a:off x="1979640" y="1341360"/>
              <a:ext cx="28872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54"/>
            <p:cNvSpPr/>
            <p:nvPr/>
          </p:nvSpPr>
          <p:spPr>
            <a:xfrm>
              <a:off x="1071720" y="1666800"/>
              <a:ext cx="2880" cy="4604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55"/>
            <p:cNvSpPr/>
            <p:nvPr/>
          </p:nvSpPr>
          <p:spPr>
            <a:xfrm>
              <a:off x="1041480" y="2577960"/>
              <a:ext cx="92160" cy="3114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56"/>
            <p:cNvSpPr/>
            <p:nvPr/>
          </p:nvSpPr>
          <p:spPr>
            <a:xfrm>
              <a:off x="1336680" y="3319560"/>
              <a:ext cx="141120" cy="385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7"/>
            <p:cNvSpPr/>
            <p:nvPr/>
          </p:nvSpPr>
          <p:spPr>
            <a:xfrm flipV="1">
              <a:off x="1619280" y="2997360"/>
              <a:ext cx="530280" cy="71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58"/>
            <p:cNvSpPr/>
            <p:nvPr/>
          </p:nvSpPr>
          <p:spPr>
            <a:xfrm>
              <a:off x="2639880" y="1870200"/>
              <a:ext cx="60480" cy="279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59"/>
            <p:cNvSpPr/>
            <p:nvPr/>
          </p:nvSpPr>
          <p:spPr>
            <a:xfrm>
              <a:off x="3368520" y="242712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60"/>
            <p:cNvSpPr/>
            <p:nvPr/>
          </p:nvSpPr>
          <p:spPr>
            <a:xfrm>
              <a:off x="3271680" y="147960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1"/>
            <p:cNvSpPr/>
            <p:nvPr/>
          </p:nvSpPr>
          <p:spPr>
            <a:xfrm flipV="1">
              <a:off x="2986200" y="1827000"/>
              <a:ext cx="546120" cy="2998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62"/>
            <p:cNvSpPr/>
            <p:nvPr/>
          </p:nvSpPr>
          <p:spPr>
            <a:xfrm>
              <a:off x="3025800" y="2343240"/>
              <a:ext cx="517680" cy="23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3"/>
            <p:cNvSpPr/>
            <p:nvPr/>
          </p:nvSpPr>
          <p:spPr>
            <a:xfrm flipV="1">
              <a:off x="4356000" y="2491920"/>
              <a:ext cx="720720" cy="730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64"/>
            <p:cNvSpPr/>
            <p:nvPr/>
          </p:nvSpPr>
          <p:spPr>
            <a:xfrm>
              <a:off x="4643280" y="1268280"/>
              <a:ext cx="100044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х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65"/>
            <p:cNvSpPr/>
            <p:nvPr/>
          </p:nvSpPr>
          <p:spPr>
            <a:xfrm flipV="1">
              <a:off x="4140360" y="1413000"/>
              <a:ext cx="502920" cy="2491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6"/>
            <p:cNvSpPr/>
            <p:nvPr/>
          </p:nvSpPr>
          <p:spPr>
            <a:xfrm>
              <a:off x="5651640" y="1484280"/>
              <a:ext cx="771480" cy="306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67"/>
            <p:cNvSpPr/>
            <p:nvPr/>
          </p:nvSpPr>
          <p:spPr>
            <a:xfrm>
              <a:off x="6156360" y="2492280"/>
              <a:ext cx="64764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68"/>
            <p:cNvSpPr/>
            <p:nvPr/>
          </p:nvSpPr>
          <p:spPr>
            <a:xfrm>
              <a:off x="3059280" y="3068640"/>
              <a:ext cx="583920" cy="8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69"/>
            <p:cNvSpPr/>
            <p:nvPr/>
          </p:nvSpPr>
          <p:spPr>
            <a:xfrm>
              <a:off x="4643280" y="3200400"/>
              <a:ext cx="1008360" cy="3729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70"/>
            <p:cNvSpPr/>
            <p:nvPr/>
          </p:nvSpPr>
          <p:spPr>
            <a:xfrm>
              <a:off x="4067280" y="3429000"/>
              <a:ext cx="468360" cy="2570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1"/>
            <p:cNvSpPr/>
            <p:nvPr/>
          </p:nvSpPr>
          <p:spPr>
            <a:xfrm>
              <a:off x="4788000" y="4076640"/>
              <a:ext cx="422280" cy="3016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2"/>
            <p:cNvSpPr/>
            <p:nvPr/>
          </p:nvSpPr>
          <p:spPr>
            <a:xfrm flipV="1">
              <a:off x="6300720" y="5589720"/>
              <a:ext cx="1440000" cy="503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3"/>
            <p:cNvSpPr/>
            <p:nvPr/>
          </p:nvSpPr>
          <p:spPr>
            <a:xfrm flipV="1">
              <a:off x="5940360" y="4541760"/>
              <a:ext cx="374760" cy="396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74"/>
            <p:cNvSpPr/>
            <p:nvPr/>
          </p:nvSpPr>
          <p:spPr>
            <a:xfrm>
              <a:off x="5651640" y="4869000"/>
              <a:ext cx="609480" cy="4842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75"/>
            <p:cNvSpPr/>
            <p:nvPr/>
          </p:nvSpPr>
          <p:spPr>
            <a:xfrm>
              <a:off x="6732720" y="3645000"/>
              <a:ext cx="10461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76"/>
            <p:cNvSpPr/>
            <p:nvPr/>
          </p:nvSpPr>
          <p:spPr>
            <a:xfrm>
              <a:off x="1403280" y="4221000"/>
              <a:ext cx="641520" cy="268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7"/>
            <p:cNvSpPr/>
            <p:nvPr/>
          </p:nvSpPr>
          <p:spPr>
            <a:xfrm flipV="1">
              <a:off x="2627280" y="4005000"/>
              <a:ext cx="500040" cy="269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78"/>
            <p:cNvSpPr/>
            <p:nvPr/>
          </p:nvSpPr>
          <p:spPr>
            <a:xfrm>
              <a:off x="2484360" y="4869000"/>
              <a:ext cx="287280" cy="647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79"/>
            <p:cNvSpPr/>
            <p:nvPr/>
          </p:nvSpPr>
          <p:spPr>
            <a:xfrm>
              <a:off x="3635280" y="4005360"/>
              <a:ext cx="595440" cy="3445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80"/>
            <p:cNvSpPr/>
            <p:nvPr/>
          </p:nvSpPr>
          <p:spPr>
            <a:xfrm>
              <a:off x="2987640" y="5805360"/>
              <a:ext cx="64764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81"/>
            <p:cNvSpPr/>
            <p:nvPr/>
          </p:nvSpPr>
          <p:spPr>
            <a:xfrm>
              <a:off x="4140360" y="4869000"/>
              <a:ext cx="647640" cy="50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82"/>
            <p:cNvSpPr/>
            <p:nvPr/>
          </p:nvSpPr>
          <p:spPr>
            <a:xfrm>
              <a:off x="6804000" y="1989000"/>
              <a:ext cx="1030320" cy="9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3"/>
            <p:cNvSpPr/>
            <p:nvPr/>
          </p:nvSpPr>
          <p:spPr>
            <a:xfrm>
              <a:off x="7164360" y="2924280"/>
              <a:ext cx="6271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84"/>
            <p:cNvSpPr/>
            <p:nvPr/>
          </p:nvSpPr>
          <p:spPr>
            <a:xfrm>
              <a:off x="7380360" y="4508640"/>
              <a:ext cx="4935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85"/>
            <p:cNvSpPr/>
            <p:nvPr/>
          </p:nvSpPr>
          <p:spPr>
            <a:xfrm>
              <a:off x="7236000" y="5229360"/>
              <a:ext cx="5839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87"/>
            <p:cNvSpPr/>
            <p:nvPr/>
          </p:nvSpPr>
          <p:spPr>
            <a:xfrm>
              <a:off x="3635280" y="558972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 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8"/>
            <p:cNvSpPr/>
            <p:nvPr/>
          </p:nvSpPr>
          <p:spPr>
            <a:xfrm>
              <a:off x="4643280" y="5734080"/>
              <a:ext cx="720720" cy="35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94"/>
            <p:cNvSpPr/>
            <p:nvPr/>
          </p:nvSpPr>
          <p:spPr>
            <a:xfrm>
              <a:off x="8031240" y="177336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95"/>
            <p:cNvSpPr/>
            <p:nvPr/>
          </p:nvSpPr>
          <p:spPr>
            <a:xfrm>
              <a:off x="8031240" y="249228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96"/>
            <p:cNvSpPr/>
            <p:nvPr/>
          </p:nvSpPr>
          <p:spPr>
            <a:xfrm>
              <a:off x="8031240" y="350028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97"/>
            <p:cNvSpPr/>
            <p:nvPr/>
          </p:nvSpPr>
          <p:spPr>
            <a:xfrm>
              <a:off x="8031240" y="429264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99"/>
            <p:cNvSpPr/>
            <p:nvPr/>
          </p:nvSpPr>
          <p:spPr>
            <a:xfrm>
              <a:off x="8031240" y="515772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201"/>
          <p:cNvSpPr/>
          <p:nvPr/>
        </p:nvSpPr>
        <p:spPr>
          <a:xfrm>
            <a:off x="7885080" y="1413000"/>
            <a:ext cx="125892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02"/>
          <p:cNvSpPr/>
          <p:nvPr/>
        </p:nvSpPr>
        <p:spPr>
          <a:xfrm>
            <a:off x="7885080" y="2349360"/>
            <a:ext cx="1258920" cy="83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3"/>
          <p:cNvSpPr/>
          <p:nvPr/>
        </p:nvSpPr>
        <p:spPr>
          <a:xfrm>
            <a:off x="7885080" y="3284640"/>
            <a:ext cx="1258920" cy="838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04"/>
          <p:cNvSpPr/>
          <p:nvPr/>
        </p:nvSpPr>
        <p:spPr>
          <a:xfrm>
            <a:off x="7885080" y="4149720"/>
            <a:ext cx="1258920" cy="838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05"/>
          <p:cNvSpPr/>
          <p:nvPr/>
        </p:nvSpPr>
        <p:spPr>
          <a:xfrm>
            <a:off x="7885080" y="5084640"/>
            <a:ext cx="1258920" cy="838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Нижний колонтитул 7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5"/>
          <p:cNvGrpSpPr/>
          <p:nvPr/>
        </p:nvGrpSpPr>
        <p:grpSpPr>
          <a:xfrm>
            <a:off x="539640" y="1219320"/>
            <a:ext cx="8604360" cy="5167080"/>
            <a:chOff x="539640" y="1219320"/>
            <a:chExt cx="8604360" cy="5167080"/>
          </a:xfrm>
        </p:grpSpPr>
        <p:sp>
          <p:nvSpPr>
            <p:cNvPr id="250" name="AutoShape 6"/>
            <p:cNvSpPr/>
            <p:nvPr/>
          </p:nvSpPr>
          <p:spPr>
            <a:xfrm>
              <a:off x="685800" y="1219320"/>
              <a:ext cx="1289160" cy="376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40 :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"/>
            <p:cNvSpPr/>
            <p:nvPr/>
          </p:nvSpPr>
          <p:spPr>
            <a:xfrm>
              <a:off x="2311560" y="1474920"/>
              <a:ext cx="6141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"/>
            <p:cNvSpPr/>
            <p:nvPr/>
          </p:nvSpPr>
          <p:spPr>
            <a:xfrm>
              <a:off x="6172200" y="1797120"/>
              <a:ext cx="617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6494400" y="2752560"/>
              <a:ext cx="6177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5651640" y="3429000"/>
              <a:ext cx="990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300720" y="4292640"/>
              <a:ext cx="9763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300720" y="508464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5364000" y="5950080"/>
              <a:ext cx="8985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4859280" y="5157720"/>
              <a:ext cx="792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5"/>
            <p:cNvSpPr/>
            <p:nvPr/>
          </p:nvSpPr>
          <p:spPr>
            <a:xfrm>
              <a:off x="4211640" y="3716280"/>
              <a:ext cx="6145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6"/>
            <p:cNvSpPr/>
            <p:nvPr/>
          </p:nvSpPr>
          <p:spPr>
            <a:xfrm>
              <a:off x="3132000" y="3645000"/>
              <a:ext cx="61452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2195640" y="5589720"/>
              <a:ext cx="833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2124000" y="278136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900000" y="3716280"/>
              <a:ext cx="1035000" cy="4478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858960" y="2130480"/>
              <a:ext cx="61740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2050920" y="22050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5148360" y="2349360"/>
              <a:ext cx="100008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4932360" y="443700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х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3708360" y="44370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3635280" y="299736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2050920" y="436572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7"/>
            <p:cNvSpPr/>
            <p:nvPr/>
          </p:nvSpPr>
          <p:spPr>
            <a:xfrm>
              <a:off x="539640" y="292428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8"/>
            <p:cNvSpPr/>
            <p:nvPr/>
          </p:nvSpPr>
          <p:spPr>
            <a:xfrm>
              <a:off x="1979640" y="1341360"/>
              <a:ext cx="28872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9"/>
            <p:cNvSpPr/>
            <p:nvPr/>
          </p:nvSpPr>
          <p:spPr>
            <a:xfrm>
              <a:off x="1071720" y="1666800"/>
              <a:ext cx="2880" cy="4604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0"/>
            <p:cNvSpPr/>
            <p:nvPr/>
          </p:nvSpPr>
          <p:spPr>
            <a:xfrm>
              <a:off x="1041480" y="2577960"/>
              <a:ext cx="92160" cy="3114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1"/>
            <p:cNvSpPr/>
            <p:nvPr/>
          </p:nvSpPr>
          <p:spPr>
            <a:xfrm>
              <a:off x="1336680" y="3319560"/>
              <a:ext cx="141120" cy="385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 flipV="1">
              <a:off x="1619280" y="2997360"/>
              <a:ext cx="530280" cy="71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2639880" y="1870200"/>
              <a:ext cx="60480" cy="279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4"/>
            <p:cNvSpPr/>
            <p:nvPr/>
          </p:nvSpPr>
          <p:spPr>
            <a:xfrm>
              <a:off x="3368520" y="242712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5"/>
            <p:cNvSpPr/>
            <p:nvPr/>
          </p:nvSpPr>
          <p:spPr>
            <a:xfrm>
              <a:off x="3271680" y="147960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V="1">
              <a:off x="2986200" y="1827000"/>
              <a:ext cx="546120" cy="2998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7"/>
            <p:cNvSpPr/>
            <p:nvPr/>
          </p:nvSpPr>
          <p:spPr>
            <a:xfrm>
              <a:off x="3025800" y="2343240"/>
              <a:ext cx="517680" cy="23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8"/>
            <p:cNvSpPr/>
            <p:nvPr/>
          </p:nvSpPr>
          <p:spPr>
            <a:xfrm flipV="1">
              <a:off x="4356000" y="2491920"/>
              <a:ext cx="720720" cy="730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9"/>
            <p:cNvSpPr/>
            <p:nvPr/>
          </p:nvSpPr>
          <p:spPr>
            <a:xfrm>
              <a:off x="4643280" y="1268280"/>
              <a:ext cx="100044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х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0"/>
            <p:cNvSpPr/>
            <p:nvPr/>
          </p:nvSpPr>
          <p:spPr>
            <a:xfrm flipV="1">
              <a:off x="4140360" y="1413000"/>
              <a:ext cx="502920" cy="2491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41"/>
            <p:cNvSpPr/>
            <p:nvPr/>
          </p:nvSpPr>
          <p:spPr>
            <a:xfrm>
              <a:off x="5651640" y="1484280"/>
              <a:ext cx="771480" cy="306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42"/>
            <p:cNvSpPr/>
            <p:nvPr/>
          </p:nvSpPr>
          <p:spPr>
            <a:xfrm>
              <a:off x="6156360" y="2492280"/>
              <a:ext cx="64764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43"/>
            <p:cNvSpPr/>
            <p:nvPr/>
          </p:nvSpPr>
          <p:spPr>
            <a:xfrm>
              <a:off x="3059280" y="3068640"/>
              <a:ext cx="583920" cy="8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44"/>
            <p:cNvSpPr/>
            <p:nvPr/>
          </p:nvSpPr>
          <p:spPr>
            <a:xfrm>
              <a:off x="4643280" y="3200400"/>
              <a:ext cx="1008360" cy="3729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45"/>
            <p:cNvSpPr/>
            <p:nvPr/>
          </p:nvSpPr>
          <p:spPr>
            <a:xfrm>
              <a:off x="4067280" y="3429000"/>
              <a:ext cx="468360" cy="2570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6"/>
            <p:cNvSpPr/>
            <p:nvPr/>
          </p:nvSpPr>
          <p:spPr>
            <a:xfrm>
              <a:off x="4788000" y="4076640"/>
              <a:ext cx="422280" cy="3016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7"/>
            <p:cNvSpPr/>
            <p:nvPr/>
          </p:nvSpPr>
          <p:spPr>
            <a:xfrm flipV="1">
              <a:off x="6300720" y="5589720"/>
              <a:ext cx="1440000" cy="503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8"/>
            <p:cNvSpPr/>
            <p:nvPr/>
          </p:nvSpPr>
          <p:spPr>
            <a:xfrm flipV="1">
              <a:off x="5940360" y="4541760"/>
              <a:ext cx="374760" cy="396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9"/>
            <p:cNvSpPr/>
            <p:nvPr/>
          </p:nvSpPr>
          <p:spPr>
            <a:xfrm>
              <a:off x="5651640" y="4869000"/>
              <a:ext cx="609480" cy="4842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0"/>
            <p:cNvSpPr/>
            <p:nvPr/>
          </p:nvSpPr>
          <p:spPr>
            <a:xfrm>
              <a:off x="6732720" y="3645000"/>
              <a:ext cx="10461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>
              <a:off x="1403280" y="4221000"/>
              <a:ext cx="641520" cy="268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52"/>
            <p:cNvSpPr/>
            <p:nvPr/>
          </p:nvSpPr>
          <p:spPr>
            <a:xfrm flipV="1">
              <a:off x="2627280" y="4005000"/>
              <a:ext cx="500040" cy="269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53"/>
            <p:cNvSpPr/>
            <p:nvPr/>
          </p:nvSpPr>
          <p:spPr>
            <a:xfrm>
              <a:off x="2484360" y="4869000"/>
              <a:ext cx="287280" cy="647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54"/>
            <p:cNvSpPr/>
            <p:nvPr/>
          </p:nvSpPr>
          <p:spPr>
            <a:xfrm>
              <a:off x="3635280" y="4005360"/>
              <a:ext cx="595440" cy="3445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55"/>
            <p:cNvSpPr/>
            <p:nvPr/>
          </p:nvSpPr>
          <p:spPr>
            <a:xfrm>
              <a:off x="2987640" y="5805360"/>
              <a:ext cx="64764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56"/>
            <p:cNvSpPr/>
            <p:nvPr/>
          </p:nvSpPr>
          <p:spPr>
            <a:xfrm>
              <a:off x="4140360" y="4869000"/>
              <a:ext cx="647640" cy="50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7"/>
            <p:cNvSpPr/>
            <p:nvPr/>
          </p:nvSpPr>
          <p:spPr>
            <a:xfrm>
              <a:off x="6804000" y="1989000"/>
              <a:ext cx="1030320" cy="9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58"/>
            <p:cNvSpPr/>
            <p:nvPr/>
          </p:nvSpPr>
          <p:spPr>
            <a:xfrm>
              <a:off x="7164360" y="2924280"/>
              <a:ext cx="6271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9"/>
            <p:cNvSpPr/>
            <p:nvPr/>
          </p:nvSpPr>
          <p:spPr>
            <a:xfrm>
              <a:off x="7380360" y="4508640"/>
              <a:ext cx="4935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0"/>
            <p:cNvSpPr/>
            <p:nvPr/>
          </p:nvSpPr>
          <p:spPr>
            <a:xfrm>
              <a:off x="7236000" y="5229360"/>
              <a:ext cx="5839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61"/>
            <p:cNvSpPr/>
            <p:nvPr/>
          </p:nvSpPr>
          <p:spPr>
            <a:xfrm>
              <a:off x="3635280" y="558972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 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62"/>
            <p:cNvSpPr/>
            <p:nvPr/>
          </p:nvSpPr>
          <p:spPr>
            <a:xfrm>
              <a:off x="4643280" y="5734080"/>
              <a:ext cx="720720" cy="35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3"/>
            <p:cNvSpPr/>
            <p:nvPr/>
          </p:nvSpPr>
          <p:spPr>
            <a:xfrm>
              <a:off x="8031240" y="177336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64"/>
            <p:cNvSpPr/>
            <p:nvPr/>
          </p:nvSpPr>
          <p:spPr>
            <a:xfrm>
              <a:off x="8031240" y="249228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65"/>
            <p:cNvSpPr/>
            <p:nvPr/>
          </p:nvSpPr>
          <p:spPr>
            <a:xfrm>
              <a:off x="8031240" y="350028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66"/>
            <p:cNvSpPr/>
            <p:nvPr/>
          </p:nvSpPr>
          <p:spPr>
            <a:xfrm>
              <a:off x="8031240" y="429264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67"/>
            <p:cNvSpPr/>
            <p:nvPr/>
          </p:nvSpPr>
          <p:spPr>
            <a:xfrm>
              <a:off x="8031240" y="515772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68"/>
          <p:cNvSpPr/>
          <p:nvPr/>
        </p:nvSpPr>
        <p:spPr>
          <a:xfrm>
            <a:off x="7885080" y="4941720"/>
            <a:ext cx="125892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9"/>
          <p:cNvSpPr/>
          <p:nvPr/>
        </p:nvSpPr>
        <p:spPr>
          <a:xfrm>
            <a:off x="7885080" y="4076640"/>
            <a:ext cx="125892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0"/>
          <p:cNvSpPr/>
          <p:nvPr/>
        </p:nvSpPr>
        <p:spPr>
          <a:xfrm>
            <a:off x="7885080" y="3141720"/>
            <a:ext cx="125892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2"/>
          <p:cNvSpPr/>
          <p:nvPr/>
        </p:nvSpPr>
        <p:spPr>
          <a:xfrm>
            <a:off x="7885080" y="2276640"/>
            <a:ext cx="125892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186"/>
          <p:cNvSpPr txBox="1"/>
          <p:nvPr/>
        </p:nvSpPr>
        <p:spPr>
          <a:xfrm>
            <a:off x="684360" y="260280"/>
            <a:ext cx="792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смический лабиринт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Стрелка вверх 70"/>
          <p:cNvSpPr/>
          <p:nvPr/>
        </p:nvSpPr>
        <p:spPr>
          <a:xfrm>
            <a:off x="179280" y="5950080"/>
            <a:ext cx="505080" cy="647640"/>
          </a:xfrm>
          <a:prstGeom prst="up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130"/>
          <p:cNvGrpSpPr/>
          <p:nvPr/>
        </p:nvGrpSpPr>
        <p:grpSpPr>
          <a:xfrm>
            <a:off x="539640" y="1197000"/>
            <a:ext cx="8604360" cy="5167080"/>
            <a:chOff x="539640" y="1197000"/>
            <a:chExt cx="8604360" cy="5167080"/>
          </a:xfrm>
        </p:grpSpPr>
        <p:sp>
          <p:nvSpPr>
            <p:cNvPr id="320" name="AutoShape 131"/>
            <p:cNvSpPr/>
            <p:nvPr/>
          </p:nvSpPr>
          <p:spPr>
            <a:xfrm>
              <a:off x="685800" y="1197000"/>
              <a:ext cx="1289160" cy="376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40 :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32"/>
            <p:cNvSpPr/>
            <p:nvPr/>
          </p:nvSpPr>
          <p:spPr>
            <a:xfrm>
              <a:off x="2311560" y="1452600"/>
              <a:ext cx="6141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33"/>
            <p:cNvSpPr/>
            <p:nvPr/>
          </p:nvSpPr>
          <p:spPr>
            <a:xfrm>
              <a:off x="6172200" y="1774800"/>
              <a:ext cx="617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34"/>
            <p:cNvSpPr/>
            <p:nvPr/>
          </p:nvSpPr>
          <p:spPr>
            <a:xfrm>
              <a:off x="6494400" y="2730240"/>
              <a:ext cx="6177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35"/>
            <p:cNvSpPr/>
            <p:nvPr/>
          </p:nvSpPr>
          <p:spPr>
            <a:xfrm>
              <a:off x="5651640" y="3406680"/>
              <a:ext cx="990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36"/>
            <p:cNvSpPr/>
            <p:nvPr/>
          </p:nvSpPr>
          <p:spPr>
            <a:xfrm>
              <a:off x="6300720" y="4270320"/>
              <a:ext cx="9763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7"/>
            <p:cNvSpPr/>
            <p:nvPr/>
          </p:nvSpPr>
          <p:spPr>
            <a:xfrm>
              <a:off x="6300720" y="506232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38"/>
            <p:cNvSpPr/>
            <p:nvPr/>
          </p:nvSpPr>
          <p:spPr>
            <a:xfrm>
              <a:off x="5364000" y="5927760"/>
              <a:ext cx="8985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39"/>
            <p:cNvSpPr/>
            <p:nvPr/>
          </p:nvSpPr>
          <p:spPr>
            <a:xfrm>
              <a:off x="4859280" y="5135400"/>
              <a:ext cx="792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40"/>
            <p:cNvSpPr/>
            <p:nvPr/>
          </p:nvSpPr>
          <p:spPr>
            <a:xfrm>
              <a:off x="4211640" y="3693960"/>
              <a:ext cx="6145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41"/>
            <p:cNvSpPr/>
            <p:nvPr/>
          </p:nvSpPr>
          <p:spPr>
            <a:xfrm>
              <a:off x="3132000" y="3622680"/>
              <a:ext cx="61452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42"/>
            <p:cNvSpPr/>
            <p:nvPr/>
          </p:nvSpPr>
          <p:spPr>
            <a:xfrm>
              <a:off x="2411280" y="5567400"/>
              <a:ext cx="6177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43"/>
            <p:cNvSpPr/>
            <p:nvPr/>
          </p:nvSpPr>
          <p:spPr>
            <a:xfrm>
              <a:off x="2124000" y="275904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44"/>
            <p:cNvSpPr/>
            <p:nvPr/>
          </p:nvSpPr>
          <p:spPr>
            <a:xfrm>
              <a:off x="900000" y="3693960"/>
              <a:ext cx="1035000" cy="4478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45"/>
            <p:cNvSpPr/>
            <p:nvPr/>
          </p:nvSpPr>
          <p:spPr>
            <a:xfrm>
              <a:off x="858960" y="2108160"/>
              <a:ext cx="61740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46"/>
            <p:cNvSpPr/>
            <p:nvPr/>
          </p:nvSpPr>
          <p:spPr>
            <a:xfrm>
              <a:off x="2050920" y="218268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47"/>
            <p:cNvSpPr/>
            <p:nvPr/>
          </p:nvSpPr>
          <p:spPr>
            <a:xfrm>
              <a:off x="5148360" y="2327040"/>
              <a:ext cx="100008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48"/>
            <p:cNvSpPr/>
            <p:nvPr/>
          </p:nvSpPr>
          <p:spPr>
            <a:xfrm>
              <a:off x="4932360" y="441468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х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49"/>
            <p:cNvSpPr/>
            <p:nvPr/>
          </p:nvSpPr>
          <p:spPr>
            <a:xfrm>
              <a:off x="3708360" y="441468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50"/>
            <p:cNvSpPr/>
            <p:nvPr/>
          </p:nvSpPr>
          <p:spPr>
            <a:xfrm>
              <a:off x="3635280" y="297504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51"/>
            <p:cNvSpPr/>
            <p:nvPr/>
          </p:nvSpPr>
          <p:spPr>
            <a:xfrm>
              <a:off x="2050920" y="434340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52"/>
            <p:cNvSpPr/>
            <p:nvPr/>
          </p:nvSpPr>
          <p:spPr>
            <a:xfrm>
              <a:off x="539640" y="290196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53"/>
            <p:cNvSpPr/>
            <p:nvPr/>
          </p:nvSpPr>
          <p:spPr>
            <a:xfrm>
              <a:off x="1979640" y="1319040"/>
              <a:ext cx="28872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54"/>
            <p:cNvSpPr/>
            <p:nvPr/>
          </p:nvSpPr>
          <p:spPr>
            <a:xfrm>
              <a:off x="1071720" y="1644480"/>
              <a:ext cx="2880" cy="4604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55"/>
            <p:cNvSpPr/>
            <p:nvPr/>
          </p:nvSpPr>
          <p:spPr>
            <a:xfrm>
              <a:off x="1041480" y="2555640"/>
              <a:ext cx="92160" cy="3114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56"/>
            <p:cNvSpPr/>
            <p:nvPr/>
          </p:nvSpPr>
          <p:spPr>
            <a:xfrm>
              <a:off x="1336680" y="3297240"/>
              <a:ext cx="141120" cy="385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57"/>
            <p:cNvSpPr/>
            <p:nvPr/>
          </p:nvSpPr>
          <p:spPr>
            <a:xfrm flipV="1">
              <a:off x="1619280" y="2975040"/>
              <a:ext cx="530280" cy="71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58"/>
            <p:cNvSpPr/>
            <p:nvPr/>
          </p:nvSpPr>
          <p:spPr>
            <a:xfrm>
              <a:off x="2639880" y="1847880"/>
              <a:ext cx="60480" cy="279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59"/>
            <p:cNvSpPr/>
            <p:nvPr/>
          </p:nvSpPr>
          <p:spPr>
            <a:xfrm>
              <a:off x="3368520" y="240480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60"/>
            <p:cNvSpPr/>
            <p:nvPr/>
          </p:nvSpPr>
          <p:spPr>
            <a:xfrm>
              <a:off x="3271680" y="145728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61"/>
            <p:cNvSpPr/>
            <p:nvPr/>
          </p:nvSpPr>
          <p:spPr>
            <a:xfrm flipV="1">
              <a:off x="2986200" y="1804680"/>
              <a:ext cx="546120" cy="2998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62"/>
            <p:cNvSpPr/>
            <p:nvPr/>
          </p:nvSpPr>
          <p:spPr>
            <a:xfrm>
              <a:off x="3025800" y="2320920"/>
              <a:ext cx="517680" cy="23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63"/>
            <p:cNvSpPr/>
            <p:nvPr/>
          </p:nvSpPr>
          <p:spPr>
            <a:xfrm flipV="1">
              <a:off x="4356000" y="2469600"/>
              <a:ext cx="720720" cy="730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64"/>
            <p:cNvSpPr/>
            <p:nvPr/>
          </p:nvSpPr>
          <p:spPr>
            <a:xfrm>
              <a:off x="4643280" y="1245960"/>
              <a:ext cx="100044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х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65"/>
            <p:cNvSpPr/>
            <p:nvPr/>
          </p:nvSpPr>
          <p:spPr>
            <a:xfrm flipV="1">
              <a:off x="4140360" y="1390680"/>
              <a:ext cx="502920" cy="2491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6"/>
            <p:cNvSpPr/>
            <p:nvPr/>
          </p:nvSpPr>
          <p:spPr>
            <a:xfrm>
              <a:off x="5651640" y="1461960"/>
              <a:ext cx="771480" cy="306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67"/>
            <p:cNvSpPr/>
            <p:nvPr/>
          </p:nvSpPr>
          <p:spPr>
            <a:xfrm>
              <a:off x="6156360" y="2469960"/>
              <a:ext cx="64764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68"/>
            <p:cNvSpPr/>
            <p:nvPr/>
          </p:nvSpPr>
          <p:spPr>
            <a:xfrm>
              <a:off x="3059280" y="3046320"/>
              <a:ext cx="583920" cy="8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69"/>
            <p:cNvSpPr/>
            <p:nvPr/>
          </p:nvSpPr>
          <p:spPr>
            <a:xfrm>
              <a:off x="4643280" y="3178080"/>
              <a:ext cx="1008360" cy="3729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70"/>
            <p:cNvSpPr/>
            <p:nvPr/>
          </p:nvSpPr>
          <p:spPr>
            <a:xfrm>
              <a:off x="4067280" y="3406680"/>
              <a:ext cx="468360" cy="2570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71"/>
            <p:cNvSpPr/>
            <p:nvPr/>
          </p:nvSpPr>
          <p:spPr>
            <a:xfrm>
              <a:off x="4788000" y="4054320"/>
              <a:ext cx="422280" cy="3016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72"/>
            <p:cNvSpPr/>
            <p:nvPr/>
          </p:nvSpPr>
          <p:spPr>
            <a:xfrm flipV="1">
              <a:off x="6300720" y="5567400"/>
              <a:ext cx="1440000" cy="503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73"/>
            <p:cNvSpPr/>
            <p:nvPr/>
          </p:nvSpPr>
          <p:spPr>
            <a:xfrm flipV="1">
              <a:off x="5940360" y="4519440"/>
              <a:ext cx="374760" cy="396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74"/>
            <p:cNvSpPr/>
            <p:nvPr/>
          </p:nvSpPr>
          <p:spPr>
            <a:xfrm>
              <a:off x="5651640" y="4846680"/>
              <a:ext cx="609480" cy="4842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75"/>
            <p:cNvSpPr/>
            <p:nvPr/>
          </p:nvSpPr>
          <p:spPr>
            <a:xfrm>
              <a:off x="6732720" y="3622680"/>
              <a:ext cx="10461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76"/>
            <p:cNvSpPr/>
            <p:nvPr/>
          </p:nvSpPr>
          <p:spPr>
            <a:xfrm>
              <a:off x="1403280" y="4198680"/>
              <a:ext cx="641520" cy="268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77"/>
            <p:cNvSpPr/>
            <p:nvPr/>
          </p:nvSpPr>
          <p:spPr>
            <a:xfrm flipV="1">
              <a:off x="2627280" y="3982680"/>
              <a:ext cx="500040" cy="269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78"/>
            <p:cNvSpPr/>
            <p:nvPr/>
          </p:nvSpPr>
          <p:spPr>
            <a:xfrm>
              <a:off x="2484360" y="4846680"/>
              <a:ext cx="287280" cy="647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79"/>
            <p:cNvSpPr/>
            <p:nvPr/>
          </p:nvSpPr>
          <p:spPr>
            <a:xfrm>
              <a:off x="3635280" y="3983040"/>
              <a:ext cx="595440" cy="3445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80"/>
            <p:cNvSpPr/>
            <p:nvPr/>
          </p:nvSpPr>
          <p:spPr>
            <a:xfrm>
              <a:off x="2987640" y="5783040"/>
              <a:ext cx="64764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81"/>
            <p:cNvSpPr/>
            <p:nvPr/>
          </p:nvSpPr>
          <p:spPr>
            <a:xfrm>
              <a:off x="4140360" y="4846680"/>
              <a:ext cx="647640" cy="50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2"/>
            <p:cNvSpPr/>
            <p:nvPr/>
          </p:nvSpPr>
          <p:spPr>
            <a:xfrm>
              <a:off x="6804000" y="1966680"/>
              <a:ext cx="1030320" cy="9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83"/>
            <p:cNvSpPr/>
            <p:nvPr/>
          </p:nvSpPr>
          <p:spPr>
            <a:xfrm>
              <a:off x="7164360" y="2901960"/>
              <a:ext cx="6271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84"/>
            <p:cNvSpPr/>
            <p:nvPr/>
          </p:nvSpPr>
          <p:spPr>
            <a:xfrm>
              <a:off x="7380360" y="4486320"/>
              <a:ext cx="4935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85"/>
            <p:cNvSpPr/>
            <p:nvPr/>
          </p:nvSpPr>
          <p:spPr>
            <a:xfrm>
              <a:off x="7236000" y="5207040"/>
              <a:ext cx="5839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86"/>
            <p:cNvSpPr/>
            <p:nvPr/>
          </p:nvSpPr>
          <p:spPr>
            <a:xfrm>
              <a:off x="3635280" y="55674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 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87"/>
            <p:cNvSpPr/>
            <p:nvPr/>
          </p:nvSpPr>
          <p:spPr>
            <a:xfrm>
              <a:off x="4643280" y="5711760"/>
              <a:ext cx="720720" cy="35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88"/>
            <p:cNvSpPr/>
            <p:nvPr/>
          </p:nvSpPr>
          <p:spPr>
            <a:xfrm>
              <a:off x="8031240" y="175104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89"/>
            <p:cNvSpPr/>
            <p:nvPr/>
          </p:nvSpPr>
          <p:spPr>
            <a:xfrm>
              <a:off x="8031240" y="246996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90"/>
            <p:cNvSpPr/>
            <p:nvPr/>
          </p:nvSpPr>
          <p:spPr>
            <a:xfrm>
              <a:off x="8031240" y="347796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91"/>
            <p:cNvSpPr/>
            <p:nvPr/>
          </p:nvSpPr>
          <p:spPr>
            <a:xfrm>
              <a:off x="8031240" y="427032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92"/>
            <p:cNvSpPr/>
            <p:nvPr/>
          </p:nvSpPr>
          <p:spPr>
            <a:xfrm>
              <a:off x="8031240" y="513540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93"/>
          <p:cNvGrpSpPr/>
          <p:nvPr/>
        </p:nvGrpSpPr>
        <p:grpSpPr>
          <a:xfrm>
            <a:off x="539640" y="1197000"/>
            <a:ext cx="8604360" cy="5167080"/>
            <a:chOff x="539640" y="1197000"/>
            <a:chExt cx="8604360" cy="5167080"/>
          </a:xfrm>
        </p:grpSpPr>
        <p:sp>
          <p:nvSpPr>
            <p:cNvPr id="383" name="AutoShape 194"/>
            <p:cNvSpPr/>
            <p:nvPr/>
          </p:nvSpPr>
          <p:spPr>
            <a:xfrm>
              <a:off x="685800" y="1197000"/>
              <a:ext cx="1289160" cy="376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40 :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95"/>
            <p:cNvSpPr/>
            <p:nvPr/>
          </p:nvSpPr>
          <p:spPr>
            <a:xfrm>
              <a:off x="2311560" y="1452600"/>
              <a:ext cx="6141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96"/>
            <p:cNvSpPr/>
            <p:nvPr/>
          </p:nvSpPr>
          <p:spPr>
            <a:xfrm>
              <a:off x="6172200" y="1774800"/>
              <a:ext cx="617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97"/>
            <p:cNvSpPr/>
            <p:nvPr/>
          </p:nvSpPr>
          <p:spPr>
            <a:xfrm>
              <a:off x="6494400" y="2730240"/>
              <a:ext cx="6177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98"/>
            <p:cNvSpPr/>
            <p:nvPr/>
          </p:nvSpPr>
          <p:spPr>
            <a:xfrm>
              <a:off x="5651640" y="3406680"/>
              <a:ext cx="990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99"/>
            <p:cNvSpPr/>
            <p:nvPr/>
          </p:nvSpPr>
          <p:spPr>
            <a:xfrm>
              <a:off x="6300720" y="4270320"/>
              <a:ext cx="9763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00"/>
            <p:cNvSpPr/>
            <p:nvPr/>
          </p:nvSpPr>
          <p:spPr>
            <a:xfrm>
              <a:off x="6300720" y="506232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01"/>
            <p:cNvSpPr/>
            <p:nvPr/>
          </p:nvSpPr>
          <p:spPr>
            <a:xfrm>
              <a:off x="5364000" y="5927760"/>
              <a:ext cx="8985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02"/>
            <p:cNvSpPr/>
            <p:nvPr/>
          </p:nvSpPr>
          <p:spPr>
            <a:xfrm>
              <a:off x="4859280" y="5135400"/>
              <a:ext cx="792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03"/>
            <p:cNvSpPr/>
            <p:nvPr/>
          </p:nvSpPr>
          <p:spPr>
            <a:xfrm>
              <a:off x="4211640" y="3693960"/>
              <a:ext cx="6145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04"/>
            <p:cNvSpPr/>
            <p:nvPr/>
          </p:nvSpPr>
          <p:spPr>
            <a:xfrm>
              <a:off x="3132000" y="3622680"/>
              <a:ext cx="61452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05"/>
            <p:cNvSpPr/>
            <p:nvPr/>
          </p:nvSpPr>
          <p:spPr>
            <a:xfrm>
              <a:off x="2195640" y="5567400"/>
              <a:ext cx="833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06"/>
            <p:cNvSpPr/>
            <p:nvPr/>
          </p:nvSpPr>
          <p:spPr>
            <a:xfrm>
              <a:off x="2124000" y="275904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07"/>
            <p:cNvSpPr/>
            <p:nvPr/>
          </p:nvSpPr>
          <p:spPr>
            <a:xfrm>
              <a:off x="900000" y="3693960"/>
              <a:ext cx="1035000" cy="4478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08"/>
            <p:cNvSpPr/>
            <p:nvPr/>
          </p:nvSpPr>
          <p:spPr>
            <a:xfrm>
              <a:off x="858960" y="2108160"/>
              <a:ext cx="61740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09"/>
            <p:cNvSpPr/>
            <p:nvPr/>
          </p:nvSpPr>
          <p:spPr>
            <a:xfrm>
              <a:off x="2050920" y="218268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10"/>
            <p:cNvSpPr/>
            <p:nvPr/>
          </p:nvSpPr>
          <p:spPr>
            <a:xfrm>
              <a:off x="5148360" y="2327040"/>
              <a:ext cx="100008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11"/>
            <p:cNvSpPr/>
            <p:nvPr/>
          </p:nvSpPr>
          <p:spPr>
            <a:xfrm>
              <a:off x="4932360" y="441468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х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12"/>
            <p:cNvSpPr/>
            <p:nvPr/>
          </p:nvSpPr>
          <p:spPr>
            <a:xfrm>
              <a:off x="3708360" y="441468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13"/>
            <p:cNvSpPr/>
            <p:nvPr/>
          </p:nvSpPr>
          <p:spPr>
            <a:xfrm>
              <a:off x="3635280" y="297504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14"/>
            <p:cNvSpPr/>
            <p:nvPr/>
          </p:nvSpPr>
          <p:spPr>
            <a:xfrm>
              <a:off x="2050920" y="434340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15"/>
            <p:cNvSpPr/>
            <p:nvPr/>
          </p:nvSpPr>
          <p:spPr>
            <a:xfrm>
              <a:off x="539640" y="290196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16"/>
            <p:cNvSpPr/>
            <p:nvPr/>
          </p:nvSpPr>
          <p:spPr>
            <a:xfrm>
              <a:off x="1979640" y="1319040"/>
              <a:ext cx="28872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17"/>
            <p:cNvSpPr/>
            <p:nvPr/>
          </p:nvSpPr>
          <p:spPr>
            <a:xfrm>
              <a:off x="1071720" y="1644480"/>
              <a:ext cx="2880" cy="4604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18"/>
            <p:cNvSpPr/>
            <p:nvPr/>
          </p:nvSpPr>
          <p:spPr>
            <a:xfrm>
              <a:off x="1041480" y="2555640"/>
              <a:ext cx="92160" cy="3114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19"/>
            <p:cNvSpPr/>
            <p:nvPr/>
          </p:nvSpPr>
          <p:spPr>
            <a:xfrm>
              <a:off x="1336680" y="3297240"/>
              <a:ext cx="141120" cy="385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20"/>
            <p:cNvSpPr/>
            <p:nvPr/>
          </p:nvSpPr>
          <p:spPr>
            <a:xfrm flipV="1">
              <a:off x="1619280" y="2975040"/>
              <a:ext cx="530280" cy="71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21"/>
            <p:cNvSpPr/>
            <p:nvPr/>
          </p:nvSpPr>
          <p:spPr>
            <a:xfrm>
              <a:off x="2639880" y="1847880"/>
              <a:ext cx="60480" cy="279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222"/>
            <p:cNvSpPr/>
            <p:nvPr/>
          </p:nvSpPr>
          <p:spPr>
            <a:xfrm>
              <a:off x="3368520" y="240480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223"/>
            <p:cNvSpPr/>
            <p:nvPr/>
          </p:nvSpPr>
          <p:spPr>
            <a:xfrm>
              <a:off x="3271680" y="145728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24"/>
            <p:cNvSpPr/>
            <p:nvPr/>
          </p:nvSpPr>
          <p:spPr>
            <a:xfrm flipV="1">
              <a:off x="2986200" y="1804680"/>
              <a:ext cx="546120" cy="2998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5"/>
            <p:cNvSpPr/>
            <p:nvPr/>
          </p:nvSpPr>
          <p:spPr>
            <a:xfrm>
              <a:off x="3025800" y="2320920"/>
              <a:ext cx="517680" cy="23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26"/>
            <p:cNvSpPr/>
            <p:nvPr/>
          </p:nvSpPr>
          <p:spPr>
            <a:xfrm flipV="1">
              <a:off x="4356000" y="2469600"/>
              <a:ext cx="720720" cy="730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27"/>
            <p:cNvSpPr/>
            <p:nvPr/>
          </p:nvSpPr>
          <p:spPr>
            <a:xfrm>
              <a:off x="4643280" y="1245960"/>
              <a:ext cx="100044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х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28"/>
            <p:cNvSpPr/>
            <p:nvPr/>
          </p:nvSpPr>
          <p:spPr>
            <a:xfrm flipV="1">
              <a:off x="4140360" y="1390680"/>
              <a:ext cx="502920" cy="2491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29"/>
            <p:cNvSpPr/>
            <p:nvPr/>
          </p:nvSpPr>
          <p:spPr>
            <a:xfrm>
              <a:off x="5651640" y="1461960"/>
              <a:ext cx="771480" cy="306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0"/>
            <p:cNvSpPr/>
            <p:nvPr/>
          </p:nvSpPr>
          <p:spPr>
            <a:xfrm>
              <a:off x="6156360" y="2469960"/>
              <a:ext cx="64764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31"/>
            <p:cNvSpPr/>
            <p:nvPr/>
          </p:nvSpPr>
          <p:spPr>
            <a:xfrm>
              <a:off x="3059280" y="3046320"/>
              <a:ext cx="583920" cy="8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32"/>
            <p:cNvSpPr/>
            <p:nvPr/>
          </p:nvSpPr>
          <p:spPr>
            <a:xfrm>
              <a:off x="4643280" y="3178080"/>
              <a:ext cx="1008360" cy="3729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33"/>
            <p:cNvSpPr/>
            <p:nvPr/>
          </p:nvSpPr>
          <p:spPr>
            <a:xfrm>
              <a:off x="4067280" y="3406680"/>
              <a:ext cx="468360" cy="2570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34"/>
            <p:cNvSpPr/>
            <p:nvPr/>
          </p:nvSpPr>
          <p:spPr>
            <a:xfrm>
              <a:off x="4788000" y="4054320"/>
              <a:ext cx="422280" cy="3016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35"/>
            <p:cNvSpPr/>
            <p:nvPr/>
          </p:nvSpPr>
          <p:spPr>
            <a:xfrm flipV="1">
              <a:off x="6300720" y="5567400"/>
              <a:ext cx="1440000" cy="503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236"/>
            <p:cNvSpPr/>
            <p:nvPr/>
          </p:nvSpPr>
          <p:spPr>
            <a:xfrm flipV="1">
              <a:off x="5940360" y="4519440"/>
              <a:ext cx="374760" cy="396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37"/>
            <p:cNvSpPr/>
            <p:nvPr/>
          </p:nvSpPr>
          <p:spPr>
            <a:xfrm>
              <a:off x="5651640" y="4846680"/>
              <a:ext cx="609480" cy="4842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38"/>
            <p:cNvSpPr/>
            <p:nvPr/>
          </p:nvSpPr>
          <p:spPr>
            <a:xfrm>
              <a:off x="6732720" y="3622680"/>
              <a:ext cx="10461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39"/>
            <p:cNvSpPr/>
            <p:nvPr/>
          </p:nvSpPr>
          <p:spPr>
            <a:xfrm>
              <a:off x="1403280" y="4198680"/>
              <a:ext cx="641520" cy="268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40"/>
            <p:cNvSpPr/>
            <p:nvPr/>
          </p:nvSpPr>
          <p:spPr>
            <a:xfrm flipV="1">
              <a:off x="2627280" y="3982680"/>
              <a:ext cx="500040" cy="269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41"/>
            <p:cNvSpPr/>
            <p:nvPr/>
          </p:nvSpPr>
          <p:spPr>
            <a:xfrm>
              <a:off x="2484360" y="4846680"/>
              <a:ext cx="287280" cy="647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42"/>
            <p:cNvSpPr/>
            <p:nvPr/>
          </p:nvSpPr>
          <p:spPr>
            <a:xfrm>
              <a:off x="3635280" y="3983040"/>
              <a:ext cx="595440" cy="3445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43"/>
            <p:cNvSpPr/>
            <p:nvPr/>
          </p:nvSpPr>
          <p:spPr>
            <a:xfrm>
              <a:off x="2987640" y="5783040"/>
              <a:ext cx="64764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44"/>
            <p:cNvSpPr/>
            <p:nvPr/>
          </p:nvSpPr>
          <p:spPr>
            <a:xfrm>
              <a:off x="4140360" y="4846680"/>
              <a:ext cx="647640" cy="50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45"/>
            <p:cNvSpPr/>
            <p:nvPr/>
          </p:nvSpPr>
          <p:spPr>
            <a:xfrm>
              <a:off x="6804000" y="1966680"/>
              <a:ext cx="1030320" cy="9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46"/>
            <p:cNvSpPr/>
            <p:nvPr/>
          </p:nvSpPr>
          <p:spPr>
            <a:xfrm>
              <a:off x="7164360" y="2901960"/>
              <a:ext cx="6271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47"/>
            <p:cNvSpPr/>
            <p:nvPr/>
          </p:nvSpPr>
          <p:spPr>
            <a:xfrm>
              <a:off x="7380360" y="4486320"/>
              <a:ext cx="4935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48"/>
            <p:cNvSpPr/>
            <p:nvPr/>
          </p:nvSpPr>
          <p:spPr>
            <a:xfrm>
              <a:off x="7236000" y="5207040"/>
              <a:ext cx="5839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249"/>
            <p:cNvSpPr/>
            <p:nvPr/>
          </p:nvSpPr>
          <p:spPr>
            <a:xfrm>
              <a:off x="3635280" y="55674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 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250"/>
            <p:cNvSpPr/>
            <p:nvPr/>
          </p:nvSpPr>
          <p:spPr>
            <a:xfrm>
              <a:off x="4643280" y="5711760"/>
              <a:ext cx="720720" cy="35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251"/>
            <p:cNvSpPr/>
            <p:nvPr/>
          </p:nvSpPr>
          <p:spPr>
            <a:xfrm>
              <a:off x="8031240" y="175104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252"/>
            <p:cNvSpPr/>
            <p:nvPr/>
          </p:nvSpPr>
          <p:spPr>
            <a:xfrm>
              <a:off x="8031240" y="246996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253"/>
            <p:cNvSpPr/>
            <p:nvPr/>
          </p:nvSpPr>
          <p:spPr>
            <a:xfrm>
              <a:off x="8031240" y="347796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54"/>
            <p:cNvSpPr/>
            <p:nvPr/>
          </p:nvSpPr>
          <p:spPr>
            <a:xfrm>
              <a:off x="8031240" y="427032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255"/>
            <p:cNvSpPr/>
            <p:nvPr/>
          </p:nvSpPr>
          <p:spPr>
            <a:xfrm>
              <a:off x="8031240" y="513540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65"/>
          <p:cNvSpPr/>
          <p:nvPr/>
        </p:nvSpPr>
        <p:spPr>
          <a:xfrm>
            <a:off x="7885080" y="1413000"/>
            <a:ext cx="125892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6"/>
          <p:cNvSpPr/>
          <p:nvPr/>
        </p:nvSpPr>
        <p:spPr>
          <a:xfrm>
            <a:off x="7885080" y="3213000"/>
            <a:ext cx="125892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7"/>
          <p:cNvSpPr/>
          <p:nvPr/>
        </p:nvSpPr>
        <p:spPr>
          <a:xfrm>
            <a:off x="7885080" y="4076640"/>
            <a:ext cx="1258920" cy="8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8"/>
          <p:cNvSpPr/>
          <p:nvPr/>
        </p:nvSpPr>
        <p:spPr>
          <a:xfrm>
            <a:off x="7885080" y="4941720"/>
            <a:ext cx="1258920" cy="83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186"/>
          <p:cNvSpPr txBox="1"/>
          <p:nvPr/>
        </p:nvSpPr>
        <p:spPr>
          <a:xfrm>
            <a:off x="611280" y="260280"/>
            <a:ext cx="79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смический лабиринт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Стрелка вверх 134"/>
          <p:cNvSpPr/>
          <p:nvPr/>
        </p:nvSpPr>
        <p:spPr>
          <a:xfrm>
            <a:off x="468360" y="5516640"/>
            <a:ext cx="431640" cy="79200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ижний колонтитул 1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Line 125"/>
          <p:cNvSpPr/>
          <p:nvPr/>
        </p:nvSpPr>
        <p:spPr>
          <a:xfrm>
            <a:off x="7380360" y="4508640"/>
            <a:ext cx="493560" cy="0"/>
          </a:xfrm>
          <a:prstGeom prst="line">
            <a:avLst/>
          </a:prstGeom>
          <a:ln w="38160">
            <a:solidFill>
              <a:srgbClr val="f39c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Группа 72"/>
          <p:cNvGrpSpPr/>
          <p:nvPr/>
        </p:nvGrpSpPr>
        <p:grpSpPr>
          <a:xfrm>
            <a:off x="539640" y="1219320"/>
            <a:ext cx="7294680" cy="5167080"/>
            <a:chOff x="539640" y="1219320"/>
            <a:chExt cx="7294680" cy="5167080"/>
          </a:xfrm>
        </p:grpSpPr>
        <p:sp>
          <p:nvSpPr>
            <p:cNvPr id="454" name="AutoShape 72"/>
            <p:cNvSpPr/>
            <p:nvPr/>
          </p:nvSpPr>
          <p:spPr>
            <a:xfrm>
              <a:off x="685440" y="1219320"/>
              <a:ext cx="1288800" cy="376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40 :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73"/>
            <p:cNvSpPr/>
            <p:nvPr/>
          </p:nvSpPr>
          <p:spPr>
            <a:xfrm>
              <a:off x="2311200" y="1474560"/>
              <a:ext cx="6141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74"/>
            <p:cNvSpPr/>
            <p:nvPr/>
          </p:nvSpPr>
          <p:spPr>
            <a:xfrm>
              <a:off x="6172200" y="1797120"/>
              <a:ext cx="617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75"/>
            <p:cNvSpPr/>
            <p:nvPr/>
          </p:nvSpPr>
          <p:spPr>
            <a:xfrm>
              <a:off x="6494400" y="2752560"/>
              <a:ext cx="617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76"/>
            <p:cNvSpPr/>
            <p:nvPr/>
          </p:nvSpPr>
          <p:spPr>
            <a:xfrm>
              <a:off x="5651640" y="3429000"/>
              <a:ext cx="9903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77"/>
            <p:cNvSpPr/>
            <p:nvPr/>
          </p:nvSpPr>
          <p:spPr>
            <a:xfrm>
              <a:off x="6300720" y="4292640"/>
              <a:ext cx="97632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78"/>
            <p:cNvSpPr/>
            <p:nvPr/>
          </p:nvSpPr>
          <p:spPr>
            <a:xfrm>
              <a:off x="6300720" y="5084640"/>
              <a:ext cx="94428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79"/>
            <p:cNvSpPr/>
            <p:nvPr/>
          </p:nvSpPr>
          <p:spPr>
            <a:xfrm>
              <a:off x="5364360" y="5950080"/>
              <a:ext cx="8985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0"/>
            <p:cNvSpPr/>
            <p:nvPr/>
          </p:nvSpPr>
          <p:spPr>
            <a:xfrm>
              <a:off x="4859280" y="5157720"/>
              <a:ext cx="7920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1"/>
            <p:cNvSpPr/>
            <p:nvPr/>
          </p:nvSpPr>
          <p:spPr>
            <a:xfrm>
              <a:off x="4211640" y="3716280"/>
              <a:ext cx="6141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2"/>
            <p:cNvSpPr/>
            <p:nvPr/>
          </p:nvSpPr>
          <p:spPr>
            <a:xfrm>
              <a:off x="3132000" y="3645000"/>
              <a:ext cx="6141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3"/>
            <p:cNvSpPr/>
            <p:nvPr/>
          </p:nvSpPr>
          <p:spPr>
            <a:xfrm>
              <a:off x="2124000" y="5589720"/>
              <a:ext cx="90468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4"/>
            <p:cNvSpPr/>
            <p:nvPr/>
          </p:nvSpPr>
          <p:spPr>
            <a:xfrm>
              <a:off x="2124000" y="2781360"/>
              <a:ext cx="94428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5"/>
            <p:cNvSpPr/>
            <p:nvPr/>
          </p:nvSpPr>
          <p:spPr>
            <a:xfrm>
              <a:off x="900000" y="3716280"/>
              <a:ext cx="1035000" cy="4474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6"/>
            <p:cNvSpPr/>
            <p:nvPr/>
          </p:nvSpPr>
          <p:spPr>
            <a:xfrm>
              <a:off x="858600" y="2130480"/>
              <a:ext cx="617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87"/>
            <p:cNvSpPr/>
            <p:nvPr/>
          </p:nvSpPr>
          <p:spPr>
            <a:xfrm>
              <a:off x="2050920" y="22050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88"/>
            <p:cNvSpPr/>
            <p:nvPr/>
          </p:nvSpPr>
          <p:spPr>
            <a:xfrm>
              <a:off x="5148360" y="234936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89"/>
            <p:cNvSpPr/>
            <p:nvPr/>
          </p:nvSpPr>
          <p:spPr>
            <a:xfrm>
              <a:off x="4932360" y="443700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х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0"/>
            <p:cNvSpPr/>
            <p:nvPr/>
          </p:nvSpPr>
          <p:spPr>
            <a:xfrm>
              <a:off x="3708360" y="44370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1"/>
            <p:cNvSpPr/>
            <p:nvPr/>
          </p:nvSpPr>
          <p:spPr>
            <a:xfrm>
              <a:off x="3635280" y="299736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2"/>
            <p:cNvSpPr/>
            <p:nvPr/>
          </p:nvSpPr>
          <p:spPr>
            <a:xfrm>
              <a:off x="2050920" y="436572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3"/>
            <p:cNvSpPr/>
            <p:nvPr/>
          </p:nvSpPr>
          <p:spPr>
            <a:xfrm>
              <a:off x="539640" y="292428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94"/>
            <p:cNvSpPr/>
            <p:nvPr/>
          </p:nvSpPr>
          <p:spPr>
            <a:xfrm>
              <a:off x="1979280" y="1341360"/>
              <a:ext cx="288720" cy="215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95"/>
            <p:cNvSpPr/>
            <p:nvPr/>
          </p:nvSpPr>
          <p:spPr>
            <a:xfrm>
              <a:off x="1071360" y="1666800"/>
              <a:ext cx="2880" cy="4600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96"/>
            <p:cNvSpPr/>
            <p:nvPr/>
          </p:nvSpPr>
          <p:spPr>
            <a:xfrm>
              <a:off x="1041120" y="2577960"/>
              <a:ext cx="91800" cy="3110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97"/>
            <p:cNvSpPr/>
            <p:nvPr/>
          </p:nvSpPr>
          <p:spPr>
            <a:xfrm>
              <a:off x="1336320" y="3319560"/>
              <a:ext cx="141120" cy="385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98"/>
            <p:cNvSpPr/>
            <p:nvPr/>
          </p:nvSpPr>
          <p:spPr>
            <a:xfrm flipV="1">
              <a:off x="1618920" y="2997360"/>
              <a:ext cx="529920" cy="71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99"/>
            <p:cNvSpPr/>
            <p:nvPr/>
          </p:nvSpPr>
          <p:spPr>
            <a:xfrm>
              <a:off x="2639880" y="1870200"/>
              <a:ext cx="60120" cy="279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0"/>
            <p:cNvSpPr/>
            <p:nvPr/>
          </p:nvSpPr>
          <p:spPr>
            <a:xfrm>
              <a:off x="3368520" y="2427120"/>
              <a:ext cx="94428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01"/>
            <p:cNvSpPr/>
            <p:nvPr/>
          </p:nvSpPr>
          <p:spPr>
            <a:xfrm>
              <a:off x="3271680" y="1479600"/>
              <a:ext cx="94428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02"/>
            <p:cNvSpPr/>
            <p:nvPr/>
          </p:nvSpPr>
          <p:spPr>
            <a:xfrm flipV="1">
              <a:off x="2985840" y="1826640"/>
              <a:ext cx="546120" cy="2998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03"/>
            <p:cNvSpPr/>
            <p:nvPr/>
          </p:nvSpPr>
          <p:spPr>
            <a:xfrm>
              <a:off x="3025800" y="2343240"/>
              <a:ext cx="517320" cy="23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04"/>
            <p:cNvSpPr/>
            <p:nvPr/>
          </p:nvSpPr>
          <p:spPr>
            <a:xfrm flipV="1">
              <a:off x="4356000" y="2492280"/>
              <a:ext cx="720720" cy="72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05"/>
            <p:cNvSpPr/>
            <p:nvPr/>
          </p:nvSpPr>
          <p:spPr>
            <a:xfrm>
              <a:off x="4643280" y="126828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х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06"/>
            <p:cNvSpPr/>
            <p:nvPr/>
          </p:nvSpPr>
          <p:spPr>
            <a:xfrm flipV="1">
              <a:off x="4140000" y="1412640"/>
              <a:ext cx="502920" cy="2491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07"/>
            <p:cNvSpPr/>
            <p:nvPr/>
          </p:nvSpPr>
          <p:spPr>
            <a:xfrm>
              <a:off x="5651640" y="1484280"/>
              <a:ext cx="771480" cy="306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08"/>
            <p:cNvSpPr/>
            <p:nvPr/>
          </p:nvSpPr>
          <p:spPr>
            <a:xfrm>
              <a:off x="6156360" y="2492280"/>
              <a:ext cx="647640" cy="215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09"/>
            <p:cNvSpPr/>
            <p:nvPr/>
          </p:nvSpPr>
          <p:spPr>
            <a:xfrm>
              <a:off x="3058920" y="3068640"/>
              <a:ext cx="583920" cy="88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10"/>
            <p:cNvSpPr/>
            <p:nvPr/>
          </p:nvSpPr>
          <p:spPr>
            <a:xfrm>
              <a:off x="4643280" y="3200400"/>
              <a:ext cx="1008000" cy="3729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11"/>
            <p:cNvSpPr/>
            <p:nvPr/>
          </p:nvSpPr>
          <p:spPr>
            <a:xfrm>
              <a:off x="4067280" y="3429000"/>
              <a:ext cx="468000" cy="2570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12"/>
            <p:cNvSpPr/>
            <p:nvPr/>
          </p:nvSpPr>
          <p:spPr>
            <a:xfrm>
              <a:off x="4788000" y="4076640"/>
              <a:ext cx="422280" cy="3013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13"/>
            <p:cNvSpPr/>
            <p:nvPr/>
          </p:nvSpPr>
          <p:spPr>
            <a:xfrm flipV="1">
              <a:off x="6300720" y="5589360"/>
              <a:ext cx="1439640" cy="502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14"/>
            <p:cNvSpPr/>
            <p:nvPr/>
          </p:nvSpPr>
          <p:spPr>
            <a:xfrm flipV="1">
              <a:off x="5940360" y="4541760"/>
              <a:ext cx="374400" cy="396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15"/>
            <p:cNvSpPr/>
            <p:nvPr/>
          </p:nvSpPr>
          <p:spPr>
            <a:xfrm>
              <a:off x="5651640" y="4869000"/>
              <a:ext cx="609480" cy="4838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16"/>
            <p:cNvSpPr/>
            <p:nvPr/>
          </p:nvSpPr>
          <p:spPr>
            <a:xfrm>
              <a:off x="6732720" y="3645000"/>
              <a:ext cx="10461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117"/>
            <p:cNvSpPr/>
            <p:nvPr/>
          </p:nvSpPr>
          <p:spPr>
            <a:xfrm>
              <a:off x="1403280" y="4221000"/>
              <a:ext cx="641160" cy="2682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18"/>
            <p:cNvSpPr/>
            <p:nvPr/>
          </p:nvSpPr>
          <p:spPr>
            <a:xfrm flipV="1">
              <a:off x="2627280" y="4005000"/>
              <a:ext cx="500040" cy="269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19"/>
            <p:cNvSpPr/>
            <p:nvPr/>
          </p:nvSpPr>
          <p:spPr>
            <a:xfrm>
              <a:off x="2484360" y="4869000"/>
              <a:ext cx="287280" cy="647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20"/>
            <p:cNvSpPr/>
            <p:nvPr/>
          </p:nvSpPr>
          <p:spPr>
            <a:xfrm>
              <a:off x="3635280" y="4005360"/>
              <a:ext cx="595080" cy="3441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21"/>
            <p:cNvSpPr/>
            <p:nvPr/>
          </p:nvSpPr>
          <p:spPr>
            <a:xfrm>
              <a:off x="2987640" y="5805720"/>
              <a:ext cx="64764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22"/>
            <p:cNvSpPr/>
            <p:nvPr/>
          </p:nvSpPr>
          <p:spPr>
            <a:xfrm>
              <a:off x="4140000" y="4869000"/>
              <a:ext cx="647640" cy="50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23"/>
            <p:cNvSpPr/>
            <p:nvPr/>
          </p:nvSpPr>
          <p:spPr>
            <a:xfrm>
              <a:off x="6804000" y="1989000"/>
              <a:ext cx="1030320" cy="9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24"/>
            <p:cNvSpPr/>
            <p:nvPr/>
          </p:nvSpPr>
          <p:spPr>
            <a:xfrm>
              <a:off x="7164360" y="2924280"/>
              <a:ext cx="6267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26"/>
            <p:cNvSpPr/>
            <p:nvPr/>
          </p:nvSpPr>
          <p:spPr>
            <a:xfrm>
              <a:off x="7236000" y="5229360"/>
              <a:ext cx="5839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27"/>
            <p:cNvSpPr/>
            <p:nvPr/>
          </p:nvSpPr>
          <p:spPr>
            <a:xfrm>
              <a:off x="3635280" y="558972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 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28"/>
            <p:cNvSpPr/>
            <p:nvPr/>
          </p:nvSpPr>
          <p:spPr>
            <a:xfrm>
              <a:off x="4643280" y="5734080"/>
              <a:ext cx="720720" cy="358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129"/>
          <p:cNvSpPr/>
          <p:nvPr/>
        </p:nvSpPr>
        <p:spPr>
          <a:xfrm>
            <a:off x="8031240" y="1773360"/>
            <a:ext cx="1112760" cy="407880"/>
          </a:xfrm>
          <a:prstGeom prst="rect">
            <a:avLst/>
          </a:prstGeom>
          <a:solidFill>
            <a:srgbClr val="ffff99"/>
          </a:solidFill>
          <a:ln w="38160">
            <a:solidFill>
              <a:srgbClr val="f39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уп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0"/>
          <p:cNvSpPr/>
          <p:nvPr/>
        </p:nvSpPr>
        <p:spPr>
          <a:xfrm>
            <a:off x="8031240" y="2492280"/>
            <a:ext cx="1112760" cy="408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39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уп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1"/>
          <p:cNvSpPr/>
          <p:nvPr/>
        </p:nvSpPr>
        <p:spPr>
          <a:xfrm>
            <a:off x="8031240" y="3500280"/>
            <a:ext cx="1112760" cy="408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39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уп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2"/>
          <p:cNvSpPr/>
          <p:nvPr/>
        </p:nvSpPr>
        <p:spPr>
          <a:xfrm>
            <a:off x="8031240" y="4292640"/>
            <a:ext cx="1112760" cy="407880"/>
          </a:xfrm>
          <a:prstGeom prst="rect">
            <a:avLst/>
          </a:prstGeom>
          <a:solidFill>
            <a:srgbClr val="ffff99"/>
          </a:solidFill>
          <a:ln w="38160">
            <a:solidFill>
              <a:srgbClr val="f39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3"/>
          <p:cNvSpPr/>
          <p:nvPr/>
        </p:nvSpPr>
        <p:spPr>
          <a:xfrm>
            <a:off x="8031240" y="5157720"/>
            <a:ext cx="1112760" cy="407880"/>
          </a:xfrm>
          <a:prstGeom prst="rect">
            <a:avLst/>
          </a:prstGeom>
          <a:solidFill>
            <a:srgbClr val="ffff99"/>
          </a:solidFill>
          <a:ln w="38160">
            <a:solidFill>
              <a:srgbClr val="f39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уп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5"/>
          <p:cNvSpPr/>
          <p:nvPr/>
        </p:nvSpPr>
        <p:spPr>
          <a:xfrm>
            <a:off x="7885080" y="1600200"/>
            <a:ext cx="125892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6"/>
          <p:cNvSpPr/>
          <p:nvPr/>
        </p:nvSpPr>
        <p:spPr>
          <a:xfrm>
            <a:off x="7885080" y="2492280"/>
            <a:ext cx="125892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8"/>
          <p:cNvSpPr/>
          <p:nvPr/>
        </p:nvSpPr>
        <p:spPr>
          <a:xfrm>
            <a:off x="7956720" y="4941720"/>
            <a:ext cx="1187280" cy="8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7"/>
          <p:cNvSpPr/>
          <p:nvPr/>
        </p:nvSpPr>
        <p:spPr>
          <a:xfrm>
            <a:off x="7956720" y="4038480"/>
            <a:ext cx="1187280" cy="83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WordArt 186"/>
          <p:cNvSpPr txBox="1"/>
          <p:nvPr/>
        </p:nvSpPr>
        <p:spPr>
          <a:xfrm>
            <a:off x="611280" y="189000"/>
            <a:ext cx="792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смический лабиринт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Стрелка вверх 71"/>
          <p:cNvSpPr/>
          <p:nvPr/>
        </p:nvSpPr>
        <p:spPr>
          <a:xfrm>
            <a:off x="179280" y="5732640"/>
            <a:ext cx="432000" cy="720720"/>
          </a:xfrm>
          <a:prstGeom prst="up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Нижний колонтитул 7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71"/>
          <p:cNvGrpSpPr/>
          <p:nvPr/>
        </p:nvGrpSpPr>
        <p:grpSpPr>
          <a:xfrm>
            <a:off x="539640" y="1197000"/>
            <a:ext cx="8604360" cy="5167080"/>
            <a:chOff x="539640" y="1197000"/>
            <a:chExt cx="8604360" cy="5167080"/>
          </a:xfrm>
        </p:grpSpPr>
        <p:sp>
          <p:nvSpPr>
            <p:cNvPr id="523" name="AutoShape 72"/>
            <p:cNvSpPr/>
            <p:nvPr/>
          </p:nvSpPr>
          <p:spPr>
            <a:xfrm>
              <a:off x="685800" y="1197000"/>
              <a:ext cx="1289160" cy="376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40 :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73"/>
            <p:cNvSpPr/>
            <p:nvPr/>
          </p:nvSpPr>
          <p:spPr>
            <a:xfrm>
              <a:off x="2311560" y="1452600"/>
              <a:ext cx="6141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74"/>
            <p:cNvSpPr/>
            <p:nvPr/>
          </p:nvSpPr>
          <p:spPr>
            <a:xfrm>
              <a:off x="6172200" y="1774800"/>
              <a:ext cx="617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75"/>
            <p:cNvSpPr/>
            <p:nvPr/>
          </p:nvSpPr>
          <p:spPr>
            <a:xfrm>
              <a:off x="6494400" y="2730240"/>
              <a:ext cx="6177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76"/>
            <p:cNvSpPr/>
            <p:nvPr/>
          </p:nvSpPr>
          <p:spPr>
            <a:xfrm>
              <a:off x="5651640" y="3406680"/>
              <a:ext cx="990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77"/>
            <p:cNvSpPr/>
            <p:nvPr/>
          </p:nvSpPr>
          <p:spPr>
            <a:xfrm>
              <a:off x="6300720" y="4270320"/>
              <a:ext cx="9763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78"/>
            <p:cNvSpPr/>
            <p:nvPr/>
          </p:nvSpPr>
          <p:spPr>
            <a:xfrm>
              <a:off x="6300720" y="506232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79"/>
            <p:cNvSpPr/>
            <p:nvPr/>
          </p:nvSpPr>
          <p:spPr>
            <a:xfrm>
              <a:off x="5364000" y="5927760"/>
              <a:ext cx="8985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80"/>
            <p:cNvSpPr/>
            <p:nvPr/>
          </p:nvSpPr>
          <p:spPr>
            <a:xfrm>
              <a:off x="4859280" y="5135400"/>
              <a:ext cx="792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81"/>
            <p:cNvSpPr/>
            <p:nvPr/>
          </p:nvSpPr>
          <p:spPr>
            <a:xfrm>
              <a:off x="4211640" y="3693960"/>
              <a:ext cx="6145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82"/>
            <p:cNvSpPr/>
            <p:nvPr/>
          </p:nvSpPr>
          <p:spPr>
            <a:xfrm>
              <a:off x="3132000" y="3622680"/>
              <a:ext cx="61452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83"/>
            <p:cNvSpPr/>
            <p:nvPr/>
          </p:nvSpPr>
          <p:spPr>
            <a:xfrm>
              <a:off x="2195640" y="5567400"/>
              <a:ext cx="833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84"/>
            <p:cNvSpPr/>
            <p:nvPr/>
          </p:nvSpPr>
          <p:spPr>
            <a:xfrm>
              <a:off x="2124000" y="275904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85"/>
            <p:cNvSpPr/>
            <p:nvPr/>
          </p:nvSpPr>
          <p:spPr>
            <a:xfrm>
              <a:off x="900000" y="3693960"/>
              <a:ext cx="1035000" cy="4478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86"/>
            <p:cNvSpPr/>
            <p:nvPr/>
          </p:nvSpPr>
          <p:spPr>
            <a:xfrm>
              <a:off x="858960" y="2108160"/>
              <a:ext cx="61740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87"/>
            <p:cNvSpPr/>
            <p:nvPr/>
          </p:nvSpPr>
          <p:spPr>
            <a:xfrm>
              <a:off x="2050920" y="218268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88"/>
            <p:cNvSpPr/>
            <p:nvPr/>
          </p:nvSpPr>
          <p:spPr>
            <a:xfrm>
              <a:off x="5148360" y="2327040"/>
              <a:ext cx="100008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89"/>
            <p:cNvSpPr/>
            <p:nvPr/>
          </p:nvSpPr>
          <p:spPr>
            <a:xfrm>
              <a:off x="4932360" y="441468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х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90"/>
            <p:cNvSpPr/>
            <p:nvPr/>
          </p:nvSpPr>
          <p:spPr>
            <a:xfrm>
              <a:off x="3708360" y="441468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91"/>
            <p:cNvSpPr/>
            <p:nvPr/>
          </p:nvSpPr>
          <p:spPr>
            <a:xfrm>
              <a:off x="3635280" y="297504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92"/>
            <p:cNvSpPr/>
            <p:nvPr/>
          </p:nvSpPr>
          <p:spPr>
            <a:xfrm>
              <a:off x="2050920" y="434340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93"/>
            <p:cNvSpPr/>
            <p:nvPr/>
          </p:nvSpPr>
          <p:spPr>
            <a:xfrm>
              <a:off x="539640" y="290196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1979640" y="1319040"/>
              <a:ext cx="28872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1071720" y="1644480"/>
              <a:ext cx="2880" cy="4604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1041480" y="2555640"/>
              <a:ext cx="92160" cy="3114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1336680" y="3297240"/>
              <a:ext cx="141120" cy="385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 flipV="1">
              <a:off x="1619280" y="2975040"/>
              <a:ext cx="530280" cy="71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2639880" y="1847880"/>
              <a:ext cx="60480" cy="279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00"/>
            <p:cNvSpPr/>
            <p:nvPr/>
          </p:nvSpPr>
          <p:spPr>
            <a:xfrm>
              <a:off x="3368520" y="240480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01"/>
            <p:cNvSpPr/>
            <p:nvPr/>
          </p:nvSpPr>
          <p:spPr>
            <a:xfrm>
              <a:off x="3271680" y="145728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02"/>
            <p:cNvSpPr/>
            <p:nvPr/>
          </p:nvSpPr>
          <p:spPr>
            <a:xfrm flipV="1">
              <a:off x="2986200" y="1804680"/>
              <a:ext cx="546120" cy="2998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03"/>
            <p:cNvSpPr/>
            <p:nvPr/>
          </p:nvSpPr>
          <p:spPr>
            <a:xfrm>
              <a:off x="3025800" y="2320920"/>
              <a:ext cx="517680" cy="23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04"/>
            <p:cNvSpPr/>
            <p:nvPr/>
          </p:nvSpPr>
          <p:spPr>
            <a:xfrm flipV="1">
              <a:off x="4356000" y="2469600"/>
              <a:ext cx="720720" cy="730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05"/>
            <p:cNvSpPr/>
            <p:nvPr/>
          </p:nvSpPr>
          <p:spPr>
            <a:xfrm>
              <a:off x="4643280" y="1245960"/>
              <a:ext cx="100044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х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06"/>
            <p:cNvSpPr/>
            <p:nvPr/>
          </p:nvSpPr>
          <p:spPr>
            <a:xfrm flipV="1">
              <a:off x="4140360" y="1390680"/>
              <a:ext cx="502920" cy="2491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07"/>
            <p:cNvSpPr/>
            <p:nvPr/>
          </p:nvSpPr>
          <p:spPr>
            <a:xfrm>
              <a:off x="5651640" y="1461960"/>
              <a:ext cx="771480" cy="306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08"/>
            <p:cNvSpPr/>
            <p:nvPr/>
          </p:nvSpPr>
          <p:spPr>
            <a:xfrm>
              <a:off x="6156360" y="2469960"/>
              <a:ext cx="64764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09"/>
            <p:cNvSpPr/>
            <p:nvPr/>
          </p:nvSpPr>
          <p:spPr>
            <a:xfrm>
              <a:off x="3059280" y="3046320"/>
              <a:ext cx="583920" cy="8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10"/>
            <p:cNvSpPr/>
            <p:nvPr/>
          </p:nvSpPr>
          <p:spPr>
            <a:xfrm>
              <a:off x="4643280" y="3178080"/>
              <a:ext cx="1008360" cy="3729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11"/>
            <p:cNvSpPr/>
            <p:nvPr/>
          </p:nvSpPr>
          <p:spPr>
            <a:xfrm>
              <a:off x="4067280" y="3406680"/>
              <a:ext cx="468360" cy="2570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12"/>
            <p:cNvSpPr/>
            <p:nvPr/>
          </p:nvSpPr>
          <p:spPr>
            <a:xfrm>
              <a:off x="4788000" y="4054320"/>
              <a:ext cx="422280" cy="3016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13"/>
            <p:cNvSpPr/>
            <p:nvPr/>
          </p:nvSpPr>
          <p:spPr>
            <a:xfrm flipV="1">
              <a:off x="6300720" y="5567400"/>
              <a:ext cx="1440000" cy="503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14"/>
            <p:cNvSpPr/>
            <p:nvPr/>
          </p:nvSpPr>
          <p:spPr>
            <a:xfrm flipV="1">
              <a:off x="5940360" y="4519440"/>
              <a:ext cx="374760" cy="396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15"/>
            <p:cNvSpPr/>
            <p:nvPr/>
          </p:nvSpPr>
          <p:spPr>
            <a:xfrm>
              <a:off x="5651640" y="4846680"/>
              <a:ext cx="609480" cy="4842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16"/>
            <p:cNvSpPr/>
            <p:nvPr/>
          </p:nvSpPr>
          <p:spPr>
            <a:xfrm>
              <a:off x="6732720" y="3622680"/>
              <a:ext cx="10461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17"/>
            <p:cNvSpPr/>
            <p:nvPr/>
          </p:nvSpPr>
          <p:spPr>
            <a:xfrm>
              <a:off x="1403280" y="4198680"/>
              <a:ext cx="641520" cy="268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18"/>
            <p:cNvSpPr/>
            <p:nvPr/>
          </p:nvSpPr>
          <p:spPr>
            <a:xfrm flipV="1">
              <a:off x="2627280" y="3982680"/>
              <a:ext cx="500040" cy="269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19"/>
            <p:cNvSpPr/>
            <p:nvPr/>
          </p:nvSpPr>
          <p:spPr>
            <a:xfrm>
              <a:off x="2484360" y="4846680"/>
              <a:ext cx="287280" cy="647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20"/>
            <p:cNvSpPr/>
            <p:nvPr/>
          </p:nvSpPr>
          <p:spPr>
            <a:xfrm>
              <a:off x="3635280" y="3983040"/>
              <a:ext cx="595440" cy="3445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21"/>
            <p:cNvSpPr/>
            <p:nvPr/>
          </p:nvSpPr>
          <p:spPr>
            <a:xfrm>
              <a:off x="2987640" y="5783040"/>
              <a:ext cx="64764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22"/>
            <p:cNvSpPr/>
            <p:nvPr/>
          </p:nvSpPr>
          <p:spPr>
            <a:xfrm>
              <a:off x="4140360" y="4846680"/>
              <a:ext cx="647640" cy="50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3"/>
            <p:cNvSpPr/>
            <p:nvPr/>
          </p:nvSpPr>
          <p:spPr>
            <a:xfrm>
              <a:off x="6804000" y="1966680"/>
              <a:ext cx="1030320" cy="9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24"/>
            <p:cNvSpPr/>
            <p:nvPr/>
          </p:nvSpPr>
          <p:spPr>
            <a:xfrm>
              <a:off x="7164360" y="2901960"/>
              <a:ext cx="6271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25"/>
            <p:cNvSpPr/>
            <p:nvPr/>
          </p:nvSpPr>
          <p:spPr>
            <a:xfrm>
              <a:off x="7380360" y="4486320"/>
              <a:ext cx="4935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26"/>
            <p:cNvSpPr/>
            <p:nvPr/>
          </p:nvSpPr>
          <p:spPr>
            <a:xfrm>
              <a:off x="7236000" y="5207040"/>
              <a:ext cx="5839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27"/>
            <p:cNvSpPr/>
            <p:nvPr/>
          </p:nvSpPr>
          <p:spPr>
            <a:xfrm>
              <a:off x="3635280" y="55674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 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28"/>
            <p:cNvSpPr/>
            <p:nvPr/>
          </p:nvSpPr>
          <p:spPr>
            <a:xfrm>
              <a:off x="4643280" y="5711760"/>
              <a:ext cx="720720" cy="35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29"/>
            <p:cNvSpPr/>
            <p:nvPr/>
          </p:nvSpPr>
          <p:spPr>
            <a:xfrm>
              <a:off x="8031240" y="175104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30"/>
            <p:cNvSpPr/>
            <p:nvPr/>
          </p:nvSpPr>
          <p:spPr>
            <a:xfrm>
              <a:off x="8031240" y="246996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31"/>
            <p:cNvSpPr/>
            <p:nvPr/>
          </p:nvSpPr>
          <p:spPr>
            <a:xfrm>
              <a:off x="8031240" y="347796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32"/>
            <p:cNvSpPr/>
            <p:nvPr/>
          </p:nvSpPr>
          <p:spPr>
            <a:xfrm>
              <a:off x="8031240" y="427032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33"/>
            <p:cNvSpPr/>
            <p:nvPr/>
          </p:nvSpPr>
          <p:spPr>
            <a:xfrm>
              <a:off x="8031240" y="513540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65"/>
          <p:cNvSpPr/>
          <p:nvPr/>
        </p:nvSpPr>
        <p:spPr>
          <a:xfrm>
            <a:off x="7956720" y="1341360"/>
            <a:ext cx="118728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6"/>
          <p:cNvSpPr/>
          <p:nvPr/>
        </p:nvSpPr>
        <p:spPr>
          <a:xfrm>
            <a:off x="7956720" y="2205000"/>
            <a:ext cx="11872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7"/>
          <p:cNvSpPr/>
          <p:nvPr/>
        </p:nvSpPr>
        <p:spPr>
          <a:xfrm>
            <a:off x="7956720" y="3068640"/>
            <a:ext cx="118728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68"/>
          <p:cNvSpPr/>
          <p:nvPr/>
        </p:nvSpPr>
        <p:spPr>
          <a:xfrm>
            <a:off x="7885080" y="4800600"/>
            <a:ext cx="125892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WordArt 186"/>
          <p:cNvSpPr txBox="1"/>
          <p:nvPr/>
        </p:nvSpPr>
        <p:spPr>
          <a:xfrm>
            <a:off x="684360" y="189000"/>
            <a:ext cx="7920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смический лабиринт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Стрелка вниз 71"/>
          <p:cNvSpPr/>
          <p:nvPr/>
        </p:nvSpPr>
        <p:spPr>
          <a:xfrm>
            <a:off x="539640" y="5877000"/>
            <a:ext cx="432000" cy="72072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71"/>
          <p:cNvGrpSpPr/>
          <p:nvPr/>
        </p:nvGrpSpPr>
        <p:grpSpPr>
          <a:xfrm>
            <a:off x="539640" y="1219320"/>
            <a:ext cx="8604360" cy="5167080"/>
            <a:chOff x="539640" y="1219320"/>
            <a:chExt cx="8604360" cy="5167080"/>
          </a:xfrm>
        </p:grpSpPr>
        <p:sp>
          <p:nvSpPr>
            <p:cNvPr id="593" name="AutoShape 72"/>
            <p:cNvSpPr/>
            <p:nvPr/>
          </p:nvSpPr>
          <p:spPr>
            <a:xfrm>
              <a:off x="685800" y="1219320"/>
              <a:ext cx="1289160" cy="376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40 :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73"/>
            <p:cNvSpPr/>
            <p:nvPr/>
          </p:nvSpPr>
          <p:spPr>
            <a:xfrm>
              <a:off x="2311560" y="1474920"/>
              <a:ext cx="6141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74"/>
            <p:cNvSpPr/>
            <p:nvPr/>
          </p:nvSpPr>
          <p:spPr>
            <a:xfrm>
              <a:off x="6172200" y="1797120"/>
              <a:ext cx="61740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75"/>
            <p:cNvSpPr/>
            <p:nvPr/>
          </p:nvSpPr>
          <p:spPr>
            <a:xfrm>
              <a:off x="6494400" y="2752560"/>
              <a:ext cx="6177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76"/>
            <p:cNvSpPr/>
            <p:nvPr/>
          </p:nvSpPr>
          <p:spPr>
            <a:xfrm>
              <a:off x="5651640" y="3429000"/>
              <a:ext cx="990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77"/>
            <p:cNvSpPr/>
            <p:nvPr/>
          </p:nvSpPr>
          <p:spPr>
            <a:xfrm>
              <a:off x="6300720" y="4292640"/>
              <a:ext cx="9763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78"/>
            <p:cNvSpPr/>
            <p:nvPr/>
          </p:nvSpPr>
          <p:spPr>
            <a:xfrm>
              <a:off x="6300720" y="508464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9"/>
            <p:cNvSpPr/>
            <p:nvPr/>
          </p:nvSpPr>
          <p:spPr>
            <a:xfrm>
              <a:off x="5364000" y="5950080"/>
              <a:ext cx="89856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0"/>
            <p:cNvSpPr/>
            <p:nvPr/>
          </p:nvSpPr>
          <p:spPr>
            <a:xfrm>
              <a:off x="4859280" y="5157720"/>
              <a:ext cx="79236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81"/>
            <p:cNvSpPr/>
            <p:nvPr/>
          </p:nvSpPr>
          <p:spPr>
            <a:xfrm>
              <a:off x="4211640" y="3716280"/>
              <a:ext cx="61452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82"/>
            <p:cNvSpPr/>
            <p:nvPr/>
          </p:nvSpPr>
          <p:spPr>
            <a:xfrm>
              <a:off x="3132000" y="3645000"/>
              <a:ext cx="61452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83"/>
            <p:cNvSpPr/>
            <p:nvPr/>
          </p:nvSpPr>
          <p:spPr>
            <a:xfrm>
              <a:off x="2340000" y="5589720"/>
              <a:ext cx="689040" cy="436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84"/>
            <p:cNvSpPr/>
            <p:nvPr/>
          </p:nvSpPr>
          <p:spPr>
            <a:xfrm>
              <a:off x="2124000" y="278136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85"/>
            <p:cNvSpPr/>
            <p:nvPr/>
          </p:nvSpPr>
          <p:spPr>
            <a:xfrm>
              <a:off x="900000" y="3716280"/>
              <a:ext cx="1035000" cy="4478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86"/>
            <p:cNvSpPr/>
            <p:nvPr/>
          </p:nvSpPr>
          <p:spPr>
            <a:xfrm>
              <a:off x="858960" y="2130480"/>
              <a:ext cx="61740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87"/>
            <p:cNvSpPr/>
            <p:nvPr/>
          </p:nvSpPr>
          <p:spPr>
            <a:xfrm>
              <a:off x="2050920" y="22050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88"/>
            <p:cNvSpPr/>
            <p:nvPr/>
          </p:nvSpPr>
          <p:spPr>
            <a:xfrm>
              <a:off x="5148360" y="2349360"/>
              <a:ext cx="100008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89"/>
            <p:cNvSpPr/>
            <p:nvPr/>
          </p:nvSpPr>
          <p:spPr>
            <a:xfrm>
              <a:off x="4932360" y="443700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х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90"/>
            <p:cNvSpPr/>
            <p:nvPr/>
          </p:nvSpPr>
          <p:spPr>
            <a:xfrm>
              <a:off x="3708360" y="443700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91"/>
            <p:cNvSpPr/>
            <p:nvPr/>
          </p:nvSpPr>
          <p:spPr>
            <a:xfrm>
              <a:off x="3635280" y="299736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: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92"/>
            <p:cNvSpPr/>
            <p:nvPr/>
          </p:nvSpPr>
          <p:spPr>
            <a:xfrm>
              <a:off x="2050920" y="436572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93"/>
            <p:cNvSpPr/>
            <p:nvPr/>
          </p:nvSpPr>
          <p:spPr>
            <a:xfrm>
              <a:off x="539640" y="2924280"/>
              <a:ext cx="100008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+ 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>
              <a:off x="1979640" y="1341360"/>
              <a:ext cx="28872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95"/>
            <p:cNvSpPr/>
            <p:nvPr/>
          </p:nvSpPr>
          <p:spPr>
            <a:xfrm>
              <a:off x="1071720" y="1666800"/>
              <a:ext cx="2880" cy="4604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96"/>
            <p:cNvSpPr/>
            <p:nvPr/>
          </p:nvSpPr>
          <p:spPr>
            <a:xfrm>
              <a:off x="1041480" y="2577960"/>
              <a:ext cx="92160" cy="3114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97"/>
            <p:cNvSpPr/>
            <p:nvPr/>
          </p:nvSpPr>
          <p:spPr>
            <a:xfrm>
              <a:off x="1336680" y="3319560"/>
              <a:ext cx="141120" cy="385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98"/>
            <p:cNvSpPr/>
            <p:nvPr/>
          </p:nvSpPr>
          <p:spPr>
            <a:xfrm flipV="1">
              <a:off x="1619280" y="2997360"/>
              <a:ext cx="530280" cy="71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99"/>
            <p:cNvSpPr/>
            <p:nvPr/>
          </p:nvSpPr>
          <p:spPr>
            <a:xfrm>
              <a:off x="2639880" y="1870200"/>
              <a:ext cx="60480" cy="279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00"/>
            <p:cNvSpPr/>
            <p:nvPr/>
          </p:nvSpPr>
          <p:spPr>
            <a:xfrm>
              <a:off x="3368520" y="242712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01"/>
            <p:cNvSpPr/>
            <p:nvPr/>
          </p:nvSpPr>
          <p:spPr>
            <a:xfrm>
              <a:off x="3271680" y="1479600"/>
              <a:ext cx="944640" cy="4366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2"/>
            <p:cNvSpPr/>
            <p:nvPr/>
          </p:nvSpPr>
          <p:spPr>
            <a:xfrm flipV="1">
              <a:off x="2986200" y="1827000"/>
              <a:ext cx="546120" cy="2998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3"/>
            <p:cNvSpPr/>
            <p:nvPr/>
          </p:nvSpPr>
          <p:spPr>
            <a:xfrm>
              <a:off x="3025800" y="2343240"/>
              <a:ext cx="517680" cy="23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4"/>
            <p:cNvSpPr/>
            <p:nvPr/>
          </p:nvSpPr>
          <p:spPr>
            <a:xfrm flipV="1">
              <a:off x="4356000" y="2491920"/>
              <a:ext cx="720720" cy="730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05"/>
            <p:cNvSpPr/>
            <p:nvPr/>
          </p:nvSpPr>
          <p:spPr>
            <a:xfrm>
              <a:off x="4643280" y="1268280"/>
              <a:ext cx="100044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х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6"/>
            <p:cNvSpPr/>
            <p:nvPr/>
          </p:nvSpPr>
          <p:spPr>
            <a:xfrm flipV="1">
              <a:off x="4140360" y="1413000"/>
              <a:ext cx="502920" cy="2491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07"/>
            <p:cNvSpPr/>
            <p:nvPr/>
          </p:nvSpPr>
          <p:spPr>
            <a:xfrm>
              <a:off x="5651640" y="1484280"/>
              <a:ext cx="771480" cy="3063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08"/>
            <p:cNvSpPr/>
            <p:nvPr/>
          </p:nvSpPr>
          <p:spPr>
            <a:xfrm>
              <a:off x="6156360" y="2492280"/>
              <a:ext cx="647640" cy="2160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109"/>
            <p:cNvSpPr/>
            <p:nvPr/>
          </p:nvSpPr>
          <p:spPr>
            <a:xfrm>
              <a:off x="3059280" y="3068640"/>
              <a:ext cx="583920" cy="8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10"/>
            <p:cNvSpPr/>
            <p:nvPr/>
          </p:nvSpPr>
          <p:spPr>
            <a:xfrm>
              <a:off x="4643280" y="3200400"/>
              <a:ext cx="1008360" cy="3729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11"/>
            <p:cNvSpPr/>
            <p:nvPr/>
          </p:nvSpPr>
          <p:spPr>
            <a:xfrm>
              <a:off x="4067280" y="3429000"/>
              <a:ext cx="468360" cy="2570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12"/>
            <p:cNvSpPr/>
            <p:nvPr/>
          </p:nvSpPr>
          <p:spPr>
            <a:xfrm>
              <a:off x="4788000" y="4076640"/>
              <a:ext cx="422280" cy="3016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13"/>
            <p:cNvSpPr/>
            <p:nvPr/>
          </p:nvSpPr>
          <p:spPr>
            <a:xfrm flipV="1">
              <a:off x="6300720" y="5589720"/>
              <a:ext cx="1440000" cy="50328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14"/>
            <p:cNvSpPr/>
            <p:nvPr/>
          </p:nvSpPr>
          <p:spPr>
            <a:xfrm flipV="1">
              <a:off x="5940360" y="4541760"/>
              <a:ext cx="374760" cy="396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15"/>
            <p:cNvSpPr/>
            <p:nvPr/>
          </p:nvSpPr>
          <p:spPr>
            <a:xfrm>
              <a:off x="5651640" y="4869000"/>
              <a:ext cx="609480" cy="48420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16"/>
            <p:cNvSpPr/>
            <p:nvPr/>
          </p:nvSpPr>
          <p:spPr>
            <a:xfrm>
              <a:off x="6732720" y="3645000"/>
              <a:ext cx="10461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17"/>
            <p:cNvSpPr/>
            <p:nvPr/>
          </p:nvSpPr>
          <p:spPr>
            <a:xfrm>
              <a:off x="1403280" y="4221000"/>
              <a:ext cx="641520" cy="26856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18"/>
            <p:cNvSpPr/>
            <p:nvPr/>
          </p:nvSpPr>
          <p:spPr>
            <a:xfrm flipV="1">
              <a:off x="2627280" y="4005000"/>
              <a:ext cx="500040" cy="269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19"/>
            <p:cNvSpPr/>
            <p:nvPr/>
          </p:nvSpPr>
          <p:spPr>
            <a:xfrm>
              <a:off x="2484360" y="4869000"/>
              <a:ext cx="287280" cy="64764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20"/>
            <p:cNvSpPr/>
            <p:nvPr/>
          </p:nvSpPr>
          <p:spPr>
            <a:xfrm>
              <a:off x="3635280" y="4005360"/>
              <a:ext cx="595440" cy="3445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21"/>
            <p:cNvSpPr/>
            <p:nvPr/>
          </p:nvSpPr>
          <p:spPr>
            <a:xfrm>
              <a:off x="2987640" y="5805360"/>
              <a:ext cx="64764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22"/>
            <p:cNvSpPr/>
            <p:nvPr/>
          </p:nvSpPr>
          <p:spPr>
            <a:xfrm>
              <a:off x="4140360" y="4869000"/>
              <a:ext cx="647640" cy="504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3"/>
            <p:cNvSpPr/>
            <p:nvPr/>
          </p:nvSpPr>
          <p:spPr>
            <a:xfrm>
              <a:off x="6804000" y="1989000"/>
              <a:ext cx="1030320" cy="97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24"/>
            <p:cNvSpPr/>
            <p:nvPr/>
          </p:nvSpPr>
          <p:spPr>
            <a:xfrm>
              <a:off x="7164360" y="2924280"/>
              <a:ext cx="6271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7380360" y="4508640"/>
              <a:ext cx="49356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>
              <a:off x="7236000" y="5229360"/>
              <a:ext cx="583920" cy="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127"/>
            <p:cNvSpPr/>
            <p:nvPr/>
          </p:nvSpPr>
          <p:spPr>
            <a:xfrm>
              <a:off x="3635280" y="5589720"/>
              <a:ext cx="100332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- 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4643280" y="5734080"/>
              <a:ext cx="720720" cy="358920"/>
            </a:xfrm>
            <a:prstGeom prst="line">
              <a:avLst/>
            </a:prstGeom>
            <a:ln w="38160">
              <a:solidFill>
                <a:srgbClr val="f39c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129"/>
            <p:cNvSpPr/>
            <p:nvPr/>
          </p:nvSpPr>
          <p:spPr>
            <a:xfrm>
              <a:off x="8031240" y="177336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30"/>
            <p:cNvSpPr/>
            <p:nvPr/>
          </p:nvSpPr>
          <p:spPr>
            <a:xfrm>
              <a:off x="8031240" y="249228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131"/>
            <p:cNvSpPr/>
            <p:nvPr/>
          </p:nvSpPr>
          <p:spPr>
            <a:xfrm>
              <a:off x="8031240" y="3500280"/>
              <a:ext cx="1112760" cy="408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32"/>
            <p:cNvSpPr/>
            <p:nvPr/>
          </p:nvSpPr>
          <p:spPr>
            <a:xfrm>
              <a:off x="8031240" y="429264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33"/>
            <p:cNvSpPr/>
            <p:nvPr/>
          </p:nvSpPr>
          <p:spPr>
            <a:xfrm>
              <a:off x="8031240" y="5157720"/>
              <a:ext cx="1112760" cy="407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39c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уп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Rectangle 65"/>
          <p:cNvSpPr/>
          <p:nvPr/>
        </p:nvSpPr>
        <p:spPr>
          <a:xfrm>
            <a:off x="7812000" y="1484280"/>
            <a:ext cx="1332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6"/>
          <p:cNvSpPr/>
          <p:nvPr/>
        </p:nvSpPr>
        <p:spPr>
          <a:xfrm>
            <a:off x="7812000" y="2349360"/>
            <a:ext cx="133200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7"/>
          <p:cNvSpPr/>
          <p:nvPr/>
        </p:nvSpPr>
        <p:spPr>
          <a:xfrm>
            <a:off x="7812000" y="3284640"/>
            <a:ext cx="133200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8"/>
          <p:cNvSpPr/>
          <p:nvPr/>
        </p:nvSpPr>
        <p:spPr>
          <a:xfrm>
            <a:off x="7885080" y="4221000"/>
            <a:ext cx="1258920" cy="83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186"/>
          <p:cNvSpPr txBox="1"/>
          <p:nvPr/>
        </p:nvSpPr>
        <p:spPr>
          <a:xfrm>
            <a:off x="684360" y="189000"/>
            <a:ext cx="7920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смический лабиринт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0" name="Стрелка вверх 71"/>
          <p:cNvSpPr/>
          <p:nvPr/>
        </p:nvSpPr>
        <p:spPr>
          <a:xfrm>
            <a:off x="468360" y="5661000"/>
            <a:ext cx="431640" cy="86364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ультяева С.В., 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4:32:01Z</dcterms:created>
  <dc:creator>SamLab.ws</dc:creator>
  <dc:description/>
  <dc:language>en-US</dc:language>
  <cp:lastModifiedBy>1</cp:lastModifiedBy>
  <dcterms:modified xsi:type="dcterms:W3CDTF">2012-01-30T18:47:05Z</dcterms:modified>
  <cp:revision>91</cp:revision>
  <dc:subject/>
  <dc:title>Слайд 1</dc:title>
</cp:coreProperties>
</file>