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0.gif" ContentType="image/gif"/>
  <Override PartName="/ppt/media/image12.gif" ContentType="image/gif"/>
  <Override PartName="/ppt/media/image15.png" ContentType="image/png"/>
  <Override PartName="/ppt/media/image9.gif" ContentType="image/gif"/>
  <Override PartName="/ppt/media/image8.png" ContentType="image/png"/>
  <Override PartName="/ppt/media/image11.png" ContentType="image/png"/>
  <Override PartName="/ppt/media/image19.png" ContentType="image/png"/>
  <Override PartName="/ppt/media/image16.png" ContentType="image/png"/>
  <Override PartName="/ppt/media/image17.png" ContentType="image/png"/>
  <Override PartName="/ppt/media/image14.gif" ContentType="image/gif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gif" ContentType="image/gif"/>
  <Override PartName="/ppt/media/image5.png" ContentType="image/png"/>
  <Override PartName="/ppt/media/image10.jpeg" ContentType="image/jpeg"/>
  <Override PartName="/ppt/media/image18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BD7A-FA96-4358-8CB9-B16163E50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1140-6B9D-4350-94C3-1164392D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5422-C690-41D4-9415-F74664CB5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3C31-65E9-43F4-92C1-01993817D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6D3A-332E-4723-8261-8CEA999AE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2D3B0-A6CC-4160-96C4-AFBF058E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3586-2132-4B70-8074-83ADC995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3D27-664E-4DA2-B590-B5523870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6D1D-D728-42C7-A370-624BF86E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F8CC-0071-4CB2-BD26-CDBF4B7D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5047-F864-46F1-8630-79325FFF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2805-E191-43AB-84C2-587D5D15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507E-7D96-4EE9-A676-5FED50F2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D586-4BC1-4237-9C5C-FCF714D9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EEEA-73DD-4204-95D5-FB5C689B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C349-65A4-46F1-BE45-093802185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2A65-51CE-4F1D-AC9C-FCC0DCA78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A8553-20D8-4FC9-A7DA-43E7D83E0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A3954-A70F-4278-9644-F2624111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99F22-69DA-4D70-BA8E-801875D4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3EE8C-2F4C-4192-AB96-AD1FB6F5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93257-D80E-4509-A0EA-09E63A4E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AED6-7AC7-430C-B416-AF1FF4B2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872EE-DA46-451D-A42C-0CB89B53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FF28B-0E6D-4199-A183-8447EE42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E56D4-FB39-4CC4-A729-1041FDED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13B5F-DA31-4F25-BE40-BDCBC218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F8F3C-2D4D-4BA4-A334-255622D1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06335-3D73-452D-9567-BE0356324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88CAF-F5D1-47F6-B6C7-D65938B3E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8FA73-C25C-4014-81CA-C931C356E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EBEA6-73A5-4D32-807B-1308F286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E85EB-BB64-4A7E-9DF5-0DA5828A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60EE-BD94-4057-A0DE-DB625A4A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717D7-B1A4-4F86-AAB2-8599029C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94A8F-AE59-4DE1-BE8F-177814AB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EDED9-49C4-4EEA-9F38-F31C2363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E5176-A402-4F79-802B-58D17AFC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DA905-C53B-4C11-AF9D-9B6D1EA8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E8359-A39F-401C-B46D-306ACFC5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F2632-6D4C-43D3-8259-7DE3D240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87666-5958-417F-AD9C-BE7E8D9D9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74896-D530-4FF9-905D-EF491CE4F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24FF-1595-4568-8D68-2C2656DD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1A2B-1692-4D92-A710-E77A587A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9039-3D57-46F9-AE13-C11C3100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9367-CF1C-45E8-BECD-C95D052D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0FC2-5D18-4F00-ACA2-8355C5E1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9586-4ACE-4232-A67D-48066003EDB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9F8B-4914-4AEE-8752-D5BEBB0587D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B752-B519-4B84-A677-6F83C2F2081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99F4-3E18-4A6A-918B-4497C1D17E0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pn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42960" y="114300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27000"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«РАВЕНСТВА И НЕРАВЕНСТВА»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3 КЛАСС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Воронцова Елена Вячеславовна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ГБОУ СОШ № 156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Калининского района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г. Санкт-Петербурга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2012 год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2"/>
          <a:stretch/>
        </p:blipFill>
        <p:spPr>
          <a:xfrm>
            <a:off x="665280" y="268200"/>
            <a:ext cx="7899120" cy="115884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571680" y="1999800"/>
            <a:ext cx="7772400" cy="3786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81 – х = 6    </a:t>
            </a:r>
            <a:r>
              <a:rPr b="1" lang="en-US" sz="40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    </a:t>
            </a:r>
            <a:r>
              <a:rPr b="1" lang="ru-RU" sz="40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m + 15 = 80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2 * y = 18          t  : 9 = 60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           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               </a:t>
            </a:r>
            <a:r>
              <a:rPr b="1" lang="en-US" sz="40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k – 17 = 45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               </a:t>
            </a:r>
            <a:r>
              <a:rPr b="1" lang="en-US" sz="40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48 : n = 12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3"/>
          <a:stretch/>
        </p:blipFill>
        <p:spPr>
          <a:xfrm>
            <a:off x="214200" y="4857840"/>
            <a:ext cx="153360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5" descr="AN087"/>
          <p:cNvPicPr/>
          <p:nvPr/>
        </p:nvPicPr>
        <p:blipFill>
          <a:blip r:embed="rId2"/>
          <a:stretch/>
        </p:blipFill>
        <p:spPr>
          <a:xfrm>
            <a:off x="2000160" y="3286080"/>
            <a:ext cx="2649600" cy="3081240"/>
          </a:xfrm>
          <a:prstGeom prst="rect">
            <a:avLst/>
          </a:prstGeom>
          <a:ln w="0">
            <a:noFill/>
          </a:ln>
        </p:spPr>
      </p:pic>
      <p:sp>
        <p:nvSpPr>
          <p:cNvPr id="249" name="TextBox 5"/>
          <p:cNvSpPr/>
          <p:nvPr/>
        </p:nvSpPr>
        <p:spPr>
          <a:xfrm>
            <a:off x="714240" y="1143000"/>
            <a:ext cx="6572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вторение – мать учени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Стр.  76, № 10(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0" descr="AN551"/>
          <p:cNvPicPr/>
          <p:nvPr/>
        </p:nvPicPr>
        <p:blipFill>
          <a:blip r:embed="rId2"/>
          <a:stretch/>
        </p:blipFill>
        <p:spPr>
          <a:xfrm>
            <a:off x="324000" y="3068640"/>
            <a:ext cx="2760480" cy="342900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6" descr="благодарю.gif"/>
          <p:cNvPicPr/>
          <p:nvPr/>
        </p:nvPicPr>
        <p:blipFill>
          <a:blip r:embed="rId3"/>
          <a:stretch/>
        </p:blipFill>
        <p:spPr>
          <a:xfrm>
            <a:off x="3143160" y="785880"/>
            <a:ext cx="338292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Прямоугольник 3"/>
          <p:cNvSpPr/>
          <p:nvPr/>
        </p:nvSpPr>
        <p:spPr>
          <a:xfrm>
            <a:off x="642960" y="2428920"/>
            <a:ext cx="678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так, друзья, внимание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дь прозвенел звонок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дитесь поудобне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Начнем скорей урок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http://f1.foto.rambler.ru/preview/r/176x184/4cbf5ffe-c16b-88a4-b4a8-f5d46bf5fcc8/%D1%81%D0%BE%D0%BB%D0%BD%D1%86%D0%B5_gif.gif"/>
          <p:cNvPicPr/>
          <p:nvPr/>
        </p:nvPicPr>
        <p:blipFill>
          <a:blip r:embed="rId2"/>
          <a:stretch/>
        </p:blipFill>
        <p:spPr>
          <a:xfrm>
            <a:off x="642960" y="214200"/>
            <a:ext cx="191304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08" name="Прямоугольник 5" descr=""/>
          <p:cNvPicPr/>
          <p:nvPr/>
        </p:nvPicPr>
        <p:blipFill>
          <a:blip r:embed="rId3"/>
          <a:stretch/>
        </p:blipFill>
        <p:spPr>
          <a:xfrm>
            <a:off x="-579600" y="-549360"/>
            <a:ext cx="8626680" cy="2365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AN551"/>
          <p:cNvPicPr/>
          <p:nvPr/>
        </p:nvPicPr>
        <p:blipFill>
          <a:blip r:embed="rId4"/>
          <a:stretch/>
        </p:blipFill>
        <p:spPr>
          <a:xfrm>
            <a:off x="1857240" y="3143160"/>
            <a:ext cx="2760840" cy="3429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http://f1.foto.rambler.ru/preview/r/176x184/4cbf5ffe-c16b-88a4-b4a8-f5d46bf5fcc8/%D1%81%D0%BE%D0%BB%D0%BD%D1%86%D0%B5_gif.gif"/>
          <p:cNvPicPr/>
          <p:nvPr/>
        </p:nvPicPr>
        <p:blipFill>
          <a:blip r:embed="rId5"/>
          <a:stretch/>
        </p:blipFill>
        <p:spPr>
          <a:xfrm>
            <a:off x="7643880" y="214200"/>
            <a:ext cx="1198440" cy="12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0280" y="1316160"/>
            <a:ext cx="777240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4ce4ad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Picture 4" descr="00046811"/>
          <p:cNvPicPr/>
          <p:nvPr/>
        </p:nvPicPr>
        <p:blipFill>
          <a:blip r:embed="rId2"/>
          <a:stretch/>
        </p:blipFill>
        <p:spPr>
          <a:xfrm>
            <a:off x="-396720" y="0"/>
            <a:ext cx="975348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TextBox 4" descr=""/>
          <p:cNvPicPr/>
          <p:nvPr/>
        </p:nvPicPr>
        <p:blipFill>
          <a:blip r:embed="rId3"/>
          <a:stretch/>
        </p:blipFill>
        <p:spPr>
          <a:xfrm>
            <a:off x="-244440" y="-122400"/>
            <a:ext cx="5200560" cy="1311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AN087"/>
          <p:cNvPicPr/>
          <p:nvPr/>
        </p:nvPicPr>
        <p:blipFill>
          <a:blip r:embed="rId4"/>
          <a:stretch/>
        </p:blipFill>
        <p:spPr>
          <a:xfrm>
            <a:off x="4071960" y="3214800"/>
            <a:ext cx="285732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42600" y="713880"/>
            <a:ext cx="7854840" cy="7146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Работаем в паре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7" name="Прямоугольник 3"/>
          <p:cNvSpPr/>
          <p:nvPr/>
        </p:nvSpPr>
        <p:spPr>
          <a:xfrm>
            <a:off x="1004760" y="3714840"/>
            <a:ext cx="184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7 * 9 = 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6"/>
          <p:cNvSpPr/>
          <p:nvPr/>
        </p:nvSpPr>
        <p:spPr>
          <a:xfrm>
            <a:off x="928800" y="2071800"/>
            <a:ext cx="17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Times New Roman"/>
                <a:ea typeface="Calibri"/>
              </a:rPr>
              <a:t>в &gt;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7"/>
          <p:cNvSpPr/>
          <p:nvPr/>
        </p:nvSpPr>
        <p:spPr>
          <a:xfrm>
            <a:off x="928800" y="2928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а + 6 &gt; 45 *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8"/>
          <p:cNvSpPr/>
          <p:nvPr/>
        </p:nvSpPr>
        <p:spPr>
          <a:xfrm>
            <a:off x="5365080" y="2071800"/>
            <a:ext cx="186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а + 8 = 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9"/>
          <p:cNvSpPr/>
          <p:nvPr/>
        </p:nvSpPr>
        <p:spPr>
          <a:xfrm>
            <a:off x="5294160" y="2928960"/>
            <a:ext cx="24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а + 6 – 45 *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10"/>
          <p:cNvSpPr/>
          <p:nvPr/>
        </p:nvSpPr>
        <p:spPr>
          <a:xfrm>
            <a:off x="5296320" y="3786120"/>
            <a:ext cx="282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100 : 4 + а = 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11"/>
          <p:cNvSpPr/>
          <p:nvPr/>
        </p:nvSpPr>
        <p:spPr>
          <a:xfrm>
            <a:off x="3148560" y="4929120"/>
            <a:ext cx="21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95 &lt;  45 *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48844E-006 L 0.00191 -0.11517 E">
                                      <p:cBhvr>
                                        <p:cTn id="35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36 -0.00208 L -0.47865 -0.00208 E">
                                      <p:cBhvr>
                                        <p:cTn id="37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22109E-006 L -0.48247 -0.00023 E">
                                      <p:cBhvr>
                                        <p:cTn id="39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32932E-006 L 0.45469 4.32932E-006 E">
                                      <p:cBhvr>
                                        <p:cTn id="41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89362E-006 L 0.44688 4.89362E-006 E">
                                      <p:cBhvr>
                                        <p:cTn id="43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70213E-006 L 0.20364 -0.16675 E">
                                      <p:cBhvr>
                                        <p:cTn id="45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642960" y="785880"/>
          <a:ext cx="7643880" cy="5632560"/>
        </p:xfrm>
        <a:graphic>
          <a:graphicData uri="http://schemas.openxmlformats.org/drawingml/2006/table">
            <a:tbl>
              <a:tblPr/>
              <a:tblGrid>
                <a:gridCol w="5429160"/>
                <a:gridCol w="1071720"/>
                <a:gridCol w="1143000"/>
              </a:tblGrid>
              <a:tr h="798480">
                <a:tc>
                  <a:txBody>
                    <a:bodyPr lIns="64800" rIns="64800" tIns="0" bIns="0" anchor="t">
                      <a:noAutofit/>
                    </a:bodyPr>
                    <a:p>
                      <a:pPr marL="4507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 чт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т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Равенства – это два выражения, соединенных знаком «=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Выражения могут быть числовыми и буквенны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ли два выражения числовые, то равенство является высказывание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вые равенства могут быть истинными или ложны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* 3 = 18 – верное числовое равен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84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 : 3 = 8 – неверное числовое равен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ва выражения, соединенных знаком «&gt;» или «&lt;» - неравенств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вые неравенства являются высказывания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7" name="Рисунок 4" descr="4098436_lar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5" descr="танцы.gif"/>
          <p:cNvPicPr/>
          <p:nvPr/>
        </p:nvPicPr>
        <p:blipFill>
          <a:blip r:embed="rId3"/>
          <a:stretch/>
        </p:blipFill>
        <p:spPr>
          <a:xfrm>
            <a:off x="3071880" y="2071800"/>
            <a:ext cx="4336920" cy="4071960"/>
          </a:xfrm>
          <a:prstGeom prst="rect">
            <a:avLst/>
          </a:prstGeom>
          <a:ln w="0">
            <a:noFill/>
          </a:ln>
        </p:spPr>
      </p:pic>
      <p:pic>
        <p:nvPicPr>
          <p:cNvPr id="229" name="музыка к физкультминутке.wav" descr=""/>
          <p:cNvPicPr/>
          <p:nvPr/>
        </p:nvPicPr>
        <p:blipFill>
          <a:blip r:embed="rId4"/>
          <a:stretch/>
        </p:blipFill>
        <p:spPr>
          <a:xfrm>
            <a:off x="428760" y="5857920"/>
            <a:ext cx="79524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29250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2"/>
          <a:stretch/>
        </p:blipFill>
        <p:spPr>
          <a:xfrm>
            <a:off x="781200" y="237960"/>
            <a:ext cx="7862760" cy="13161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57160" y="1928520"/>
            <a:ext cx="7855200" cy="40719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5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8 + 12 = 20                 а &gt;  </a:t>
            </a:r>
            <a:r>
              <a:rPr b="0" lang="en-US" sz="38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b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8 + 12 + 20                 а –  </a:t>
            </a:r>
            <a:r>
              <a:rPr b="0" lang="en-US" sz="38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b 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8 + 12 &gt; 20                 а +  </a:t>
            </a:r>
            <a:r>
              <a:rPr b="0" lang="en-US" sz="38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b</a:t>
            </a:r>
            <a:r>
              <a:rPr b="0" lang="ru-RU" sz="38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 = с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20  = 8 + 12                а +  </a:t>
            </a:r>
            <a:r>
              <a:rPr b="0" lang="en-US" sz="38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b </a:t>
            </a:r>
            <a:r>
              <a:rPr b="0" lang="ru-RU" sz="38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* с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5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Прямая соединительная линия 4"/>
          <p:cNvSpPr/>
          <p:nvPr/>
        </p:nvSpPr>
        <p:spPr>
          <a:xfrm>
            <a:off x="928800" y="2786040"/>
            <a:ext cx="2286000" cy="1440"/>
          </a:xfrm>
          <a:prstGeom prst="line">
            <a:avLst/>
          </a:prstGeom>
          <a:ln w="38160">
            <a:solidFill>
              <a:srgbClr val="0073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6"/>
          <p:cNvSpPr/>
          <p:nvPr/>
        </p:nvSpPr>
        <p:spPr>
          <a:xfrm>
            <a:off x="928800" y="5786280"/>
            <a:ext cx="228600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ая соединительная линия 7"/>
          <p:cNvSpPr/>
          <p:nvPr/>
        </p:nvSpPr>
        <p:spPr>
          <a:xfrm>
            <a:off x="5000760" y="4714920"/>
            <a:ext cx="228600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олилиния 8"/>
          <p:cNvSpPr/>
          <p:nvPr/>
        </p:nvSpPr>
        <p:spPr>
          <a:xfrm>
            <a:off x="785880" y="4643280"/>
            <a:ext cx="2279520" cy="181080"/>
          </a:xfrm>
          <a:prstGeom prst="pie">
            <a:avLst/>
          </a:prstGeom>
          <a:noFill/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олилиния 9"/>
          <p:cNvSpPr/>
          <p:nvPr/>
        </p:nvSpPr>
        <p:spPr>
          <a:xfrm>
            <a:off x="4786200" y="2786040"/>
            <a:ext cx="2279880" cy="181080"/>
          </a:xfrm>
          <a:prstGeom prst="pie">
            <a:avLst/>
          </a:prstGeom>
          <a:noFill/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2"/>
          <a:stretch/>
        </p:blipFill>
        <p:spPr>
          <a:xfrm>
            <a:off x="450720" y="378000"/>
            <a:ext cx="8255160" cy="115884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28400" y="1928520"/>
            <a:ext cx="4327560" cy="85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5 больше 3 на 2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TextBox 3"/>
          <p:cNvSpPr/>
          <p:nvPr/>
        </p:nvSpPr>
        <p:spPr>
          <a:xfrm>
            <a:off x="5286240" y="19288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 – 3 =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5143680" y="3000240"/>
            <a:ext cx="24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2 : 2 =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5"/>
          <p:cNvSpPr/>
          <p:nvPr/>
        </p:nvSpPr>
        <p:spPr>
          <a:xfrm>
            <a:off x="5286240" y="421488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 – х =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6"/>
          <p:cNvSpPr/>
          <p:nvPr/>
        </p:nvSpPr>
        <p:spPr>
          <a:xfrm>
            <a:off x="428760" y="4214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х меньше у на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8"/>
          <p:cNvSpPr/>
          <p:nvPr/>
        </p:nvSpPr>
        <p:spPr>
          <a:xfrm>
            <a:off x="372600" y="3000240"/>
            <a:ext cx="412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12 больше 2 в 6 р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AN087"/>
          <p:cNvPicPr/>
          <p:nvPr/>
        </p:nvPicPr>
        <p:blipFill>
          <a:blip r:embed="rId3"/>
          <a:stretch/>
        </p:blipFill>
        <p:spPr>
          <a:xfrm>
            <a:off x="3214800" y="4857840"/>
            <a:ext cx="15066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1T14:02:17Z</dcterms:created>
  <dc:creator>user</dc:creator>
  <dc:description/>
  <dc:language>en-US</dc:language>
  <cp:lastModifiedBy>Adel</cp:lastModifiedBy>
  <dcterms:modified xsi:type="dcterms:W3CDTF">2012-05-15T17:56:42Z</dcterms:modified>
  <cp:revision>29</cp:revision>
  <dc:subject/>
  <dc:title>Слайд 1</dc:title>
</cp:coreProperties>
</file>