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18D-35F6-4E00-B58A-2705EF6B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57F-4512-41D0-ACC1-D8C1FCEB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6E1-344A-46C8-BC79-5651244D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6F3-BA68-461F-924B-C211278E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7BC5-3F4B-4074-BE76-5D456842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8EA3-57BE-4235-8314-470B38C5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4084-7156-4CC3-BECB-2CFEFF5B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1FF6-5FAF-47EA-8720-E0E6D58B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5C43-9E82-4C43-B416-35F047BD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431B-764A-4073-9DA7-65ABF72E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0876-A3F9-4C82-81D1-7A12B006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365-B395-4CE6-A85C-BE18219F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18FD-8105-435D-9114-8C800593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F497-00B4-4AE0-90F5-E77DF67B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AFDF-307F-4C87-9AEC-29A81421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04E1-E39D-4EA2-982D-A9C76144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B110-AF2E-47E5-8E8D-D9119531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3BE-0559-425B-A065-1C9DAD28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829-E2A0-470A-8C94-8FBF2629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1B1-553A-4242-ABF0-D9DA629A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DB3-490C-4B08-9D33-43FD9534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D8F-C15E-4474-A041-4F8D1FA6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A2A-7923-4516-B91A-37B1B52E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BDB-524F-42DB-808B-3ABE1657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DB88-C927-4D42-B7E1-2F5C3159E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6BA2-1553-4CC0-A1EF-597C46566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1050476"/>
          <p:cNvPicPr/>
          <p:nvPr/>
        </p:nvPicPr>
        <p:blipFill>
          <a:blip r:embed="rId1"/>
          <a:stretch/>
        </p:blipFill>
        <p:spPr>
          <a:xfrm>
            <a:off x="1403280" y="83664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MrPizza"/>
          <p:cNvPicPr/>
          <p:nvPr/>
        </p:nvPicPr>
        <p:blipFill>
          <a:blip r:embed="rId1"/>
          <a:stretch/>
        </p:blipFill>
        <p:spPr>
          <a:xfrm>
            <a:off x="250920" y="476280"/>
            <a:ext cx="3181320" cy="285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pizza"/>
          <p:cNvPicPr/>
          <p:nvPr/>
        </p:nvPicPr>
        <p:blipFill>
          <a:blip r:embed="rId2"/>
          <a:stretch/>
        </p:blipFill>
        <p:spPr>
          <a:xfrm>
            <a:off x="3492360" y="836640"/>
            <a:ext cx="5472360" cy="5472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250920" y="5084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Tahoma"/>
              </a:rPr>
              <a:t>Unhealthy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915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Black"/>
              </a:rPr>
              <a:t>How often do you eat pizza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and 11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Forms                 Survey Resul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395280" y="3141720"/>
          <a:ext cx="874872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141720"/>
                    <a:ext cx="874872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11280" y="0"/>
            <a:ext cx="31986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3798720" y="549360"/>
            <a:ext cx="534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Health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Pizz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pan_pizza-893"/>
          <p:cNvPicPr/>
          <p:nvPr/>
        </p:nvPicPr>
        <p:blipFill>
          <a:blip r:embed="rId2"/>
          <a:stretch/>
        </p:blipFill>
        <p:spPr>
          <a:xfrm>
            <a:off x="3995640" y="2852640"/>
            <a:ext cx="482616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Black"/>
              </a:rPr>
              <a:t>Healthy Pizza Recip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KEY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Health     –     health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ok        –     coo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radition –     traditio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Direct      –     dire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Hot          -      he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a1897_121"/>
          <p:cNvPicPr/>
          <p:nvPr/>
        </p:nvPicPr>
        <p:blipFill>
          <a:blip r:embed="rId1"/>
          <a:stretch/>
        </p:blipFill>
        <p:spPr>
          <a:xfrm>
            <a:off x="4905360" y="3357720"/>
            <a:ext cx="4238640" cy="308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feeding-kids"/>
          <p:cNvPicPr/>
          <p:nvPr/>
        </p:nvPicPr>
        <p:blipFill>
          <a:blip r:embed="rId2"/>
          <a:stretch/>
        </p:blipFill>
        <p:spPr>
          <a:xfrm>
            <a:off x="0" y="692280"/>
            <a:ext cx="5651640" cy="4214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5637240" y="760320"/>
            <a:ext cx="337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Healthy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Foo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sunday_roast1"/>
          <p:cNvPicPr/>
          <p:nvPr/>
        </p:nvPicPr>
        <p:blipFill>
          <a:blip r:embed="rId1"/>
          <a:stretch/>
        </p:blipFill>
        <p:spPr>
          <a:xfrm>
            <a:off x="3814920" y="3728880"/>
            <a:ext cx="5329080" cy="3129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4763_MEDIUM"/>
          <p:cNvPicPr/>
          <p:nvPr/>
        </p:nvPicPr>
        <p:blipFill>
          <a:blip r:embed="rId2"/>
          <a:stretch/>
        </p:blipFill>
        <p:spPr>
          <a:xfrm>
            <a:off x="0" y="1125360"/>
            <a:ext cx="3924360" cy="3567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Tea-Biscuits_999906c"/>
          <p:cNvPicPr/>
          <p:nvPr/>
        </p:nvPicPr>
        <p:blipFill>
          <a:blip r:embed="rId3"/>
          <a:stretch/>
        </p:blipFill>
        <p:spPr>
          <a:xfrm>
            <a:off x="3924360" y="1197000"/>
            <a:ext cx="5219640" cy="283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2715_MEDIUM"/>
          <p:cNvPicPr/>
          <p:nvPr/>
        </p:nvPicPr>
        <p:blipFill>
          <a:blip r:embed="rId4"/>
          <a:stretch/>
        </p:blipFill>
        <p:spPr>
          <a:xfrm>
            <a:off x="0" y="3260880"/>
            <a:ext cx="3959280" cy="35971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9"/>
          <p:cNvSpPr/>
          <p:nvPr/>
        </p:nvSpPr>
        <p:spPr>
          <a:xfrm>
            <a:off x="-1405080" y="0"/>
            <a:ext cx="1230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raditional British Comfort F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rial Black"/>
              </a:rPr>
              <a:t>KEY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1998720"/>
                <a:gridCol w="2003400"/>
                <a:gridCol w="2001960"/>
                <a:gridCol w="200340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Healthy Food Choices_ Brain Foods.mpg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Arial Black"/>
              </a:rPr>
              <a:t>Brain Food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424720" cy="434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704360" cy="4664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-468360" y="549360"/>
            <a:ext cx="937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10</a:t>
            </a:r>
            <a:r>
              <a:rPr b="1" lang="en-US" sz="4400" spc="-1" strike="noStrike" baseline="30000">
                <a:solidFill>
                  <a:srgbClr val="ffff66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 Form Surve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unhealthyFood"/>
          <p:cNvPicPr/>
          <p:nvPr/>
        </p:nvPicPr>
        <p:blipFill>
          <a:blip r:embed="rId1"/>
          <a:stretch/>
        </p:blipFill>
        <p:spPr>
          <a:xfrm>
            <a:off x="3059280" y="3559320"/>
            <a:ext cx="6084720" cy="332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healthy-foods"/>
          <p:cNvPicPr/>
          <p:nvPr/>
        </p:nvPicPr>
        <p:blipFill>
          <a:blip r:embed="rId2"/>
          <a:stretch/>
        </p:blipFill>
        <p:spPr>
          <a:xfrm>
            <a:off x="0" y="0"/>
            <a:ext cx="6372360" cy="3565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6264720" y="1263600"/>
            <a:ext cx="18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V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-23760" y="4437000"/>
            <a:ext cx="31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Unhealt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F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Why does unhealthy food appeal to peopl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7" descr="overweight_reasons"/>
          <p:cNvPicPr/>
          <p:nvPr/>
        </p:nvPicPr>
        <p:blipFill>
          <a:blip r:embed="rId1"/>
          <a:stretch/>
        </p:blipFill>
        <p:spPr>
          <a:xfrm>
            <a:off x="4330800" y="1700280"/>
            <a:ext cx="4813200" cy="4013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energy-drinks"/>
          <p:cNvPicPr/>
          <p:nvPr/>
        </p:nvPicPr>
        <p:blipFill>
          <a:blip r:embed="rId2"/>
          <a:stretch/>
        </p:blipFill>
        <p:spPr>
          <a:xfrm>
            <a:off x="250920" y="1773360"/>
            <a:ext cx="3508200" cy="17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popcorn"/>
          <p:cNvPicPr/>
          <p:nvPr/>
        </p:nvPicPr>
        <p:blipFill>
          <a:blip r:embed="rId3"/>
          <a:stretch/>
        </p:blipFill>
        <p:spPr>
          <a:xfrm>
            <a:off x="684360" y="3689280"/>
            <a:ext cx="2641320" cy="316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oca_cola_bt"/>
          <p:cNvPicPr/>
          <p:nvPr/>
        </p:nvPicPr>
        <p:blipFill>
          <a:blip r:embed="rId4"/>
          <a:stretch/>
        </p:blipFill>
        <p:spPr>
          <a:xfrm>
            <a:off x="3564000" y="5084640"/>
            <a:ext cx="2163600" cy="155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Lights, Action, Burger! - копия_AVI_.avi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800" spc="-1" strike="noStrike">
                <a:solidFill>
                  <a:srgbClr val="ffff66"/>
                </a:solidFill>
                <a:latin typeface="Arial Black"/>
              </a:rPr>
              <a:t>Watching &amp;  Listening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hitburger_hamburger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481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6000" spc="-1" strike="noStrike">
                <a:solidFill>
                  <a:srgbClr val="ffff66"/>
                </a:solidFill>
                <a:latin typeface="Arial Black"/>
              </a:rPr>
              <a:t>KEY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A1    -     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A2    -    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A3    -    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A4    -     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food-pyramid"/>
          <p:cNvPicPr/>
          <p:nvPr/>
        </p:nvPicPr>
        <p:blipFill>
          <a:blip r:embed="rId1"/>
          <a:stretch/>
        </p:blipFill>
        <p:spPr>
          <a:xfrm>
            <a:off x="684360" y="-41400"/>
            <a:ext cx="7775280" cy="6899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x_975805b9"/>
          <p:cNvPicPr/>
          <p:nvPr/>
        </p:nvPicPr>
        <p:blipFill>
          <a:blip r:embed="rId1"/>
          <a:stretch/>
        </p:blipFill>
        <p:spPr>
          <a:xfrm>
            <a:off x="3390840" y="0"/>
            <a:ext cx="5753160" cy="383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x_0016893c"/>
          <p:cNvPicPr/>
          <p:nvPr/>
        </p:nvPicPr>
        <p:blipFill>
          <a:blip r:embed="rId2"/>
          <a:stretch/>
        </p:blipFill>
        <p:spPr>
          <a:xfrm>
            <a:off x="3419640" y="3040200"/>
            <a:ext cx="5724360" cy="3817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x_6f66f7b5"/>
          <p:cNvPicPr/>
          <p:nvPr/>
        </p:nvPicPr>
        <p:blipFill>
          <a:blip r:embed="rId3"/>
          <a:stretch/>
        </p:blipFill>
        <p:spPr>
          <a:xfrm>
            <a:off x="19080" y="0"/>
            <a:ext cx="3392280" cy="5084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x_0c5210b3"/>
          <p:cNvPicPr/>
          <p:nvPr/>
        </p:nvPicPr>
        <p:blipFill>
          <a:blip r:embed="rId4"/>
          <a:stretch/>
        </p:blipFill>
        <p:spPr>
          <a:xfrm>
            <a:off x="0" y="4433760"/>
            <a:ext cx="3635280" cy="242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8:49:56Z</dcterms:created>
  <dc:creator>User</dc:creator>
  <dc:description/>
  <dc:language>en-US</dc:language>
  <cp:lastModifiedBy>Adel</cp:lastModifiedBy>
  <dcterms:modified xsi:type="dcterms:W3CDTF">2012-05-20T18:57:30Z</dcterms:modified>
  <cp:revision>32</cp:revision>
  <dc:subject/>
  <dc:title>Healthy Food</dc:title>
</cp:coreProperties>
</file>