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7.gif" ContentType="image/gif"/>
  <Override PartName="/ppt/media/image11.png" ContentType="image/png"/>
  <Override PartName="/ppt/media/image17.jpeg" ContentType="image/jpeg"/>
  <Override PartName="/ppt/media/image14.png" ContentType="image/png"/>
  <Override PartName="/ppt/media/image5.gif" ContentType="image/gif"/>
  <Override PartName="/ppt/media/image9.png" ContentType="image/png"/>
  <Override PartName="/ppt/media/image16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8E8A-88D7-451D-9144-AF3471F826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79CB-C403-4CFD-8914-CE193D76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981C-44E3-47EC-8A52-1A96E44B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272C-7C5D-4C87-876C-B8241126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9D58-40C0-46FA-ADD7-4767F122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A45F-752E-4103-B092-58FCB15A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FBDE-338D-4A8E-8FEE-6EAB2FF1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232E-370F-4648-B42A-D057F299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94E2-D0E1-4F15-8707-6C6502AF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2C3F-A30C-4F1F-BBD6-18EF16D4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9D6E-1116-472B-8E16-00E46054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69F7-5123-4B38-B489-9733F5EE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BC42-5369-4207-8401-54952677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0FF0-A779-48EF-821B-0F2C6481E1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gif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4292640"/>
            <a:ext cx="9144000" cy="237636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588000" y="4365720"/>
            <a:ext cx="2303640" cy="2200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установка для электролиза водного раствора"/>
          <p:cNvPicPr/>
          <p:nvPr/>
        </p:nvPicPr>
        <p:blipFill>
          <a:blip r:embed="rId3"/>
          <a:stretch/>
        </p:blipFill>
        <p:spPr>
          <a:xfrm>
            <a:off x="3851280" y="1197000"/>
            <a:ext cx="4319640" cy="289548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403280" y="1197000"/>
            <a:ext cx="2214720" cy="28796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1258920" y="4724280"/>
            <a:ext cx="743040" cy="1486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24000" y="479736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хника безопасн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0"/>
            <a:ext cx="837252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лучение водорода в лаборатории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628640"/>
            <a:ext cx="9144000" cy="4680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0" y="0"/>
            <a:ext cx="1150920" cy="1089000"/>
          </a:xfrm>
          <a:custGeom>
            <a:avLst/>
            <a:gdLst>
              <a:gd name="textAreaLeft" fmla="*/ 70560 w 1150920"/>
              <a:gd name="textAreaRight" fmla="*/ 1080360 w 1150920"/>
              <a:gd name="textAreaTop" fmla="*/ 70560 h 1089000"/>
              <a:gd name="textAreaBottom" fmla="*/ 1018440 h 1089000"/>
            </a:gdLst>
            <a:ahLst/>
            <a:rect l="textAreaLeft" t="textAreaTop" r="textAreaRight" b="textAreaBottom"/>
            <a:pathLst>
              <a:path w="22828" h="21600">
                <a:moveTo>
                  <a:pt x="0" y="0"/>
                </a:moveTo>
                <a:lnTo>
                  <a:pt x="22828" y="0"/>
                </a:lnTo>
                <a:lnTo>
                  <a:pt x="22828" y="21600"/>
                </a:lnTo>
                <a:lnTo>
                  <a:pt x="0" y="21600"/>
                </a:lnTo>
                <a:close/>
              </a:path>
              <a:path fill="lightenLess" w="22828" h="21600">
                <a:moveTo>
                  <a:pt x="0" y="0"/>
                </a:moveTo>
                <a:lnTo>
                  <a:pt x="22828" y="0"/>
                </a:lnTo>
                <a:lnTo>
                  <a:pt x="21428" y="1400"/>
                </a:lnTo>
                <a:lnTo>
                  <a:pt x="1400" y="1400"/>
                </a:lnTo>
                <a:close/>
              </a:path>
              <a:path fill="darken" w="22828" h="21600">
                <a:moveTo>
                  <a:pt x="22828" y="0"/>
                </a:moveTo>
                <a:lnTo>
                  <a:pt x="22828" y="21600"/>
                </a:lnTo>
                <a:lnTo>
                  <a:pt x="21428" y="20200"/>
                </a:lnTo>
                <a:lnTo>
                  <a:pt x="21428" y="1400"/>
                </a:lnTo>
                <a:close/>
              </a:path>
              <a:path fill="darkenLess" w="22828" h="21600">
                <a:moveTo>
                  <a:pt x="22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8" y="20200"/>
                </a:lnTo>
                <a:close/>
              </a:path>
              <a:path fill="lighten" w="22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8" h="21600">
                <a:moveTo>
                  <a:pt x="11414" y="3837"/>
                </a:moveTo>
                <a:lnTo>
                  <a:pt x="13990" y="6448"/>
                </a:lnTo>
                <a:lnTo>
                  <a:pt x="13990" y="4707"/>
                </a:lnTo>
                <a:lnTo>
                  <a:pt x="15766" y="4707"/>
                </a:lnTo>
                <a:lnTo>
                  <a:pt x="15766" y="8224"/>
                </a:lnTo>
                <a:lnTo>
                  <a:pt x="18377" y="10800"/>
                </a:lnTo>
                <a:lnTo>
                  <a:pt x="16723" y="10800"/>
                </a:lnTo>
                <a:lnTo>
                  <a:pt x="16723" y="17989"/>
                </a:lnTo>
                <a:lnTo>
                  <a:pt x="6105" y="17989"/>
                </a:lnTo>
                <a:lnTo>
                  <a:pt x="6105" y="10800"/>
                </a:lnTo>
                <a:lnTo>
                  <a:pt x="4451" y="10800"/>
                </a:lnTo>
                <a:close/>
              </a:path>
              <a:path fill="darkenLess" w="22828" h="21600">
                <a:moveTo>
                  <a:pt x="13990" y="6448"/>
                </a:moveTo>
                <a:lnTo>
                  <a:pt x="13990" y="4707"/>
                </a:lnTo>
                <a:lnTo>
                  <a:pt x="15766" y="4707"/>
                </a:lnTo>
                <a:lnTo>
                  <a:pt x="15766" y="8224"/>
                </a:lnTo>
                <a:close/>
              </a:path>
              <a:path fill="darkenLess" w="22828" h="21600">
                <a:moveTo>
                  <a:pt x="10491" y="14299"/>
                </a:moveTo>
                <a:lnTo>
                  <a:pt x="12336" y="14299"/>
                </a:lnTo>
                <a:lnTo>
                  <a:pt x="12336" y="17989"/>
                </a:lnTo>
                <a:lnTo>
                  <a:pt x="16723" y="17989"/>
                </a:lnTo>
                <a:lnTo>
                  <a:pt x="16723" y="10800"/>
                </a:lnTo>
                <a:lnTo>
                  <a:pt x="6105" y="10800"/>
                </a:lnTo>
                <a:lnTo>
                  <a:pt x="6105" y="17989"/>
                </a:lnTo>
                <a:lnTo>
                  <a:pt x="10491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 flipH="1" rot="21565800">
            <a:off x="0" y="-360"/>
            <a:ext cx="611280" cy="488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40000" y="108900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лан урок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7280" y="1736640"/>
            <a:ext cx="867564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Оформление подготовительной части работы в тетради (проверка домашнего задания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монстрация эксперимента учителем и об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ждение правил техники безопас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ение практической работы, оформле-ние результатов, уборка рабочего мес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ядок выполнения практической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189000"/>
            <a:ext cx="79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cc0000"/>
                </a:solidFill>
                <a:uFillTx/>
                <a:latin typeface="Arial"/>
              </a:rPr>
              <a:t>Практическая работа №5:</a:t>
            </a:r>
            <a:r>
              <a:rPr b="1" lang="ru-RU" sz="2700" spc="-1" strike="noStrike">
                <a:solidFill>
                  <a:srgbClr val="cc0000"/>
                </a:solidFill>
                <a:latin typeface="Arial"/>
              </a:rPr>
              <a:t>                      Получение водорода и изучение его свойств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2637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" action="ppaction://hlinksldjump"/>
          </p:cNvPr>
          <p:cNvSpPr/>
          <p:nvPr/>
        </p:nvSpPr>
        <p:spPr>
          <a:xfrm rot="5400000">
            <a:off x="8689320" y="6403680"/>
            <a:ext cx="549360" cy="358920"/>
          </a:xfrm>
          <a:custGeom>
            <a:avLst/>
            <a:gdLst>
              <a:gd name="textAreaLeft" fmla="*/ 23040 w 549360"/>
              <a:gd name="textAreaRight" fmla="*/ 526320 w 549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3049" h="21600">
                <a:moveTo>
                  <a:pt x="0" y="0"/>
                </a:moveTo>
                <a:lnTo>
                  <a:pt x="33049" y="0"/>
                </a:lnTo>
                <a:lnTo>
                  <a:pt x="33049" y="21600"/>
                </a:lnTo>
                <a:lnTo>
                  <a:pt x="0" y="21600"/>
                </a:lnTo>
                <a:close/>
              </a:path>
              <a:path fill="lightenLess" w="33049" h="21600">
                <a:moveTo>
                  <a:pt x="0" y="0"/>
                </a:moveTo>
                <a:lnTo>
                  <a:pt x="33049" y="0"/>
                </a:lnTo>
                <a:lnTo>
                  <a:pt x="31649" y="1400"/>
                </a:lnTo>
                <a:lnTo>
                  <a:pt x="1400" y="1400"/>
                </a:lnTo>
                <a:close/>
              </a:path>
              <a:path fill="darken" w="33049" h="21600">
                <a:moveTo>
                  <a:pt x="33049" y="0"/>
                </a:moveTo>
                <a:lnTo>
                  <a:pt x="33049" y="21600"/>
                </a:lnTo>
                <a:lnTo>
                  <a:pt x="31649" y="20200"/>
                </a:lnTo>
                <a:lnTo>
                  <a:pt x="31649" y="1400"/>
                </a:lnTo>
                <a:close/>
              </a:path>
              <a:path fill="darkenLess" w="33049" h="21600">
                <a:moveTo>
                  <a:pt x="330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649" y="20200"/>
                </a:lnTo>
                <a:close/>
              </a:path>
              <a:path fill="lighten" w="330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049" h="21600">
                <a:moveTo>
                  <a:pt x="9518" y="3794"/>
                </a:moveTo>
                <a:lnTo>
                  <a:pt x="23531" y="10800"/>
                </a:lnTo>
                <a:lnTo>
                  <a:pt x="9518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" action="ppaction://hlinksldjump"/>
          </p:cNvPr>
          <p:cNvSpPr/>
          <p:nvPr/>
        </p:nvSpPr>
        <p:spPr>
          <a:xfrm>
            <a:off x="0" y="6345360"/>
            <a:ext cx="431640" cy="512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12640"/>
              <a:gd name="textAreaBottom" fmla="*/ 484920 h 512640"/>
            </a:gdLst>
            <a:ahLst/>
            <a:rect l="textAreaLeft" t="textAreaTop" r="textAreaRight" b="textAreaBottom"/>
            <a:pathLst>
              <a:path w="21600" h="25650">
                <a:moveTo>
                  <a:pt x="0" y="0"/>
                </a:moveTo>
                <a:lnTo>
                  <a:pt x="21600" y="0"/>
                </a:lnTo>
                <a:lnTo>
                  <a:pt x="21600" y="25650"/>
                </a:lnTo>
                <a:lnTo>
                  <a:pt x="0" y="25650"/>
                </a:lnTo>
                <a:close/>
              </a:path>
              <a:path fill="lightenLess" w="21600" h="256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50">
                <a:moveTo>
                  <a:pt x="21600" y="0"/>
                </a:moveTo>
                <a:lnTo>
                  <a:pt x="21600" y="25650"/>
                </a:lnTo>
                <a:lnTo>
                  <a:pt x="20200" y="24250"/>
                </a:lnTo>
                <a:lnTo>
                  <a:pt x="20200" y="1400"/>
                </a:lnTo>
                <a:close/>
              </a:path>
              <a:path fill="darkenLess" w="21600" h="25650">
                <a:moveTo>
                  <a:pt x="21600" y="25650"/>
                </a:moveTo>
                <a:lnTo>
                  <a:pt x="0" y="25650"/>
                </a:lnTo>
                <a:lnTo>
                  <a:pt x="1400" y="24250"/>
                </a:lnTo>
                <a:lnTo>
                  <a:pt x="20200" y="24250"/>
                </a:lnTo>
                <a:close/>
              </a:path>
              <a:path fill="lighten" w="21600" h="25650">
                <a:moveTo>
                  <a:pt x="0" y="256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50"/>
                </a:lnTo>
                <a:close/>
              </a:path>
              <a:path fill="darken" w="21600" h="25650">
                <a:moveTo>
                  <a:pt x="10800" y="5862"/>
                </a:moveTo>
                <a:lnTo>
                  <a:pt x="13376" y="8473"/>
                </a:lnTo>
                <a:lnTo>
                  <a:pt x="13376" y="6732"/>
                </a:lnTo>
                <a:lnTo>
                  <a:pt x="15152" y="6732"/>
                </a:lnTo>
                <a:lnTo>
                  <a:pt x="15152" y="10249"/>
                </a:lnTo>
                <a:lnTo>
                  <a:pt x="17763" y="12825"/>
                </a:lnTo>
                <a:lnTo>
                  <a:pt x="16109" y="12825"/>
                </a:lnTo>
                <a:lnTo>
                  <a:pt x="16109" y="20014"/>
                </a:lnTo>
                <a:lnTo>
                  <a:pt x="5491" y="20014"/>
                </a:lnTo>
                <a:lnTo>
                  <a:pt x="5491" y="12825"/>
                </a:lnTo>
                <a:lnTo>
                  <a:pt x="3837" y="12825"/>
                </a:lnTo>
                <a:close/>
              </a:path>
              <a:path fill="darkenLess" w="21600" h="25650">
                <a:moveTo>
                  <a:pt x="13376" y="8473"/>
                </a:moveTo>
                <a:lnTo>
                  <a:pt x="13376" y="6732"/>
                </a:lnTo>
                <a:lnTo>
                  <a:pt x="15152" y="6732"/>
                </a:lnTo>
                <a:lnTo>
                  <a:pt x="15152" y="10249"/>
                </a:lnTo>
                <a:close/>
              </a:path>
              <a:path fill="darkenLess" w="21600" h="25650">
                <a:moveTo>
                  <a:pt x="9877" y="16324"/>
                </a:moveTo>
                <a:lnTo>
                  <a:pt x="11723" y="16324"/>
                </a:lnTo>
                <a:lnTo>
                  <a:pt x="11723" y="20014"/>
                </a:lnTo>
                <a:lnTo>
                  <a:pt x="16109" y="20014"/>
                </a:lnTo>
                <a:lnTo>
                  <a:pt x="16109" y="12825"/>
                </a:lnTo>
                <a:lnTo>
                  <a:pt x="5491" y="12825"/>
                </a:lnTo>
                <a:lnTo>
                  <a:pt x="5491" y="20014"/>
                </a:lnTo>
                <a:lnTo>
                  <a:pt x="9877" y="2001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. Способ получения водорода –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заимодействие активных металлов с кислотами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00360" y="98100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n + HC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88000" y="1305000"/>
            <a:ext cx="75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70028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блюдения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что происходит в приборе для получения газа, как изменяются исходные вещества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24360" y="873000"/>
            <a:ext cx="6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.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68360" y="2637000"/>
            <a:ext cx="8209080" cy="3690720"/>
            <a:chOff x="468360" y="2637000"/>
            <a:chExt cx="8209080" cy="3690720"/>
          </a:xfrm>
        </p:grpSpPr>
        <p:sp>
          <p:nvSpPr>
            <p:cNvPr id="70" name=""/>
            <p:cNvSpPr/>
            <p:nvPr/>
          </p:nvSpPr>
          <p:spPr>
            <a:xfrm>
              <a:off x="468360" y="2637000"/>
              <a:ext cx="820908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2. Приборы для получения и собирания водород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4"/>
            <a:stretch/>
          </p:blipFill>
          <p:spPr>
            <a:xfrm>
              <a:off x="468360" y="3284640"/>
              <a:ext cx="4083120" cy="3043080"/>
            </a:xfrm>
            <a:prstGeom prst="rect">
              <a:avLst/>
            </a:prstGeom>
            <a:ln w="28440">
              <a:solidFill>
                <a:srgbClr val="cc6600"/>
              </a:solidFill>
              <a:miter/>
            </a:ln>
          </p:spPr>
        </p:pic>
        <p:pic>
          <p:nvPicPr>
            <p:cNvPr id="72" name="" descr=""/>
            <p:cNvPicPr/>
            <p:nvPr/>
          </p:nvPicPr>
          <p:blipFill>
            <a:blip r:embed="rId5"/>
            <a:stretch/>
          </p:blipFill>
          <p:spPr>
            <a:xfrm>
              <a:off x="4853160" y="3284640"/>
              <a:ext cx="1195200" cy="302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6048360" y="3284640"/>
            <a:ext cx="2808360" cy="3024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824360" y="3284640"/>
            <a:ext cx="4032360" cy="3024000"/>
          </a:xfrm>
          <a:prstGeom prst="rect">
            <a:avLst/>
          </a:prstGeom>
          <a:noFill/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512640"/>
            <a:ext cx="9144000" cy="2845080"/>
          </a:xfrm>
          <a:prstGeom prst="rect">
            <a:avLst/>
          </a:prstGeom>
          <a:solidFill>
            <a:srgbClr val="ffffcc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. Обнаружение водорода – проверка его на чисто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2" action="ppaction://hlinksldjump"/>
          </p:cNvPr>
          <p:cNvSpPr/>
          <p:nvPr/>
        </p:nvSpPr>
        <p:spPr>
          <a:xfrm>
            <a:off x="0" y="6345360"/>
            <a:ext cx="431640" cy="512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12640"/>
              <a:gd name="textAreaBottom" fmla="*/ 484920 h 512640"/>
            </a:gdLst>
            <a:ahLst/>
            <a:rect l="textAreaLeft" t="textAreaTop" r="textAreaRight" b="textAreaBottom"/>
            <a:pathLst>
              <a:path w="21600" h="25650">
                <a:moveTo>
                  <a:pt x="0" y="0"/>
                </a:moveTo>
                <a:lnTo>
                  <a:pt x="21600" y="0"/>
                </a:lnTo>
                <a:lnTo>
                  <a:pt x="21600" y="25650"/>
                </a:lnTo>
                <a:lnTo>
                  <a:pt x="0" y="25650"/>
                </a:lnTo>
                <a:close/>
              </a:path>
              <a:path fill="lightenLess" w="21600" h="256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50">
                <a:moveTo>
                  <a:pt x="21600" y="0"/>
                </a:moveTo>
                <a:lnTo>
                  <a:pt x="21600" y="25650"/>
                </a:lnTo>
                <a:lnTo>
                  <a:pt x="20200" y="24250"/>
                </a:lnTo>
                <a:lnTo>
                  <a:pt x="20200" y="1400"/>
                </a:lnTo>
                <a:close/>
              </a:path>
              <a:path fill="darkenLess" w="21600" h="25650">
                <a:moveTo>
                  <a:pt x="21600" y="25650"/>
                </a:moveTo>
                <a:lnTo>
                  <a:pt x="0" y="25650"/>
                </a:lnTo>
                <a:lnTo>
                  <a:pt x="1400" y="24250"/>
                </a:lnTo>
                <a:lnTo>
                  <a:pt x="20200" y="24250"/>
                </a:lnTo>
                <a:close/>
              </a:path>
              <a:path fill="lighten" w="21600" h="25650">
                <a:moveTo>
                  <a:pt x="0" y="256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50"/>
                </a:lnTo>
                <a:close/>
              </a:path>
              <a:path fill="darken" w="21600" h="25650">
                <a:moveTo>
                  <a:pt x="10800" y="5862"/>
                </a:moveTo>
                <a:lnTo>
                  <a:pt x="13376" y="8473"/>
                </a:lnTo>
                <a:lnTo>
                  <a:pt x="13376" y="6732"/>
                </a:lnTo>
                <a:lnTo>
                  <a:pt x="15152" y="6732"/>
                </a:lnTo>
                <a:lnTo>
                  <a:pt x="15152" y="10249"/>
                </a:lnTo>
                <a:lnTo>
                  <a:pt x="17763" y="12825"/>
                </a:lnTo>
                <a:lnTo>
                  <a:pt x="16109" y="12825"/>
                </a:lnTo>
                <a:lnTo>
                  <a:pt x="16109" y="20014"/>
                </a:lnTo>
                <a:lnTo>
                  <a:pt x="5491" y="20014"/>
                </a:lnTo>
                <a:lnTo>
                  <a:pt x="5491" y="12825"/>
                </a:lnTo>
                <a:lnTo>
                  <a:pt x="3837" y="12825"/>
                </a:lnTo>
                <a:close/>
              </a:path>
              <a:path fill="darkenLess" w="21600" h="25650">
                <a:moveTo>
                  <a:pt x="13376" y="8473"/>
                </a:moveTo>
                <a:lnTo>
                  <a:pt x="13376" y="6732"/>
                </a:lnTo>
                <a:lnTo>
                  <a:pt x="15152" y="6732"/>
                </a:lnTo>
                <a:lnTo>
                  <a:pt x="15152" y="10249"/>
                </a:lnTo>
                <a:close/>
              </a:path>
              <a:path fill="darkenLess" w="21600" h="25650">
                <a:moveTo>
                  <a:pt x="9877" y="16324"/>
                </a:moveTo>
                <a:lnTo>
                  <a:pt x="11723" y="16324"/>
                </a:lnTo>
                <a:lnTo>
                  <a:pt x="11723" y="20014"/>
                </a:lnTo>
                <a:lnTo>
                  <a:pt x="16109" y="20014"/>
                </a:lnTo>
                <a:lnTo>
                  <a:pt x="16109" y="12825"/>
                </a:lnTo>
                <a:lnTo>
                  <a:pt x="5491" y="12825"/>
                </a:lnTo>
                <a:lnTo>
                  <a:pt x="5491" y="20014"/>
                </a:lnTo>
                <a:lnTo>
                  <a:pt x="9877" y="2001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076720" y="873000"/>
            <a:ext cx="3419640" cy="1074960"/>
            <a:chOff x="5076720" y="873000"/>
            <a:chExt cx="3419640" cy="1074960"/>
          </a:xfrm>
        </p:grpSpPr>
        <p:sp>
          <p:nvSpPr>
            <p:cNvPr id="79" name=""/>
            <p:cNvSpPr/>
            <p:nvPr/>
          </p:nvSpPr>
          <p:spPr>
            <a:xfrm>
              <a:off x="5076720" y="1160640"/>
              <a:ext cx="29527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r>
                <a:rPr b="1" lang="ru-RU" sz="4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 + О</a:t>
              </a:r>
              <a:r>
                <a:rPr b="1" lang="ru-RU" sz="4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416720" y="1521000"/>
              <a:ext cx="936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272360" y="87300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216000" y="245736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блюдения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какой звук слышен, если сжигают чистый водород и загрязненный воздухом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332100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Гремучий га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755640" y="3968640"/>
            <a:ext cx="3600360" cy="2702160"/>
          </a:xfrm>
          <a:prstGeom prst="rect">
            <a:avLst/>
          </a:prstGeom>
          <a:ln w="28440">
            <a:solidFill>
              <a:srgbClr val="cc6600"/>
            </a:solidFill>
            <a:miter/>
          </a:ln>
        </p:spPr>
      </p:pic>
      <p:pic>
        <p:nvPicPr>
          <p:cNvPr id="85" name="" descr="Взаимодействие хлора с бромидами и йодидами"/>
          <p:cNvPicPr/>
          <p:nvPr/>
        </p:nvPicPr>
        <p:blipFill>
          <a:blip r:embed="rId4"/>
          <a:stretch/>
        </p:blipFill>
        <p:spPr>
          <a:xfrm>
            <a:off x="755640" y="3968640"/>
            <a:ext cx="457200" cy="45720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sp>
        <p:nvSpPr>
          <p:cNvPr id="86" name=""/>
          <p:cNvSpPr/>
          <p:nvPr/>
        </p:nvSpPr>
        <p:spPr>
          <a:xfrm rot="5400000">
            <a:off x="8689320" y="6403680"/>
            <a:ext cx="549360" cy="358920"/>
          </a:xfrm>
          <a:custGeom>
            <a:avLst/>
            <a:gdLst>
              <a:gd name="textAreaLeft" fmla="*/ 23040 w 549360"/>
              <a:gd name="textAreaRight" fmla="*/ 526320 w 549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3049" h="21600">
                <a:moveTo>
                  <a:pt x="0" y="0"/>
                </a:moveTo>
                <a:lnTo>
                  <a:pt x="33049" y="0"/>
                </a:lnTo>
                <a:lnTo>
                  <a:pt x="33049" y="21600"/>
                </a:lnTo>
                <a:lnTo>
                  <a:pt x="0" y="21600"/>
                </a:lnTo>
                <a:close/>
              </a:path>
              <a:path fill="lightenLess" w="33049" h="21600">
                <a:moveTo>
                  <a:pt x="0" y="0"/>
                </a:moveTo>
                <a:lnTo>
                  <a:pt x="33049" y="0"/>
                </a:lnTo>
                <a:lnTo>
                  <a:pt x="31649" y="1400"/>
                </a:lnTo>
                <a:lnTo>
                  <a:pt x="1400" y="1400"/>
                </a:lnTo>
                <a:close/>
              </a:path>
              <a:path fill="darken" w="33049" h="21600">
                <a:moveTo>
                  <a:pt x="33049" y="0"/>
                </a:moveTo>
                <a:lnTo>
                  <a:pt x="33049" y="21600"/>
                </a:lnTo>
                <a:lnTo>
                  <a:pt x="31649" y="20200"/>
                </a:lnTo>
                <a:lnTo>
                  <a:pt x="31649" y="1400"/>
                </a:lnTo>
                <a:close/>
              </a:path>
              <a:path fill="darkenLess" w="33049" h="21600">
                <a:moveTo>
                  <a:pt x="330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649" y="20200"/>
                </a:lnTo>
                <a:close/>
              </a:path>
              <a:path fill="lighten" w="330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049" h="21600">
                <a:moveTo>
                  <a:pt x="9518" y="3794"/>
                </a:moveTo>
                <a:lnTo>
                  <a:pt x="23531" y="10800"/>
                </a:lnTo>
                <a:lnTo>
                  <a:pt x="9518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4751280" y="3968640"/>
            <a:ext cx="3600720" cy="2700360"/>
          </a:xfrm>
          <a:prstGeom prst="rect">
            <a:avLst/>
          </a:prstGeom>
          <a:ln w="28440">
            <a:solidFill>
              <a:srgbClr val="cc6600"/>
            </a:solidFill>
            <a:miter/>
          </a:ln>
        </p:spPr>
      </p:pic>
      <p:pic>
        <p:nvPicPr>
          <p:cNvPr id="88" name="" descr="Взаимодействие хлора с бромидами и йодидами"/>
          <p:cNvPicPr/>
          <p:nvPr/>
        </p:nvPicPr>
        <p:blipFill>
          <a:blip r:embed="rId6"/>
          <a:stretch/>
        </p:blipFill>
        <p:spPr>
          <a:xfrm>
            <a:off x="4751280" y="3968640"/>
            <a:ext cx="457200" cy="45720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5257800" y="547560"/>
            <a:ext cx="828720" cy="72072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620640"/>
            <a:ext cx="8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287280" y="728640"/>
            <a:ext cx="2214720" cy="1727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2916360" y="728640"/>
            <a:ext cx="22366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124000" y="4437000"/>
            <a:ext cx="2737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O +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476100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4113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4. Свойства водорода – активный восстановит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7280" y="530064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блюдения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что происходит в пробирке-реакторе, как изменяются исходные вещества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24000" y="476280"/>
            <a:ext cx="828720" cy="72072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58920" y="549360"/>
            <a:ext cx="8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345360"/>
            <a:ext cx="431640" cy="512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12640"/>
              <a:gd name="textAreaBottom" fmla="*/ 484920 h 512640"/>
            </a:gdLst>
            <a:ahLst/>
            <a:rect l="textAreaLeft" t="textAreaTop" r="textAreaRight" b="textAreaBottom"/>
            <a:pathLst>
              <a:path w="21600" h="25650">
                <a:moveTo>
                  <a:pt x="0" y="0"/>
                </a:moveTo>
                <a:lnTo>
                  <a:pt x="21600" y="0"/>
                </a:lnTo>
                <a:lnTo>
                  <a:pt x="21600" y="25650"/>
                </a:lnTo>
                <a:lnTo>
                  <a:pt x="0" y="25650"/>
                </a:lnTo>
                <a:close/>
              </a:path>
              <a:path fill="lightenLess" w="21600" h="256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50">
                <a:moveTo>
                  <a:pt x="21600" y="0"/>
                </a:moveTo>
                <a:lnTo>
                  <a:pt x="21600" y="25650"/>
                </a:lnTo>
                <a:lnTo>
                  <a:pt x="20200" y="24250"/>
                </a:lnTo>
                <a:lnTo>
                  <a:pt x="20200" y="1400"/>
                </a:lnTo>
                <a:close/>
              </a:path>
              <a:path fill="darkenLess" w="21600" h="25650">
                <a:moveTo>
                  <a:pt x="21600" y="25650"/>
                </a:moveTo>
                <a:lnTo>
                  <a:pt x="0" y="25650"/>
                </a:lnTo>
                <a:lnTo>
                  <a:pt x="1400" y="24250"/>
                </a:lnTo>
                <a:lnTo>
                  <a:pt x="20200" y="24250"/>
                </a:lnTo>
                <a:close/>
              </a:path>
              <a:path fill="lighten" w="21600" h="25650">
                <a:moveTo>
                  <a:pt x="0" y="256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50"/>
                </a:lnTo>
                <a:close/>
              </a:path>
              <a:path fill="darken" w="21600" h="25650">
                <a:moveTo>
                  <a:pt x="10800" y="5862"/>
                </a:moveTo>
                <a:lnTo>
                  <a:pt x="13376" y="8473"/>
                </a:lnTo>
                <a:lnTo>
                  <a:pt x="13376" y="6732"/>
                </a:lnTo>
                <a:lnTo>
                  <a:pt x="15152" y="6732"/>
                </a:lnTo>
                <a:lnTo>
                  <a:pt x="15152" y="10249"/>
                </a:lnTo>
                <a:lnTo>
                  <a:pt x="17763" y="12825"/>
                </a:lnTo>
                <a:lnTo>
                  <a:pt x="16109" y="12825"/>
                </a:lnTo>
                <a:lnTo>
                  <a:pt x="16109" y="20014"/>
                </a:lnTo>
                <a:lnTo>
                  <a:pt x="5491" y="20014"/>
                </a:lnTo>
                <a:lnTo>
                  <a:pt x="5491" y="12825"/>
                </a:lnTo>
                <a:lnTo>
                  <a:pt x="3837" y="12825"/>
                </a:lnTo>
                <a:close/>
              </a:path>
              <a:path fill="darkenLess" w="21600" h="25650">
                <a:moveTo>
                  <a:pt x="13376" y="8473"/>
                </a:moveTo>
                <a:lnTo>
                  <a:pt x="13376" y="6732"/>
                </a:lnTo>
                <a:lnTo>
                  <a:pt x="15152" y="6732"/>
                </a:lnTo>
                <a:lnTo>
                  <a:pt x="15152" y="10249"/>
                </a:lnTo>
                <a:close/>
              </a:path>
              <a:path fill="darkenLess" w="21600" h="25650">
                <a:moveTo>
                  <a:pt x="9877" y="16324"/>
                </a:moveTo>
                <a:lnTo>
                  <a:pt x="11723" y="16324"/>
                </a:lnTo>
                <a:lnTo>
                  <a:pt x="11723" y="20014"/>
                </a:lnTo>
                <a:lnTo>
                  <a:pt x="16109" y="20014"/>
                </a:lnTo>
                <a:lnTo>
                  <a:pt x="16109" y="12825"/>
                </a:lnTo>
                <a:lnTo>
                  <a:pt x="5491" y="12825"/>
                </a:lnTo>
                <a:lnTo>
                  <a:pt x="5491" y="20014"/>
                </a:lnTo>
                <a:lnTo>
                  <a:pt x="9877" y="2001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124000" y="512640"/>
            <a:ext cx="4788000" cy="3708360"/>
          </a:xfrm>
          <a:prstGeom prst="rect">
            <a:avLst/>
          </a:prstGeom>
          <a:ln w="2844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орядок выполнения практической работы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345360"/>
            <a:ext cx="431640" cy="512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12640"/>
              <a:gd name="textAreaBottom" fmla="*/ 484920 h 512640"/>
            </a:gdLst>
            <a:ahLst/>
            <a:rect l="textAreaLeft" t="textAreaTop" r="textAreaRight" b="textAreaBottom"/>
            <a:pathLst>
              <a:path w="21600" h="25650">
                <a:moveTo>
                  <a:pt x="0" y="0"/>
                </a:moveTo>
                <a:lnTo>
                  <a:pt x="21600" y="0"/>
                </a:lnTo>
                <a:lnTo>
                  <a:pt x="21600" y="25650"/>
                </a:lnTo>
                <a:lnTo>
                  <a:pt x="0" y="25650"/>
                </a:lnTo>
                <a:close/>
              </a:path>
              <a:path fill="lightenLess" w="21600" h="256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50">
                <a:moveTo>
                  <a:pt x="21600" y="0"/>
                </a:moveTo>
                <a:lnTo>
                  <a:pt x="21600" y="25650"/>
                </a:lnTo>
                <a:lnTo>
                  <a:pt x="20200" y="24250"/>
                </a:lnTo>
                <a:lnTo>
                  <a:pt x="20200" y="1400"/>
                </a:lnTo>
                <a:close/>
              </a:path>
              <a:path fill="darkenLess" w="21600" h="25650">
                <a:moveTo>
                  <a:pt x="21600" y="25650"/>
                </a:moveTo>
                <a:lnTo>
                  <a:pt x="0" y="25650"/>
                </a:lnTo>
                <a:lnTo>
                  <a:pt x="1400" y="24250"/>
                </a:lnTo>
                <a:lnTo>
                  <a:pt x="20200" y="24250"/>
                </a:lnTo>
                <a:close/>
              </a:path>
              <a:path fill="lighten" w="21600" h="25650">
                <a:moveTo>
                  <a:pt x="0" y="256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50"/>
                </a:lnTo>
                <a:close/>
              </a:path>
              <a:path fill="darken" w="21600" h="25650">
                <a:moveTo>
                  <a:pt x="10800" y="5862"/>
                </a:moveTo>
                <a:lnTo>
                  <a:pt x="13376" y="8473"/>
                </a:lnTo>
                <a:lnTo>
                  <a:pt x="13376" y="6732"/>
                </a:lnTo>
                <a:lnTo>
                  <a:pt x="15152" y="6732"/>
                </a:lnTo>
                <a:lnTo>
                  <a:pt x="15152" y="10249"/>
                </a:lnTo>
                <a:lnTo>
                  <a:pt x="17763" y="12825"/>
                </a:lnTo>
                <a:lnTo>
                  <a:pt x="16109" y="12825"/>
                </a:lnTo>
                <a:lnTo>
                  <a:pt x="16109" y="20014"/>
                </a:lnTo>
                <a:lnTo>
                  <a:pt x="5491" y="20014"/>
                </a:lnTo>
                <a:lnTo>
                  <a:pt x="5491" y="12825"/>
                </a:lnTo>
                <a:lnTo>
                  <a:pt x="3837" y="12825"/>
                </a:lnTo>
                <a:close/>
              </a:path>
              <a:path fill="darkenLess" w="21600" h="25650">
                <a:moveTo>
                  <a:pt x="13376" y="8473"/>
                </a:moveTo>
                <a:lnTo>
                  <a:pt x="13376" y="6732"/>
                </a:lnTo>
                <a:lnTo>
                  <a:pt x="15152" y="6732"/>
                </a:lnTo>
                <a:lnTo>
                  <a:pt x="15152" y="10249"/>
                </a:lnTo>
                <a:close/>
              </a:path>
              <a:path fill="darkenLess" w="21600" h="25650">
                <a:moveTo>
                  <a:pt x="9877" y="16324"/>
                </a:moveTo>
                <a:lnTo>
                  <a:pt x="11723" y="16324"/>
                </a:lnTo>
                <a:lnTo>
                  <a:pt x="11723" y="20014"/>
                </a:lnTo>
                <a:lnTo>
                  <a:pt x="16109" y="20014"/>
                </a:lnTo>
                <a:lnTo>
                  <a:pt x="16109" y="12825"/>
                </a:lnTo>
                <a:lnTo>
                  <a:pt x="5491" y="12825"/>
                </a:lnTo>
                <a:lnTo>
                  <a:pt x="5491" y="20014"/>
                </a:lnTo>
                <a:lnTo>
                  <a:pt x="9877" y="2001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441360"/>
            <a:ext cx="8964720" cy="60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. Подготовить пробирку с оксидом меди 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) для изучения свойств водорода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2. Закрепить прибор Кирюшкина в лабораторном штативе,  зарядить его исходными веществами, герметично закрыть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3. Выделяющийся водород собрать методом вытеснения воздуха, зажечь спиртовку и проверить газ на чистоту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4. Затем выделяющийся водород собрать методом вытес-нения воды, зажечь спиртовку и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ff0000"/>
                </a:solidFill>
                <a:latin typeface="Arial"/>
              </a:rPr>
              <a:t>убедиться в его чистоте!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5. Закрепить пробирку с оксидом меди 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) в держателе, прогреть ее на пламени спиртовки, внести газоотводную трубку с выделяющимся водородом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6. Потушить спиртовку, перекрыть выделение газа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7. Оформить результаты работы (наблюдения и вывод),     убрать рабочее место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el</cp:lastModifiedBy>
  <dcterms:modified xsi:type="dcterms:W3CDTF">2012-05-18T20:15:02Z</dcterms:modified>
  <cp:revision>122</cp:revision>
  <dc:subject/>
  <dc:title>PowerPoint Presentation</dc:title>
</cp:coreProperties>
</file>