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079-30BC-4BA4-AF1F-74A5510E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6C9-AB0E-4E19-AE14-48608E28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620-6D57-4BC3-B0A5-1547D509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500-180B-4A0A-9E63-55A18347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EDB-188D-49D0-A481-D6C6A0F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F1F-85EE-40BF-8083-1F09EED7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0F2-65B6-4DA6-AFC7-3D8F64E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365-2024-45E0-ABCE-CB08565A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BC8-7D23-4604-AC07-EE729F5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B53-7D27-4FB0-B04B-7F186E64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9F1-802B-45D0-8540-EEEE504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2D2-9FC6-43DC-A885-7AB29FC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6D0-77A4-4870-9A3E-1A6AB20379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2168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4"/>
          <p:cNvGrpSpPr/>
          <p:nvPr/>
        </p:nvGrpSpPr>
        <p:grpSpPr>
          <a:xfrm>
            <a:off x="503280" y="2168640"/>
            <a:ext cx="8209080" cy="3555720"/>
            <a:chOff x="503280" y="2168640"/>
            <a:chExt cx="8209080" cy="3555720"/>
          </a:xfrm>
        </p:grpSpPr>
        <p:graphicFrame>
          <p:nvGraphicFramePr>
            <p:cNvPr id="43" name="Object 2"/>
            <p:cNvGraphicFramePr/>
            <p:nvPr/>
          </p:nvGraphicFramePr>
          <p:xfrm>
            <a:off x="1187280" y="2924280"/>
            <a:ext cx="3133800" cy="2800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7280" y="2924280"/>
                      <a:ext cx="3133800" cy="280008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Rectangle 3"/>
            <p:cNvSpPr/>
            <p:nvPr/>
          </p:nvSpPr>
          <p:spPr>
            <a:xfrm>
              <a:off x="503280" y="2168640"/>
              <a:ext cx="820908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П</a:t>
              </a: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риборы для получения вод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6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1. Способ получения водорода – взаимодействие металлов с кислота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771640" y="476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+ HC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859280" y="800280"/>
            <a:ext cx="75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79280" y="1125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люден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что происходит в приборе для получения газа, как изменяются исходные веществ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1150920" y="573408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ей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4788000" y="2924280"/>
            <a:ext cx="3205080" cy="3269520"/>
            <a:chOff x="4788000" y="2924280"/>
            <a:chExt cx="3205080" cy="3269520"/>
          </a:xfrm>
        </p:grpSpPr>
        <p:pic>
          <p:nvPicPr>
            <p:cNvPr id="52" name="Picture 11" descr=""/>
            <p:cNvPicPr/>
            <p:nvPr/>
          </p:nvPicPr>
          <p:blipFill>
            <a:blip r:embed="rId4"/>
            <a:stretch/>
          </p:blipFill>
          <p:spPr>
            <a:xfrm>
              <a:off x="5076720" y="2924280"/>
              <a:ext cx="2713320" cy="280980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sp>
          <p:nvSpPr>
            <p:cNvPr id="53" name="Text Box 13"/>
            <p:cNvSpPr/>
            <p:nvPr/>
          </p:nvSpPr>
          <p:spPr>
            <a:xfrm>
              <a:off x="4788000" y="5734080"/>
              <a:ext cx="32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втомат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6"/>
          <p:cNvSpPr/>
          <p:nvPr/>
        </p:nvSpPr>
        <p:spPr>
          <a:xfrm>
            <a:off x="287280" y="836640"/>
            <a:ext cx="8532720" cy="4645080"/>
          </a:xfrm>
          <a:prstGeom prst="rect">
            <a:avLst/>
          </a:prstGeom>
          <a:solidFill>
            <a:srgbClr val="ffcc99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ложные автоматические  приборы для получения  г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5280" y="580536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бны для получения газов                                             при взаимодействии жидкостей и тверд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5256360" y="909720"/>
            <a:ext cx="3209760" cy="401004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58" name="Text Box 14"/>
          <p:cNvSpPr/>
          <p:nvPr/>
        </p:nvSpPr>
        <p:spPr>
          <a:xfrm>
            <a:off x="611280" y="5013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ппарат Ки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606920" y="49784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бор Кирю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6372360" y="432900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улы ц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1280" y="909720"/>
            <a:ext cx="3862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68360" y="0"/>
            <a:ext cx="8209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а автоматического при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40000" y="692280"/>
            <a:ext cx="264312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73760" y="657360"/>
            <a:ext cx="2622600" cy="287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32080" y="3684600"/>
            <a:ext cx="2665080" cy="2859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863960" y="3684600"/>
            <a:ext cx="2837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68360" y="0"/>
            <a:ext cx="820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ы собирания г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H="1">
            <a:off x="2664000" y="47628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4967280" y="512640"/>
            <a:ext cx="1224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606920" y="119700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894200" y="8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теснение 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31640" y="80028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теснение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7126200" y="4795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124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340000" y="364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281480" y="1268280"/>
            <a:ext cx="4753080" cy="54356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179280" y="1268280"/>
            <a:ext cx="3816360" cy="54356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694560" y="5372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,2 объема в    1 объем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6200" y="1376280"/>
            <a:ext cx="4092840" cy="3232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356000" y="4221000"/>
            <a:ext cx="2271960" cy="241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692360" y="4184640"/>
            <a:ext cx="2241360" cy="23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289080" y="1413000"/>
            <a:ext cx="1503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4221000"/>
            <a:ext cx="9144000" cy="24480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692280"/>
            <a:ext cx="9144000" cy="295272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hemistry"/>
          <p:cNvPicPr/>
          <p:nvPr/>
        </p:nvPicPr>
        <p:blipFill>
          <a:blip r:embed="rId2"/>
          <a:stretch/>
        </p:blipFill>
        <p:spPr>
          <a:xfrm>
            <a:off x="395280" y="765000"/>
            <a:ext cx="4083120" cy="2743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4608360" y="765000"/>
            <a:ext cx="4034160" cy="2740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431640" y="3141720"/>
            <a:ext cx="40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с. 4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21600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. Приборы для получения и собирания водорода                                  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(рисунки из учеб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37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 Обнаружение водорода – проверка его на чист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оверка газа на чистоту.mpg" descr=""/>
          <p:cNvPicPr/>
          <p:nvPr/>
        </p:nvPicPr>
        <p:blipFill>
          <a:blip r:embed="rId4"/>
          <a:stretch/>
        </p:blipFill>
        <p:spPr>
          <a:xfrm>
            <a:off x="287280" y="4437000"/>
            <a:ext cx="2592360" cy="194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91" name="Picture 9" descr="Взаимодействие хлора с бромидами и йодидами"/>
          <p:cNvPicPr/>
          <p:nvPr/>
        </p:nvPicPr>
        <p:blipFill>
          <a:blip r:embed="rId5"/>
          <a:stretch/>
        </p:blipFill>
        <p:spPr>
          <a:xfrm>
            <a:off x="324000" y="4510080"/>
            <a:ext cx="457200" cy="4572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92" name="Text Box 11"/>
          <p:cNvSpPr/>
          <p:nvPr/>
        </p:nvSpPr>
        <p:spPr>
          <a:xfrm>
            <a:off x="2411280" y="5805360"/>
            <a:ext cx="64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6657840" y="6200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515280" y="555300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095640" y="4581360"/>
            <a:ext cx="1320840" cy="11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643280" y="4581360"/>
            <a:ext cx="13338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0" y="2960640"/>
            <a:ext cx="9144000" cy="3897360"/>
          </a:xfrm>
          <a:prstGeom prst="rect">
            <a:avLst/>
          </a:prstGeom>
          <a:solidFill>
            <a:srgbClr val="ffcc99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. Свойства водорода – активный 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556000" y="476280"/>
            <a:ext cx="3925800" cy="24321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100" name="Text Box 4"/>
          <p:cNvSpPr/>
          <p:nvPr/>
        </p:nvSpPr>
        <p:spPr>
          <a:xfrm>
            <a:off x="0" y="2924280"/>
            <a:ext cx="9144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омашнее 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формить работу в тетради для практических работ по план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Способ получения водорода – взаимодействие активных металлов с кислот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Приборы для получения и собирания водорода (рис.41,4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Обнаружение водорода – проверка его на чисто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Свойство водорода – активный восстановитель (рис. 4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бник: «Химия-8»/Рудзитис Г.Е., Фельдман Ф.Г. –Просвещ.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el</cp:lastModifiedBy>
  <dcterms:modified xsi:type="dcterms:W3CDTF">2012-05-18T20:12:37Z</dcterms:modified>
  <cp:revision>70</cp:revision>
  <dc:subject/>
  <dc:title>PowerPoint Presentation</dc:title>
</cp:coreProperties>
</file>