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3B9649-A4C1-4BF1-9C9E-416797EAF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4836D2-E5C3-49A9-A2AF-BDDA3F8E9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4C1E85-436D-4AFC-910C-B0D2FE0A2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908115-B047-44E0-8278-A903508AA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55F3F-4956-4EA8-B49D-619B73AA8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ABFD0-2387-49AF-B05B-7EC059D62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FD9D4-573C-44C1-8FAD-152EFC1B4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D55EA-9610-4ACA-89E2-D07501825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91BB5-F77D-44B1-8E6A-7D7D51E4D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52E75-0482-46A1-B9DB-0FD95E810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7BB1A-DD68-419F-9A2D-81E4A06BB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3167EA-F04C-4B0A-B55D-5CB0D0620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EB692-744A-45CD-8482-2E6E49985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10814-104F-4D5B-91F9-1C115618D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F5C6A-B042-461E-BFC3-F6782D655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B72A6-4930-4170-8E05-E0D2EBF50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164FA-F14A-4A16-982E-DE0F804EB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328164-F32E-413A-BAC7-07604FB35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7434EC-3A40-486A-8160-6223B6FF2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3E3DE9-22F8-4BF4-B085-555F8866A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C9D8E9-1184-455C-AE14-EA933DFB0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C2E78E-A12B-4287-BCD6-E789D9C11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A236ED-19C5-4B6F-B275-9103E4886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AB97E4-A021-4297-B96D-DB91CC382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927E13-1D15-4F7F-9944-AD3B5AAA5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10460C-8D5F-4F3C-AFED-88932B739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88F2E1-CE02-4BA5-9483-33AEE80B1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86DCB2-21D8-4F1F-8C43-41336CF78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19BB20-C387-4C5E-852F-7AB8F3CCE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E6387F-1914-4D14-93A7-F116CDD44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91F5DE-4E5A-4E0C-827E-9B115BCF3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004A81-87AF-4EEA-B9C6-AC09968B2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3D7444-7963-4C5D-8320-B3AC803E4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CECAC3-3534-413E-91C2-C432A714B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AD138B-4B1C-44F2-946B-13DAE1322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A69BAF-0E70-4CD6-B3D3-130EA5FFF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B862D4-BA3A-407B-AC15-6FFFCD7A3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11EFA2-9EFB-4603-8FD1-2B0E42D6C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E80CD4-3E00-4047-81B1-D0939C371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BF4C72-83BB-46BB-8333-9335C39D5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897FDC-A646-40F5-9887-2D6576F53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342507-7CA2-4598-941D-DAF1E20F3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08C224-E08F-4DEE-A3A7-BF62D9D21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FEC97A-C169-4876-B2C9-DB45FDB4D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C7B501-DBCF-437A-957F-D22F99C96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F73C67-6941-4AD9-8AF4-58B1EE831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B89BA0-B230-4065-AA4A-FB317B5CB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D07895-F404-4B91-9365-FB6637AF4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10E66F-EE4B-4343-BE5D-4CC295B94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2C5687-75D3-4E94-9A4E-16DF78D66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67B746-3E82-4548-9BEA-30592E726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A5069D-B9B0-4545-AAEA-B35066D03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BC04DD-C0D7-47FF-B49F-FD914FE1A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1E25E6-A94D-479E-85F4-BAAFA71C9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BEB46A-14D7-4209-958E-8E06C55B1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ED9D65-FA06-4EBE-8C60-A82EE0F04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9C2F7E-F2B2-46E9-B1EB-CD065F2EC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37C956-816F-42E2-8867-E7E971267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579A74-195A-4550-97A8-334A527B2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E1FEB1-18D0-4B67-B848-1E33D3F61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6BE55E-F334-4F93-A3E3-745098661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5DC406-4021-40D9-8920-9E975A6AD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5C170B-8BAE-4260-A985-6CB66C341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CC9F87-32EE-4FAE-842E-0E084B6BE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A6D5E8-3EB6-4280-863C-95FE250F0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2E99BD-16EC-45D0-A349-4CA7FA362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94E2FC-4926-49E6-BECF-05D9D8A68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0C665F-9784-4368-A0C1-3E994EDC1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409875-E054-4F90-9AB3-E7A77A979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A627DF-5AF5-413B-88D2-1F42AD892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7AAC66-9C41-4EA1-ABE2-C69AE5387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5BD253-A194-4EC0-A006-B2B3CABFA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4BF85F-3A19-4B91-A558-0614A2E52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BFEB57-10AE-496E-981A-49AA45995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4E03AA-C034-48CE-8F5A-729DA39EE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EA3BE4-68C7-479A-8B8F-2499804F1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A333A8-31FB-453F-A074-6A3309480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564525-1123-4B6F-86F8-01C38ACBD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84BD07-7573-4DA9-90EF-1B78784B3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F8167E-B373-4EAD-93CE-0C40CC6D3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8E67B3-FD27-459F-BC15-D2AB3D696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7D7A00-470A-48BA-A769-AEB1C0521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6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6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3E6440-67D4-44F6-9748-42555767A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3C3C06-AAD7-4C97-9B62-C6F5BBA51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5F7D12-480C-4305-A631-CECC78B73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F35539-E66B-471A-92F5-0BEB1FF48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588175-22F4-4C7B-8A43-1C9AF3632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731143-BFCB-43CB-A702-67F8ABEDA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652DC2-C2F6-438E-B88C-5848F5201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241B4E-1E5F-49EF-BD69-C43F3AA46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F7F463-B52B-4979-B475-C70A387BE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BA598F-97FC-4493-9849-40969FA4C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4A9E05-230A-4BB5-ABF5-219AA30D3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C154D0-2B6E-48F9-A6D1-4B98689E1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02257F-6E4A-4306-97B7-EA51E197F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4ED29C-9FF6-4D62-9D44-5894E9743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1BD6F-640C-445B-AE1E-88A6703F919F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65E06-4047-4860-A7E1-A0D9C99F5B1A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7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8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9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EE2FA-6481-4F7A-BCE4-82101DD5714F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35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44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45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9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52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53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1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62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65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66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7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68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76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FAD47-E52F-4952-A70C-290FF3A8AD2E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219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22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223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228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229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32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233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38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6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277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68628-B448-4DA2-8D89-E17922813D9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3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334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588D9-79E8-4BEF-AC2C-6E73D1D860D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9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390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391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93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394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96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397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99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400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401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3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404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405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6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7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408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9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0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411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2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3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414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5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6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417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8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9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420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1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2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423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4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5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426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7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8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29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0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1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2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3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4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35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6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7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38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9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0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441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2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3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444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5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6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447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8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9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450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1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2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453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4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5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456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7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8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459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0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1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462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3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4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465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6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67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8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69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470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1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2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473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4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5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476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7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8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479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0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1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482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3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4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485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6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7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488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9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0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491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2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3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494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5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6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497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8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9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500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1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02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46785-6923-40D6-A7C8-A9B11089E74B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5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566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567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69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570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571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572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3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4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575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576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7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78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579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0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81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582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3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84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585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6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87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588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9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90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591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92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93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594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95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96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597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98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99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600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1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02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603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4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05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606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7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08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609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0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11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612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3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14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615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6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17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618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9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20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621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22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23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624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25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26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627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28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29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630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31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32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633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34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35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636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37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638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9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640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641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2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43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644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5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46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647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8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49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650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51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52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653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54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55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656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57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58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659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0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61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662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3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64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665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6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67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668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9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70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671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2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673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674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675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6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7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8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9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0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1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82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83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684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62661-179B-48BF-885C-51A970631B1C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&#1087;&#1088;&#1077;&#1079;&#1077;&#1085;&#1090;&#1072;&#1094;&#1080;&#1103;2.ppt" TargetMode="External"/><Relationship Id="rId2" Type="http://schemas.openxmlformats.org/officeDocument/2006/relationships/slideLayout" Target="../slideLayouts/slideLayout5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611280" y="227664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Повышение качества образования через применение метода проекта и ИКТ в процессе преподавания филологических дисциплин</a:t>
            </a:r>
            <a:br>
              <a:rPr sz="4400"/>
            </a:br>
            <a:br>
              <a:rPr sz="2400"/>
            </a:b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Карпова Юлия Сергеевна</a:t>
            </a:r>
            <a:br>
              <a:rPr sz="2400"/>
            </a:b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 учитель русского языка и литературы </a:t>
            </a:r>
            <a:br>
              <a:rPr sz="2400"/>
            </a:b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МКОУ Таскаевская СОШ</a:t>
            </a:r>
            <a:br>
              <a:rPr sz="2400"/>
            </a:b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"/>
          <p:cNvSpPr/>
          <p:nvPr/>
        </p:nvSpPr>
        <p:spPr>
          <a:xfrm flipH="1">
            <a:off x="1692360" y="1052640"/>
            <a:ext cx="1079280" cy="13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6084720" y="981000"/>
            <a:ext cx="1440000" cy="1224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 flipH="1">
            <a:off x="7092720" y="3141720"/>
            <a:ext cx="672840" cy="1079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 flipH="1" flipV="1">
            <a:off x="1116000" y="2997000"/>
            <a:ext cx="503280" cy="1152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 flipH="1">
            <a:off x="1763640" y="4149720"/>
            <a:ext cx="5184720" cy="71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0" y="2687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1627560" y="586080"/>
            <a:ext cx="4575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80"/>
                </a:solidFill>
                <a:latin typeface="Arial"/>
                <a:ea typeface="Times New Roman"/>
              </a:rPr>
              <a:t>                </a:t>
            </a:r>
            <a:r>
              <a:rPr b="1" lang="ru-RU" sz="1400" spc="-1" strike="noStrike">
                <a:solidFill>
                  <a:srgbClr val="000080"/>
                </a:solidFill>
                <a:latin typeface="Arial"/>
              </a:rPr>
              <a:t>      </a:t>
            </a:r>
            <a:r>
              <a:rPr b="1" lang="ru-RU" sz="3200" spc="-1" strike="noStrike">
                <a:solidFill>
                  <a:srgbClr val="000080"/>
                </a:solidFill>
                <a:latin typeface="Georgia"/>
              </a:rPr>
              <a:t>целеполага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39240" y="2363040"/>
            <a:ext cx="8692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Georgia"/>
              </a:rPr>
              <a:t>анализ ситуации                планирова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166320" y="4291560"/>
            <a:ext cx="8535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Georgia"/>
              </a:rPr>
              <a:t>анализ                                     деятельнос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Georgia"/>
              </a:rPr>
              <a:t>деятельности                    по реализац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6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7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8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9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2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3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4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5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6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8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9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0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31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/>
          </p:nvPr>
        </p:nvSpPr>
        <p:spPr>
          <a:xfrm>
            <a:off x="685440" y="475920"/>
            <a:ext cx="7054920" cy="50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намечать ведущие и текущие (промежуточные) цели и задачи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искать пути их решения, выбирая оптимальный при наличии альтернативы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осуществлять и аргументировать выбор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предусматривать последствия выбора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действовать самостоятельно (без подсказки)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сравнивать полученное с требуемым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корректировать деятельность с учетом промежуточных результатов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объективно оценивать процесс (саму деятельность) и результаты проектирования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/>
          </p:nvPr>
        </p:nvSpPr>
        <p:spPr>
          <a:xfrm>
            <a:off x="685800" y="836640"/>
            <a:ext cx="7199280" cy="46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b200"/>
                </a:solidFill>
                <a:uFillTx/>
                <a:latin typeface="Comic Sans MS"/>
              </a:rPr>
              <a:t>По доминирующей деятельности школьников</a:t>
            </a:r>
            <a:r>
              <a:rPr b="0" lang="en-US" sz="3200" spc="-1" strike="noStrike">
                <a:solidFill>
                  <a:srgbClr val="00b200"/>
                </a:solidFill>
                <a:latin typeface="Comic Sans MS"/>
              </a:rPr>
              <a:t> проекты можно разделить на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n-US" sz="3200" spc="-1" strike="noStrike">
                <a:solidFill>
                  <a:srgbClr val="00b200"/>
                </a:solidFill>
                <a:latin typeface="Comic Sans MS"/>
              </a:rPr>
              <a:t> типов: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практико-ориентированный проект;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исследовательский проект;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информационный проект;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творческий проект;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ролевой проект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/>
          </p:nvPr>
        </p:nvSpPr>
        <p:spPr>
          <a:xfrm>
            <a:off x="685440" y="620640"/>
            <a:ext cx="705492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b200"/>
                </a:solidFill>
                <a:uFillTx/>
                <a:latin typeface="Comic Sans MS"/>
              </a:rPr>
              <a:t>По продолжительности</a:t>
            </a:r>
            <a:r>
              <a:rPr b="0" lang="en-US" sz="3200" spc="-1" strike="noStrike">
                <a:solidFill>
                  <a:srgbClr val="00b200"/>
                </a:solidFill>
                <a:latin typeface="Comic Sans MS"/>
              </a:rPr>
              <a:t> можно выделить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4</a:t>
            </a:r>
            <a:r>
              <a:rPr b="0" lang="en-US" sz="3200" spc="-1" strike="noStrike">
                <a:solidFill>
                  <a:srgbClr val="00b200"/>
                </a:solidFill>
                <a:latin typeface="Comic Sans MS"/>
              </a:rPr>
              <a:t> типа: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мини-проекты;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краткосрочные проекты;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недельные проекты;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годичные проекты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/>
          </p:nvPr>
        </p:nvSpPr>
        <p:spPr>
          <a:xfrm>
            <a:off x="685440" y="549360"/>
            <a:ext cx="705492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ff"/>
                </a:solidFill>
                <a:latin typeface="Comic Sans MS"/>
              </a:rPr>
              <a:t>   </a:t>
            </a:r>
            <a:r>
              <a:rPr b="1" lang="ru-RU" sz="2400" spc="-1" strike="noStrike" u="sng">
                <a:solidFill>
                  <a:srgbClr val="ff00ff"/>
                </a:solidFill>
                <a:uFillTx/>
                <a:latin typeface="Comic Sans MS"/>
              </a:rPr>
              <a:t>Преимущества персональных проектов</a:t>
            </a:r>
            <a:r>
              <a:rPr b="1" lang="ru-RU" sz="2400" spc="-1" strike="noStrike">
                <a:solidFill>
                  <a:srgbClr val="ff00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лан работы над проектом может быть выстроен и отслежен с максимальной четкостью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у учащихся полноценно формируется чувство ответственности, поскольку выполнение проекта зависит только от него самого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учащийся приобретает опыт деятельности на всех без исключения этапах выполнения проекта – от рождения замысла до итоговой рефлексии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формирование у учащихся важнейших общеучебных умений и навыков (исследовательских, презентационных, оценочных) оказывается вполне управляемым процессом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/>
          </p:nvPr>
        </p:nvSpPr>
        <p:spPr>
          <a:xfrm>
            <a:off x="685440" y="620640"/>
            <a:ext cx="705492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Comic Sans MS"/>
              </a:rPr>
              <a:t>     </a:t>
            </a:r>
            <a:r>
              <a:rPr b="1" lang="en-US" sz="2400" spc="-1" strike="noStrike" u="sng">
                <a:solidFill>
                  <a:srgbClr val="ff00ff"/>
                </a:solidFill>
                <a:uFillTx/>
                <a:latin typeface="Comic Sans MS"/>
              </a:rPr>
              <a:t>Преимущества групповых проектов</a:t>
            </a:r>
            <a:r>
              <a:rPr b="1" lang="en-US" sz="2400" spc="-1" strike="noStrike">
                <a:solidFill>
                  <a:srgbClr val="ff00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у участников проектной группы формируются навыки сотрудничества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проект может быть выполнен наиболее глубоко и разносторонне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каждый этап работы над проектом, как правило, имеет своего ситуационного лидера, и, наоборот, каждый учащийся, в зависимости от своих сильных сторон, наиболее активно включен в определенный этап работы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в рамках проектной группы могут быть образованы подгруппы, предлагающие различные пути решения проблемы, идеи, гипотезы, точки зрения; этот соревновательный элемент, как правило,  повышает мотивацию участников и положительно влияет на качество выполнения проекта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1115640" y="198864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 u="sng">
                <a:solidFill>
                  <a:srgbClr val="eec85e"/>
                </a:solidFill>
                <a:uFillTx/>
                <a:latin typeface="Arial"/>
                <a:hlinkClick r:id="rId1"/>
              </a:rPr>
              <a:t>Презентация _x000b_урока-проекта</a:t>
            </a:r>
            <a:endParaRPr b="0" lang="en-US" sz="66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"/>
          <p:cNvSpPr txBox="1"/>
          <p:nvPr/>
        </p:nvSpPr>
        <p:spPr>
          <a:xfrm>
            <a:off x="539640" y="404640"/>
            <a:ext cx="5975640" cy="532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Georgia"/>
              </a:rPr>
              <a:t>Спасибо </a:t>
            </a:r>
            <a:endParaRPr b="0" lang="en-US" sz="4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Georgia"/>
              </a:rPr>
              <a:t>за внимание!</a:t>
            </a:r>
            <a:endParaRPr b="0" lang="en-US" sz="4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</p:spTree>
  </p:cSld>
  <p:transition>
    <p:comb dir="horz"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7" dur="20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0" dur="20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31T19:16:26Z</dcterms:created>
  <dc:creator>User</dc:creator>
  <dc:description/>
  <dc:language>en-US</dc:language>
  <cp:lastModifiedBy>надежда</cp:lastModifiedBy>
  <dcterms:modified xsi:type="dcterms:W3CDTF">2012-05-09T15:25:41Z</dcterms:modified>
  <cp:revision>11</cp:revision>
  <dc:subject/>
  <dc:title>Повышение качества образования через применение метода проекта и ИКТ в процессе преподавания филологических дисциплин</dc:title>
</cp:coreProperties>
</file>