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89A-C3B7-40B7-B1A1-1363B4E7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40C-ACC6-473E-A483-ECE92D74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C2E-C35E-47CC-A2BB-264ABD69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A079-363C-4C17-8CED-CB2AE904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A20-8FDE-4F41-838E-8EBAB596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60C-159C-4217-A4CE-3EF8718E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2D4-5A5B-42E6-8048-55FE7E08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5B47-6CBC-40CE-9847-1BF54193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B5F-7DE3-48BD-BAE2-3B955590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4C1-2685-48DA-95A8-B9CDC0F0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A214-D3B2-41DA-B5FE-A91F7AF1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7CE-68F0-4F3B-A0EA-AE76C99C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12FB-A782-4D2C-A17E-AC1D0241C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wer.ru/files/u771081/screen12/Roseqx0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esktop.kazansoft.ru/bigimages/flowers/roses/img-a613d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nterpres.ru/catalog/images/068793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2240" y="990720"/>
            <a:ext cx="914796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Урок литературного чте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          </a:t>
            </a: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в 4  класс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Картинка 19 из 115317"/>
          <p:cNvPicPr/>
          <p:nvPr/>
        </p:nvPicPr>
        <p:blipFill>
          <a:blip r:embed="rId1"/>
          <a:stretch/>
        </p:blipFill>
        <p:spPr>
          <a:xfrm>
            <a:off x="4419720" y="2971800"/>
            <a:ext cx="42670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Картинка 46 из 136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609480"/>
            <a:ext cx="4214880" cy="3156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0" y="685800"/>
            <a:ext cx="4572000" cy="2976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48769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Роз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имвол доб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80060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Жаб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символ з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609480"/>
            <a:ext cx="716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685800"/>
            <a:ext cx="5076720" cy="3800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8160" y="4799520"/>
            <a:ext cx="8722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Пусть ваша душа будет также прекрас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как этот удивительный цвет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8000"/>
                </a:solidFill>
                <a:latin typeface="Verdana"/>
              </a:rPr>
              <a:t>Учитесь у мира только хорош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Мои документы\Наташа\Школа\Чтение\Гаршин\708ru.jpg"/>
          <p:cNvPicPr/>
          <p:nvPr/>
        </p:nvPicPr>
        <p:blipFill>
          <a:blip r:embed="rId1"/>
          <a:stretch/>
        </p:blipFill>
        <p:spPr>
          <a:xfrm>
            <a:off x="609480" y="457200"/>
            <a:ext cx="434844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Подзаголовок 2"/>
          <p:cNvSpPr/>
          <p:nvPr/>
        </p:nvSpPr>
        <p:spPr>
          <a:xfrm>
            <a:off x="4191120" y="1447920"/>
            <a:ext cx="42480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Всеволод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Михайлович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Гаршин </a:t>
            </a:r>
            <a:br>
              <a:rPr sz="3700"/>
            </a:br>
            <a:r>
              <a:rPr b="1" lang="en-US" sz="3700" spc="-1" strike="noStrike">
                <a:solidFill>
                  <a:srgbClr val="006600"/>
                </a:solidFill>
                <a:latin typeface="Arial"/>
              </a:rPr>
              <a:t>(1855-1888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2697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артинка 6 из 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80880"/>
            <a:ext cx="421308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735720" y="457200"/>
            <a:ext cx="236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Цели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371600"/>
            <a:ext cx="89154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Знакомство с произведением В.М.Гаршина «Сказка о жабе и роз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Выявление главной идеи произведения через характеристику героев и художественные особ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Осмысление мира как воплощение добра и з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8380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84880" y="15228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762120"/>
            <a:ext cx="8915400" cy="65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ознакомиться с содержанием сказки, ее геро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Раскрыть образ героев сказ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нешний вид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Характер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Взаимоотношения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Мечты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Характеристика действий и поступков геро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Определить художественные особенности ск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5480" y="19810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440" y="1187280"/>
            <a:ext cx="747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Мир жабы злобен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Нам предстоит его раскры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А роза, милое создань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Она сотворена люб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Вот эти два противореч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Без них никак нельзя нам бы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Задача наша на сегодня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Добро и зло разоблач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38280" y="5335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20240" y="533520"/>
            <a:ext cx="413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Задача урока</a:t>
            </a: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895480"/>
            <a:ext cx="8915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Раскрыть понятия «ДОБРО» и «ЗЛО» через характеристику геро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Картинка 44 из 28741"/>
          <p:cNvPicPr/>
          <p:nvPr/>
        </p:nvPicPr>
        <p:blipFill>
          <a:blip r:embed="rId1"/>
          <a:stretch/>
        </p:blipFill>
        <p:spPr>
          <a:xfrm>
            <a:off x="6705720" y="4518000"/>
            <a:ext cx="2209680" cy="1989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Картинка 6 из 82264"/>
          <p:cNvPicPr/>
          <p:nvPr/>
        </p:nvPicPr>
        <p:blipFill>
          <a:blip r:embed="rId2"/>
          <a:stretch/>
        </p:blipFill>
        <p:spPr>
          <a:xfrm>
            <a:off x="380880" y="228600"/>
            <a:ext cx="18050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609480"/>
            <a:ext cx="8610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Добро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– нечто положительное, хорошее, полезное, противоположное зл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8000"/>
                </a:solidFill>
                <a:latin typeface="Arial"/>
              </a:rPr>
              <a:t>Зло 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– нечто дурное, вредное, противоположное добр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f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451520" y="1828440"/>
            <a:ext cx="6555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кружающая обстан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Внешний ви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Дейст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ечты, эмоции, чув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0666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e</cp:lastModifiedBy>
  <dcterms:modified xsi:type="dcterms:W3CDTF">2011-11-20T06:50:00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