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EB24-882D-4F5C-83B9-1A5B49BE2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емена росли, нарисовали землю 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ли водицу, чтоб семенам нап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ще тепло и свет, ведь без них и жизни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 воздуха, друзья, поверьте нам – никак нельз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696-6C32-40F1-BE57-B5DB8AC2E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этой вот планете дружно семена жив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ми украшают клумбы, уют в доме созд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ят животных, птиц и люд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у них кулинарных за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из семян леса вырастаю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оздух для всех очищ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690-03C5-40E1-85C8-33C14546A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ели планеты семенной дружно просып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8C7-37D5-4901-B7E2-20AB973D4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емена сажали, ухаживали за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удо это видели глазами сво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1C3-0178-4D98-BD9C-182CC2A2E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8B64-9463-4542-885E-2461B1A00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читали, наблюдали, мастерили и 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красавцах-семенах очень многое  узн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6B2-2054-47A5-B0A1-121389A8B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емена – сразу разница вид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258-9362-4AD9-961C-2F460667B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матрешки, для примера, они разного раз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C13-FDE7-485B-ABE2-7F81260FC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ертки у конфеты, отличаются по цв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F9B-936B-49A0-87B4-345A81752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ь внимательней вглядишься, ты их форме уди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F7F-F983-4B47-B006-368FFD5EB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прекрасные и на ощупь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AF1F-AF2C-4164-A0A2-8092A6222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хожи они в том, в этом нет сомн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все – спящие деточк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2E5-FC82-4781-A854-0BA2AEB39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ля всех, для всех семян придумали пла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игде другой такой во вселенной 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0242-2C0E-4567-8C1B-2ECD62EF8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C98-63F5-47D3-BAA4-5380A78F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E52-B90B-484D-9973-199D2BE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F97-93EB-4DA6-A799-02E5C440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378-0105-437B-AC7D-7FFB1DE7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9C0-9C44-439B-96BE-CF4D510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DB5-FA6A-4C36-BC30-51CF392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38C-A183-42FA-932F-AD7BF38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F01-36A9-4753-9101-F9224C4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B99-AE91-410C-9A45-9FE8D9D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193-CF66-4588-A95C-A688CF7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E75-46D2-42D6-A4E4-C4902FF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9CE-846B-4D74-B3FC-7BC0AF8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5B2-ADEE-49D5-BC8C-022BDF2D6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дзаголовок 2"/>
          <p:cNvSpPr/>
          <p:nvPr/>
        </p:nvSpPr>
        <p:spPr>
          <a:xfrm>
            <a:off x="2484360" y="189000"/>
            <a:ext cx="64008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471d"/>
                </a:solidFill>
                <a:latin typeface="Arial"/>
              </a:rPr>
              <a:t>Презентация обучающего пос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1981080" y="1752480"/>
            <a:ext cx="6477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ланета СЕМЕН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484360" y="5418000"/>
            <a:ext cx="66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471d"/>
                </a:solidFill>
                <a:latin typeface="Arial"/>
              </a:rPr>
              <a:t>Рогова Татьяна Пет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471d"/>
                </a:solidFill>
                <a:latin typeface="Arial"/>
              </a:rPr>
              <a:t>воспитатель МБДОУ «Детский сад № 10 «Гнездышк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471d"/>
                </a:solidFill>
                <a:latin typeface="Arial"/>
              </a:rPr>
              <a:t>г. Рубц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Рисунок21.jpg"/>
          <p:cNvPicPr/>
          <p:nvPr/>
        </p:nvPicPr>
        <p:blipFill>
          <a:blip r:embed="rId1"/>
          <a:stretch/>
        </p:blipFill>
        <p:spPr>
          <a:xfrm>
            <a:off x="262080" y="209520"/>
            <a:ext cx="8619840" cy="6438960"/>
          </a:xfrm>
          <a:prstGeom prst="rect">
            <a:avLst/>
          </a:prstGeom>
          <a:ln w="0">
            <a:noFill/>
          </a:ln>
        </p:spPr>
      </p:pic>
      <p:sp>
        <p:nvSpPr>
          <p:cNvPr id="77" name="Кольцо 2"/>
          <p:cNvSpPr/>
          <p:nvPr/>
        </p:nvSpPr>
        <p:spPr>
          <a:xfrm>
            <a:off x="2735280" y="1619280"/>
            <a:ext cx="3637080" cy="3637080"/>
          </a:xfrm>
          <a:custGeom>
            <a:avLst/>
            <a:gdLst>
              <a:gd name="textAreaLeft" fmla="*/ 532440 w 3637080"/>
              <a:gd name="textAreaRight" fmla="*/ 3104640 w 3637080"/>
              <a:gd name="textAreaTop" fmla="*/ 532440 h 3637080"/>
              <a:gd name="textAreaBottom" fmla="*/ 3104640 h 3637080"/>
            </a:gdLst>
            <a:ahLst/>
            <a:rect l="textAreaLeft" t="textAreaTop" r="textAreaRight" b="textAreaBottom"/>
            <a:pathLst>
              <a:path w="3636962" h="3636963">
                <a:moveTo>
                  <a:pt x="0" y="1818482"/>
                </a:moveTo>
                <a:lnTo>
                  <a:pt x="0" y="1818482"/>
                </a:lnTo>
                <a:arcTo wR="1818481" hR="1818482" stAng="-10799996" swAng="5400002"/>
                <a:lnTo>
                  <a:pt x="1818484" y="2"/>
                </a:lnTo>
                <a:arcTo wR="1818481" hR="1818482" stAng="-5399996" swAng="5400002"/>
                <a:lnTo>
                  <a:pt x="3636963" y="1818487"/>
                </a:lnTo>
                <a:arcTo wR="1818481" hR="1818482" stAng="0" swAng="5400002"/>
                <a:lnTo>
                  <a:pt x="1818481" y="3636969"/>
                </a:lnTo>
                <a:arcTo wR="1818481" hR="1818482" stAng="5400002" swAng="5400002"/>
                <a:close/>
                <a:moveTo>
                  <a:pt x="335219" y="1818482"/>
                </a:moveTo>
                <a:lnTo>
                  <a:pt x="335219" y="1818482"/>
                </a:lnTo>
                <a:arcTo wR="1483262" hR="1483263" stAng="-10799995" swAng="-5400000"/>
                <a:lnTo>
                  <a:pt x="1818479" y="3301747"/>
                </a:lnTo>
                <a:arcTo wR="1483262" hR="1483263" stAng="5400002" swAng="-5400000"/>
                <a:lnTo>
                  <a:pt x="3301742" y="1818485"/>
                </a:lnTo>
                <a:arcTo wR="1483262" hR="1483263" stAng="0" swAng="-5400000"/>
                <a:lnTo>
                  <a:pt x="1818480" y="335222"/>
                </a:lnTo>
                <a:arcTo wR="1483262" hR="1483263" stAng="-5399995" swAng="-5400000"/>
                <a:close/>
              </a:path>
            </a:pathLst>
          </a:custGeom>
          <a:solidFill>
            <a:srgbClr val="262626"/>
          </a:solidFill>
          <a:ln cap="rnd"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Кольцо 3"/>
          <p:cNvSpPr/>
          <p:nvPr/>
        </p:nvSpPr>
        <p:spPr>
          <a:xfrm>
            <a:off x="2411280" y="1295280"/>
            <a:ext cx="4284720" cy="4284720"/>
          </a:xfrm>
          <a:custGeom>
            <a:avLst/>
            <a:gdLst>
              <a:gd name="textAreaLeft" fmla="*/ 627480 w 4284720"/>
              <a:gd name="textAreaRight" fmla="*/ 3657240 w 4284720"/>
              <a:gd name="textAreaTop" fmla="*/ 627480 h 4284720"/>
              <a:gd name="textAreaBottom" fmla="*/ 3657240 h 4284720"/>
            </a:gdLst>
            <a:ahLst/>
            <a:rect l="textAreaLeft" t="textAreaTop" r="textAreaRight" b="textAreaBottom"/>
            <a:pathLst>
              <a:path w="4284662" h="4284663">
                <a:moveTo>
                  <a:pt x="0" y="2142332"/>
                </a:moveTo>
                <a:lnTo>
                  <a:pt x="0" y="2142332"/>
                </a:lnTo>
                <a:arcTo wR="2142331" hR="2142332" stAng="-10799997" swAng="5400003"/>
                <a:lnTo>
                  <a:pt x="2142335" y="2"/>
                </a:lnTo>
                <a:arcTo wR="2142331" hR="2142332" stAng="-5399997" swAng="5400003"/>
                <a:lnTo>
                  <a:pt x="4284664" y="2142338"/>
                </a:lnTo>
                <a:arcTo wR="2142331" hR="2142332" stAng="0" swAng="5400002"/>
                <a:lnTo>
                  <a:pt x="2142332" y="4284670"/>
                </a:lnTo>
                <a:arcTo wR="2142331" hR="2142332" stAng="5400002" swAng="5400002"/>
                <a:close/>
                <a:moveTo>
                  <a:pt x="333432" y="2142332"/>
                </a:moveTo>
                <a:lnTo>
                  <a:pt x="333432" y="2142332"/>
                </a:lnTo>
                <a:arcTo wR="1808899" hR="1808899" stAng="-10799996" swAng="-5400000"/>
                <a:lnTo>
                  <a:pt x="2142329" y="3951233"/>
                </a:lnTo>
                <a:arcTo wR="1808899" hR="1808899" stAng="5400002" swAng="-5400000"/>
                <a:lnTo>
                  <a:pt x="3951229" y="2142335"/>
                </a:lnTo>
                <a:arcTo wR="1808899" hR="1808899" stAng="0" swAng="-5400000"/>
                <a:lnTo>
                  <a:pt x="2142330" y="333436"/>
                </a:lnTo>
                <a:arcTo wR="1808899" hR="1808899" stAng="-5399996" swAng="-5400000"/>
                <a:close/>
              </a:path>
            </a:pathLst>
          </a:custGeom>
          <a:solidFill>
            <a:srgbClr val="00b0f0"/>
          </a:solidFill>
          <a:ln cap="rnd" w="25560">
            <a:solidFill>
              <a:srgbClr val="b9cd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Кольцо 4"/>
          <p:cNvSpPr/>
          <p:nvPr/>
        </p:nvSpPr>
        <p:spPr>
          <a:xfrm>
            <a:off x="2124000" y="1008000"/>
            <a:ext cx="4859280" cy="4859280"/>
          </a:xfrm>
          <a:custGeom>
            <a:avLst/>
            <a:gdLst>
              <a:gd name="textAreaLeft" fmla="*/ 711360 w 4859280"/>
              <a:gd name="textAreaRight" fmla="*/ 4147920 w 4859280"/>
              <a:gd name="textAreaTop" fmla="*/ 711360 h 4859280"/>
              <a:gd name="textAreaBottom" fmla="*/ 4147920 h 4859280"/>
            </a:gdLst>
            <a:ahLst/>
            <a:rect l="textAreaLeft" t="textAreaTop" r="textAreaRight" b="textAreaBottom"/>
            <a:pathLst>
              <a:path w="4859338" h="4859337">
                <a:moveTo>
                  <a:pt x="0" y="2429669"/>
                </a:moveTo>
                <a:lnTo>
                  <a:pt x="0" y="2429669"/>
                </a:lnTo>
                <a:arcTo wR="2429669" hR="2429669" stAng="-10799996" swAng="5400001"/>
                <a:lnTo>
                  <a:pt x="2429673" y="3"/>
                </a:lnTo>
                <a:arcTo wR="2429669" hR="2429669" stAng="-5399996" swAng="5400001"/>
                <a:lnTo>
                  <a:pt x="4859339" y="2429676"/>
                </a:lnTo>
                <a:arcTo wR="2429669" hR="2429669" stAng="0" swAng="5400001"/>
                <a:lnTo>
                  <a:pt x="2429669" y="4859345"/>
                </a:lnTo>
                <a:arcTo wR="2429669" hR="2429669" stAng="5400001" swAng="5400003"/>
                <a:close/>
                <a:moveTo>
                  <a:pt x="270422" y="2429669"/>
                </a:moveTo>
                <a:lnTo>
                  <a:pt x="270422" y="2429669"/>
                </a:lnTo>
                <a:arcTo wR="2159247" hR="2159246" stAng="-10799995" swAng="-5400000"/>
                <a:lnTo>
                  <a:pt x="2429666" y="4588918"/>
                </a:lnTo>
                <a:arcTo wR="2159247" hR="2159246" stAng="5400002" swAng="-5400000"/>
                <a:lnTo>
                  <a:pt x="4588914" y="2429673"/>
                </a:lnTo>
                <a:arcTo wR="2159247" hR="2159246" stAng="0" swAng="-5400000"/>
                <a:lnTo>
                  <a:pt x="2429667" y="270427"/>
                </a:lnTo>
                <a:arcTo wR="2159247" hR="2159246" stAng="-5399995" swAng="-5400000"/>
                <a:close/>
              </a:path>
            </a:pathLst>
          </a:custGeom>
          <a:solidFill>
            <a:srgbClr val="f75237"/>
          </a:solidFill>
          <a:ln cap="rnd" w="25560">
            <a:solidFill>
              <a:srgbClr val="f752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Кольцо 5"/>
          <p:cNvSpPr/>
          <p:nvPr/>
        </p:nvSpPr>
        <p:spPr>
          <a:xfrm>
            <a:off x="1800360" y="684360"/>
            <a:ext cx="5506920" cy="5506920"/>
          </a:xfrm>
          <a:custGeom>
            <a:avLst/>
            <a:gdLst>
              <a:gd name="textAreaLeft" fmla="*/ 806400 w 5506920"/>
              <a:gd name="textAreaRight" fmla="*/ 4700520 w 5506920"/>
              <a:gd name="textAreaTop" fmla="*/ 806400 h 5506920"/>
              <a:gd name="textAreaBottom" fmla="*/ 4700520 h 5506920"/>
            </a:gdLst>
            <a:ahLst/>
            <a:rect l="textAreaLeft" t="textAreaTop" r="textAreaRight" b="textAreaBottom"/>
            <a:pathLst>
              <a:path w="5507038" h="5507037">
                <a:moveTo>
                  <a:pt x="0" y="2753519"/>
                </a:moveTo>
                <a:lnTo>
                  <a:pt x="0" y="2753519"/>
                </a:lnTo>
                <a:arcTo wR="2753519" hR="2753519" stAng="-10799996" swAng="5400002"/>
                <a:lnTo>
                  <a:pt x="2753524" y="3"/>
                </a:lnTo>
                <a:arcTo wR="2753519" hR="2753519" stAng="-5399996" swAng="5400002"/>
                <a:lnTo>
                  <a:pt x="5507040" y="2753527"/>
                </a:lnTo>
                <a:arcTo wR="2753519" hR="2753519" stAng="0" swAng="5400002"/>
                <a:lnTo>
                  <a:pt x="2753519" y="5507046"/>
                </a:lnTo>
                <a:arcTo wR="2753519" hR="2753519" stAng="5400002" swAng="5400001"/>
                <a:close/>
                <a:moveTo>
                  <a:pt x="292203" y="2753519"/>
                </a:moveTo>
                <a:lnTo>
                  <a:pt x="292203" y="2753519"/>
                </a:lnTo>
                <a:arcTo wR="2461316" hR="2461315" stAng="-10799996" swAng="-5400000"/>
                <a:lnTo>
                  <a:pt x="2753516" y="5214837"/>
                </a:lnTo>
                <a:arcTo wR="2461316" hR="2461315" stAng="5400001" swAng="-5400000"/>
                <a:lnTo>
                  <a:pt x="5214833" y="2753523"/>
                </a:lnTo>
                <a:arcTo wR="2461316" hR="2461315" stAng="0" swAng="-5400000"/>
                <a:lnTo>
                  <a:pt x="2753517" y="292208"/>
                </a:lnTo>
                <a:arcTo wR="2461316" hR="2461315" stAng="-5399996" swAng="-5400000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fff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Кольцо 6"/>
          <p:cNvSpPr/>
          <p:nvPr/>
        </p:nvSpPr>
        <p:spPr>
          <a:xfrm>
            <a:off x="1511280" y="395280"/>
            <a:ext cx="6085080" cy="6084720"/>
          </a:xfrm>
          <a:custGeom>
            <a:avLst/>
            <a:gdLst>
              <a:gd name="textAreaLeft" fmla="*/ 891000 w 6085080"/>
              <a:gd name="textAreaRight" fmla="*/ 5194080 w 6085080"/>
              <a:gd name="textAreaTop" fmla="*/ 891000 h 6084720"/>
              <a:gd name="textAreaBottom" fmla="*/ 5193720 h 6084720"/>
            </a:gdLst>
            <a:ahLst/>
            <a:rect l="textAreaLeft" t="textAreaTop" r="textAreaRight" b="textAreaBottom"/>
            <a:pathLst>
              <a:path w="6084888" h="6084887">
                <a:moveTo>
                  <a:pt x="0" y="3042444"/>
                </a:moveTo>
                <a:lnTo>
                  <a:pt x="0" y="3042444"/>
                </a:lnTo>
                <a:arcTo wR="3042444" hR="3042444" stAng="-10799995" swAng="5400001"/>
                <a:lnTo>
                  <a:pt x="3042449" y="4"/>
                </a:lnTo>
                <a:arcTo wR="3042444" hR="3042444" stAng="-5399995" swAng="5400001"/>
                <a:lnTo>
                  <a:pt x="6084889" y="3042453"/>
                </a:lnTo>
                <a:arcTo wR="3042444" hR="3042444" stAng="0" swAng="5400002"/>
                <a:lnTo>
                  <a:pt x="3042443" y="6084897"/>
                </a:lnTo>
                <a:arcTo wR="3042444" hR="3042444" stAng="5400002" swAng="5400002"/>
                <a:close/>
                <a:moveTo>
                  <a:pt x="264571" y="3042444"/>
                </a:moveTo>
                <a:lnTo>
                  <a:pt x="264571" y="3042444"/>
                </a:lnTo>
                <a:arcTo wR="2777873" hR="2777873" stAng="-10799996" swAng="-5400000"/>
                <a:lnTo>
                  <a:pt x="3042441" y="5820320"/>
                </a:lnTo>
                <a:arcTo wR="2777873" hR="2777873" stAng="5400002" swAng="-5400000"/>
                <a:lnTo>
                  <a:pt x="5820316" y="3042449"/>
                </a:lnTo>
                <a:arcTo wR="2777873" hR="2777873" stAng="0" swAng="-5400000"/>
                <a:lnTo>
                  <a:pt x="3042443" y="264576"/>
                </a:lnTo>
                <a:arcTo wR="2777873" hR="2777873" stAng="-5399996" swAng="-5400000"/>
                <a:close/>
              </a:path>
            </a:pathLst>
          </a:custGeom>
          <a:solidFill>
            <a:srgbClr val="8eb4e3"/>
          </a:solidFill>
          <a:ln cap="rnd" w="2556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Рисунок17.jpg"/>
          <p:cNvPicPr/>
          <p:nvPr/>
        </p:nvPicPr>
        <p:blipFill>
          <a:blip r:embed="rId2"/>
          <a:stretch/>
        </p:blipFill>
        <p:spPr>
          <a:xfrm>
            <a:off x="5715000" y="304920"/>
            <a:ext cx="2548080" cy="2944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Рисунок19.jpg"/>
          <p:cNvPicPr/>
          <p:nvPr/>
        </p:nvPicPr>
        <p:blipFill>
          <a:blip r:embed="rId3"/>
          <a:stretch/>
        </p:blipFill>
        <p:spPr>
          <a:xfrm>
            <a:off x="5943600" y="4343400"/>
            <a:ext cx="2664000" cy="2017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Рисунок20.jpg"/>
          <p:cNvPicPr/>
          <p:nvPr/>
        </p:nvPicPr>
        <p:blipFill>
          <a:blip r:embed="rId4"/>
          <a:stretch/>
        </p:blipFill>
        <p:spPr>
          <a:xfrm>
            <a:off x="685800" y="4343400"/>
            <a:ext cx="217656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Рисунок21.jpg"/>
          <p:cNvPicPr/>
          <p:nvPr/>
        </p:nvPicPr>
        <p:blipFill>
          <a:blip r:embed="rId5"/>
          <a:stretch/>
        </p:blipFill>
        <p:spPr>
          <a:xfrm>
            <a:off x="-228600" y="3276720"/>
            <a:ext cx="2432160" cy="24685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Рисунок22.jpg"/>
          <p:cNvPicPr/>
          <p:nvPr/>
        </p:nvPicPr>
        <p:blipFill>
          <a:blip r:embed="rId6"/>
          <a:stretch/>
        </p:blipFill>
        <p:spPr>
          <a:xfrm>
            <a:off x="0" y="0"/>
            <a:ext cx="245736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Рисунок23.jpg"/>
          <p:cNvPicPr/>
          <p:nvPr/>
        </p:nvPicPr>
        <p:blipFill>
          <a:blip r:embed="rId1"/>
          <a:stretch/>
        </p:blipFill>
        <p:spPr>
          <a:xfrm>
            <a:off x="957240" y="341280"/>
            <a:ext cx="7229520" cy="61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httpvideo.yandex.ru.avi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473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Рисунок24.jpg"/>
          <p:cNvPicPr/>
          <p:nvPr/>
        </p:nvPicPr>
        <p:blipFill>
          <a:blip r:embed="rId1"/>
          <a:stretch/>
        </p:blipFill>
        <p:spPr>
          <a:xfrm>
            <a:off x="290520" y="0"/>
            <a:ext cx="8562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b56d"/>
            </a:gs>
            <a:gs pos="100000">
              <a:srgbClr val="003e8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dd7f"/>
                </a:solidFill>
                <a:latin typeface="Times New Roman"/>
                <a:ea typeface="Times New Roman"/>
              </a:rPr>
              <a:t>В презентации использованы фото и видеоматериалы Интернет-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038480" y="2060640"/>
            <a:ext cx="478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video.yandex.ru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lori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irpromislo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frimg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kyclipart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3" descr="6.jpg"/>
          <p:cNvPicPr/>
          <p:nvPr/>
        </p:nvPicPr>
        <p:blipFill>
          <a:blip r:embed="rId1"/>
          <a:srcRect l="11558" t="17498" r="10851" b="16933"/>
          <a:stretch/>
        </p:blipFill>
        <p:spPr>
          <a:xfrm>
            <a:off x="468360" y="1700280"/>
            <a:ext cx="3495600" cy="4395600"/>
          </a:xfrm>
          <a:prstGeom prst="rect">
            <a:avLst/>
          </a:prstGeom>
          <a:ln w="9360">
            <a:solidFill>
              <a:srgbClr val="99d359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3487680" y="2743200"/>
            <a:ext cx="5470560" cy="3938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152280" y="152280"/>
            <a:ext cx="5562720" cy="4051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Рисунок3.jpg"/>
          <p:cNvPicPr/>
          <p:nvPr/>
        </p:nvPicPr>
        <p:blipFill>
          <a:blip r:embed="rId3"/>
          <a:stretch/>
        </p:blipFill>
        <p:spPr>
          <a:xfrm>
            <a:off x="6054840" y="152280"/>
            <a:ext cx="265896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Рисунок4.jpg"/>
          <p:cNvPicPr/>
          <p:nvPr/>
        </p:nvPicPr>
        <p:blipFill>
          <a:blip r:embed="rId4"/>
          <a:stretch/>
        </p:blipFill>
        <p:spPr>
          <a:xfrm>
            <a:off x="533520" y="4309920"/>
            <a:ext cx="2463840" cy="239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Рисунок5.jpg"/>
          <p:cNvPicPr/>
          <p:nvPr/>
        </p:nvPicPr>
        <p:blipFill>
          <a:blip r:embed="rId1"/>
          <a:stretch/>
        </p:blipFill>
        <p:spPr>
          <a:xfrm>
            <a:off x="3200400" y="2590920"/>
            <a:ext cx="5695920" cy="4019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Рисунок6.jpg"/>
          <p:cNvPicPr/>
          <p:nvPr/>
        </p:nvPicPr>
        <p:blipFill>
          <a:blip r:embed="rId2"/>
          <a:stretch/>
        </p:blipFill>
        <p:spPr>
          <a:xfrm>
            <a:off x="228600" y="228600"/>
            <a:ext cx="54799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7.jpg"/>
          <p:cNvPicPr/>
          <p:nvPr/>
        </p:nvPicPr>
        <p:blipFill>
          <a:blip r:embed="rId1"/>
          <a:stretch/>
        </p:blipFill>
        <p:spPr>
          <a:xfrm>
            <a:off x="228600" y="228600"/>
            <a:ext cx="4383000" cy="3919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Рисунок8.jpg"/>
          <p:cNvPicPr/>
          <p:nvPr/>
        </p:nvPicPr>
        <p:blipFill>
          <a:blip r:embed="rId2"/>
          <a:stretch/>
        </p:blipFill>
        <p:spPr>
          <a:xfrm>
            <a:off x="4648320" y="2655720"/>
            <a:ext cx="4295520" cy="4003920"/>
          </a:xfrm>
          <a:prstGeom prst="rect">
            <a:avLst/>
          </a:prstGeom>
          <a:ln w="0">
            <a:noFill/>
          </a:ln>
        </p:spPr>
      </p:pic>
      <p:sp>
        <p:nvSpPr>
          <p:cNvPr id="59" name="Равнобедренный треугольник 3"/>
          <p:cNvSpPr/>
          <p:nvPr/>
        </p:nvSpPr>
        <p:spPr>
          <a:xfrm>
            <a:off x="5410080" y="457200"/>
            <a:ext cx="1067040" cy="1981080"/>
          </a:xfrm>
          <a:prstGeom prst="triangle">
            <a:avLst>
              <a:gd name="adj" fmla="val 50000"/>
            </a:avLst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Равнобедренный треугольник 4"/>
          <p:cNvSpPr/>
          <p:nvPr/>
        </p:nvSpPr>
        <p:spPr>
          <a:xfrm>
            <a:off x="6705720" y="990720"/>
            <a:ext cx="761760" cy="1447560"/>
          </a:xfrm>
          <a:prstGeom prst="triangle">
            <a:avLst>
              <a:gd name="adj" fmla="val 50000"/>
            </a:avLst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Равнобедренный треугольник 5"/>
          <p:cNvSpPr/>
          <p:nvPr/>
        </p:nvSpPr>
        <p:spPr>
          <a:xfrm>
            <a:off x="7620120" y="1523880"/>
            <a:ext cx="609480" cy="914400"/>
          </a:xfrm>
          <a:prstGeom prst="triangle">
            <a:avLst>
              <a:gd name="adj" fmla="val 50000"/>
            </a:avLst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исунок10.jpg"/>
          <p:cNvPicPr/>
          <p:nvPr/>
        </p:nvPicPr>
        <p:blipFill>
          <a:blip r:embed="rId1"/>
          <a:stretch/>
        </p:blipFill>
        <p:spPr>
          <a:xfrm>
            <a:off x="3962520" y="2666880"/>
            <a:ext cx="4989240" cy="4008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Рисунок9.jpg"/>
          <p:cNvPicPr/>
          <p:nvPr/>
        </p:nvPicPr>
        <p:blipFill>
          <a:blip r:embed="rId2"/>
          <a:stretch/>
        </p:blipFill>
        <p:spPr>
          <a:xfrm>
            <a:off x="228600" y="228600"/>
            <a:ext cx="4979880" cy="3486240"/>
          </a:xfrm>
          <a:prstGeom prst="rect">
            <a:avLst/>
          </a:prstGeom>
          <a:ln w="0">
            <a:noFill/>
          </a:ln>
        </p:spPr>
      </p:pic>
      <p:sp>
        <p:nvSpPr>
          <p:cNvPr id="64" name="Капля 3"/>
          <p:cNvSpPr/>
          <p:nvPr/>
        </p:nvSpPr>
        <p:spPr>
          <a:xfrm rot="18985800">
            <a:off x="5608800" y="942480"/>
            <a:ext cx="1269720" cy="1306800"/>
          </a:xfrm>
          <a:custGeom>
            <a:avLst/>
            <a:gdLst>
              <a:gd name="textAreaLeft" fmla="*/ 185760 w 1269720"/>
              <a:gd name="textAreaRight" fmla="*/ 1083960 w 126972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1270000" h="1306513">
                <a:moveTo>
                  <a:pt x="0" y="653257"/>
                </a:moveTo>
                <a:lnTo>
                  <a:pt x="0" y="653257"/>
                </a:lnTo>
                <a:arcTo wR="635000" hR="653257" stAng="-10799995" swAng="5400000"/>
                <a:lnTo>
                  <a:pt x="990882" y="0"/>
                </a:lnTo>
                <a:lnTo>
                  <a:pt x="1346765" y="-78972"/>
                </a:lnTo>
                <a:lnTo>
                  <a:pt x="1270000" y="470200"/>
                </a:lnTo>
                <a:arcTo wR="0" hR="183058" stAng="0" swAng="0"/>
                <a:lnTo>
                  <a:pt x="1177006" y="1210847"/>
                </a:lnTo>
                <a:arcTo wR="-317500" hR="326629" stAng="2748716" swAng="10800000"/>
                <a:close/>
              </a:path>
            </a:pathLst>
          </a:custGeom>
          <a:solidFill>
            <a:srgbClr val="ffc000"/>
          </a:solidFill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Капля 4"/>
          <p:cNvSpPr/>
          <p:nvPr/>
        </p:nvSpPr>
        <p:spPr>
          <a:xfrm rot="18985800">
            <a:off x="7132680" y="942840"/>
            <a:ext cx="1270080" cy="1306800"/>
          </a:xfrm>
          <a:custGeom>
            <a:avLst/>
            <a:gdLst>
              <a:gd name="textAreaLeft" fmla="*/ 185760 w 1270080"/>
              <a:gd name="textAreaRight" fmla="*/ 1084320 w 127008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1270000" h="1306513">
                <a:moveTo>
                  <a:pt x="0" y="653257"/>
                </a:moveTo>
                <a:lnTo>
                  <a:pt x="0" y="653257"/>
                </a:lnTo>
                <a:arcTo wR="635000" hR="653257" stAng="-10799995" swAng="5400000"/>
                <a:lnTo>
                  <a:pt x="990882" y="0"/>
                </a:lnTo>
                <a:lnTo>
                  <a:pt x="1346765" y="-78972"/>
                </a:lnTo>
                <a:lnTo>
                  <a:pt x="1270000" y="470200"/>
                </a:lnTo>
                <a:arcTo wR="0" hR="183058" stAng="0" swAng="0"/>
                <a:lnTo>
                  <a:pt x="1177006" y="1210847"/>
                </a:lnTo>
                <a:arcTo wR="-317500" hR="326629" stAng="2748716" swAng="10800000"/>
                <a:close/>
              </a:path>
            </a:pathLst>
          </a:custGeom>
          <a:solidFill>
            <a:srgbClr val="984807"/>
          </a:solidFill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Рисунок11.jpg"/>
          <p:cNvPicPr/>
          <p:nvPr/>
        </p:nvPicPr>
        <p:blipFill>
          <a:blip r:embed="rId1"/>
          <a:stretch/>
        </p:blipFill>
        <p:spPr>
          <a:xfrm>
            <a:off x="152280" y="152280"/>
            <a:ext cx="4448160" cy="3889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Рисунок12.jpg"/>
          <p:cNvPicPr/>
          <p:nvPr/>
        </p:nvPicPr>
        <p:blipFill>
          <a:blip r:embed="rId2"/>
          <a:stretch/>
        </p:blipFill>
        <p:spPr>
          <a:xfrm>
            <a:off x="4648320" y="2971800"/>
            <a:ext cx="4340160" cy="3730680"/>
          </a:xfrm>
          <a:prstGeom prst="rect">
            <a:avLst/>
          </a:prstGeom>
          <a:ln w="0">
            <a:noFill/>
          </a:ln>
        </p:spPr>
      </p:pic>
      <p:sp>
        <p:nvSpPr>
          <p:cNvPr id="68" name="Равнобедренный треугольник 3"/>
          <p:cNvSpPr/>
          <p:nvPr/>
        </p:nvSpPr>
        <p:spPr>
          <a:xfrm>
            <a:off x="5334120" y="457200"/>
            <a:ext cx="1218960" cy="2133720"/>
          </a:xfrm>
          <a:prstGeom prst="triangle">
            <a:avLst>
              <a:gd name="adj" fmla="val 50000"/>
            </a:avLst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6781680" y="533520"/>
            <a:ext cx="990720" cy="2057400"/>
          </a:xfrm>
          <a:prstGeom prst="ellips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Рисунок13а.jpg"/>
          <p:cNvPicPr/>
          <p:nvPr/>
        </p:nvPicPr>
        <p:blipFill>
          <a:blip r:embed="rId1"/>
          <a:stretch/>
        </p:blipFill>
        <p:spPr>
          <a:xfrm>
            <a:off x="144360" y="179280"/>
            <a:ext cx="4467240" cy="3633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Рисунок14.jpg"/>
          <p:cNvPicPr/>
          <p:nvPr/>
        </p:nvPicPr>
        <p:blipFill>
          <a:blip r:embed="rId2"/>
          <a:stretch/>
        </p:blipFill>
        <p:spPr>
          <a:xfrm>
            <a:off x="4648320" y="2971800"/>
            <a:ext cx="4340160" cy="3693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P5-3-2.jpg"/>
          <p:cNvPicPr/>
          <p:nvPr/>
        </p:nvPicPr>
        <p:blipFill>
          <a:blip r:embed="rId3"/>
          <a:stretch/>
        </p:blipFill>
        <p:spPr>
          <a:xfrm rot="17685600">
            <a:off x="5182200" y="582840"/>
            <a:ext cx="1722600" cy="1943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P5-3-9.jpg"/>
          <p:cNvPicPr/>
          <p:nvPr/>
        </p:nvPicPr>
        <p:blipFill>
          <a:blip r:embed="rId4"/>
          <a:stretch/>
        </p:blipFill>
        <p:spPr>
          <a:xfrm rot="4220400">
            <a:off x="6737400" y="622080"/>
            <a:ext cx="17049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Рисунок15.jpg"/>
          <p:cNvPicPr/>
          <p:nvPr/>
        </p:nvPicPr>
        <p:blipFill>
          <a:blip r:embed="rId1"/>
          <a:stretch/>
        </p:blipFill>
        <p:spPr>
          <a:xfrm>
            <a:off x="1052640" y="399960"/>
            <a:ext cx="7038720" cy="605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16.jpg"/>
          <p:cNvPicPr/>
          <p:nvPr/>
        </p:nvPicPr>
        <p:blipFill>
          <a:blip r:embed="rId1"/>
          <a:stretch/>
        </p:blipFill>
        <p:spPr>
          <a:xfrm>
            <a:off x="1477800" y="295200"/>
            <a:ext cx="6188400" cy="626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3:26:36Z</dcterms:created>
  <dc:creator>Администратор</dc:creator>
  <dc:description/>
  <dc:language>en-US</dc:language>
  <cp:lastModifiedBy>DNA7 X64</cp:lastModifiedBy>
  <dcterms:modified xsi:type="dcterms:W3CDTF">2012-01-03T19:46:10Z</dcterms:modified>
  <cp:revision>9</cp:revision>
  <dc:subject/>
  <dc:title>Слайд 1</dc:title>
</cp:coreProperties>
</file>