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1C9-2D3A-473E-8B16-0C0405D7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8E5-B428-475D-9789-1116D545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33C-AF2E-4109-BB92-18A11E4E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AEF-B648-4FB3-985A-9F731D1E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1B7-97F9-4C34-ADA0-4A37267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155-D0BD-4B0D-9D82-56C0B93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430-86BF-49B1-A85F-17F824D5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0DF-2B5F-441F-A936-807DA3E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FFB-037B-4F61-B26C-D27F82B3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BD55-8006-4B9C-B8E6-DF9BFB4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921-F27B-4DC2-AF22-00615FA6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BE0-44D3-4C52-B333-824B45E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5FDF-272E-4F6B-A47C-FFED8A7FD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C:\Users\Лена\Documents\Сценарии\Масленица\Масленица картинки\1885.jpg"/>
          <p:cNvPicPr/>
          <p:nvPr/>
        </p:nvPicPr>
        <p:blipFill>
          <a:blip r:embed="rId2"/>
          <a:stretch/>
        </p:blipFill>
        <p:spPr>
          <a:xfrm>
            <a:off x="428760" y="82440"/>
            <a:ext cx="835812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Лена\Documents\Сценарии\Масленица\Масленица картинки\dbe9f4efa315.jpg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Заголовок 1" descr=""/>
          <p:cNvPicPr/>
          <p:nvPr/>
        </p:nvPicPr>
        <p:blipFill>
          <a:blip r:embed="rId3"/>
          <a:stretch/>
        </p:blipFill>
        <p:spPr>
          <a:xfrm>
            <a:off x="993600" y="268200"/>
            <a:ext cx="42246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Лена\Documents\Сценарии\Масленица\Масленица картинки\08-126.jpg"/>
          <p:cNvPicPr/>
          <p:nvPr/>
        </p:nvPicPr>
        <p:blipFill>
          <a:blip r:embed="rId3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3" descr="Кустодиев. Деревенская масленица (Гармонист). 1916"/>
          <p:cNvPicPr/>
          <p:nvPr/>
        </p:nvPicPr>
        <p:blipFill>
          <a:blip r:embed="rId2"/>
          <a:stretch/>
        </p:blipFill>
        <p:spPr>
          <a:xfrm>
            <a:off x="121428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Users\Лена\Documents\Сценарии\Масленица\Масленица картинки\maslenica_large.jpg"/>
          <p:cNvPicPr/>
          <p:nvPr/>
        </p:nvPicPr>
        <p:blipFill>
          <a:blip r:embed="rId2"/>
          <a:stretch/>
        </p:blipFill>
        <p:spPr>
          <a:xfrm>
            <a:off x="0" y="0"/>
            <a:ext cx="934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Лена\Documents\Сценарии\Масленица\Масленица картинки\1231157916_image0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Users\Лена\Documents\Сценарии\Масленица\Масленица картинки\256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2"/>
          <a:stretch/>
        </p:blipFill>
        <p:spPr>
          <a:xfrm>
            <a:off x="5888160" y="268200"/>
            <a:ext cx="3444840" cy="638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Лена\Documents\Сценарии\Масленица\Масленица картинки\28675.jpg"/>
          <p:cNvPicPr/>
          <p:nvPr/>
        </p:nvPicPr>
        <p:blipFill>
          <a:blip r:embed="rId3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900680" y="268200"/>
            <a:ext cx="4078080" cy="459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Лена\Documents\Сценарии\Масленица\Масленица картинки\38304878.jpg"/>
          <p:cNvPicPr/>
          <p:nvPr/>
        </p:nvPicPr>
        <p:blipFill>
          <a:blip r:embed="rId3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Лена\Documents\Сценарии\Масленица\Масленица картинки\0025-057-Subbota-zolovkiny-posidelki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285840" y="-6480"/>
            <a:ext cx="871848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1857240" y="2714760"/>
            <a:ext cx="535788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237960" y="268200"/>
            <a:ext cx="86979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285840" y="2867040"/>
            <a:ext cx="4000320" cy="37227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9"/>
          <p:cNvSpPr/>
          <p:nvPr/>
        </p:nvSpPr>
        <p:spPr>
          <a:xfrm>
            <a:off x="4286160" y="571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Дружные люди и под  бараньей шкурой поместятся.</a:t>
            </a:r>
            <a:br>
              <a:rPr sz="2400"/>
            </a:br>
            <a:r>
              <a:rPr b="0" i="1" lang="en-US" sz="2400" spc="-1" strike="noStrike">
                <a:solidFill>
                  <a:srgbClr val="c00000"/>
                </a:solidFill>
                <a:latin typeface="Comic Sans MS"/>
              </a:rPr>
              <a:t>Бурятск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В связке дров тепла больше.</a:t>
            </a:r>
            <a:br>
              <a:rPr sz="2400"/>
            </a:br>
            <a:r>
              <a:rPr b="0" i="1" lang="en-US" sz="2400" spc="-1" strike="noStrike">
                <a:solidFill>
                  <a:srgbClr val="c00000"/>
                </a:solidFill>
                <a:latin typeface="Comic Sans MS"/>
              </a:rPr>
              <a:t>Алтайск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5072040" y="3357720"/>
            <a:ext cx="328608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Солнце 4"/>
          <p:cNvSpPr/>
          <p:nvPr/>
        </p:nvSpPr>
        <p:spPr>
          <a:xfrm>
            <a:off x="684360" y="620640"/>
            <a:ext cx="1571400" cy="13431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2779560" y="268200"/>
            <a:ext cx="5913720" cy="161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771640" y="2205000"/>
            <a:ext cx="474048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857240" cy="6143760"/>
          </a:xfrm>
          <a:prstGeom prst="rect">
            <a:avLst/>
          </a:prstGeom>
          <a:ln w="0">
            <a:noFill/>
          </a:ln>
        </p:spPr>
      </p:pic>
      <p:sp>
        <p:nvSpPr>
          <p:cNvPr id="95" name="Солнце 4"/>
          <p:cNvSpPr/>
          <p:nvPr/>
        </p:nvSpPr>
        <p:spPr>
          <a:xfrm>
            <a:off x="7643880" y="5643720"/>
            <a:ext cx="1214280" cy="1056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C:\Users\Лена\Documents\Сценарии\Масленица\Масленица картинки\080a131db20d6797205aedde9330001b.gif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C:\Users\Лена\Documents\Сценарии\Масленица\Масленица картинки\0020-048-SHirokaja-Maslenitsa.jpg"/>
          <p:cNvPicPr/>
          <p:nvPr/>
        </p:nvPicPr>
        <p:blipFill>
          <a:blip r:embed="rId2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Лена\Documents\Сценарии\Масленица\Масленица картинки\dbe9f4efa315.jpg"/>
          <p:cNvPicPr/>
          <p:nvPr/>
        </p:nvPicPr>
        <p:blipFill>
          <a:blip r:embed="rId2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C:\Users\Лена\Documents\Сценарии\Масленица\Масленица картинки\1204446401_1201850.gif"/>
          <p:cNvPicPr/>
          <p:nvPr/>
        </p:nvPicPr>
        <p:blipFill>
          <a:blip r:embed="rId2"/>
          <a:stretch/>
        </p:blipFill>
        <p:spPr>
          <a:xfrm>
            <a:off x="0" y="0"/>
            <a:ext cx="93582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Лена\Documents\Сценарии\Масленица\Масленица картинки\fc3556b73d8c8d4295e708c8e7f72d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5218200" y="268200"/>
            <a:ext cx="352404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000760" y="1599840"/>
            <a:ext cx="3929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Маслё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Масля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Чест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Широ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Весел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Семикова племян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Объеду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Сырная нед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Users\Лена\Documents\Сценарии\Масленица\Масленица картинки\38532358.jpg"/>
          <p:cNvPicPr/>
          <p:nvPr/>
        </p:nvPicPr>
        <p:blipFill>
          <a:blip r:embed="rId11"/>
          <a:stretch/>
        </p:blipFill>
        <p:spPr>
          <a:xfrm>
            <a:off x="0" y="0"/>
            <a:ext cx="49291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5962680" y="268200"/>
            <a:ext cx="3406680" cy="481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Лена\Documents\Сценарии\Масленица\Масленица картинки\maslenitsa01.jpg"/>
          <p:cNvPicPr/>
          <p:nvPr/>
        </p:nvPicPr>
        <p:blipFill>
          <a:blip r:embed="rId3"/>
          <a:stretch/>
        </p:blipFill>
        <p:spPr>
          <a:xfrm>
            <a:off x="0" y="0"/>
            <a:ext cx="59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Лена\Documents\Сценарии\Масленица\Масленица картинки\surikov.jpg"/>
          <p:cNvPicPr/>
          <p:nvPr/>
        </p:nvPicPr>
        <p:blipFill>
          <a:blip r:embed="rId3"/>
          <a:stretch/>
        </p:blipFill>
        <p:spPr>
          <a:xfrm>
            <a:off x="-6480" y="1285920"/>
            <a:ext cx="92934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Лена\Documents\Сценарии\Масленица\Масленица картинки\f_17302983.jpg"/>
          <p:cNvPicPr/>
          <p:nvPr/>
        </p:nvPicPr>
        <p:blipFill>
          <a:blip r:embed="rId2"/>
          <a:stretch/>
        </p:blipFill>
        <p:spPr>
          <a:xfrm>
            <a:off x="1071720" y="0"/>
            <a:ext cx="69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Грузинский. Масленица. 18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5-29T15:51:55Z</dcterms:modified>
  <cp:revision>25</cp:revision>
  <dc:subject/>
  <dc:title>Слайд 1</dc:title>
</cp:coreProperties>
</file>