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31F7-51F6-48ED-95FE-C707FC327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6613-BE04-4ACA-9CCF-05B07B0A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102B-95BC-4CB0-BC47-3CA58D3F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980C-3E2D-493D-AC4D-5C5EF4CD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796A-67B7-482B-A046-77E0A915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55BD-6BC2-4241-BCDD-C52331A7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CE8A-FDE0-4E49-8A53-4D610CF2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B0F1-2670-405F-82C6-E722907F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87F6-6298-4135-8F32-D8003B2E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8829-B615-4123-8EB9-36542A27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894A-A7B1-45F9-A802-B92BA675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A320-24BA-4CE4-92B2-92416AAC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462F-C3AE-4188-90AB-D7A35F4A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22E2-AF1B-44CC-99F8-42E0C350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510B-08E4-4B8E-AC3B-80FE45FD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8D18-BEC3-4E94-97EB-840AC3A58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FA62-6759-4A5A-BF0C-26793F952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6027B-E229-4E84-844E-93AFBE30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C7B0D-5792-401D-B87F-20811C34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9501E-CFE9-4D01-9608-7BFA5BF0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0D7B0-7B2D-40E1-A5D3-985BD861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297DC-91B2-46B2-87EB-48771D10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A474-9501-41AE-92D3-1AB239B2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59559-A177-4CC7-8120-F57FC10D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3432E-99EA-4E80-82A7-A4A19E8F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879F6-75A6-44FC-AD58-93B7604D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61A09-E14E-463E-8CDE-E773F7A1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6CDF5-C6BF-4B60-A433-D00E5722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F39EE-8B68-414E-BC09-4468075C5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57CF1-9A1F-4B53-963D-C5DF75C46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81B2B-403D-4401-B81E-BF8A1E11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89820-F601-45CD-8A81-36FFC902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41504-80E4-4F1D-9CAD-4A1FFDF2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95DF-5427-43CB-BA3E-7F01DE2B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AD179-BE06-4D86-8901-0B3EBE0D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ED1EC-EA63-4680-ADA9-7C7BE884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74BB0-1656-4018-A01F-82ABE1DA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1C1A1-1B31-4924-B0D5-9DDC228A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7C54A-715B-419F-9AAC-39A4FED7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716CD-B3D8-457D-A437-4EE62C51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82163-E7C0-444F-B53D-5858576F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DDBB4-012D-4809-A0E5-F09712018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C4331-E832-4DC3-8BD5-132E6984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290D9-24C0-4A31-86A7-2592B1500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391D-76B3-4580-9EB7-416EC49C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E42E7-7EDF-42C2-B7F8-49052C3C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7EB94-34F2-4350-82E8-D899B71F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8ECF0-3E2B-4CE5-8549-F49CAB81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37FAF-7693-4FA7-8C17-714BA145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2FCD3-649C-48DF-87EE-7BBE0A25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DBF30-A6FA-4553-B2C4-35698E08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3D358-D45A-4F6B-AC49-2DF0E2F2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EFFF5-F1E8-4FD9-9AFF-80FBCFDF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49C8B-9CA7-4156-9533-2A94FBE3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D2222-24B3-47CA-AFC2-93AE59F5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50F6-5AE1-48FC-81E6-D7AB8886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F3033-53D2-44AC-A685-93026C8B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56284-E63E-4BAE-9349-C37EC168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2D337-2232-4642-9AB1-F4FAD109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4FA08-863B-45DA-B318-42733684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F443C-3C2E-4505-A938-EB58EBF7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CAC0B-06FA-4018-9A4E-D3EEB888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192FF-D4F2-4672-9B82-8456D5DB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D1081-097D-4663-B730-4A6821F3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37D0A-C734-489E-83A3-00F0727B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AE3D3-36BA-4B6E-8134-36A663FD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96CC-94D0-48CA-BF9B-D6A5F5D0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C4BCE-7BE0-4424-B52D-F842894E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AA38A-2B76-4C7A-8B0C-3F54264D5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7B80E-CE62-4888-9B7C-FA63E7EA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00C6F-C2E2-497F-959F-9D3EBA58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BA5B4-757B-4DF1-B5E8-5451C9A3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8E1AD-E718-4C80-A671-BDBE1830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58E16-0A7F-4FBF-8268-C1DEF5AB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59AF2-DC78-4CC1-8B03-CFB9C64A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83446-E5C1-4C29-A404-CFA815CB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2DC97-AD08-44F1-930A-A9D1FF22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AFAA-F3DC-45CB-9011-81266144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74B76-2E30-433C-BF27-38E3CE44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CB23A-6824-40C4-8C5D-2B639D8A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69312-D48D-4D97-868D-B02C802D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3C0D6-C02C-4D94-B2B8-7076CA20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69951-E17F-465C-9C31-C62FFA12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902B-3127-42F6-A7E9-0CC1081E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9292-8D48-4E9C-B585-903B5272CB7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4413-132B-48CA-8AF6-B008F286A62A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3268-01A9-480E-809D-320E1A7DBD2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6D7A-0664-49C9-B0B1-A219D6AE1C5B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8AC2-15C4-4C93-9CEC-4E812A94CE1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D331-5716-4396-90DD-8B4DE4D40669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92CB-E909-4598-80D7-56D2B30C4F73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69800" y="2206800"/>
            <a:ext cx="8661600" cy="274932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682560" y="542880"/>
            <a:ext cx="8169480" cy="18288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781200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8483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944960" y="2060640"/>
            <a:ext cx="41767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entury Gothic"/>
              </a:rPr>
              <a:t>«чайник – добродушный комик»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1" name="Picture 4" descr="I:\картинки\0_abc70_4f6e0db2_XL.jpg"/>
          <p:cNvPicPr/>
          <p:nvPr/>
        </p:nvPicPr>
        <p:blipFill>
          <a:blip r:embed="rId2"/>
          <a:srcRect l="0" t="0" r="0" b="27807"/>
          <a:stretch/>
        </p:blipFill>
        <p:spPr>
          <a:xfrm>
            <a:off x="395280" y="1413000"/>
            <a:ext cx="5040360" cy="53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250560" y="2133720"/>
            <a:ext cx="425916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entury Gothic"/>
              </a:rPr>
              <a:t>«у висящего пальто всегда жалкая душонка и легкая нетрезвость»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4" name="Picture 4" descr="I:\картинки\PuninCoat.jpg"/>
          <p:cNvPicPr/>
          <p:nvPr/>
        </p:nvPicPr>
        <p:blipFill>
          <a:blip r:embed="rId2"/>
          <a:stretch/>
        </p:blipFill>
        <p:spPr>
          <a:xfrm>
            <a:off x="5048280" y="1484280"/>
            <a:ext cx="38336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Заголовок 1" descr=""/>
          <p:cNvPicPr/>
          <p:nvPr/>
        </p:nvPicPr>
        <p:blipFill>
          <a:blip r:embed="rId1"/>
          <a:stretch/>
        </p:blipFill>
        <p:spPr>
          <a:xfrm>
            <a:off x="457200" y="3067200"/>
            <a:ext cx="4591080" cy="26571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68000" y="6092640"/>
            <a:ext cx="699444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(Осоргин –псевдоним писателя)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6" name="Picture 4" descr="I:\картинки\Osorgin_M_A.jpg"/>
          <p:cNvPicPr/>
          <p:nvPr/>
        </p:nvPicPr>
        <p:blipFill>
          <a:blip r:embed="rId2"/>
          <a:stretch/>
        </p:blipFill>
        <p:spPr>
          <a:xfrm>
            <a:off x="5045040" y="765000"/>
            <a:ext cx="380196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882440"/>
            <a:ext cx="8229600" cy="14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Рассказ М.А. Осоргина «Пенсне». 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VIII</a:t>
            </a: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 класс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9" name="Прямоугольник 2" descr=""/>
          <p:cNvPicPr/>
          <p:nvPr/>
        </p:nvPicPr>
        <p:blipFill>
          <a:blip r:embed="rId2"/>
          <a:stretch/>
        </p:blipFill>
        <p:spPr>
          <a:xfrm>
            <a:off x="1116000" y="4211640"/>
            <a:ext cx="793584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324000" y="3068640"/>
            <a:ext cx="4114800" cy="21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«</a:t>
            </a:r>
            <a:r>
              <a:rPr b="0" i="1" lang="en-US" sz="3000" spc="-1" strike="noStrike">
                <a:solidFill>
                  <a:srgbClr val="ffffff"/>
                </a:solidFill>
                <a:latin typeface="Century Gothic"/>
              </a:rPr>
              <a:t>часы шагают, хворают, кашляют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»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2" name="Picture 4" descr="I:\картинки\59776_1295004220.jpg"/>
          <p:cNvPicPr/>
          <p:nvPr/>
        </p:nvPicPr>
        <p:blipFill>
          <a:blip r:embed="rId2"/>
          <a:stretch/>
        </p:blipFill>
        <p:spPr>
          <a:xfrm>
            <a:off x="5370480" y="1484280"/>
            <a:ext cx="35496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284040" y="6014520"/>
            <a:ext cx="4259520" cy="7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«</a:t>
            </a:r>
            <a:r>
              <a:rPr b="0" i="1" lang="en-US" sz="3000" spc="-1" strike="noStrike">
                <a:solidFill>
                  <a:srgbClr val="ffffff"/>
                </a:solidFill>
                <a:latin typeface="Century Gothic"/>
              </a:rPr>
              <a:t>печка мыслит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»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Picture 6" descr="I:\картинки\f39f486ce707.jpg"/>
          <p:cNvPicPr/>
          <p:nvPr/>
        </p:nvPicPr>
        <p:blipFill>
          <a:blip r:embed="rId2"/>
          <a:stretch/>
        </p:blipFill>
        <p:spPr>
          <a:xfrm>
            <a:off x="2556000" y="1484280"/>
            <a:ext cx="580392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68000" y="1412640"/>
            <a:ext cx="8434440" cy="14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«</a:t>
            </a:r>
            <a:r>
              <a:rPr b="0" i="1" lang="en-US" sz="3000" spc="-1" strike="noStrike">
                <a:solidFill>
                  <a:srgbClr val="ffffff"/>
                </a:solidFill>
                <a:latin typeface="Century Gothic"/>
              </a:rPr>
              <a:t>запечатанное письмо подмигивает и рисуется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»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9" name="Picture 4" descr="I:\картинки\236.jpg"/>
          <p:cNvPicPr/>
          <p:nvPr/>
        </p:nvPicPr>
        <p:blipFill>
          <a:blip r:embed="rId2"/>
          <a:stretch/>
        </p:blipFill>
        <p:spPr>
          <a:xfrm>
            <a:off x="1797120" y="2565360"/>
            <a:ext cx="6912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882800"/>
            <a:ext cx="822960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«</a:t>
            </a:r>
            <a:r>
              <a:rPr b="0" i="1" lang="ru-RU" sz="3000" spc="-1" strike="noStrike">
                <a:solidFill>
                  <a:srgbClr val="ffffff"/>
                </a:solidFill>
                <a:latin typeface="Century Gothic"/>
              </a:rPr>
              <a:t>раздвинутые ножницы </a:t>
            </a:r>
            <a:r>
              <a:rPr b="0" i="1" lang="en-US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i="1" lang="ru-RU" sz="3000" spc="-1" strike="noStrike">
                <a:solidFill>
                  <a:srgbClr val="ffffff"/>
                </a:solidFill>
                <a:latin typeface="Century Gothic"/>
              </a:rPr>
              <a:t>кричат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»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2" name="Picture 4" descr="I:\картинки\c538b7594599.png"/>
          <p:cNvPicPr/>
          <p:nvPr/>
        </p:nvPicPr>
        <p:blipFill>
          <a:blip r:embed="rId2"/>
          <a:stretch/>
        </p:blipFill>
        <p:spPr>
          <a:xfrm>
            <a:off x="826920" y="2492280"/>
            <a:ext cx="749952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6840" y="1882440"/>
            <a:ext cx="397044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«</a:t>
            </a:r>
            <a:r>
              <a:rPr b="0" i="1" lang="en-US" sz="3000" spc="-1" strike="noStrike">
                <a:solidFill>
                  <a:srgbClr val="ffffff"/>
                </a:solidFill>
                <a:latin typeface="Century Gothic"/>
              </a:rPr>
              <a:t>кресло сидит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»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5" name="Picture 4" descr="I:\картинки\70020.jpg"/>
          <p:cNvPicPr/>
          <p:nvPr/>
        </p:nvPicPr>
        <p:blipFill>
          <a:blip r:embed="rId2"/>
          <a:stretch/>
        </p:blipFill>
        <p:spPr>
          <a:xfrm>
            <a:off x="4427640" y="1989000"/>
            <a:ext cx="417816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2124000" y="5167440"/>
            <a:ext cx="6850080" cy="16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Century Gothic"/>
              </a:rPr>
              <a:t>«шляпа передразнивает своего владельца», «лицо у него свое, забулдыжно-актерское»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8" name="Picture 4" descr="I:\картинки\__________________ __________.jpg"/>
          <p:cNvPicPr/>
          <p:nvPr/>
        </p:nvPicPr>
        <p:blipFill>
          <a:blip r:embed="rId2"/>
          <a:stretch/>
        </p:blipFill>
        <p:spPr>
          <a:xfrm>
            <a:off x="2190600" y="164304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5T06:47:08Z</dcterms:created>
  <dc:creator>Admin</dc:creator>
  <dc:description/>
  <dc:language>en-US</dc:language>
  <cp:lastModifiedBy>УЧИТЕЛЬ</cp:lastModifiedBy>
  <dcterms:modified xsi:type="dcterms:W3CDTF">2013-03-02T05:28:43Z</dcterms:modified>
  <cp:revision>7</cp:revision>
  <dc:subject/>
  <dc:title>Когда вещи разговаривают</dc:title>
</cp:coreProperties>
</file>