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9E5-6E9B-4CE8-BDC5-0A8D6603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EF-9492-432B-9291-3C3EDC6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6D1-FD6F-43E4-963A-A65C9527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776-DD08-4EA1-B18B-E0D358A3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04C-A0D8-4CE7-BAE1-C29EA909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51E-B489-47C2-B63B-E05474A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DE8-1022-49D2-B49F-041E536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C49-FC81-4651-A560-A4CEC81E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24E-675C-4E30-90EE-580F790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E21-5A39-4826-807B-5EC00AE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AF-8FD2-444A-AD86-97E34AB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26F-017F-489E-88CF-39DB206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FC8-04DA-40CB-A55A-6AD1A30C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anya_Savicheva_Diary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Commemorative_plaque_in_Moskovsky_Park_Pobedy.jpg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ru.wikipedia.org/wiki/&#1052;&#1086;&#1089;&#1082;&#1086;&#1074;&#1089;&#1082;&#1080;&#1081;_&#1087;&#1072;&#1088;&#1082;_&#1055;&#1086;&#1073;&#1077;&#1076;&#1099;_(&#1057;&#1072;&#1085;&#1082;&#1090;-&#1055;&#1077;&#1090;&#1077;&#1088;&#1073;&#1091;&#1088;&#1075;)" TargetMode="External"/><Relationship Id="rId5" Type="http://schemas.openxmlformats.org/officeDocument/2006/relationships/hyperlink" Target="http://ru.wikipedia.org/wiki/&#1057;&#1072;&#1085;&#1082;&#1090;-&#1055;&#1077;&#1090;&#1077;&#1088;&#1073;&#1091;&#1088;&#1075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Medal_Defense_of_Leningrad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tvoyna.ru/leningrad.htm" TargetMode="External"/><Relationship Id="rId3" Type="http://schemas.openxmlformats.org/officeDocument/2006/relationships/hyperlink" Target="http://vip.lenta.ru/topic/victory/blokada.htm" TargetMode="External"/><Relationship Id="rId4" Type="http://schemas.openxmlformats.org/officeDocument/2006/relationships/hyperlink" Target="http://waralbum.ru/42375/" TargetMode="External"/><Relationship Id="rId5" Type="http://schemas.openxmlformats.org/officeDocument/2006/relationships/hyperlink" Target="http://waralbum.ru/42372/" TargetMode="External"/><Relationship Id="rId6" Type="http://schemas.openxmlformats.org/officeDocument/2006/relationships/hyperlink" Target="http://waralbum.ru/41151/" TargetMode="External"/><Relationship Id="rId7" Type="http://schemas.openxmlformats.org/officeDocument/2006/relationships/hyperlink" Target="http://waralbum.ru/42361/" TargetMode="External"/><Relationship Id="rId8" Type="http://schemas.openxmlformats.org/officeDocument/2006/relationships/hyperlink" Target="http://waralbum.ru/38777/" TargetMode="External"/><Relationship Id="rId9" Type="http://schemas.openxmlformats.org/officeDocument/2006/relationships/hyperlink" Target="http://waralbum.ru/38761/" TargetMode="Externa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kada.otrok.ru/poetry.php?t=15" TargetMode="External"/><Relationship Id="rId3" Type="http://schemas.openxmlformats.org/officeDocument/2006/relationships/hyperlink" Target="http://blokada.otrok.ru/poetry.php?t=15" TargetMode="External"/><Relationship Id="rId4" Type="http://schemas.openxmlformats.org/officeDocument/2006/relationships/hyperlink" Target="http://blokada.otrok.ru/poetry.php?t=21" TargetMode="External"/><Relationship Id="rId5" Type="http://schemas.openxmlformats.org/officeDocument/2006/relationships/hyperlink" Target="http://blokada.otrok.ru/poetry.php?t=21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hyperlink" Target="http://www.vokrugsveta.ru/encyclopedia/index.php?title=&#1048;&#1079;&#1086;&#1073;&#1088;&#1072;&#1078;&#1077;&#1085;&#1080;&#1077;:Blokada-2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3357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заро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БУ «Агалатовская СОШ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волож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404640"/>
            <a:ext cx="8209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окада Ленингра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5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3961080" cy="237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92960"/>
            <a:ext cx="44654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Щели в саду вырыты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горят огни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ерские сироты, Детоньки мои!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 землей не дышится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ь сверлит висок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возь бомбежку слышитс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ский голосок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 Ахма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3 апреля 19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961080" cy="4032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923200">
            <a:off x="1186920" y="981000"/>
            <a:ext cx="6697800" cy="5045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248000" cy="391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76720" y="1462680"/>
            <a:ext cx="38163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, ночное воющее неб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ожь земли, обвал невдалек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дный ленинградский ломтик хлеба —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 почти не весит на рук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. Бергголь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говор с сосед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 декабря 194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48320" y="189000"/>
            <a:ext cx="40384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рипят, скрипят по Невскому полозья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детских санках, узеньких, смешных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астрюльках воду голубую возят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ова и скарб, умерших и боль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437200">
            <a:off x="5435640" y="3644640"/>
            <a:ext cx="3419280" cy="239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693000">
            <a:off x="1187280" y="3644640"/>
            <a:ext cx="3888000" cy="272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20530200">
            <a:off x="588600" y="552240"/>
            <a:ext cx="3384720" cy="2800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3280" y="0"/>
            <a:ext cx="4321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тицы смерти в зените стоят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то идет выручать Ленингра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 шумите вокруг — он дышит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н живой еще, он все слыш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 на влажном балтийском дне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ыновья его стонут во с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 из недр его вопли: «Хлеба!» –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седьмого доходят неба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ворите райскую дверь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гите ему тепе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нна Ахма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8 сентября 19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05080" cy="3313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Прощание со сверстником"/>
          <p:cNvPicPr/>
          <p:nvPr/>
        </p:nvPicPr>
        <p:blipFill>
          <a:blip r:embed="rId2"/>
          <a:stretch/>
        </p:blipFill>
        <p:spPr>
          <a:xfrm>
            <a:off x="395280" y="189000"/>
            <a:ext cx="8202600" cy="633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94520" cy="6000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44000" cy="6186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Историческое :: Блокада Ленинграда фото 0"/>
          <p:cNvPicPr/>
          <p:nvPr/>
        </p:nvPicPr>
        <p:blipFill>
          <a:blip r:embed="rId2"/>
          <a:stretch/>
        </p:blipFill>
        <p:spPr>
          <a:xfrm>
            <a:off x="826920" y="1197000"/>
            <a:ext cx="3465720" cy="41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88000" y="965880"/>
            <a:ext cx="381636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нинградскую беду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ками не разведу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езами не смою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землю не зарою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 версту я обойду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нинградскую беду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не взглядом, не намеком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не словом, не попреком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земным поклоном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поле зеленом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я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Ахмат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Причит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944. Ленингр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20640"/>
            <a:ext cx="4367160" cy="511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219280" y="188640"/>
            <a:ext cx="3467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мориальная доска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«Московском парке Победы»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анкт-Петербург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осс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: Здесь были печи завода-крематория; прах сотен тысяч воинов и жителей блокадного Ленинграда покоится в прудах, газонах, под Вашими ногами; Вечная им памя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453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640" y="1484280"/>
            <a:ext cx="5761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окада Ленингра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0"/>
            <a:ext cx="3371760" cy="6597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2987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496 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ских солдат и офицеров были награждены медалью «За оборону Ленингра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22 декабря 19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189000"/>
            <a:ext cx="305928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 пусть же мир сегодня слышит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люта русского раскат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, это мстит, ликует, дышит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бедоносный Ленингра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. Берггольц. Ленинградский сал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7 январ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0"/>
            <a:ext cx="460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вы, мои друзья последнего призыва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б вас оплакивать, мне жизнь сохранена, –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д вашей памятью не стыть плакучей ивой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крикнуть на весь мир все ваши имена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а что там имена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хлопываю святцы: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на колени все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гровый хлынул свет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ядами стройными проходят ленинградцы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ивые с мертвыми. Для Бога мертвы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. Ахма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вгуст 19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524480" cy="645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978480"/>
            <a:ext cx="403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оследнюю и высшую награду –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е молчанье — отдаю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еликомученику Ленингра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Ахматова.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28440" y="8568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440" y="8568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6520"/>
            <a:ext cx="889308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чная память всем, погибшим в Ленинграде и за Ленинград!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tvoyna.ru/leningrad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p.lenta.ru/topic/victory/blokad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aralbum.ru/4237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aralbum.ru/4237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aralbum.ru/4115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ralbum.ru/423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aralbum.ru/38777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aralbum.ru/387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ralb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876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"&gt;&lt;img src="http:/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ralb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show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876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jpg" width="459" height="700" ti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aralb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"&gt;&lt;img src="http: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aralb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sho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jpg" width="700" height="4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D0%A4%D0%B0%D0%B9%D0%BB:Tanya_Savicheva_Diary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blokada.otrok.ru/poetry.php?t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blokada.otrok.ru/poetry.php?t=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http://blokada.otrok.ru/poetry.php?t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http://blokada.otrok.ru/poetry.php?t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http://санктпетербургъ.рф/mine/poetry/15-o-blokad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http://санктпетербургъ.рф/mine/poetry/15-o-blokad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. http://санктпетербургъ.рф/mine/poetry/15-o-blokad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http://санктпетербургъ.рф/mine/poetry/15-o-blokad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Рисунки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84812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91280" y="4732200"/>
            <a:ext cx="2952720" cy="212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65360" cy="35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rot="1186800">
            <a:off x="4427640" y="2276280"/>
            <a:ext cx="243972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464160" y="0"/>
            <a:ext cx="2679840" cy="36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 rot="20307600">
            <a:off x="2384280" y="3234960"/>
            <a:ext cx="22845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олонна войск в Ленинграде отправляется на передовую"/>
          <p:cNvPicPr/>
          <p:nvPr/>
        </p:nvPicPr>
        <p:blipFill>
          <a:blip r:embed="rId2"/>
          <a:stretch/>
        </p:blipFill>
        <p:spPr>
          <a:xfrm>
            <a:off x="324000" y="353880"/>
            <a:ext cx="8569080" cy="6202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Жители Ленинграда у здания биржи встречают известие о снятии блокады города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81880" cy="604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Блокадный Ленинград. Танки БТ-5 направляются на фронт по проспекту Володарского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Жители блокадного Ленинграда разбирают на дрова крышу здания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9640" y="285480"/>
            <a:ext cx="381636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, мы познали в декабре —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зря «священным даром» назван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ычный хлеб, и тяжкий грех –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тя бы крошку бросить наземь: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им людским страданьем он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ой большой любовью братской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нас отныне освящен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ш хлеб насущный, ленинградский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. Бергголь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енинградская поэ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юнь–июль 19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Зима 1941-1942. За водо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1052640"/>
            <a:ext cx="4390920" cy="460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6:41Z</dcterms:created>
  <dc:creator>Казарова Наталья Николаевна</dc:creator>
  <dc:description/>
  <dc:language>en-US</dc:language>
  <cp:lastModifiedBy>Adel</cp:lastModifiedBy>
  <dcterms:modified xsi:type="dcterms:W3CDTF">2013-01-16T22:45:09Z</dcterms:modified>
  <cp:revision>14</cp:revision>
  <dc:subject/>
  <dc:title>Слайд 1</dc:title>
</cp:coreProperties>
</file>