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1.png" ContentType="image/png"/>
  <Override PartName="/ppt/media/image14.png" ContentType="image/png"/>
  <Override PartName="/ppt/media/image16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media/image23.png" ContentType="image/png"/>
  <Override PartName="/ppt/media/image27.png" ContentType="image/png"/>
  <Override PartName="/ppt/media/image2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99A0-37CA-4CE6-B17C-161A6BCE4B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4DF4-9068-4A40-A49E-60A5D85F0C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ый урок проводится после самостоятельного чтения фантастической повести «Девочка, с которой ничего не случится» и других произведений Кира Булычёва по выбору учащихся. Задачи уро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ть условия для развития интереса к чт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ть условия для развития умения анализировать художественное произведение: определять жанр, давать характеристику геро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ь пользоваться различными источниками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7839-8F9D-48BC-B8CC-9800E452DF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щиеся рассматривают представленную на слайде выставку книг и дают ей название. Затем учитель выводит название на экран, а дети дополняют выставку принесёнными на урок книг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CC22-B245-4755-B4A9-A496EE33F0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ти говорят о том, чем заинтересовала их главная героиня прочитанных книг – Алиса Селезнёва. Затем учитель выводит на экран портреты Алисы, выполненные разными художниками-иллюстраторами. Детям предлагается обсудить следующие вопро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черты Алисы отражены на разных иллюстрация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ая иллюстрация особенно нравится и поч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портрет Алисы нарисовали бы сами дет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ершает работу по данному слайду составление рассказа об Алисе с опорой на пл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4E25-3629-4561-AFFA-6924C09B35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тям предлагается поделиться своими предположениями о том, что рассказали прочитанные книги об их авторе – Кире Булычёве, а затем получить новые знания, опираясь на материал слайда. Затем дети формулирую свои вопросы о том, что ещё им хотелось бы узнать о писателе. А учитель сообщает, что на некоторые из поставленных вопросов есть возможность получить ответы с помощью следующего слай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B94E-BB0F-41D8-91F8-7D40BD151A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ти выбирают заинтересовавшие их вопросы и учатся пользоваться управляющими кнопками для получения отв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24F6-7034-483A-9C67-26320F0CFF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щиеся объясняют, почему повести Булычёва они назвали фантастическими. Затем учитель постепенно выводит на экран фрагменты словарных статей о фантастике. Дети подтверждают своё предположение о жанре прочитанных произведений, опираясь на этот матери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DB0B-F1F9-4D21-9993-CB320AA197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 с данным слайдом целесообразна, если компьютер имеет выход в Интернет. В этом случае есть возможность научить детей пользоваться гиперссылками и познакомить с интересными и познавательными сайтами, посвященными творчеству Булычё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9159-FFCD-47EE-9882-04D624030B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предлагает детям вспомнить, о чем шел разговор на уроке (о книгах, о событиях, о герое, об авторе), что было самым  интересным. Затем напоминает, что интересного разговора не было бы, если бы сами дети не выступили в сложной и увлекательной роли – в роли читателей; предлагает поделиться своими ощущениями, мыслями, чувствами по этому поводу. Урок заканчивается написанием синквейна на тему «Я – читател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4E11-A505-4EBF-BBF0-D86A4D74A9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щиеся объясняют, почему они считают, что прочитанные произведения – повести. Затем учитель постепенно выводит на экран фрагменты словарных статей, опираясь на которые, дети уточняют свои отве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6214-4060-4C31-8433-66665C84FB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ти уточняют смысл слова «приключение», опираясь сначала на личный опыт, а затем на фрагменты словарных статей, рассказывают о наиболее запомнившихся приключениях Алисы Селезнёв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29FB-C81E-4C04-8ECF-8DD362B9EA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гра «Крестики-нолик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гра похожа на широко известную игру с тем же названием. Однако для того, чтоб поставить свой знак, крестик или нолик, на выбранную клетку игрового поля, команде необходимо правильно ответить на вопрос, который «прячется» в этой клет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ти выбирают одну из девяти клеток игрового по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щелчком мыши по картинке не этом поле выводит на экран слайд с соответствующим ей вопрос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анда обсуждает и даёт отв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оверки правильности ответа щелчком мыши по картинке на слайде с вопросом переходим к слайду с отв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ем возвращаемся на слайд № 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F2C1-081B-4522-841C-C15841DDD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85F3-C368-4E0A-A3DD-63C8579F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DCED-6B3D-4615-B865-CBE147580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3174-8D68-4C6B-867B-0909504C7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6D78-C9FC-4357-A215-251A1989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8A14-6EDC-4C42-86AD-EE6932A3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98B6-E0BA-4053-BD1F-724CE64A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C6C5-D5ED-4878-A75D-16B3FAF0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DE96-316E-42DD-BD28-619A5CD2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C0A8-22A4-4997-8C00-84C12BD4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0C4F-B89C-47F9-92F8-CDD8CC14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66DF-6E41-4469-9384-0E72EA06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AA21-D03C-4BA3-9D84-A670926C7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2.pn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4.pn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9.pn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7.pn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5.pn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8.pn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1.pn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0.pn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image" Target="../media/image5.jpeg"/><Relationship Id="rId5" Type="http://schemas.openxmlformats.org/officeDocument/2006/relationships/image" Target="../media/image3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7.png"/><Relationship Id="rId3" Type="http://schemas.openxmlformats.org/officeDocument/2006/relationships/slide" Target="slide24.xml"/><Relationship Id="rId4" Type="http://schemas.openxmlformats.org/officeDocument/2006/relationships/image" Target="../media/image8.png"/><Relationship Id="rId5" Type="http://schemas.openxmlformats.org/officeDocument/2006/relationships/slide" Target="slide13.xml"/><Relationship Id="rId6" Type="http://schemas.openxmlformats.org/officeDocument/2006/relationships/image" Target="../media/image9.png"/><Relationship Id="rId7" Type="http://schemas.openxmlformats.org/officeDocument/2006/relationships/slide" Target="slide14.xml"/><Relationship Id="rId8" Type="http://schemas.openxmlformats.org/officeDocument/2006/relationships/image" Target="../media/image10.png"/><Relationship Id="rId9" Type="http://schemas.openxmlformats.org/officeDocument/2006/relationships/slide" Target="slide10.xml"/><Relationship Id="rId10" Type="http://schemas.openxmlformats.org/officeDocument/2006/relationships/image" Target="../media/image11.png"/><Relationship Id="rId11" Type="http://schemas.openxmlformats.org/officeDocument/2006/relationships/slide" Target="slide11.xml"/><Relationship Id="rId12" Type="http://schemas.openxmlformats.org/officeDocument/2006/relationships/image" Target="../media/image12.png"/><Relationship Id="rId13" Type="http://schemas.openxmlformats.org/officeDocument/2006/relationships/slide" Target="slide7.xml"/><Relationship Id="rId14" Type="http://schemas.openxmlformats.org/officeDocument/2006/relationships/image" Target="../media/image13.png"/><Relationship Id="rId15" Type="http://schemas.openxmlformats.org/officeDocument/2006/relationships/slide" Target="slide23.xml"/><Relationship Id="rId16" Type="http://schemas.openxmlformats.org/officeDocument/2006/relationships/image" Target="../media/image14.png"/><Relationship Id="rId17" Type="http://schemas.openxmlformats.org/officeDocument/2006/relationships/slide" Target="slide9.xml"/><Relationship Id="rId18" Type="http://schemas.openxmlformats.org/officeDocument/2006/relationships/image" Target="../media/image15.png"/><Relationship Id="rId19" Type="http://schemas.openxmlformats.org/officeDocument/2006/relationships/slide" Target="slide25.xml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3.pn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549000"/>
            <a:ext cx="7086600" cy="36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Урок</a:t>
            </a:r>
            <a:br>
              <a:rPr sz="4000"/>
            </a:b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внеклассного чтения</a:t>
            </a:r>
            <a:br>
              <a:rPr sz="4000"/>
            </a:b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в 4 классе</a:t>
            </a:r>
            <a:br>
              <a:rPr sz="4000"/>
            </a:b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на тему:</a:t>
            </a:r>
            <a:br>
              <a:rPr sz="4000"/>
            </a:b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«Фантастические повести Кира Булычёв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00360" y="4436640"/>
            <a:ext cx="43923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Работа выполнена</a:t>
            </a:r>
            <a:br>
              <a:rPr sz="2400"/>
            </a:b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учителем начальных классов ГБОУ гимназия № 426</a:t>
            </a:r>
            <a:br>
              <a:rPr sz="2400"/>
            </a:b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Петродворцового района Санкт-Петербурга</a:t>
            </a:r>
            <a:br>
              <a:rPr sz="2400"/>
            </a:b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Перевозкиной Е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children.mp3" descr=""/>
          <p:cNvPicPr/>
          <p:nvPr/>
        </p:nvPicPr>
        <p:blipFill>
          <a:blip r:embed="rId1"/>
          <a:stretch/>
        </p:blipFill>
        <p:spPr>
          <a:xfrm>
            <a:off x="8982000" y="6696000"/>
            <a:ext cx="162000" cy="1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4935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3666600"/>
            <a:ext cx="8229600" cy="24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Я их хотела оставить себе. Я же 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нала, что человечество их ищет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го Алиса принесла в корзинке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емляник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Девочка, с которой ничего не случится - 1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716360" y="549360"/>
            <a:ext cx="4175280" cy="26208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3588840"/>
            <a:ext cx="8229600" cy="25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ишите устройство, с помощ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торого Алиса оказалась в гостях 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сателя- фантаста Аркад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Девочка, с которой ничего не случится - 1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780000" y="476280"/>
            <a:ext cx="2170080" cy="29084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2955960"/>
            <a:ext cx="8229600" cy="31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какими земными животными ав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авнивает этих симпатич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итателей одной из планет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риу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Девочка, с которой ничего не случится - 0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76720" y="333360"/>
            <a:ext cx="3001680" cy="24098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ло кто верил в успех эт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перимента, однако выдающее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бытие показывали все телеспут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а. Что за событие изображено 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ллюстрац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Девочка, с которой ничего не случится - 0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635280" y="260280"/>
            <a:ext cx="2224080" cy="26924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 помощ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кого прибор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 кем и о чё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еседу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офесс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елезнё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Девочка, с которой ничего не случится - 0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148360" y="1916280"/>
            <a:ext cx="2992320" cy="41148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24793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Представитель института надел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лису пояс, прикрепил к вискам что-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роде науш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т и всё, - сказал он. – Теперь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тов к путешествию во времени. Стоит 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йти в кабину, как он окажется в 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ду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Девочка, с которой ничего не случится - 1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4360" y="333360"/>
            <a:ext cx="1471680" cy="19717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</p:pic>
      <p:sp>
        <p:nvSpPr>
          <p:cNvPr id="97" name="AutoShape 5">
            <a:hlinkClick r:id="rId3" action="ppaction://hlinksldjump"/>
          </p:cNvPr>
          <p:cNvSpPr/>
          <p:nvPr/>
        </p:nvSpPr>
        <p:spPr>
          <a:xfrm>
            <a:off x="8532720" y="6308640"/>
            <a:ext cx="179640" cy="179640"/>
          </a:xfrm>
          <a:custGeom>
            <a:avLst/>
            <a:gdLst>
              <a:gd name="textAreaLeft" fmla="*/ 11520 w 179640"/>
              <a:gd name="textAreaRight" fmla="*/ 168120 w 179640"/>
              <a:gd name="textAreaTop" fmla="*/ 11520 h 179640"/>
              <a:gd name="textAreaBottom" fmla="*/ 168120 h 1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8dc6ff"/>
          </a:solidFill>
          <a:ln w="0">
            <a:noFill/>
          </a:ln>
          <a:effectLst>
            <a:outerShdw dist="17819" dir="2700000" blurRad="0" rotWithShape="0">
              <a:srgbClr val="5577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1196640"/>
            <a:ext cx="7615080" cy="38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Я перешлю эти записки Алисиной учительнице. Ей полезно будет знать, с каким несерьёзным человеком ей придётся иметь дело. Может быть, эти записки помогут учительнице воспитать мою дочку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Девочка, с которой ничего не случится - 0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72360" y="5229360"/>
            <a:ext cx="790560" cy="14284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0" name="AutoShape 6">
            <a:hlinkClick r:id="rId3" action="ppaction://hlinksldjump"/>
          </p:cNvPr>
          <p:cNvSpPr/>
          <p:nvPr/>
        </p:nvSpPr>
        <p:spPr>
          <a:xfrm>
            <a:off x="7093080" y="6308640"/>
            <a:ext cx="179280" cy="179640"/>
          </a:xfrm>
          <a:custGeom>
            <a:avLst/>
            <a:gdLst>
              <a:gd name="textAreaLeft" fmla="*/ 11520 w 179280"/>
              <a:gd name="textAreaRight" fmla="*/ 167760 w 179280"/>
              <a:gd name="textAreaTop" fmla="*/ 11520 h 179640"/>
              <a:gd name="textAreaBottom" fmla="*/ 168120 h 17964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7514"/>
                </a:moveTo>
                <a:lnTo>
                  <a:pt x="7301" y="7514"/>
                </a:lnTo>
                <a:lnTo>
                  <a:pt x="7301" y="12850"/>
                </a:lnTo>
                <a:cubicBezTo>
                  <a:pt x="7301" y="13772"/>
                  <a:pt x="8102" y="14503"/>
                  <a:pt x="9138" y="14503"/>
                </a:cubicBezTo>
                <a:lnTo>
                  <a:pt x="10800" y="14503"/>
                </a:lnTo>
                <a:cubicBezTo>
                  <a:pt x="11836" y="14503"/>
                  <a:pt x="12636" y="13772"/>
                  <a:pt x="12636" y="12850"/>
                </a:cubicBezTo>
                <a:lnTo>
                  <a:pt x="12636" y="7514"/>
                </a:lnTo>
                <a:lnTo>
                  <a:pt x="10800" y="7514"/>
                </a:lnTo>
                <a:lnTo>
                  <a:pt x="14308" y="4007"/>
                </a:lnTo>
                <a:lnTo>
                  <a:pt x="17981" y="7514"/>
                </a:lnTo>
                <a:lnTo>
                  <a:pt x="16144" y="7514"/>
                </a:lnTo>
                <a:lnTo>
                  <a:pt x="16144" y="12850"/>
                </a:lnTo>
                <a:cubicBezTo>
                  <a:pt x="16144" y="15617"/>
                  <a:pt x="13568" y="18176"/>
                  <a:pt x="10800" y="18176"/>
                </a:cubicBezTo>
                <a:lnTo>
                  <a:pt x="9138" y="18176"/>
                </a:lnTo>
                <a:cubicBezTo>
                  <a:pt x="6370" y="18176"/>
                  <a:pt x="3794" y="15617"/>
                  <a:pt x="3794" y="12850"/>
                </a:cubicBezTo>
                <a:close/>
              </a:path>
            </a:pathLst>
          </a:custGeom>
          <a:solidFill>
            <a:srgbClr val="8dc6ff"/>
          </a:solidFill>
          <a:ln w="0">
            <a:noFill/>
          </a:ln>
          <a:effectLst>
            <a:outerShdw dist="17819" dir="2700000" blurRad="0" rotWithShape="0">
              <a:srgbClr val="5577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2717640"/>
            <a:ext cx="8229600" cy="34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…яйцо вздрогнуло, треснуло,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возь толстую кожистую скорлуп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ала просовываться чёрн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хожая на змеиную голова. Нако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яйца вылез малень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ронтозаврёнок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Девочка, с которой ничего не случится - 0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48360" y="260280"/>
            <a:ext cx="1876680" cy="23320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3" name="AutoShape 7">
            <a:hlinkClick r:id="rId3" action="ppaction://hlinksldjump"/>
          </p:cNvPr>
          <p:cNvSpPr/>
          <p:nvPr/>
        </p:nvSpPr>
        <p:spPr>
          <a:xfrm>
            <a:off x="8532720" y="6308640"/>
            <a:ext cx="179640" cy="179640"/>
          </a:xfrm>
          <a:custGeom>
            <a:avLst/>
            <a:gdLst>
              <a:gd name="textAreaLeft" fmla="*/ 11520 w 179640"/>
              <a:gd name="textAreaRight" fmla="*/ 168120 w 179640"/>
              <a:gd name="textAreaTop" fmla="*/ 11520 h 179640"/>
              <a:gd name="textAreaBottom" fmla="*/ 168120 h 1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8dc6ff"/>
          </a:solidFill>
          <a:ln w="0">
            <a:noFill/>
          </a:ln>
          <a:effectLst>
            <a:outerShdw dist="17819" dir="2700000" blurRad="0" rotWithShape="0">
              <a:srgbClr val="5577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И Алиса осторожно достала из сум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ленького шестилапого зверь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хожего на кенгурёнка. У шушо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ли большие стрекозиные глаз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и милые безобидные зверушки… п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адкам больше всего напомин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ших пингвино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Девочка, с которой ничего не случится - 0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00000" y="404640"/>
            <a:ext cx="1784520" cy="14320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6" name="AutoShape 5">
            <a:hlinkClick r:id="rId3" action="ppaction://hlinksldjump"/>
          </p:cNvPr>
          <p:cNvSpPr/>
          <p:nvPr/>
        </p:nvSpPr>
        <p:spPr>
          <a:xfrm>
            <a:off x="8532720" y="6308640"/>
            <a:ext cx="179640" cy="179640"/>
          </a:xfrm>
          <a:custGeom>
            <a:avLst/>
            <a:gdLst>
              <a:gd name="textAreaLeft" fmla="*/ 11520 w 179640"/>
              <a:gd name="textAreaRight" fmla="*/ 168120 w 179640"/>
              <a:gd name="textAreaTop" fmla="*/ 11520 h 179640"/>
              <a:gd name="textAreaBottom" fmla="*/ 168120 h 1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8dc6ff"/>
          </a:solidFill>
          <a:ln w="0">
            <a:noFill/>
          </a:ln>
          <a:effectLst>
            <a:outerShdw dist="17819" dir="2700000" blurRad="0" rotWithShape="0">
              <a:srgbClr val="5577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2558520"/>
            <a:ext cx="8229600" cy="35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сятки биологов работают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ушами, и ни разу не один шуша не сказ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сл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наш Шуша и читать умеет. Умееш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много. Мы с вашей дочкой больш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уз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Девочка, с которой ничего не случится - 0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93080" y="260280"/>
            <a:ext cx="1690560" cy="21859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9" name="AutoShape 5">
            <a:hlinkClick r:id="rId3" action="ppaction://hlinksldjump"/>
          </p:cNvPr>
          <p:cNvSpPr/>
          <p:nvPr/>
        </p:nvSpPr>
        <p:spPr>
          <a:xfrm>
            <a:off x="8532720" y="6308640"/>
            <a:ext cx="179640" cy="179640"/>
          </a:xfrm>
          <a:custGeom>
            <a:avLst/>
            <a:gdLst>
              <a:gd name="textAreaLeft" fmla="*/ 11520 w 179640"/>
              <a:gd name="textAreaRight" fmla="*/ 168120 w 179640"/>
              <a:gd name="textAreaTop" fmla="*/ 11520 h 179640"/>
              <a:gd name="textAreaBottom" fmla="*/ 168120 h 1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8dc6ff"/>
          </a:solidFill>
          <a:ln w="0">
            <a:noFill/>
          </a:ln>
          <a:effectLst>
            <a:outerShdw dist="17819" dir="2700000" blurRad="0" rotWithShape="0">
              <a:srgbClr val="5577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 Похищение чародея"/>
          <p:cNvPicPr/>
          <p:nvPr/>
        </p:nvPicPr>
        <p:blipFill>
          <a:blip r:embed="rId1"/>
          <a:stretch/>
        </p:blipFill>
        <p:spPr>
          <a:xfrm>
            <a:off x="179280" y="2565360"/>
            <a:ext cx="1670040" cy="2592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 Древние тайны"/>
          <p:cNvPicPr/>
          <p:nvPr/>
        </p:nvPicPr>
        <p:blipFill>
          <a:blip r:embed="rId2"/>
          <a:stretch/>
        </p:blipFill>
        <p:spPr>
          <a:xfrm>
            <a:off x="7236000" y="2565360"/>
            <a:ext cx="1728720" cy="2664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 Девочка с Земли"/>
          <p:cNvPicPr/>
          <p:nvPr/>
        </p:nvPicPr>
        <p:blipFill>
          <a:blip r:embed="rId3"/>
          <a:stretch/>
        </p:blipFill>
        <p:spPr>
          <a:xfrm>
            <a:off x="2050920" y="3789360"/>
            <a:ext cx="1525680" cy="244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 Чулан синей бороды"/>
          <p:cNvPicPr/>
          <p:nvPr/>
        </p:nvPicPr>
        <p:blipFill>
          <a:blip r:embed="rId4"/>
          <a:stretch/>
        </p:blipFill>
        <p:spPr>
          <a:xfrm>
            <a:off x="5508720" y="3789360"/>
            <a:ext cx="1568520" cy="244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 Приключения Алисы"/>
          <p:cNvPicPr/>
          <p:nvPr/>
        </p:nvPicPr>
        <p:blipFill>
          <a:blip r:embed="rId5"/>
          <a:stretch/>
        </p:blipFill>
        <p:spPr>
          <a:xfrm>
            <a:off x="3851280" y="2565360"/>
            <a:ext cx="1484280" cy="23050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3"/>
          <p:cNvSpPr/>
          <p:nvPr/>
        </p:nvSpPr>
        <p:spPr>
          <a:xfrm>
            <a:off x="1048320" y="260280"/>
            <a:ext cx="739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Tahoma"/>
              </a:rPr>
              <a:t>Фантастические повести</a:t>
            </a:r>
            <a:br>
              <a:rPr sz="3200"/>
            </a:br>
            <a:r>
              <a:rPr b="0" lang="ru-RU" sz="3200" spc="-1" strike="noStrike">
                <a:solidFill>
                  <a:srgbClr val="0066cc"/>
                </a:solidFill>
                <a:latin typeface="Tahoma"/>
              </a:rPr>
              <a:t>Кира Булычёва</a:t>
            </a:r>
            <a:br>
              <a:rPr sz="3200"/>
            </a:br>
            <a:r>
              <a:rPr b="0" lang="ru-RU" sz="3200" spc="-1" strike="noStrike">
                <a:solidFill>
                  <a:srgbClr val="0066cc"/>
                </a:solidFill>
                <a:latin typeface="Tahoma"/>
              </a:rPr>
              <a:t>о приключениях Алисы Селезнё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alice_hifi_demo.mp3" descr=""/>
          <p:cNvPicPr/>
          <p:nvPr/>
        </p:nvPicPr>
        <p:blipFill>
          <a:blip r:embed="rId6"/>
          <a:stretch/>
        </p:blipFill>
        <p:spPr>
          <a:xfrm>
            <a:off x="8839080" y="6553080"/>
            <a:ext cx="162000" cy="1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65974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Я, профессор Кураки, являюсь жерт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удачного эксперимента. Я ставил опы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передаче вещества на далё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тояния. Мне удалось переправить 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кио в Париж двух индюшек и кошку…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т день, когда я решил прове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еримент на себе, пробки в лабора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горели. Я рассеялся в пространств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Девочка, с которой ничего не случится - 09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00000" y="333360"/>
            <a:ext cx="1059120" cy="14320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2" name="AutoShape 5">
            <a:hlinkClick r:id="rId3" action="ppaction://hlinksldjump"/>
          </p:cNvPr>
          <p:cNvSpPr/>
          <p:nvPr/>
        </p:nvSpPr>
        <p:spPr>
          <a:xfrm>
            <a:off x="8532720" y="6308640"/>
            <a:ext cx="179640" cy="179640"/>
          </a:xfrm>
          <a:custGeom>
            <a:avLst/>
            <a:gdLst>
              <a:gd name="textAreaLeft" fmla="*/ 11520 w 179640"/>
              <a:gd name="textAreaRight" fmla="*/ 168120 w 179640"/>
              <a:gd name="textAreaTop" fmla="*/ 11520 h 179640"/>
              <a:gd name="textAreaBottom" fmla="*/ 168120 h 1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8dc6ff"/>
          </a:solidFill>
          <a:ln w="0">
            <a:noFill/>
          </a:ln>
          <a:effectLst>
            <a:outerShdw dist="17819" dir="2700000" blurRad="0" rotWithShape="0">
              <a:srgbClr val="5577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8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125000"/>
            <a:ext cx="369576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Она поднесла мне корзиночку к самым глазам, и я, сам себе не веря, ясно разглядел две фигурки в скафандрах… Так состоялась первая встреча с лабуцильцам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Девочка, с которой ничего не случится - 1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651640" y="2637000"/>
            <a:ext cx="3263760" cy="20476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6" name="AutoShape 7">
            <a:hlinkClick r:id="rId3" action="ppaction://hlinksldjump"/>
          </p:cNvPr>
          <p:cNvSpPr/>
          <p:nvPr/>
        </p:nvSpPr>
        <p:spPr>
          <a:xfrm>
            <a:off x="8532720" y="6308640"/>
            <a:ext cx="179640" cy="179640"/>
          </a:xfrm>
          <a:custGeom>
            <a:avLst/>
            <a:gdLst>
              <a:gd name="textAreaLeft" fmla="*/ 11520 w 179640"/>
              <a:gd name="textAreaRight" fmla="*/ 168120 w 179640"/>
              <a:gd name="textAreaTop" fmla="*/ 11520 h 179640"/>
              <a:gd name="textAreaBottom" fmla="*/ 168120 h 1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8dc6ff"/>
          </a:solidFill>
          <a:ln w="0">
            <a:noFill/>
          </a:ln>
          <a:effectLst>
            <a:outerShdw dist="17819" dir="2700000" blurRad="0" rotWithShape="0">
              <a:srgbClr val="5577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Извините, пожалуйста, но ваш видеофон не отключен, и я решил, что вы не спите, - сказал марсианин. – Вы не могли бы помочь нам? Мы перерыли все энциклопедии, изучили видеофонную книгу, но не можем найти, кто такая баба-яга и где она живёт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Девочка, с которой ничего не случится - 0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003560" y="274680"/>
            <a:ext cx="1136880" cy="1143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9" name="AutoShape 5">
            <a:hlinkClick r:id="rId3" action="ppaction://hlinksldjump"/>
          </p:cNvPr>
          <p:cNvSpPr/>
          <p:nvPr/>
        </p:nvSpPr>
        <p:spPr>
          <a:xfrm>
            <a:off x="8532720" y="6308640"/>
            <a:ext cx="179640" cy="179640"/>
          </a:xfrm>
          <a:custGeom>
            <a:avLst/>
            <a:gdLst>
              <a:gd name="textAreaLeft" fmla="*/ 11520 w 179640"/>
              <a:gd name="textAreaRight" fmla="*/ 168120 w 179640"/>
              <a:gd name="textAreaTop" fmla="*/ 11520 h 179640"/>
              <a:gd name="textAreaBottom" fmla="*/ 168120 h 1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8dc6ff"/>
          </a:solidFill>
          <a:ln w="0">
            <a:noFill/>
          </a:ln>
          <a:effectLst>
            <a:outerShdw dist="17819" dir="2700000" blurRad="0" rotWithShape="0">
              <a:srgbClr val="5577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8360" y="357336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ля кого и зачем профессор Селезнёв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ал писать записки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 приключениях Алис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Девочка, с которой ничего не случится - 0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564000" y="260280"/>
            <a:ext cx="22366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95280" y="486864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го профессор повстречал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 сад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Девочка, с которой ничего не случится - 0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3640" y="189000"/>
            <a:ext cx="32464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"/>
              </a:rPr>
              <a:t>Алиса Селезнёв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Савватеев В. Сто лет тому вперед"/>
          <p:cNvPicPr/>
          <p:nvPr/>
        </p:nvPicPr>
        <p:blipFill>
          <a:blip r:embed="rId1"/>
          <a:stretch/>
        </p:blipFill>
        <p:spPr>
          <a:xfrm>
            <a:off x="2195640" y="4292640"/>
            <a:ext cx="1428480" cy="1905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Фрагмент рисунка Е. Мигунова."/>
          <p:cNvPicPr/>
          <p:nvPr/>
        </p:nvPicPr>
        <p:blipFill>
          <a:blip r:embed="rId2"/>
          <a:stretch/>
        </p:blipFill>
        <p:spPr>
          <a:xfrm>
            <a:off x="7308720" y="1989000"/>
            <a:ext cx="1382760" cy="1981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Фрагмент рисунка Д. Шулындина."/>
          <p:cNvPicPr/>
          <p:nvPr/>
        </p:nvPicPr>
        <p:blipFill>
          <a:blip r:embed="rId3"/>
          <a:stretch/>
        </p:blipFill>
        <p:spPr>
          <a:xfrm>
            <a:off x="2268360" y="1844640"/>
            <a:ext cx="1508400" cy="2179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Фрагмент рисунка А. Кукушкина."/>
          <p:cNvPicPr/>
          <p:nvPr/>
        </p:nvPicPr>
        <p:blipFill>
          <a:blip r:embed="rId4"/>
          <a:stretch/>
        </p:blipFill>
        <p:spPr>
          <a:xfrm>
            <a:off x="5651640" y="1844640"/>
            <a:ext cx="1508040" cy="2179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Фрагмент рисунка В. Кривенко."/>
          <p:cNvPicPr/>
          <p:nvPr/>
        </p:nvPicPr>
        <p:blipFill>
          <a:blip r:embed="rId5"/>
          <a:stretch/>
        </p:blipFill>
        <p:spPr>
          <a:xfrm>
            <a:off x="5867280" y="4221000"/>
            <a:ext cx="1428840" cy="2048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Фрагмент рисунка Кима Ли."/>
          <p:cNvPicPr/>
          <p:nvPr/>
        </p:nvPicPr>
        <p:blipFill>
          <a:blip r:embed="rId6"/>
          <a:stretch/>
        </p:blipFill>
        <p:spPr>
          <a:xfrm>
            <a:off x="395280" y="1989000"/>
            <a:ext cx="1476360" cy="2048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Фрагмент рисунка М. Лисогорского."/>
          <p:cNvPicPr/>
          <p:nvPr/>
        </p:nvPicPr>
        <p:blipFill>
          <a:blip r:embed="rId7"/>
          <a:stretch/>
        </p:blipFill>
        <p:spPr>
          <a:xfrm>
            <a:off x="4067280" y="1989000"/>
            <a:ext cx="1428480" cy="2048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5" descr="Заповедник сказок - 01"/>
          <p:cNvPicPr/>
          <p:nvPr/>
        </p:nvPicPr>
        <p:blipFill>
          <a:blip r:embed="rId8"/>
          <a:stretch/>
        </p:blipFill>
        <p:spPr>
          <a:xfrm>
            <a:off x="3924360" y="4365720"/>
            <a:ext cx="1693800" cy="17287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6"/>
          <p:cNvSpPr/>
          <p:nvPr/>
        </p:nvSpPr>
        <p:spPr>
          <a:xfrm>
            <a:off x="611280" y="1989000"/>
            <a:ext cx="7777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cc"/>
                </a:solidFill>
                <a:latin typeface="Tahoma"/>
              </a:rPr>
              <a:t>Кто она?</a:t>
            </a:r>
            <a:br>
              <a:rPr sz="4000"/>
            </a:br>
            <a:r>
              <a:rPr b="1" lang="en-US" sz="4000" spc="-1" strike="noStrike">
                <a:solidFill>
                  <a:srgbClr val="0066cc"/>
                </a:solidFill>
                <a:latin typeface="Tahoma"/>
              </a:rPr>
              <a:t>Какая он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cc"/>
                </a:solidFill>
                <a:latin typeface="Tahoma"/>
              </a:rPr>
              <a:t>Что позволяет тебе так думать?</a:t>
            </a:r>
            <a:br>
              <a:rPr sz="4000"/>
            </a:br>
            <a:r>
              <a:rPr b="1" lang="en-US" sz="4000" spc="-1" strike="noStrike">
                <a:solidFill>
                  <a:srgbClr val="0066cc"/>
                </a:solidFill>
                <a:latin typeface="Tahoma"/>
              </a:rPr>
              <a:t>Как автор к ней относитс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cc"/>
                </a:solidFill>
                <a:latin typeface="Tahoma"/>
              </a:rPr>
              <a:t>Хотел бы ты с ней дружи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alice.mp3" descr=""/>
          <p:cNvPicPr/>
          <p:nvPr/>
        </p:nvPicPr>
        <p:blipFill>
          <a:blip r:embed="rId9"/>
          <a:stretch/>
        </p:blipFill>
        <p:spPr>
          <a:xfrm>
            <a:off x="8982000" y="6696000"/>
            <a:ext cx="162000" cy="1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7" dur="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Кир Булычёв</a:t>
            </a:r>
            <a:br>
              <a:rPr sz="3200"/>
            </a:b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(Игорь Всеволодович Можейко)</a:t>
            </a:r>
            <a:br>
              <a:rPr sz="3200"/>
            </a:b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1934-2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В Челябинске (Я мечтал стать геологом)"/>
          <p:cNvPicPr/>
          <p:nvPr/>
        </p:nvPicPr>
        <p:blipFill>
          <a:blip r:embed="rId1"/>
          <a:stretch/>
        </p:blipFill>
        <p:spPr>
          <a:xfrm>
            <a:off x="457200" y="2266920"/>
            <a:ext cx="4032360" cy="3191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В Челябинске (На книжном рынке)"/>
          <p:cNvPicPr/>
          <p:nvPr/>
        </p:nvPicPr>
        <p:blipFill>
          <a:blip r:embed="rId2"/>
          <a:stretch/>
        </p:blipFill>
        <p:spPr>
          <a:xfrm>
            <a:off x="5103720" y="1600200"/>
            <a:ext cx="3132360" cy="2179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В Челябинске (Отвечаю на ваши вопросы)"/>
          <p:cNvPicPr/>
          <p:nvPr/>
        </p:nvPicPr>
        <p:blipFill>
          <a:blip r:embed="rId3"/>
          <a:stretch/>
        </p:blipFill>
        <p:spPr>
          <a:xfrm>
            <a:off x="5773680" y="3946680"/>
            <a:ext cx="17938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Arial"/>
              </a:rPr>
              <a:t>Я хочу узнать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ему Игорь Всеволодович Можейко выбрал себе  такой псевдони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м Кир Булычёв увлекался в детст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и почему Булычёв стал писать для дет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де можно найти интересный материал об этом писател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фильмы сняты по произведениям Булычё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0">
            <a:hlinkClick r:id="rId1"/>
          </p:cNvPr>
          <p:cNvSpPr/>
          <p:nvPr/>
        </p:nvSpPr>
        <p:spPr>
          <a:xfrm>
            <a:off x="8748720" y="2133720"/>
            <a:ext cx="179280" cy="179280"/>
          </a:xfrm>
          <a:custGeom>
            <a:avLst/>
            <a:gdLst>
              <a:gd name="textAreaLeft" fmla="*/ 11520 w 179280"/>
              <a:gd name="textAreaRight" fmla="*/ 167760 w 179280"/>
              <a:gd name="textAreaTop" fmla="*/ 11520 h 179280"/>
              <a:gd name="textAreaBottom" fmla="*/ 167760 h 1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dc6ff"/>
          </a:solidFill>
          <a:ln w="0">
            <a:noFill/>
          </a:ln>
          <a:effectLst>
            <a:outerShdw dist="17819" dir="2700000" blurRad="0" rotWithShape="0">
              <a:srgbClr val="5577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1">
            <a:hlinkClick r:id="rId2"/>
          </p:cNvPr>
          <p:cNvSpPr/>
          <p:nvPr/>
        </p:nvSpPr>
        <p:spPr>
          <a:xfrm>
            <a:off x="8748720" y="2708280"/>
            <a:ext cx="179280" cy="179280"/>
          </a:xfrm>
          <a:custGeom>
            <a:avLst/>
            <a:gdLst>
              <a:gd name="textAreaLeft" fmla="*/ 11520 w 179280"/>
              <a:gd name="textAreaRight" fmla="*/ 167760 w 179280"/>
              <a:gd name="textAreaTop" fmla="*/ 11520 h 179280"/>
              <a:gd name="textAreaBottom" fmla="*/ 167760 h 1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dc6ff"/>
          </a:solidFill>
          <a:ln w="0">
            <a:noFill/>
          </a:ln>
          <a:effectLst>
            <a:outerShdw dist="17819" dir="2700000" blurRad="0" rotWithShape="0">
              <a:srgbClr val="5577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2">
            <a:hlinkClick r:id="rId3"/>
          </p:cNvPr>
          <p:cNvSpPr/>
          <p:nvPr/>
        </p:nvSpPr>
        <p:spPr>
          <a:xfrm>
            <a:off x="8748720" y="3645000"/>
            <a:ext cx="179280" cy="179280"/>
          </a:xfrm>
          <a:custGeom>
            <a:avLst/>
            <a:gdLst>
              <a:gd name="textAreaLeft" fmla="*/ 11520 w 179280"/>
              <a:gd name="textAreaRight" fmla="*/ 167760 w 179280"/>
              <a:gd name="textAreaTop" fmla="*/ 11520 h 179280"/>
              <a:gd name="textAreaBottom" fmla="*/ 167760 h 1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dc6ff"/>
          </a:solidFill>
          <a:ln w="0">
            <a:noFill/>
          </a:ln>
          <a:effectLst>
            <a:outerShdw dist="17819" dir="2700000" blurRad="0" rotWithShape="0">
              <a:srgbClr val="5577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3">
            <a:hlinkClick r:id="rId4"/>
          </p:cNvPr>
          <p:cNvSpPr/>
          <p:nvPr/>
        </p:nvSpPr>
        <p:spPr>
          <a:xfrm>
            <a:off x="8748720" y="4508640"/>
            <a:ext cx="179280" cy="179280"/>
          </a:xfrm>
          <a:custGeom>
            <a:avLst/>
            <a:gdLst>
              <a:gd name="textAreaLeft" fmla="*/ 11520 w 179280"/>
              <a:gd name="textAreaRight" fmla="*/ 167760 w 179280"/>
              <a:gd name="textAreaTop" fmla="*/ 11520 h 179280"/>
              <a:gd name="textAreaBottom" fmla="*/ 167760 h 1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dc6ff"/>
          </a:solidFill>
          <a:ln w="0">
            <a:noFill/>
          </a:ln>
          <a:effectLst>
            <a:outerShdw dist="17819" dir="2700000" blurRad="0" rotWithShape="0">
              <a:srgbClr val="5577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4">
            <a:hlinkClick r:id="rId5"/>
          </p:cNvPr>
          <p:cNvSpPr/>
          <p:nvPr/>
        </p:nvSpPr>
        <p:spPr>
          <a:xfrm>
            <a:off x="8748720" y="5589720"/>
            <a:ext cx="179280" cy="179280"/>
          </a:xfrm>
          <a:custGeom>
            <a:avLst/>
            <a:gdLst>
              <a:gd name="textAreaLeft" fmla="*/ 11520 w 179280"/>
              <a:gd name="textAreaRight" fmla="*/ 167760 w 179280"/>
              <a:gd name="textAreaTop" fmla="*/ 11520 h 179280"/>
              <a:gd name="textAreaBottom" fmla="*/ 167760 h 1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dc6ff"/>
          </a:solidFill>
          <a:ln w="0">
            <a:noFill/>
          </a:ln>
          <a:effectLst>
            <a:outerShdw dist="17819" dir="2700000" blurRad="0" rotWithShape="0">
              <a:srgbClr val="5577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6">
            <a:hlinkClick r:id="" action="ppaction://hlinkshowjump?jump=lastslide"/>
          </p:cNvPr>
          <p:cNvSpPr/>
          <p:nvPr/>
        </p:nvSpPr>
        <p:spPr>
          <a:xfrm>
            <a:off x="8317080" y="638172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8dc6ff"/>
          </a:solidFill>
          <a:ln w="0">
            <a:noFill/>
          </a:ln>
          <a:effectLst>
            <a:outerShdw dist="17819" dir="2700000" blurRad="0" rotWithShape="0">
              <a:srgbClr val="5577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Имя жены плюс девичья фамилия матери», — решил автор и написал под рукописью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ир Булычёв»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7"/>
          <p:cNvSpPr/>
          <p:nvPr/>
        </p:nvSpPr>
        <p:spPr>
          <a:xfrm>
            <a:off x="8675640" y="6381720"/>
            <a:ext cx="179280" cy="179280"/>
          </a:xfrm>
          <a:custGeom>
            <a:avLst/>
            <a:gdLst>
              <a:gd name="textAreaLeft" fmla="*/ 11520 w 179280"/>
              <a:gd name="textAreaRight" fmla="*/ 167760 w 179280"/>
              <a:gd name="textAreaTop" fmla="*/ 11520 h 179280"/>
              <a:gd name="textAreaBottom" fmla="*/ 167760 h 1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8dc6ff"/>
          </a:solidFill>
          <a:ln w="0">
            <a:noFill/>
          </a:ln>
          <a:effectLst>
            <a:outerShdw dist="17819" dir="2700000" blurRad="0" rotWithShape="0">
              <a:srgbClr val="5577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" dur="68400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8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000" y="620280"/>
            <a:ext cx="867564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овский мальчишка Игорь Можейко всегда чем-нибудь увлекал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сем маленьким обожал рассказы о разведчиках и погранични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десять лет захотел стать художником и даже поступил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удожественную шко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коре у него появились новые увлечения, совершенно другие 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ология и палеонтолог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горю страшно хотелось «путешествовать, жить в палатке, дел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учные открытия». Воображая себя исследователем амазон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львы, он вдоль и поперёк исходил Подмосковье. Он приле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ал книги  о палеонтологических экспедициях в пустыню Гоб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ирал обширные коллекции минералов и, конечно, представля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бя настоящим геологом с мужественным лицом и обветрен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5"/>
          <p:cNvSpPr/>
          <p:nvPr/>
        </p:nvSpPr>
        <p:spPr>
          <a:xfrm>
            <a:off x="8675640" y="6381720"/>
            <a:ext cx="179280" cy="179280"/>
          </a:xfrm>
          <a:custGeom>
            <a:avLst/>
            <a:gdLst>
              <a:gd name="textAreaLeft" fmla="*/ 11520 w 179280"/>
              <a:gd name="textAreaRight" fmla="*/ 167760 w 179280"/>
              <a:gd name="textAreaTop" fmla="*/ 11520 h 179280"/>
              <a:gd name="textAreaBottom" fmla="*/ 167760 h 1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8dc6ff"/>
          </a:solidFill>
          <a:ln w="0">
            <a:noFill/>
          </a:ln>
          <a:effectLst>
            <a:outerShdw dist="17819" dir="2700000" blurRad="0" rotWithShape="0">
              <a:srgbClr val="5577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5438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Фанта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152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АНТАСТИКА (от греч. phantastike — искусство воображать), форма отображения мира, при которой создается «сверхъестественная», «чудесная» картина Вселен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19-20 веках развивается научная фантастика - вид художественной фантастики, посвященный художественному прогнозированию будущ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ногие прогнозы писателей-фантастов сбылись: стали реальностью путешествия в подводный мир и космос, приборы – помощники человека, роботы, клонирование. Всё это ещё несколько десятилетий назад казалось фантастическим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560" y="333000"/>
            <a:ext cx="889308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орь Можейко в 1966 году защитил диссертацию о средневековой Бирме на тему «Паганское государство»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то же самое время у Можейко подрастала дочка Алиса. Она не слишком интересовалась историей Бирмы, но ей очень хотелось, чтобы папа, позабыв про дела, рассказал ей что-нибудь совершенно необыкновенное. И специально для дочки Игорь Всеволодович с удовольствием принялся придумывать фантастические истории о девочке из XXI века, которую, как и собственного ребёнка, назвал Алисо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казы эти под названием «Девочка, с которой ничего не случится» увидели свет в 1965 году в популярном альманахе «Мир приключений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8675640" y="6381720"/>
            <a:ext cx="179280" cy="179280"/>
          </a:xfrm>
          <a:custGeom>
            <a:avLst/>
            <a:gdLst>
              <a:gd name="textAreaLeft" fmla="*/ 11520 w 179280"/>
              <a:gd name="textAreaRight" fmla="*/ 167760 w 179280"/>
              <a:gd name="textAreaTop" fmla="*/ 11520 h 179280"/>
              <a:gd name="textAreaBottom" fmla="*/ 167760 h 1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8dc6ff"/>
          </a:solidFill>
          <a:ln w="0">
            <a:noFill/>
          </a:ln>
          <a:effectLst>
            <a:outerShdw dist="17819" dir="2700000" blurRad="0" rotWithShape="0">
              <a:srgbClr val="5577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чники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фициальная страница писател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ИСО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нциклопедия «Великие сказочни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blio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8675640" y="6381720"/>
            <a:ext cx="179280" cy="179280"/>
          </a:xfrm>
          <a:custGeom>
            <a:avLst/>
            <a:gdLst>
              <a:gd name="textAreaLeft" fmla="*/ 11520 w 179280"/>
              <a:gd name="textAreaRight" fmla="*/ 167760 w 179280"/>
              <a:gd name="textAreaTop" fmla="*/ 11520 h 179280"/>
              <a:gd name="textAreaBottom" fmla="*/ 167760 h 1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8dc6ff"/>
          </a:solidFill>
          <a:ln w="0">
            <a:noFill/>
          </a:ln>
          <a:effectLst>
            <a:outerShdw dist="17819" dir="2700000" blurRad="0" rotWithShape="0">
              <a:srgbClr val="5577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жды Алиса Селезнёва даже стала кинозвездой — были написаны сценарии мультипликационного фильма «Тайна третьей планеты» и пятисерийного художественного фильма «Гостья из будущего». И каждая новая встреча с девочкой из XXI века вызывала и у читателей, и у зрителей бурный восторг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0"/>
          <p:cNvSpPr/>
          <p:nvPr/>
        </p:nvSpPr>
        <p:spPr>
          <a:xfrm>
            <a:off x="8459640" y="6308640"/>
            <a:ext cx="287640" cy="287280"/>
          </a:xfrm>
          <a:custGeom>
            <a:avLst/>
            <a:gdLst>
              <a:gd name="textAreaLeft" fmla="*/ 18360 w 287640"/>
              <a:gd name="textAreaRight" fmla="*/ 269280 w 287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27" h="21600">
                <a:moveTo>
                  <a:pt x="0" y="0"/>
                </a:moveTo>
                <a:lnTo>
                  <a:pt x="21627" y="0"/>
                </a:lnTo>
                <a:lnTo>
                  <a:pt x="21627" y="21600"/>
                </a:lnTo>
                <a:lnTo>
                  <a:pt x="0" y="21600"/>
                </a:lnTo>
                <a:close/>
              </a:path>
              <a:path fill="lightenLess" w="21627" h="21600">
                <a:moveTo>
                  <a:pt x="0" y="0"/>
                </a:moveTo>
                <a:lnTo>
                  <a:pt x="21627" y="0"/>
                </a:lnTo>
                <a:lnTo>
                  <a:pt x="20227" y="1400"/>
                </a:lnTo>
                <a:lnTo>
                  <a:pt x="1400" y="1400"/>
                </a:lnTo>
                <a:close/>
              </a:path>
              <a:path fill="darken" w="21627" h="21600">
                <a:moveTo>
                  <a:pt x="21627" y="0"/>
                </a:moveTo>
                <a:lnTo>
                  <a:pt x="21627" y="21600"/>
                </a:lnTo>
                <a:lnTo>
                  <a:pt x="20227" y="20200"/>
                </a:lnTo>
                <a:lnTo>
                  <a:pt x="20227" y="1400"/>
                </a:lnTo>
                <a:close/>
              </a:path>
              <a:path fill="darkenLess" w="21627" h="21600">
                <a:moveTo>
                  <a:pt x="21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7" y="20200"/>
                </a:lnTo>
                <a:close/>
              </a:path>
              <a:path fill="lighten" w="21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7" h="21600">
                <a:moveTo>
                  <a:pt x="3807" y="7493"/>
                </a:moveTo>
                <a:lnTo>
                  <a:pt x="7315" y="7493"/>
                </a:lnTo>
                <a:lnTo>
                  <a:pt x="7315" y="12828"/>
                </a:lnTo>
                <a:cubicBezTo>
                  <a:pt x="7315" y="13751"/>
                  <a:pt x="8115" y="14482"/>
                  <a:pt x="9151" y="14482"/>
                </a:cubicBezTo>
                <a:lnTo>
                  <a:pt x="10814" y="14482"/>
                </a:lnTo>
                <a:cubicBezTo>
                  <a:pt x="11849" y="14482"/>
                  <a:pt x="12650" y="13751"/>
                  <a:pt x="12650" y="12828"/>
                </a:cubicBezTo>
                <a:lnTo>
                  <a:pt x="12650" y="7493"/>
                </a:lnTo>
                <a:lnTo>
                  <a:pt x="10814" y="7493"/>
                </a:lnTo>
                <a:lnTo>
                  <a:pt x="14321" y="3985"/>
                </a:lnTo>
                <a:lnTo>
                  <a:pt x="17994" y="7493"/>
                </a:lnTo>
                <a:lnTo>
                  <a:pt x="16158" y="7493"/>
                </a:lnTo>
                <a:lnTo>
                  <a:pt x="16158" y="12828"/>
                </a:lnTo>
                <a:cubicBezTo>
                  <a:pt x="16158" y="15596"/>
                  <a:pt x="13581" y="18155"/>
                  <a:pt x="10814" y="18155"/>
                </a:cubicBezTo>
                <a:lnTo>
                  <a:pt x="9151" y="18155"/>
                </a:lnTo>
                <a:cubicBezTo>
                  <a:pt x="6383" y="18155"/>
                  <a:pt x="3807" y="15596"/>
                  <a:pt x="3807" y="128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6" dur="32640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1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 Похищение чародея"/>
          <p:cNvPicPr/>
          <p:nvPr/>
        </p:nvPicPr>
        <p:blipFill>
          <a:blip r:embed="rId1"/>
          <a:stretch/>
        </p:blipFill>
        <p:spPr>
          <a:xfrm>
            <a:off x="971640" y="3789360"/>
            <a:ext cx="1015920" cy="15764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042920" y="549360"/>
            <a:ext cx="71056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Я</a:t>
            </a: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</a:t>
            </a: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ЧИТАТЕЛ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 Девочка с Земли"/>
          <p:cNvPicPr/>
          <p:nvPr/>
        </p:nvPicPr>
        <p:blipFill>
          <a:blip r:embed="rId2"/>
          <a:stretch/>
        </p:blipFill>
        <p:spPr>
          <a:xfrm>
            <a:off x="6012000" y="4581360"/>
            <a:ext cx="987120" cy="1584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 Приключения Алисы"/>
          <p:cNvPicPr/>
          <p:nvPr/>
        </p:nvPicPr>
        <p:blipFill>
          <a:blip r:embed="rId3"/>
          <a:stretch/>
        </p:blipFill>
        <p:spPr>
          <a:xfrm>
            <a:off x="7667640" y="3860640"/>
            <a:ext cx="1030320" cy="1584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 Чулан синей бороды"/>
          <p:cNvPicPr/>
          <p:nvPr/>
        </p:nvPicPr>
        <p:blipFill>
          <a:blip r:embed="rId4"/>
          <a:stretch/>
        </p:blipFill>
        <p:spPr>
          <a:xfrm>
            <a:off x="2627280" y="4508640"/>
            <a:ext cx="1014480" cy="1584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 Древние тайны"/>
          <p:cNvPicPr/>
          <p:nvPr/>
        </p:nvPicPr>
        <p:blipFill>
          <a:blip r:embed="rId5"/>
          <a:stretch/>
        </p:blipFill>
        <p:spPr>
          <a:xfrm>
            <a:off x="4211640" y="5013360"/>
            <a:ext cx="1028520" cy="1584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pic05-2"/>
          <p:cNvPicPr/>
          <p:nvPr/>
        </p:nvPicPr>
        <p:blipFill>
          <a:blip r:embed="rId6"/>
          <a:stretch/>
        </p:blipFill>
        <p:spPr>
          <a:xfrm>
            <a:off x="1042920" y="260280"/>
            <a:ext cx="1809720" cy="1524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chto"/>
          <p:cNvPicPr/>
          <p:nvPr/>
        </p:nvPicPr>
        <p:blipFill>
          <a:blip r:embed="rId7"/>
          <a:stretch/>
        </p:blipFill>
        <p:spPr>
          <a:xfrm>
            <a:off x="6659640" y="243000"/>
            <a:ext cx="2160360" cy="160812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10">
            <a:hlinkClick r:id="" action="ppaction://hlinkshowjump?jump=firstslide"/>
          </p:cNvPr>
          <p:cNvSpPr/>
          <p:nvPr/>
        </p:nvSpPr>
        <p:spPr>
          <a:xfrm>
            <a:off x="8459640" y="6524640"/>
            <a:ext cx="179640" cy="179280"/>
          </a:xfrm>
          <a:custGeom>
            <a:avLst/>
            <a:gdLst>
              <a:gd name="textAreaLeft" fmla="*/ 11520 w 179640"/>
              <a:gd name="textAreaRight" fmla="*/ 168120 w 179640"/>
              <a:gd name="textAreaTop" fmla="*/ 11520 h 179280"/>
              <a:gd name="textAreaBottom" fmla="*/ 167760 h 179280"/>
            </a:gdLst>
            <a:ahLst/>
            <a:rect l="textAreaLeft" t="textAreaTop" r="textAreaRight" b="textAreaBottom"/>
            <a:pathLst>
              <a:path w="21643" h="21600">
                <a:moveTo>
                  <a:pt x="0" y="0"/>
                </a:moveTo>
                <a:lnTo>
                  <a:pt x="21643" y="0"/>
                </a:lnTo>
                <a:lnTo>
                  <a:pt x="21643" y="21600"/>
                </a:lnTo>
                <a:lnTo>
                  <a:pt x="0" y="21600"/>
                </a:lnTo>
                <a:close/>
              </a:path>
              <a:path fill="lightenLess" w="21643" h="21600">
                <a:moveTo>
                  <a:pt x="0" y="0"/>
                </a:moveTo>
                <a:lnTo>
                  <a:pt x="21643" y="0"/>
                </a:lnTo>
                <a:lnTo>
                  <a:pt x="20243" y="1400"/>
                </a:lnTo>
                <a:lnTo>
                  <a:pt x="1400" y="1400"/>
                </a:lnTo>
                <a:close/>
              </a:path>
              <a:path fill="darken" w="21643" h="21600">
                <a:moveTo>
                  <a:pt x="21643" y="0"/>
                </a:moveTo>
                <a:lnTo>
                  <a:pt x="21643" y="21600"/>
                </a:lnTo>
                <a:lnTo>
                  <a:pt x="20243" y="20200"/>
                </a:lnTo>
                <a:lnTo>
                  <a:pt x="20243" y="1400"/>
                </a:lnTo>
                <a:close/>
              </a:path>
              <a:path fill="darkenLess" w="21643" h="21600">
                <a:moveTo>
                  <a:pt x="21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3" y="20200"/>
                </a:lnTo>
                <a:close/>
              </a:path>
              <a:path fill="lighten" w="21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3" h="21600">
                <a:moveTo>
                  <a:pt x="7323" y="10800"/>
                </a:moveTo>
                <a:lnTo>
                  <a:pt x="17828" y="3794"/>
                </a:lnTo>
                <a:lnTo>
                  <a:pt x="17828" y="17806"/>
                </a:lnTo>
                <a:close/>
              </a:path>
              <a:path fill="darken" w="21643" h="21600">
                <a:moveTo>
                  <a:pt x="3815" y="3794"/>
                </a:moveTo>
                <a:lnTo>
                  <a:pt x="5478" y="3794"/>
                </a:lnTo>
                <a:lnTo>
                  <a:pt x="5478" y="17806"/>
                </a:lnTo>
                <a:lnTo>
                  <a:pt x="3815" y="17806"/>
                </a:lnTo>
                <a:close/>
              </a:path>
            </a:pathLst>
          </a:custGeom>
          <a:solidFill>
            <a:srgbClr val="8dc6ff"/>
          </a:solidFill>
          <a:ln w="0">
            <a:noFill/>
          </a:ln>
          <a:effectLst>
            <a:outerShdw dist="17819" dir="2700000" blurRad="0" rotWithShape="0">
              <a:srgbClr val="5577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Arial"/>
              </a:rPr>
              <a:t>Пове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вес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прозаический жанр, занимающий промежуточное место между романом и рассказ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сказ обычно изображает одно событие из жизни героя, роман — целую жизнь, а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вес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— ряд событ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Arial"/>
              </a:rPr>
              <a:t>При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ожиданный случай в жизни, происшеств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нтересное, занимательное происшествие (в литературном или театральном произведении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24000" y="404640"/>
          <a:ext cx="8496000" cy="6120000"/>
        </p:xfrm>
        <a:graphic>
          <a:graphicData uri="http://schemas.openxmlformats.org/drawingml/2006/table">
            <a:tbl>
              <a:tblPr/>
              <a:tblGrid>
                <a:gridCol w="2832120"/>
                <a:gridCol w="2831760"/>
                <a:gridCol w="2832120"/>
              </a:tblGrid>
              <a:tr h="203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" name="Picture 32" descr="Девочка, с которой ничего не случится - 0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56360" y="2492280"/>
            <a:ext cx="2468520" cy="1981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5" descr="Девочка, с которой ничего не случится - 09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780000" y="476280"/>
            <a:ext cx="1465200" cy="1981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5" descr="Девочка, с которой ничего не случится - 04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116000" y="4508640"/>
            <a:ext cx="1593720" cy="1981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8" descr="Девочка, с которой ничего не случится - 03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588000" y="4508640"/>
            <a:ext cx="1441440" cy="1981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8" descr="Девочка, с которой ничего не случится - 11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95280" y="2708280"/>
            <a:ext cx="2664000" cy="1671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1" descr="Девочка, с которой ничего не случится - 12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564000" y="2565360"/>
            <a:ext cx="1904760" cy="1917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3" descr="Девочка, с которой ничего не случится - 05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3203640" y="4653000"/>
            <a:ext cx="2700360" cy="1484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4" descr="Девочка, с которой ничего не случится - 02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1042920" y="476280"/>
            <a:ext cx="1076400" cy="1944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5" descr="Девочка, с которой ничего не случится - 07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6659640" y="476280"/>
            <a:ext cx="1447560" cy="187164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49">
            <a:hlinkClick r:id="rId19" action="ppaction://hlinksldjump"/>
          </p:cNvPr>
          <p:cNvSpPr/>
          <p:nvPr/>
        </p:nvSpPr>
        <p:spPr>
          <a:xfrm>
            <a:off x="8891640" y="660564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475920"/>
            <a:ext cx="753768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ое событие прославило Алису и испортило репутацию биолога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1" descr="Девочка, с которой ничего не случится - 0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475000" y="3589200"/>
            <a:ext cx="4155840" cy="25038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…Алиса побежала к мор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ронтозавра. В руке у неё была бел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л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шь, Бронтя, - сказала она. Мне 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же на твоём месте надоели бан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ронтозавр посмотрел на Алису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торожно взял булку у неё из рук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Девочка, с которой ничего не случится - 0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71640" y="404640"/>
            <a:ext cx="2396880" cy="14320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1" name="AutoShape 6">
            <a:hlinkClick r:id="rId3" action="ppaction://hlinksldjump"/>
          </p:cNvPr>
          <p:cNvSpPr/>
          <p:nvPr/>
        </p:nvSpPr>
        <p:spPr>
          <a:xfrm>
            <a:off x="8532720" y="6308640"/>
            <a:ext cx="179640" cy="179640"/>
          </a:xfrm>
          <a:custGeom>
            <a:avLst/>
            <a:gdLst>
              <a:gd name="textAreaLeft" fmla="*/ 11520 w 179640"/>
              <a:gd name="textAreaRight" fmla="*/ 168120 w 179640"/>
              <a:gd name="textAreaTop" fmla="*/ 11520 h 179640"/>
              <a:gd name="textAreaBottom" fmla="*/ 168120 h 1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3747960"/>
            <a:ext cx="8229600" cy="23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то из домашних питомцев Али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мел разговаривать и чит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Девочка, с которой ничего не случится - 0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780000" y="404640"/>
            <a:ext cx="2358720" cy="30513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7:04:26Z</dcterms:created>
  <dc:creator>Perevozkin</dc:creator>
  <dc:description/>
  <dc:language>en-US</dc:language>
  <cp:lastModifiedBy>User</cp:lastModifiedBy>
  <dcterms:modified xsi:type="dcterms:W3CDTF">2013-02-20T08:16:49Z</dcterms:modified>
  <cp:revision>43</cp:revision>
  <dc:subject/>
  <dc:title>Урок внеклассного чтения в 4 классе на тему: «Фантастические повести Кира Булычёва»</dc:title>
</cp:coreProperties>
</file>