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49.gif" ContentType="image/gif"/>
  <Override PartName="/ppt/media/image16.jpeg" ContentType="image/jpeg"/>
  <Override PartName="/ppt/media/image15.jpeg" ContentType="image/jpeg"/>
  <Override PartName="/ppt/media/image1.jpeg" ContentType="image/jpeg"/>
  <Override PartName="/ppt/media/image47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29.png" ContentType="image/png"/>
  <Override PartName="/ppt/media/image36.gif" ContentType="image/gif"/>
  <Override PartName="/ppt/media/image3.gif" ContentType="image/gif"/>
  <Override PartName="/ppt/media/image25.jpeg" ContentType="image/jpeg"/>
  <Override PartName="/ppt/media/image4.jpeg" ContentType="image/jpeg"/>
  <Override PartName="/ppt/media/image40.png" ContentType="image/png"/>
  <Override PartName="/ppt/media/image32.jpeg" ContentType="image/jpeg"/>
  <Override PartName="/ppt/media/image5.jpeg" ContentType="image/jpeg"/>
  <Override PartName="/ppt/media/image34.jpeg" ContentType="image/jpeg"/>
  <Override PartName="/ppt/media/image37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30.jpeg" ContentType="image/jpeg"/>
  <Override PartName="/ppt/media/image43.png" ContentType="image/png"/>
  <Override PartName="/ppt/media/image52.gif" ContentType="image/gif"/>
  <Override PartName="/ppt/media/image45.png" ContentType="image/png"/>
  <Override PartName="/ppt/media/image6.jpeg" ContentType="image/jpeg"/>
  <Override PartName="/ppt/media/image44.png" ContentType="image/png"/>
  <Override PartName="/ppt/media/image46.png" ContentType="image/png"/>
  <Override PartName="/ppt/media/image50.jpeg" ContentType="image/jpeg"/>
  <Override PartName="/ppt/media/image13.png" ContentType="image/png"/>
  <Override PartName="/ppt/media/image48.png" ContentType="image/png"/>
  <Override PartName="/ppt/media/image9.jpeg" ContentType="image/jpeg"/>
  <Override PartName="/ppt/media/image7.jpeg" ContentType="image/jpeg"/>
  <Override PartName="/ppt/media/image35.gif" ContentType="image/gif"/>
  <Override PartName="/ppt/media/image38.png" ContentType="image/png"/>
  <Override PartName="/ppt/media/image8.jpeg" ContentType="image/jpeg"/>
  <Override PartName="/ppt/media/image28.jpeg" ContentType="image/jpeg"/>
  <Override PartName="/ppt/media/image51.jpeg" ContentType="image/jpeg"/>
  <Override PartName="/ppt/media/image11.gif" ContentType="image/gif"/>
  <Override PartName="/ppt/media/image10.jpeg" ContentType="image/jpeg"/>
  <Override PartName="/ppt/media/image14.png" ContentType="image/pn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9D20-E119-43DF-A3D5-5967F529F41D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7B25AD-BAE3-438C-8A12-89536161ED20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2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BC9A-9A85-4BC2-9808-752C8B6FAF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DB5D-87F3-4CD5-86EF-EDBF924D3BE7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EF3D-1AC1-43B1-9481-DDF5F75029C8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9E8-335A-46DE-A45E-F3D79A81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0E7-F0E9-44D6-8A8D-EFB175CF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EC6-FAFC-479D-880E-DEA434A7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2CF-83BE-4751-8562-A98C08D0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967-D02F-46CE-8211-481E7C2A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97DF-DC78-4C68-83EA-C54CB375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B3A-C562-47DA-894D-D5CB87AF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2BC-2983-4807-9373-A67C36EC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B7E-ADEC-4B3D-9A4A-7DE3BF41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9EC-71F1-4B39-89DA-B7CC1AC9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612-8465-4BBF-8286-99419D33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3896-8474-4754-BEBB-052DAC8F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1B4B-01FE-47CD-8A8D-755850E3E501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A9E9-D2E6-4963-9B7B-82774BF7187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slide" Target="slide3.xml"/><Relationship Id="rId7" Type="http://schemas.openxmlformats.org/officeDocument/2006/relationships/image" Target="../media/image24.jpeg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slide" Target="slide3.xml"/><Relationship Id="rId13" Type="http://schemas.openxmlformats.org/officeDocument/2006/relationships/image" Target="../media/image11.gi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slide" Target="slide3.xml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" Target="slide3.xml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" Target="slide3.xml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" Target="slide3.xm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49.gif"/><Relationship Id="rId4" Type="http://schemas.openxmlformats.org/officeDocument/2006/relationships/image" Target="../media/image50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-marshak.ru/art/post/postcards02.jpg" TargetMode="External"/><Relationship Id="rId3" Type="http://schemas.openxmlformats.org/officeDocument/2006/relationships/hyperlink" Target="http://s-marshak.ru/photo/detstvo/detstvo01.jpg" TargetMode="External"/><Relationship Id="rId4" Type="http://schemas.openxmlformats.org/officeDocument/2006/relationships/hyperlink" Target="http://s-marshak.ru/photo/family/family03.jpg" TargetMode="External"/><Relationship Id="rId5" Type="http://schemas.openxmlformats.org/officeDocument/2006/relationships/hyperlink" Target="http://s-marshak.ru/photo/detstvo/detstvo08.jpg" TargetMode="External"/><Relationship Id="rId6" Type="http://schemas.openxmlformats.org/officeDocument/2006/relationships/hyperlink" Target="http://www.samisdat.com/picture/LJ/1250.JPG" TargetMode="External"/><Relationship Id="rId7" Type="http://schemas.openxmlformats.org/officeDocument/2006/relationships/hyperlink" Target="http://nkozlov.ru/upload/images/0703/0703271401490.jpg" TargetMode="External"/><Relationship Id="rId8" Type="http://schemas.openxmlformats.org/officeDocument/2006/relationships/hyperlink" Target="http://s017.radikal.ru/i432/1206/c5/498281628e71.jpg" TargetMode="External"/><Relationship Id="rId9" Type="http://schemas.openxmlformats.org/officeDocument/2006/relationships/hyperlink" Target="http://s-marshak.ru/photo/cemetery/cemetery02.jpg" TargetMode="External"/><Relationship Id="rId10" Type="http://schemas.openxmlformats.org/officeDocument/2006/relationships/hyperlink" Target="http://s-marshak.ru/photo/cemetery/cemetery02.jpg" TargetMode="External"/><Relationship Id="rId11" Type="http://schemas.openxmlformats.org/officeDocument/2006/relationships/hyperlink" Target="http://tiroir.ru/store/153-556-thickbox/ochki-skulgel.jpg" TargetMode="External"/><Relationship Id="rId12" Type="http://schemas.openxmlformats.org/officeDocument/2006/relationships/hyperlink" Target="http://technologys.info/images/stories/pilenije/shir%20nozhov.jpg" TargetMode="External"/><Relationship Id="rId13" Type="http://schemas.openxmlformats.org/officeDocument/2006/relationships/hyperlink" Target="http://demiart.ru/forum/uploads/post-4361-1187733794.jpg" TargetMode="External"/><Relationship Id="rId14" Type="http://schemas.openxmlformats.org/officeDocument/2006/relationships/hyperlink" Target="http://s-marshak.ru/books/v/v26/v26_01.jpg" TargetMode="External"/><Relationship Id="rId15" Type="http://schemas.openxmlformats.org/officeDocument/2006/relationships/hyperlink" Target="http://s-marshak.ru/books/u/u04/u04_01.jpg" TargetMode="External"/><Relationship Id="rId16" Type="http://schemas.openxmlformats.org/officeDocument/2006/relationships/hyperlink" Target="http://s-marshak.ru/books/b/b04/b04_01.jpg" TargetMode="External"/><Relationship Id="rId17" Type="http://schemas.openxmlformats.org/officeDocument/2006/relationships/hyperlink" Target="http://s-marshak.ru/books/d/d11/d11_01.jpg" TargetMode="External"/><Relationship Id="rId18" Type="http://schemas.openxmlformats.org/officeDocument/2006/relationships/hyperlink" Target="http://aptr.ru/studies/books/g/koshkin-dom-2.jpg" TargetMode="External"/><Relationship Id="rId19" Type="http://schemas.openxmlformats.org/officeDocument/2006/relationships/hyperlink" Target="http://akak.ru/steps/pictures/000/007/585_large.jpg" TargetMode="External"/><Relationship Id="rId20" Type="http://schemas.openxmlformats.org/officeDocument/2006/relationships/hyperlink" Target="http://jewelbox.ru/images/middle/kolca/zheltoe-zoloto/bez-vstavok/obruchalnoe-kolco-750-proba-iz-zheltogo-zolota-59371-0.jpg" TargetMode="External"/><Relationship Id="rId21" Type="http://schemas.openxmlformats.org/officeDocument/2006/relationships/hyperlink" Target="http://images01.olx.ru/ui/2/89/72/25278772_1.jpg" TargetMode="External"/><Relationship Id="rId22" Type="http://schemas.openxmlformats.org/officeDocument/2006/relationships/hyperlink" Target="http://kotostudio.ru/photogallery/siberiankitties/img-kotenok-iz-pitomnika-volzhskaya-krasa-6150.html" TargetMode="External"/><Relationship Id="rId23" Type="http://schemas.openxmlformats.org/officeDocument/2006/relationships/hyperlink" Target="http://irecommend.ru/sites/default/files/product-images/32253/t_2.jpg" TargetMode="External"/><Relationship Id="rId24" Type="http://schemas.openxmlformats.org/officeDocument/2006/relationships/hyperlink" Target="http://proxvost.info/photo/wild/lion/shanghai_zoo/lion.jpg" TargetMode="External"/><Relationship Id="rId25" Type="http://schemas.openxmlformats.org/officeDocument/2006/relationships/hyperlink" Target="http://fermer02.ru/uploads/posts/2009-05/1242120472_08.jpg" TargetMode="External"/><Relationship Id="rId26" Type="http://schemas.openxmlformats.org/officeDocument/2006/relationships/hyperlink" Target="http://wildkino.ru/uploads/posts/2010-04/1271266394_crocodile.jpg" TargetMode="External"/><Relationship Id="rId27" Type="http://schemas.openxmlformats.org/officeDocument/2006/relationships/hyperlink" Target="http://copypast.ru/uploads/posts/1252739043_post312502261828207.jpg" TargetMode="External"/><Relationship Id="rId28" Type="http://schemas.openxmlformats.org/officeDocument/2006/relationships/hyperlink" Target="http://birds-altay.ru/wp-content/uploads/2011/07/11-350x399.jpg" TargetMode="External"/><Relationship Id="rId29" Type="http://schemas.openxmlformats.org/officeDocument/2006/relationships/hyperlink" Target="http://img.beta.rian.ru/images/19473/01/194730100.jpg" TargetMode="External"/><Relationship Id="rId30" Type="http://schemas.openxmlformats.org/officeDocument/2006/relationships/hyperlink" Target="http://all-animals.ru/dikie/0_22fb7_c87a7895_XL.jpg" TargetMode="External"/><Relationship Id="rId31" Type="http://schemas.openxmlformats.org/officeDocument/2006/relationships/hyperlink" Target="http://floranimal.ru/pages/animal/m/59.jpg" TargetMode="External"/><Relationship Id="rId32" Type="http://schemas.openxmlformats.org/officeDocument/2006/relationships/hyperlink" Target="http://animaltime.ru/mammal/morz/morz_1.jpg" TargetMode="External"/><Relationship Id="rId33" Type="http://schemas.openxmlformats.org/officeDocument/2006/relationships/hyperlink" Target="http://namonitore.ru/uploads/catalog/dikie/stariy_slon_600.jpg" TargetMode="External"/><Relationship Id="rId34" Type="http://schemas.openxmlformats.org/officeDocument/2006/relationships/hyperlink" Target="http://luzan.ucoz.ru/load/animacionnye_kartinki_na_shkolnuju_tematiku/29-7-2" TargetMode="External"/><Relationship Id="rId35" Type="http://schemas.openxmlformats.org/officeDocument/2006/relationships/hyperlink" Target="http://gifmir.ucoz.ru/photo/deti_animashki/people072/47-0-2245" TargetMode="External"/><Relationship Id="rId36" Type="http://schemas.openxmlformats.org/officeDocument/2006/relationships/hyperlink" Target="http://remochka.livejournal.com/92390.html" TargetMode="External"/><Relationship Id="rId37" Type="http://schemas.openxmlformats.org/officeDocument/2006/relationships/hyperlink" Target="http://arhivknig.com/uploads/posts/2011-03/1300792522_marshak_450x450.jpg" TargetMode="External"/><Relationship Id="rId38" Type="http://schemas.openxmlformats.org/officeDocument/2006/relationships/hyperlink" Target="http://arhivknig.com/uploads/posts/2011-03/1300792522_marshak_450x450.jpg" TargetMode="External"/><Relationship Id="rId39" Type="http://schemas.openxmlformats.org/officeDocument/2006/relationships/hyperlink" Target="http://s-marshak.ru/autographs/nadpis/nadpis15_1.jpg" TargetMode="External"/><Relationship Id="rId40" Type="http://schemas.openxmlformats.org/officeDocument/2006/relationships/hyperlink" Target="http://luzan.ucoz.ru/load/animacionnye_kartinki_na_shkolnuju_tematiku/29-5-2" TargetMode="External"/><Relationship Id="rId41" Type="http://schemas.openxmlformats.org/officeDocument/2006/relationships/hyperlink" Target="http://gif-deti.ucoz.ru/photo/shkola_animashki/79966779/25-0-400" TargetMode="External"/><Relationship Id="rId42" Type="http://schemas.openxmlformats.org/officeDocument/2006/relationships/hyperlink" Target="http://gif-deti.ucoz.ru/photo/shkola_animashki/79966779/25-0-400" TargetMode="External"/><Relationship Id="rId43" Type="http://schemas.openxmlformats.org/officeDocument/2006/relationships/hyperlink" Target="http://gif-deti.ucoz.ru/photo/shkola_animashki/42/25-0-389" TargetMode="External"/><Relationship Id="rId44" Type="http://schemas.openxmlformats.org/officeDocument/2006/relationships/hyperlink" Target="http://gif-deti.ucoz.ru/photo/shkola_animashki/42/25-0-389" TargetMode="External"/><Relationship Id="rId4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styor.ru/poetry/poem72.html" TargetMode="External"/><Relationship Id="rId3" Type="http://schemas.openxmlformats.org/officeDocument/2006/relationships/hyperlink" Target="http://lib.ru/POEZIQ/MARSHAK/detskaya.txt" TargetMode="External"/><Relationship Id="rId4" Type="http://schemas.openxmlformats.org/officeDocument/2006/relationships/hyperlink" Target="http://allforchildren.ru/poetry/author2-marshak.php" TargetMode="External"/><Relationship Id="rId5" Type="http://schemas.openxmlformats.org/officeDocument/2006/relationships/hyperlink" Target="http://zanimatika.narod.ru/DetKniga1.htm" TargetMode="External"/><Relationship Id="rId6" Type="http://schemas.openxmlformats.org/officeDocument/2006/relationships/hyperlink" Target="http://babylib.ru/childrens-poems/samuil%20marshak/druzya-tovarishhi-samuil-marshak/" TargetMode="External"/><Relationship Id="rId7" Type="http://schemas.openxmlformats.org/officeDocument/2006/relationships/hyperlink" Target="http://babylib.ru/childrens-poems/samuil%20marshak/druzya-tovarishhi-samuil-marshak/" TargetMode="External"/><Relationship Id="rId8" Type="http://schemas.openxmlformats.org/officeDocument/2006/relationships/hyperlink" Target="http://babylib.ru/childrens-poems/samuil%20marshak/druzya-tovarishhi-samuil-marshak/" TargetMode="External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5.xml"/><Relationship Id="rId7" Type="http://schemas.openxmlformats.org/officeDocument/2006/relationships/slide" Target="slide14.xml"/><Relationship Id="rId8" Type="http://schemas.openxmlformats.org/officeDocument/2006/relationships/slide" Target="slide13.xml"/><Relationship Id="rId9" Type="http://schemas.openxmlformats.org/officeDocument/2006/relationships/slide" Target="slide12.xml"/><Relationship Id="rId10" Type="http://schemas.openxmlformats.org/officeDocument/2006/relationships/slide" Target="slide18.xml"/><Relationship Id="rId11" Type="http://schemas.openxmlformats.org/officeDocument/2006/relationships/slide" Target="slide16.xml"/><Relationship Id="rId12" Type="http://schemas.openxmlformats.org/officeDocument/2006/relationships/image" Target="../media/image11.gi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" Target="slide3.xml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" Target="slide3.xm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Горизонтальный свиток 1"/>
          <p:cNvSpPr/>
          <p:nvPr/>
        </p:nvSpPr>
        <p:spPr>
          <a:xfrm>
            <a:off x="3403440" y="765000"/>
            <a:ext cx="5183280" cy="324036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03320" y="1244160"/>
            <a:ext cx="48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– ПУТЕШЕСТВИЕ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 гости к С.Я. Маршаку»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71DD-60EF-4070-A747-34647FA4A47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8509-20F3-450C-BAB1-771D087D13A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5491080" y="4875120"/>
            <a:ext cx="3498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Елисеева Екатерина Степановна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МАОУ СОШ №17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Республика Бурятия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город Улан-Удэ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3" name="Рисунок 8" descr=""/>
          <p:cNvPicPr/>
          <p:nvPr/>
        </p:nvPicPr>
        <p:blipFill>
          <a:blip r:embed="rId2"/>
          <a:stretch/>
        </p:blipFill>
        <p:spPr>
          <a:xfrm>
            <a:off x="179280" y="2003400"/>
            <a:ext cx="2764080" cy="3532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9"/>
          <p:cNvSpPr/>
          <p:nvPr/>
        </p:nvSpPr>
        <p:spPr>
          <a:xfrm>
            <a:off x="4659480" y="2637000"/>
            <a:ext cx="29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для начальных классов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C8A2-E782-443C-943D-ECDBA56FCA8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A65F-00E4-4F9F-B56B-439A642AC97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493560" y="1413000"/>
            <a:ext cx="2384640" cy="1670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3"/>
          <a:stretch/>
        </p:blipFill>
        <p:spPr>
          <a:xfrm>
            <a:off x="3951360" y="1620720"/>
            <a:ext cx="1523880" cy="1238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4"/>
          <a:stretch/>
        </p:blipFill>
        <p:spPr>
          <a:xfrm>
            <a:off x="5364000" y="3794040"/>
            <a:ext cx="2275200" cy="1704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1409760" y="3789360"/>
            <a:ext cx="2541600" cy="16938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3"/>
          <p:cNvSpPr/>
          <p:nvPr/>
        </p:nvSpPr>
        <p:spPr>
          <a:xfrm>
            <a:off x="853920" y="306864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чта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2765160" y="308448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венадцать месяцев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4509720" y="5530680"/>
            <a:ext cx="42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от какой рассеянный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6715800" y="308304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агаж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799920" y="5532480"/>
            <a:ext cx="36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сатый полосатый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Стрелка вправо 8">
            <a:hlinkClick r:id="rId6" action="ppaction://hlinksldjump"/>
          </p:cNvPr>
          <p:cNvSpPr/>
          <p:nvPr/>
        </p:nvSpPr>
        <p:spPr>
          <a:xfrm>
            <a:off x="7937640" y="59817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0" name="Picture 16" descr=""/>
          <p:cNvPicPr/>
          <p:nvPr/>
        </p:nvPicPr>
        <p:blipFill>
          <a:blip r:embed="rId7"/>
          <a:stretch/>
        </p:blipFill>
        <p:spPr>
          <a:xfrm>
            <a:off x="6365880" y="1433520"/>
            <a:ext cx="2201760" cy="16495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9"/>
          <p:cNvSpPr/>
          <p:nvPr/>
        </p:nvSpPr>
        <p:spPr>
          <a:xfrm>
            <a:off x="2154240" y="584280"/>
            <a:ext cx="511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Откуда предметы?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2" name="Рисунок 9" descr=""/>
          <p:cNvPicPr/>
          <p:nvPr/>
        </p:nvPicPr>
        <p:blipFill>
          <a:blip r:embed="rId8"/>
          <a:stretch/>
        </p:blipFill>
        <p:spPr>
          <a:xfrm>
            <a:off x="8191440" y="3398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Лишнее животное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D2DA-6C5F-4E79-A66C-2411BC9227B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826B-214F-40C4-B2A5-0E3BAA26C65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398520" y="1446120"/>
            <a:ext cx="1670040" cy="1114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3"/>
          <a:stretch/>
        </p:blipFill>
        <p:spPr>
          <a:xfrm>
            <a:off x="2727360" y="1322280"/>
            <a:ext cx="11905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4"/>
          <a:stretch/>
        </p:blipFill>
        <p:spPr>
          <a:xfrm>
            <a:off x="2486160" y="5016600"/>
            <a:ext cx="1746000" cy="1270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5"/>
          <a:stretch/>
        </p:blipFill>
        <p:spPr>
          <a:xfrm>
            <a:off x="4962600" y="5052960"/>
            <a:ext cx="1666800" cy="1249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6"/>
          <a:stretch/>
        </p:blipFill>
        <p:spPr>
          <a:xfrm>
            <a:off x="504720" y="3268800"/>
            <a:ext cx="1419480" cy="1617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7"/>
          <a:stretch/>
        </p:blipFill>
        <p:spPr>
          <a:xfrm>
            <a:off x="2411280" y="331488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8"/>
          <a:stretch/>
        </p:blipFill>
        <p:spPr>
          <a:xfrm>
            <a:off x="4788000" y="3287880"/>
            <a:ext cx="2009520" cy="1461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9"/>
          <a:stretch/>
        </p:blipFill>
        <p:spPr>
          <a:xfrm>
            <a:off x="7451640" y="3241800"/>
            <a:ext cx="1297080" cy="1660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10"/>
          <a:stretch/>
        </p:blipFill>
        <p:spPr>
          <a:xfrm>
            <a:off x="4694400" y="1490760"/>
            <a:ext cx="1706400" cy="1143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11"/>
          <a:stretch/>
        </p:blipFill>
        <p:spPr>
          <a:xfrm>
            <a:off x="7072200" y="1409760"/>
            <a:ext cx="1676520" cy="1187280"/>
          </a:xfrm>
          <a:prstGeom prst="rect">
            <a:avLst/>
          </a:prstGeom>
          <a:ln w="0">
            <a:noFill/>
          </a:ln>
        </p:spPr>
      </p:pic>
      <p:sp>
        <p:nvSpPr>
          <p:cNvPr id="156" name="Стрелка вправо 4">
            <a:hlinkClick r:id="rId12" action="ppaction://hlinksldjump"/>
          </p:cNvPr>
          <p:cNvSpPr/>
          <p:nvPr/>
        </p:nvSpPr>
        <p:spPr>
          <a:xfrm>
            <a:off x="7910640" y="58183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7" name="Рисунок 3" descr=""/>
          <p:cNvPicPr/>
          <p:nvPr/>
        </p:nvPicPr>
        <p:blipFill>
          <a:blip r:embed="rId13"/>
          <a:stretch/>
        </p:blipFill>
        <p:spPr>
          <a:xfrm>
            <a:off x="8078760" y="260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62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2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92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25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10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Музыкальная пауза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9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AFF3-9D3E-4115-B62F-C30240BB7FB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3C8D-43B2-491F-9B9A-C2FB37746E8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1" name="Рисунок 5" descr=""/>
          <p:cNvPicPr/>
          <p:nvPr/>
        </p:nvPicPr>
        <p:blipFill>
          <a:blip r:embed="rId2"/>
          <a:stretch/>
        </p:blipFill>
        <p:spPr>
          <a:xfrm>
            <a:off x="5254560" y="4524480"/>
            <a:ext cx="1857600" cy="12859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6" descr=""/>
          <p:cNvPicPr/>
          <p:nvPr/>
        </p:nvPicPr>
        <p:blipFill>
          <a:blip r:embed="rId3"/>
          <a:stretch/>
        </p:blipFill>
        <p:spPr>
          <a:xfrm>
            <a:off x="1835280" y="2444760"/>
            <a:ext cx="1857240" cy="12859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7" descr=""/>
          <p:cNvPicPr/>
          <p:nvPr/>
        </p:nvPicPr>
        <p:blipFill>
          <a:blip r:embed="rId4"/>
          <a:stretch/>
        </p:blipFill>
        <p:spPr>
          <a:xfrm>
            <a:off x="5219640" y="2444760"/>
            <a:ext cx="1857600" cy="12859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8" descr=""/>
          <p:cNvPicPr/>
          <p:nvPr/>
        </p:nvPicPr>
        <p:blipFill>
          <a:blip r:embed="rId5"/>
          <a:stretch/>
        </p:blipFill>
        <p:spPr>
          <a:xfrm>
            <a:off x="1692360" y="4508640"/>
            <a:ext cx="1857240" cy="12855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9" descr=""/>
          <p:cNvPicPr/>
          <p:nvPr/>
        </p:nvPicPr>
        <p:blipFill>
          <a:blip r:embed="rId6"/>
          <a:stretch/>
        </p:blipFill>
        <p:spPr>
          <a:xfrm>
            <a:off x="4910040" y="1392120"/>
            <a:ext cx="3533760" cy="8575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0" descr=""/>
          <p:cNvPicPr/>
          <p:nvPr/>
        </p:nvPicPr>
        <p:blipFill>
          <a:blip r:embed="rId7"/>
          <a:stretch/>
        </p:blipFill>
        <p:spPr>
          <a:xfrm>
            <a:off x="611280" y="1373040"/>
            <a:ext cx="3533760" cy="857520"/>
          </a:xfrm>
          <a:prstGeom prst="rect">
            <a:avLst/>
          </a:prstGeom>
          <a:ln w="0">
            <a:noFill/>
          </a:ln>
        </p:spPr>
      </p:pic>
      <p:sp>
        <p:nvSpPr>
          <p:cNvPr id="167" name="Стрелка вправо 11">
            <a:hlinkClick r:id="rId8" action="ppaction://hlinksldjump"/>
          </p:cNvPr>
          <p:cNvSpPr/>
          <p:nvPr/>
        </p:nvSpPr>
        <p:spPr>
          <a:xfrm>
            <a:off x="8031240" y="592308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8" name="dmt__quot_raduga_quot-shli__kuda_popalo_stihi_samuila_marshaka.mp3" descr=""/>
          <p:cNvPicPr/>
          <p:nvPr/>
        </p:nvPicPr>
        <p:blipFill>
          <a:blip r:embed="rId9"/>
          <a:stretch/>
        </p:blipFill>
        <p:spPr>
          <a:xfrm>
            <a:off x="611280" y="51674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7457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Горизонтальный свиток 23"/>
          <p:cNvSpPr/>
          <p:nvPr/>
        </p:nvSpPr>
        <p:spPr>
          <a:xfrm>
            <a:off x="1908000" y="4443480"/>
            <a:ext cx="5384880" cy="73332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0" name="Picture 22" descr=""/>
          <p:cNvPicPr/>
          <p:nvPr/>
        </p:nvPicPr>
        <p:blipFill>
          <a:blip r:embed="rId2"/>
          <a:stretch/>
        </p:blipFill>
        <p:spPr>
          <a:xfrm>
            <a:off x="1908000" y="5253120"/>
            <a:ext cx="5384880" cy="8967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Исправь ошибки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2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365F-D2FB-4423-ABB0-E60BD78C261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7385-BFCC-4A68-A18E-72E31E6DF4D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4" name="Стрелка вправо 5">
            <a:hlinkClick r:id="rId3" action="ppaction://hlinksldjump"/>
          </p:cNvPr>
          <p:cNvSpPr/>
          <p:nvPr/>
        </p:nvSpPr>
        <p:spPr>
          <a:xfrm>
            <a:off x="7956720" y="5907240"/>
            <a:ext cx="977760" cy="485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5" name="Прямоугольник 6"/>
          <p:cNvSpPr/>
          <p:nvPr/>
        </p:nvSpPr>
        <p:spPr>
          <a:xfrm>
            <a:off x="3323160" y="5411880"/>
            <a:ext cx="27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ышкин дом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6" name="Прямоугольник 8"/>
          <p:cNvSpPr/>
          <p:nvPr/>
        </p:nvSpPr>
        <p:spPr>
          <a:xfrm>
            <a:off x="1909800" y="4541760"/>
            <a:ext cx="51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ассказ об известном герое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Горизонтальный свиток 4"/>
          <p:cNvSpPr/>
          <p:nvPr/>
        </p:nvSpPr>
        <p:spPr>
          <a:xfrm>
            <a:off x="1908000" y="3522600"/>
            <a:ext cx="5424840" cy="84312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8" name="Picture 19" descr=""/>
          <p:cNvPicPr/>
          <p:nvPr/>
        </p:nvPicPr>
        <p:blipFill>
          <a:blip r:embed="rId4"/>
          <a:stretch/>
        </p:blipFill>
        <p:spPr>
          <a:xfrm>
            <a:off x="1908000" y="2708280"/>
            <a:ext cx="5424840" cy="814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0" descr=""/>
          <p:cNvPicPr/>
          <p:nvPr/>
        </p:nvPicPr>
        <p:blipFill>
          <a:blip r:embed="rId5"/>
          <a:stretch/>
        </p:blipFill>
        <p:spPr>
          <a:xfrm>
            <a:off x="1908000" y="1889280"/>
            <a:ext cx="542484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1" descr=""/>
          <p:cNvPicPr/>
          <p:nvPr/>
        </p:nvPicPr>
        <p:blipFill>
          <a:blip r:embed="rId6"/>
          <a:stretch/>
        </p:blipFill>
        <p:spPr>
          <a:xfrm>
            <a:off x="1908000" y="1125360"/>
            <a:ext cx="5424840" cy="7639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2975760" y="1246320"/>
            <a:ext cx="33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етки в зоопарке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2641680" y="2038320"/>
            <a:ext cx="40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надцать  месяцев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3035160" y="368316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рок грубости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2643120" y="2851200"/>
            <a:ext cx="40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ткуда стул пришёл?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4500720" y="1246320"/>
            <a:ext cx="15015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летке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" name="TextBox 10"/>
          <p:cNvSpPr/>
          <p:nvPr/>
        </p:nvSpPr>
        <p:spPr>
          <a:xfrm>
            <a:off x="2917800" y="2038320"/>
            <a:ext cx="20937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венадцать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" name="TextBox 11"/>
          <p:cNvSpPr/>
          <p:nvPr/>
        </p:nvSpPr>
        <p:spPr>
          <a:xfrm>
            <a:off x="4096800" y="2854440"/>
            <a:ext cx="8895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о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" name="TextBox 12"/>
          <p:cNvSpPr/>
          <p:nvPr/>
        </p:nvSpPr>
        <p:spPr>
          <a:xfrm flipH="1">
            <a:off x="4207680" y="3683160"/>
            <a:ext cx="238932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ежливости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3708360" y="4548240"/>
            <a:ext cx="352764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известном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ерое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0" name="TextBox 14"/>
          <p:cNvSpPr/>
          <p:nvPr/>
        </p:nvSpPr>
        <p:spPr>
          <a:xfrm>
            <a:off x="3564000" y="5415120"/>
            <a:ext cx="15843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шкин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91" name="Рисунок 1" descr=""/>
          <p:cNvPicPr/>
          <p:nvPr/>
        </p:nvPicPr>
        <p:blipFill>
          <a:blip r:embed="rId7"/>
          <a:stretch/>
        </p:blipFill>
        <p:spPr>
          <a:xfrm>
            <a:off x="8101080" y="3110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Реши кроссворд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3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4D89-8838-442C-B1FA-E4E3A1476CDE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8563-CCDE-48B5-9E4A-A9F2B56CCFB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771640" y="1557360"/>
          <a:ext cx="3095640" cy="731880"/>
        </p:xfrm>
        <a:graphic>
          <a:graphicData uri="http://schemas.openxmlformats.org/drawingml/2006/table">
            <a:tbl>
              <a:tblPr/>
              <a:tblGrid>
                <a:gridCol w="773280"/>
                <a:gridCol w="774720"/>
                <a:gridCol w="772920"/>
                <a:gridCol w="77472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258920" y="3789360"/>
          <a:ext cx="4608360" cy="739800"/>
        </p:xfrm>
        <a:graphic>
          <a:graphicData uri="http://schemas.openxmlformats.org/drawingml/2006/table">
            <a:tbl>
              <a:tblPr/>
              <a:tblGrid>
                <a:gridCol w="780840"/>
                <a:gridCol w="779760"/>
                <a:gridCol w="780840"/>
                <a:gridCol w="754200"/>
                <a:gridCol w="720720"/>
                <a:gridCol w="792000"/>
              </a:tblGrid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39640" y="4508640"/>
          <a:ext cx="6840720" cy="792000"/>
        </p:xfrm>
        <a:graphic>
          <a:graphicData uri="http://schemas.openxmlformats.org/drawingml/2006/table">
            <a:tbl>
              <a:tblPr/>
              <a:tblGrid>
                <a:gridCol w="760680"/>
                <a:gridCol w="760320"/>
                <a:gridCol w="758880"/>
                <a:gridCol w="760320"/>
                <a:gridCol w="760320"/>
                <a:gridCol w="760320"/>
                <a:gridCol w="758880"/>
                <a:gridCol w="736560"/>
                <a:gridCol w="78444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843280" y="5300640"/>
          <a:ext cx="4537080" cy="738360"/>
        </p:xfrm>
        <a:graphic>
          <a:graphicData uri="http://schemas.openxmlformats.org/drawingml/2006/table">
            <a:tbl>
              <a:tblPr/>
              <a:tblGrid>
                <a:gridCol w="760320"/>
                <a:gridCol w="760320"/>
                <a:gridCol w="760680"/>
                <a:gridCol w="736560"/>
                <a:gridCol w="739800"/>
                <a:gridCol w="779400"/>
              </a:tblGrid>
              <a:tr h="7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771640" y="1557360"/>
          <a:ext cx="3095640" cy="731880"/>
        </p:xfrm>
        <a:graphic>
          <a:graphicData uri="http://schemas.openxmlformats.org/drawingml/2006/table">
            <a:tbl>
              <a:tblPr/>
              <a:tblGrid>
                <a:gridCol w="773280"/>
                <a:gridCol w="774720"/>
                <a:gridCol w="772920"/>
                <a:gridCol w="77472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050920" y="2276640"/>
          <a:ext cx="6840720" cy="792000"/>
        </p:xfrm>
        <a:graphic>
          <a:graphicData uri="http://schemas.openxmlformats.org/drawingml/2006/table">
            <a:tbl>
              <a:tblPr/>
              <a:tblGrid>
                <a:gridCol w="760680"/>
                <a:gridCol w="760320"/>
                <a:gridCol w="758880"/>
                <a:gridCol w="760320"/>
                <a:gridCol w="760320"/>
                <a:gridCol w="760320"/>
                <a:gridCol w="758880"/>
                <a:gridCol w="760680"/>
                <a:gridCol w="7603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050920" y="2276640"/>
          <a:ext cx="6840720" cy="792000"/>
        </p:xfrm>
        <a:graphic>
          <a:graphicData uri="http://schemas.openxmlformats.org/drawingml/2006/table">
            <a:tbl>
              <a:tblPr/>
              <a:tblGrid>
                <a:gridCol w="760680"/>
                <a:gridCol w="760320"/>
                <a:gridCol w="758880"/>
                <a:gridCol w="760320"/>
                <a:gridCol w="760320"/>
                <a:gridCol w="760320"/>
                <a:gridCol w="758880"/>
                <a:gridCol w="760680"/>
                <a:gridCol w="7603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258920" y="3789360"/>
          <a:ext cx="4608360" cy="739800"/>
        </p:xfrm>
        <a:graphic>
          <a:graphicData uri="http://schemas.openxmlformats.org/drawingml/2006/table">
            <a:tbl>
              <a:tblPr/>
              <a:tblGrid>
                <a:gridCol w="780840"/>
                <a:gridCol w="779760"/>
                <a:gridCol w="780840"/>
                <a:gridCol w="754200"/>
                <a:gridCol w="720720"/>
                <a:gridCol w="792000"/>
              </a:tblGrid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258920" y="3068640"/>
          <a:ext cx="4608360" cy="739800"/>
        </p:xfrm>
        <a:graphic>
          <a:graphicData uri="http://schemas.openxmlformats.org/drawingml/2006/table">
            <a:tbl>
              <a:tblPr/>
              <a:tblGrid>
                <a:gridCol w="780840"/>
                <a:gridCol w="779760"/>
                <a:gridCol w="780840"/>
                <a:gridCol w="754200"/>
                <a:gridCol w="720720"/>
                <a:gridCol w="792000"/>
              </a:tblGrid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258920" y="3068640"/>
          <a:ext cx="4608360" cy="739800"/>
        </p:xfrm>
        <a:graphic>
          <a:graphicData uri="http://schemas.openxmlformats.org/drawingml/2006/table">
            <a:tbl>
              <a:tblPr/>
              <a:tblGrid>
                <a:gridCol w="780840"/>
                <a:gridCol w="779760"/>
                <a:gridCol w="780840"/>
                <a:gridCol w="754200"/>
                <a:gridCol w="720720"/>
                <a:gridCol w="792000"/>
              </a:tblGrid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2843280" y="5300640"/>
          <a:ext cx="4537080" cy="739800"/>
        </p:xfrm>
        <a:graphic>
          <a:graphicData uri="http://schemas.openxmlformats.org/drawingml/2006/table">
            <a:tbl>
              <a:tblPr/>
              <a:tblGrid>
                <a:gridCol w="768240"/>
                <a:gridCol w="768240"/>
                <a:gridCol w="768600"/>
                <a:gridCol w="742680"/>
                <a:gridCol w="709920"/>
                <a:gridCol w="77940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539640" y="4508640"/>
          <a:ext cx="6840720" cy="792000"/>
        </p:xfrm>
        <a:graphic>
          <a:graphicData uri="http://schemas.openxmlformats.org/drawingml/2006/table">
            <a:tbl>
              <a:tblPr/>
              <a:tblGrid>
                <a:gridCol w="760680"/>
                <a:gridCol w="760320"/>
                <a:gridCol w="758880"/>
                <a:gridCol w="760320"/>
                <a:gridCol w="760320"/>
                <a:gridCol w="760320"/>
                <a:gridCol w="758880"/>
                <a:gridCol w="736560"/>
                <a:gridCol w="78444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207" name="TextBox 6"/>
          <p:cNvSpPr/>
          <p:nvPr/>
        </p:nvSpPr>
        <p:spPr>
          <a:xfrm>
            <a:off x="2293920" y="158256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8" name="TextBox 7"/>
          <p:cNvSpPr/>
          <p:nvPr/>
        </p:nvSpPr>
        <p:spPr>
          <a:xfrm>
            <a:off x="1631880" y="240336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770040" y="30686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0" name="TextBox 9"/>
          <p:cNvSpPr/>
          <p:nvPr/>
        </p:nvSpPr>
        <p:spPr>
          <a:xfrm>
            <a:off x="770040" y="38149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TextBox 26"/>
          <p:cNvSpPr/>
          <p:nvPr/>
        </p:nvSpPr>
        <p:spPr>
          <a:xfrm>
            <a:off x="93600" y="45086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2" name="TextBox 27"/>
          <p:cNvSpPr/>
          <p:nvPr/>
        </p:nvSpPr>
        <p:spPr>
          <a:xfrm>
            <a:off x="2403720" y="53006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3" name="Стрелка вправо 29">
            <a:hlinkClick r:id="rId2" action="ppaction://hlinksldjump"/>
          </p:cNvPr>
          <p:cNvSpPr/>
          <p:nvPr/>
        </p:nvSpPr>
        <p:spPr>
          <a:xfrm>
            <a:off x="7956720" y="58244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771640" y="1569960"/>
          <a:ext cx="863640" cy="4451400"/>
        </p:xfrm>
        <a:graphic>
          <a:graphicData uri="http://schemas.openxmlformats.org/drawingml/2006/table">
            <a:tbl>
              <a:tblPr/>
              <a:tblGrid>
                <a:gridCol w="863640"/>
              </a:tblGrid>
              <a:tr h="70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pic>
        <p:nvPicPr>
          <p:cNvPr id="215" name="Рисунок 4" descr=""/>
          <p:cNvPicPr/>
          <p:nvPr/>
        </p:nvPicPr>
        <p:blipFill>
          <a:blip r:embed="rId3"/>
          <a:stretch/>
        </p:blipFill>
        <p:spPr>
          <a:xfrm>
            <a:off x="8101080" y="404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Вспомни сказку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7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1948-6A26-466F-98F8-98819F32462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0D33-11EF-494B-A878-A0E36F6E7E8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1563480" cy="2066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2627280" y="1420920"/>
            <a:ext cx="1513080" cy="2050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"/>
          <p:cNvPicPr/>
          <p:nvPr/>
        </p:nvPicPr>
        <p:blipFill>
          <a:blip r:embed="rId4"/>
          <a:stretch/>
        </p:blipFill>
        <p:spPr>
          <a:xfrm>
            <a:off x="4788000" y="1420920"/>
            <a:ext cx="1566720" cy="2050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"/>
          <p:cNvPicPr/>
          <p:nvPr/>
        </p:nvPicPr>
        <p:blipFill>
          <a:blip r:embed="rId5"/>
          <a:stretch/>
        </p:blipFill>
        <p:spPr>
          <a:xfrm>
            <a:off x="7000920" y="1450800"/>
            <a:ext cx="1508040" cy="2021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"/>
          <p:cNvPicPr/>
          <p:nvPr/>
        </p:nvPicPr>
        <p:blipFill>
          <a:blip r:embed="rId6"/>
          <a:stretch/>
        </p:blipFill>
        <p:spPr>
          <a:xfrm>
            <a:off x="482760" y="3922560"/>
            <a:ext cx="1549080" cy="2038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"/>
          <p:cNvPicPr/>
          <p:nvPr/>
        </p:nvPicPr>
        <p:blipFill>
          <a:blip r:embed="rId7"/>
          <a:stretch/>
        </p:blipFill>
        <p:spPr>
          <a:xfrm>
            <a:off x="2627280" y="3956040"/>
            <a:ext cx="1513080" cy="2005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"/>
          <p:cNvPicPr/>
          <p:nvPr/>
        </p:nvPicPr>
        <p:blipFill>
          <a:blip r:embed="rId8"/>
          <a:stretch/>
        </p:blipFill>
        <p:spPr>
          <a:xfrm>
            <a:off x="4842000" y="3900600"/>
            <a:ext cx="1512720" cy="2023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"/>
          <p:cNvPicPr/>
          <p:nvPr/>
        </p:nvPicPr>
        <p:blipFill>
          <a:blip r:embed="rId9"/>
          <a:stretch/>
        </p:blipFill>
        <p:spPr>
          <a:xfrm>
            <a:off x="7013520" y="3900600"/>
            <a:ext cx="1517760" cy="1995480"/>
          </a:xfrm>
          <a:prstGeom prst="rect">
            <a:avLst/>
          </a:prstGeom>
          <a:ln w="0">
            <a:noFill/>
          </a:ln>
        </p:spPr>
      </p:pic>
      <p:sp>
        <p:nvSpPr>
          <p:cNvPr id="227" name="Стрелка вправо 1">
            <a:hlinkClick r:id="rId10" action="ppaction://hlinksldjump"/>
          </p:cNvPr>
          <p:cNvSpPr/>
          <p:nvPr/>
        </p:nvSpPr>
        <p:spPr>
          <a:xfrm>
            <a:off x="8020080" y="5967360"/>
            <a:ext cx="977760" cy="486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8" name="Рисунок 4" descr=""/>
          <p:cNvPicPr/>
          <p:nvPr/>
        </p:nvPicPr>
        <p:blipFill>
          <a:blip r:embed="rId11"/>
          <a:stretch/>
        </p:blipFill>
        <p:spPr>
          <a:xfrm>
            <a:off x="8177040" y="3333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Вертикальный свиток 4"/>
          <p:cNvSpPr/>
          <p:nvPr/>
        </p:nvSpPr>
        <p:spPr>
          <a:xfrm>
            <a:off x="934920" y="1349280"/>
            <a:ext cx="6697800" cy="410364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Доскажи словечко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1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7419-0ADD-44BE-A256-4FECF9B3DC6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B0B4-3EF4-4229-9763-A06CAEA8FF0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3" name="Прямоугольник 1"/>
          <p:cNvSpPr/>
          <p:nvPr/>
        </p:nvSpPr>
        <p:spPr>
          <a:xfrm>
            <a:off x="1547640" y="184464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стучится в дверь ко мне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толстой сумкой на _____  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1547640" y="2805120"/>
            <a:ext cx="54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цифрой 5 на медной бляшке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иней форменной_________ 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1563840" y="3745080"/>
            <a:ext cx="516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он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он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нинградский___________ 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5010840" y="2265480"/>
            <a:ext cx="11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емне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4932720" y="3220920"/>
            <a:ext cx="15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уражке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4366080" y="45435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чтальон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9" name="Прямоугольник 10"/>
          <p:cNvSpPr/>
          <p:nvPr/>
        </p:nvSpPr>
        <p:spPr>
          <a:xfrm>
            <a:off x="6090120" y="576432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чта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0" name="Рисунок 1" descr=""/>
          <p:cNvPicPr/>
          <p:nvPr/>
        </p:nvPicPr>
        <p:blipFill>
          <a:blip r:embed="rId2"/>
          <a:stretch/>
        </p:blipFill>
        <p:spPr>
          <a:xfrm>
            <a:off x="8028000" y="3967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Доскажи словечко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2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107E-E11F-4B90-93F1-9B596291C457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B66B-7073-4D75-A038-EF22BF29AF9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1033560" y="1351080"/>
            <a:ext cx="6764400" cy="413388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5"/>
          <p:cNvSpPr/>
          <p:nvPr/>
        </p:nvSpPr>
        <p:spPr>
          <a:xfrm>
            <a:off x="1763640" y="1847880"/>
            <a:ext cx="56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ткрыла дверцу Лена -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кочил огонь с ______  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6" name="Прямоугольник 6"/>
          <p:cNvSpPr/>
          <p:nvPr/>
        </p:nvSpPr>
        <p:spPr>
          <a:xfrm>
            <a:off x="4721400" y="227664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лена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7" name="Прямоугольник 7"/>
          <p:cNvSpPr/>
          <p:nvPr/>
        </p:nvSpPr>
        <p:spPr>
          <a:xfrm>
            <a:off x="1793880" y="27147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д печкой выжег пол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лез по скатерти на ____ 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8" name="Прямоугольник 8"/>
          <p:cNvSpPr/>
          <p:nvPr/>
        </p:nvSpPr>
        <p:spPr>
          <a:xfrm>
            <a:off x="1820880" y="358776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ежал по стульям с треском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рх пополз по ___________ 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9" name="Прямоугольник 9"/>
          <p:cNvSpPr/>
          <p:nvPr/>
        </p:nvSpPr>
        <p:spPr>
          <a:xfrm>
            <a:off x="1824120" y="45036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ены дымом заволок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жет пол и ________ 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" name="Прямоугольник 10"/>
          <p:cNvSpPr/>
          <p:nvPr/>
        </p:nvSpPr>
        <p:spPr>
          <a:xfrm>
            <a:off x="5138280" y="314496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о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1" name="Прямоугольник 11"/>
          <p:cNvSpPr/>
          <p:nvPr/>
        </p:nvSpPr>
        <p:spPr>
          <a:xfrm>
            <a:off x="4726800" y="400680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навескам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2" name="Прямоугольник 12"/>
          <p:cNvSpPr/>
          <p:nvPr/>
        </p:nvSpPr>
        <p:spPr>
          <a:xfrm>
            <a:off x="4044600" y="4933800"/>
            <a:ext cx="14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толок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5799960" y="587700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жар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4" name="Стрелка вправо 14">
            <a:hlinkClick r:id="rId3" action="ppaction://hlinksldjump"/>
          </p:cNvPr>
          <p:cNvSpPr/>
          <p:nvPr/>
        </p:nvSpPr>
        <p:spPr>
          <a:xfrm>
            <a:off x="7956720" y="5943600"/>
            <a:ext cx="977760" cy="485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55" name="Рисунок 1" descr=""/>
          <p:cNvPicPr/>
          <p:nvPr/>
        </p:nvPicPr>
        <p:blipFill>
          <a:blip r:embed="rId4"/>
          <a:stretch/>
        </p:blipFill>
        <p:spPr>
          <a:xfrm>
            <a:off x="8007480" y="39852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Прощальная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7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AAA8-28FA-488E-A735-559B7E06EA7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42C1-BCB0-46F8-A4D5-5FE733A3407F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59" name="Рисунок 4" descr=""/>
          <p:cNvPicPr/>
          <p:nvPr/>
        </p:nvPicPr>
        <p:blipFill>
          <a:blip r:embed="rId2"/>
          <a:stretch/>
        </p:blipFill>
        <p:spPr>
          <a:xfrm>
            <a:off x="7932600" y="465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"/>
          <p:cNvPicPr/>
          <p:nvPr/>
        </p:nvPicPr>
        <p:blipFill>
          <a:blip r:embed="rId3"/>
          <a:stretch/>
        </p:blipFill>
        <p:spPr>
          <a:xfrm>
            <a:off x="6041880" y="2836800"/>
            <a:ext cx="1305000" cy="123840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" name="AutoShape 13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3" name="AutoShape 15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64" name="Рисунок 6" descr=""/>
          <p:cNvPicPr/>
          <p:nvPr/>
        </p:nvPicPr>
        <p:blipFill>
          <a:blip r:embed="rId4"/>
          <a:stretch/>
        </p:blipFill>
        <p:spPr>
          <a:xfrm>
            <a:off x="971640" y="1663560"/>
            <a:ext cx="3582720" cy="3583080"/>
          </a:xfrm>
          <a:prstGeom prst="rect">
            <a:avLst/>
          </a:prstGeom>
          <a:ln w="0">
            <a:noFill/>
          </a:ln>
        </p:spPr>
      </p:pic>
      <p:pic>
        <p:nvPicPr>
          <p:cNvPr id="265" name="detskie_-_pesenka_mamontenka Minusovki.MpTri.Net.mp3" descr=""/>
          <p:cNvPicPr/>
          <p:nvPr/>
        </p:nvPicPr>
        <p:blipFill>
          <a:blip r:embed="rId5"/>
          <a:stretch/>
        </p:blipFill>
        <p:spPr>
          <a:xfrm>
            <a:off x="7808760" y="5157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40656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Горизонтальный свиток 5"/>
          <p:cNvSpPr/>
          <p:nvPr/>
        </p:nvSpPr>
        <p:spPr>
          <a:xfrm>
            <a:off x="4114800" y="1844640"/>
            <a:ext cx="5003640" cy="31258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14800" y="2435400"/>
            <a:ext cx="534672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Любите Маршака,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сь у него!»                               А.М. Горький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8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6986-B8E2-451A-AACB-F4276CE4337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762C-CD12-44AD-BE81-059C3D1F503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70" name="Рисунок 5" descr=""/>
          <p:cNvPicPr/>
          <p:nvPr/>
        </p:nvPicPr>
        <p:blipFill>
          <a:blip r:embed="rId2"/>
          <a:stretch/>
        </p:blipFill>
        <p:spPr>
          <a:xfrm>
            <a:off x="7451640" y="4665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http://s-marshak.ru/autographs/nadpis/nadpis15_1.jpg"/>
          <p:cNvPicPr/>
          <p:nvPr/>
        </p:nvPicPr>
        <p:blipFill>
          <a:blip r:embed="rId3"/>
          <a:stretch/>
        </p:blipFill>
        <p:spPr>
          <a:xfrm>
            <a:off x="108000" y="1197000"/>
            <a:ext cx="3695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544500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С. Я. Маршак (1887 – 1964)</a:t>
            </a:r>
            <a:br>
              <a:rPr sz="4000"/>
            </a:br>
            <a:r>
              <a:rPr b="1" lang="en-US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125 лет со дня рождения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6" name="Picture 2" descr="H:\Documents and Settings\Aida\Рабочий стол\клипарты рамки фончики\kniga39.gif"/>
          <p:cNvPicPr/>
          <p:nvPr/>
        </p:nvPicPr>
        <p:blipFill>
          <a:blip r:embed="rId2"/>
          <a:stretch/>
        </p:blipFill>
        <p:spPr>
          <a:xfrm>
            <a:off x="2859120" y="1341360"/>
            <a:ext cx="3384360" cy="3262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http://s-marshak.ru/photo/detstvo/detstvo01.jpg"/>
          <p:cNvPicPr/>
          <p:nvPr/>
        </p:nvPicPr>
        <p:blipFill>
          <a:blip r:embed="rId3"/>
          <a:stretch/>
        </p:blipFill>
        <p:spPr>
          <a:xfrm>
            <a:off x="2859120" y="863640"/>
            <a:ext cx="3384360" cy="4005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"/>
          <p:cNvPicPr/>
          <p:nvPr/>
        </p:nvPicPr>
        <p:blipFill>
          <a:blip r:embed="rId4"/>
          <a:stretch/>
        </p:blipFill>
        <p:spPr>
          <a:xfrm>
            <a:off x="2860560" y="863640"/>
            <a:ext cx="3384720" cy="400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http://s-marshak.ru/photo/detstvo/detstvo08.jpg"/>
          <p:cNvPicPr/>
          <p:nvPr/>
        </p:nvPicPr>
        <p:blipFill>
          <a:blip r:embed="rId5"/>
          <a:stretch/>
        </p:blipFill>
        <p:spPr>
          <a:xfrm>
            <a:off x="2860560" y="868320"/>
            <a:ext cx="3382920" cy="400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http://www.samisdat.com/picture/LJ/1250.JPG"/>
          <p:cNvPicPr/>
          <p:nvPr/>
        </p:nvPicPr>
        <p:blipFill>
          <a:blip r:embed="rId6"/>
          <a:stretch/>
        </p:blipFill>
        <p:spPr>
          <a:xfrm>
            <a:off x="2355840" y="885960"/>
            <a:ext cx="4392720" cy="3983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http://nkozlov.ru/upload/images/0703/0703271401490.jpg"/>
          <p:cNvPicPr/>
          <p:nvPr/>
        </p:nvPicPr>
        <p:blipFill>
          <a:blip r:embed="rId7"/>
          <a:stretch/>
        </p:blipFill>
        <p:spPr>
          <a:xfrm>
            <a:off x="2147760" y="893880"/>
            <a:ext cx="4808520" cy="3975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Documents and Settings\Татьяна\Рабочий стол\86206084.jpg"/>
          <p:cNvPicPr/>
          <p:nvPr/>
        </p:nvPicPr>
        <p:blipFill>
          <a:blip r:embed="rId8"/>
          <a:stretch/>
        </p:blipFill>
        <p:spPr>
          <a:xfrm>
            <a:off x="2008080" y="892080"/>
            <a:ext cx="5384880" cy="3976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" descr=""/>
          <p:cNvPicPr/>
          <p:nvPr/>
        </p:nvPicPr>
        <p:blipFill>
          <a:blip r:embed="rId9"/>
          <a:stretch/>
        </p:blipFill>
        <p:spPr>
          <a:xfrm>
            <a:off x="2008080" y="692280"/>
            <a:ext cx="5384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МОЛОДЦЫ!!!</a:t>
            </a:r>
            <a:endParaRPr b="0" lang="en-US" sz="6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273" name="Рисунок 2" descr=""/>
          <p:cNvPicPr/>
          <p:nvPr/>
        </p:nvPicPr>
        <p:blipFill>
          <a:blip r:embed="rId2"/>
          <a:stretch/>
        </p:blipFill>
        <p:spPr>
          <a:xfrm>
            <a:off x="3995640" y="2824200"/>
            <a:ext cx="1838520" cy="285732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3" descr=""/>
          <p:cNvPicPr/>
          <p:nvPr/>
        </p:nvPicPr>
        <p:blipFill>
          <a:blip r:embed="rId3"/>
          <a:stretch/>
        </p:blipFill>
        <p:spPr>
          <a:xfrm rot="571200">
            <a:off x="5563800" y="2676600"/>
            <a:ext cx="3533760" cy="85716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4" descr=""/>
          <p:cNvPicPr/>
          <p:nvPr/>
        </p:nvPicPr>
        <p:blipFill>
          <a:blip r:embed="rId4"/>
          <a:stretch/>
        </p:blipFill>
        <p:spPr>
          <a:xfrm rot="20790600">
            <a:off x="519120" y="2676600"/>
            <a:ext cx="3533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Источники иллюстраций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50560" y="1052280"/>
            <a:ext cx="8507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-marshak.ru/art/post/postcards02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Маршака на 1 слайде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s-marshak.ru/photo/detstvo/detstvo01.jpg</a:t>
            </a:r>
            <a:r>
              <a:rPr b="0" lang="ru-RU" sz="7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фото Маршака в детстве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s-marshak.ru/photo/family/family03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отца Маршака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s-marshak.ru/photo/detstvo/detstvo08.jpg</a:t>
            </a:r>
            <a:r>
              <a:rPr b="0" lang="ru-RU" sz="7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фото Маршака в юности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samisdat.com/picture/LJ/1250.JPG 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 фото на даче со Стасовым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nkozlov.ru/upload/images/0703/0703271401490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с Горьким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s017.radikal.ru/i432/1206/c5/498281628e71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Маршака с читателями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</a:t>
            </a:r>
            <a:r>
              <a:rPr b="0" lang="ru-RU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s-marshak.ru/photo/cemetery/cemetery02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- фото памятника  Маршаку на могиле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tiroir.ru/store/153-556-thickbox/ochki-skulgel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картинка очки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technologys.info/images/stories/pilenije/shir%20nozhov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– картинка пила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http://demiart.ru/forum/uploads/post-4361-1187733794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картинка мяч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http://s-marshak.ru/books/v/v26/v26_01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обложка книги «Вот какой рассеянный»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http://s-marshak.ru/books/u/u04/u04_01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обложка книги «Усатый полосатый»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http://s-marshak.ru/books/b/b04/b04_01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обложка книги «Багаж»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http://s-marshak.ru/books/d/d11/d11_01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обложка книги «Двенадцать месяцев»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8"/>
              </a:rPr>
              <a:t>http://aptr.ru/studies/books/g/koshkin-dom-2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обложка книги «Кошкин дом»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9"/>
              </a:rPr>
              <a:t>http://akak.ru/steps/pictures/000/007/585_large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картинка конверт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0"/>
              </a:rPr>
              <a:t>http://jewelbox.ru/images/middle/kolca/zheltoe-zoloto/bez-vstavok/obruchalnoe-kolco-750-proba-iz-zheltogo-zolota-59371-0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картинка кольцо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1"/>
              </a:rPr>
              <a:t>http://images01.olx.ru/ui/2/89/72/25278772_1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картинка собачонка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2"/>
              </a:rPr>
              <a:t>http://kotostudio.ru/photogallery/siberiankitties/img-kotenok-iz-pitomnika-volzhskaya-krasa-6150.html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картинка котёнок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3"/>
              </a:rPr>
              <a:t>http://irecommend.ru/sites/default/files/product-images/32253/t_2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картинка сковорода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4"/>
              </a:rPr>
              <a:t>http://proxvost.info/photo/wild/lion/shanghai_zoo/lion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лев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5"/>
              </a:rPr>
              <a:t>http://fermer02.ru/uploads/posts/2009-05/1242120472_08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лисица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6"/>
              </a:rPr>
              <a:t>http://wildkino.ru/uploads/posts/2010-04/1271266394_crocodile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крокодил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7"/>
              </a:rPr>
              <a:t>http://copypast.ru/uploads/posts/1252739043_post312502261828207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- фото волк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8"/>
              </a:rPr>
              <a:t>http://birds-altay.ru/wp-content/uploads/2011/07/11-350x399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журавль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9"/>
              </a:rPr>
              <a:t>http://img.beta.rian.ru/images/19473/01/194730100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носорог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0"/>
              </a:rPr>
              <a:t>http://all-animals.ru/dikie/0_22fb7_c87a7895_XL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кенгуру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1"/>
              </a:rPr>
              <a:t>http://floranimal.ru/pages/animal/m/59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медведь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2"/>
              </a:rPr>
              <a:t>http://animaltime.ru/mammal/morz/morz_1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морж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3"/>
              </a:rPr>
              <a:t>http://namonitore.ru/uploads/catalog/dikie/stariy_slon_600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слон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4"/>
              </a:rPr>
              <a:t>http://luzan.ucoz.ru/load/animacionnye_kartinki_na_shkolnuju_tematiku/29-7-2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анимация флажки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5"/>
              </a:rPr>
              <a:t>http://gifmir.ucoz.ru/photo/deti_animashki/people072/47-0-2245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анимация дети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6"/>
              </a:rPr>
              <a:t>http://remochka.livejournal.com/92390.html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иллюстрации к «Сказке о глупом мышонке»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7"/>
              </a:rPr>
              <a:t>http://</a:t>
            </a: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8"/>
              </a:rPr>
              <a:t>arhivknig.com/uploads/posts/2011-03/1300792522_marshak_450x450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картинка книги Маршака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9"/>
              </a:rPr>
              <a:t>http://s-marshak.ru/autographs/nadpis/nadpis15_1.jpg</a:t>
            </a:r>
            <a:r>
              <a:rPr b="0" lang="ru-RU" sz="7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фото Маршака на 19 слайде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0"/>
              </a:rPr>
              <a:t>http://luzan.ucoz.ru/load/animacionnye_kartinki_na_shkolnuju_tematiku/29-5-2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анимация спасибо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1"/>
              </a:rPr>
              <a:t>http://</a:t>
            </a: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2"/>
              </a:rPr>
              <a:t>gif-deti.ucoz.ru/photo/shkola_animashki/79966779/25-0-400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анимация читает книгу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spcBef>
                <a:spcPts val="176"/>
              </a:spcBef>
              <a:buClr>
                <a:srgbClr val="800000"/>
              </a:buClr>
              <a:buFont typeface="Calibri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43"/>
              </a:rPr>
              <a:t>http://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44"/>
              </a:rPr>
              <a:t>gif-deti.ucoz.ru/photo/shkola_animashki/42/25-0-389</a:t>
            </a:r>
            <a:r>
              <a:rPr b="0" lang="ru-RU" sz="800" spc="-1" strike="noStrike">
                <a:solidFill>
                  <a:srgbClr val="800000"/>
                </a:solidFill>
                <a:latin typeface="Calibri"/>
              </a:rPr>
              <a:t> - 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нимация книга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24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24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752C-0B5D-4022-B0B6-9B16B7B4CF2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4054-FCDA-497C-B4CD-348008659CA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Источники текстовой информации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kostyor.ru/poetry/poem72.html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загадки Маршака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lib.ru/POEZIQ/MARSHAK/detskaya.txt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произведения Маршака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allforchildren.ru/poetry/author2-marshak.php</a:t>
            </a:r>
            <a:r>
              <a:rPr b="0" lang="ru-RU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-   биография С.Я. Маршака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zanimatika.narod.ru/DetKniga1.htm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текст «Песни про книги»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babylib.ru/childrens-poems/samuil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marshak/druzya-tovarishhi-samuil-marshak/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текст песни «Шли куда попало»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http://zanimatika.narod.ru/DetKniga.htm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текст стихотворения С. Михалкова «Как бы жили мы без книг»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8944-0291-43B9-A62D-806F7A68F077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A951-E3CB-42B6-8571-0DE7AF89287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Источники  </a:t>
            </a:r>
            <a:r>
              <a:rPr b="1" lang="en-US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mp3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mp3prima.com/mp3poisk/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ихи маршака  - песенка «Шли куда попало»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http://minusovki.mptri.net/pages/56/5609.shtml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минусовка «Песенка мамонтёнка»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A6DE-17DB-4EE2-AF48-58C44A583833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8891-6E62-4B0C-8B1D-14B6444969B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Маршрутный лист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1426-FC23-49A8-BF09-DE1132A310D2}" type="datetime">
              <a:rPr b="0" lang="en-US" sz="1200" spc="-1" strike="noStrike">
                <a:solidFill>
                  <a:srgbClr val="ac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0306-918E-4796-84E7-283BADAE4C66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Горизонтальный свиток 5"/>
          <p:cNvSpPr/>
          <p:nvPr/>
        </p:nvSpPr>
        <p:spPr>
          <a:xfrm>
            <a:off x="325440" y="1332000"/>
            <a:ext cx="3886200" cy="64764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Загадки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Горизонтальный свиток 21"/>
          <p:cNvSpPr/>
          <p:nvPr/>
        </p:nvSpPr>
        <p:spPr>
          <a:xfrm>
            <a:off x="4917960" y="1278000"/>
            <a:ext cx="3830760" cy="64764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Угадай произведение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Горизонтальный свиток 22"/>
          <p:cNvSpPr/>
          <p:nvPr/>
        </p:nvSpPr>
        <p:spPr>
          <a:xfrm>
            <a:off x="303120" y="2276640"/>
            <a:ext cx="3908520" cy="64764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Откуда предметы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Горизонтальный свиток 23"/>
          <p:cNvSpPr/>
          <p:nvPr/>
        </p:nvSpPr>
        <p:spPr>
          <a:xfrm>
            <a:off x="4917960" y="2276640"/>
            <a:ext cx="3830760" cy="64764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Лишнее животное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Горизонтальный свиток 24"/>
          <p:cNvSpPr/>
          <p:nvPr/>
        </p:nvSpPr>
        <p:spPr>
          <a:xfrm>
            <a:off x="4917960" y="4359240"/>
            <a:ext cx="3802320" cy="64764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Вспомни сказку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Горизонтальный свиток 25"/>
          <p:cNvSpPr/>
          <p:nvPr/>
        </p:nvSpPr>
        <p:spPr>
          <a:xfrm>
            <a:off x="366840" y="4292640"/>
            <a:ext cx="3844800" cy="6490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Реши кроссворд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Горизонтальный свиток 26"/>
          <p:cNvSpPr/>
          <p:nvPr/>
        </p:nvSpPr>
        <p:spPr>
          <a:xfrm>
            <a:off x="4917960" y="3284640"/>
            <a:ext cx="3802320" cy="6490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Исправь ошибки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Горизонтальный свиток 27"/>
          <p:cNvSpPr/>
          <p:nvPr/>
        </p:nvSpPr>
        <p:spPr>
          <a:xfrm>
            <a:off x="344520" y="3284640"/>
            <a:ext cx="3867120" cy="6490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Музыкальная пауза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Горизонтальный свиток 28"/>
          <p:cNvSpPr/>
          <p:nvPr/>
        </p:nvSpPr>
        <p:spPr>
          <a:xfrm>
            <a:off x="4917960" y="5300640"/>
            <a:ext cx="3811680" cy="64944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Прощальная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Горизонтальный свиток 29"/>
          <p:cNvSpPr/>
          <p:nvPr/>
        </p:nvSpPr>
        <p:spPr>
          <a:xfrm>
            <a:off x="366840" y="5270400"/>
            <a:ext cx="3844800" cy="64764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Доскажи словечко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7" name="Рисунок 1" descr=""/>
          <p:cNvPicPr/>
          <p:nvPr/>
        </p:nvPicPr>
        <p:blipFill>
          <a:blip r:embed="rId12"/>
          <a:stretch/>
        </p:blipFill>
        <p:spPr>
          <a:xfrm>
            <a:off x="8028000" y="325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0FDD-4645-4C8C-9E8E-523DFA41B125}" type="datetime">
              <a:rPr b="0" lang="en-US" sz="1200" spc="-1" strike="noStrike">
                <a:solidFill>
                  <a:srgbClr val="ac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ACF6-7015-4DE9-8CF1-29EC279BABC4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4428720" y="1773360"/>
            <a:ext cx="10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чки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6257880" y="1397160"/>
            <a:ext cx="1273320" cy="12729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8"/>
          <p:cNvSpPr/>
          <p:nvPr/>
        </p:nvSpPr>
        <p:spPr>
          <a:xfrm>
            <a:off x="3937680" y="337032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ла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5403960" y="3011400"/>
            <a:ext cx="3259080" cy="124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4"/>
          <a:stretch/>
        </p:blipFill>
        <p:spPr>
          <a:xfrm>
            <a:off x="5857920" y="4438800"/>
            <a:ext cx="1673280" cy="17650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0"/>
          <p:cNvSpPr/>
          <p:nvPr/>
        </p:nvSpPr>
        <p:spPr>
          <a:xfrm>
            <a:off x="4380120" y="505944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яч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3359520" y="488880"/>
            <a:ext cx="20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Загадки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Стрелка вправо 13">
            <a:hlinkClick r:id="rId5" action="ppaction://hlinksldjump"/>
          </p:cNvPr>
          <p:cNvSpPr/>
          <p:nvPr/>
        </p:nvSpPr>
        <p:spPr>
          <a:xfrm>
            <a:off x="7885080" y="56800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Горизонтальный свиток 17"/>
          <p:cNvSpPr/>
          <p:nvPr/>
        </p:nvSpPr>
        <p:spPr>
          <a:xfrm>
            <a:off x="127080" y="1058760"/>
            <a:ext cx="3612960" cy="182556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Что такое перед нами: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е оглобли за  ушами,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глазах по колесу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седёлка на носу?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Горизонтальный свиток 19"/>
          <p:cNvSpPr/>
          <p:nvPr/>
        </p:nvSpPr>
        <p:spPr>
          <a:xfrm>
            <a:off x="127080" y="2878200"/>
            <a:ext cx="3612960" cy="18082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Принялась она за дело,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изжада и запела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а, ела дуб, дуб,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омала зуб, зуб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Горизонтальный свиток 20"/>
          <p:cNvSpPr/>
          <p:nvPr/>
        </p:nvSpPr>
        <p:spPr>
          <a:xfrm>
            <a:off x="127080" y="4691160"/>
            <a:ext cx="3803400" cy="18334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 Бьют его рукой и палкой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ому его не жалко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за что беднягу бьют?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за то, что он надут!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6"/>
          <a:stretch/>
        </p:blipFill>
        <p:spPr>
          <a:xfrm>
            <a:off x="8101080" y="36684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Вертикальный свиток 1"/>
          <p:cNvSpPr/>
          <p:nvPr/>
        </p:nvSpPr>
        <p:spPr>
          <a:xfrm>
            <a:off x="119160" y="1628640"/>
            <a:ext cx="5389560" cy="36007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48800" y="2035080"/>
            <a:ext cx="46198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л он утром на кровать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л рубашку надевать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укава просунул руки -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азалось, это брюки…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место шляпы на ходу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надел сковороду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0BEA-7315-473F-BAC1-9794887F4D6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0D9F-1F18-42B0-8FEB-608EF1E7318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5580000" y="1628640"/>
            <a:ext cx="3324240" cy="42865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1981800" y="633240"/>
            <a:ext cx="50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8" name="Рисунок 5" descr=""/>
          <p:cNvPicPr/>
          <p:nvPr/>
        </p:nvPicPr>
        <p:blipFill>
          <a:blip r:embed="rId3"/>
          <a:stretch/>
        </p:blipFill>
        <p:spPr>
          <a:xfrm>
            <a:off x="8101080" y="3729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Вертикальный свиток 1"/>
          <p:cNvSpPr/>
          <p:nvPr/>
        </p:nvSpPr>
        <p:spPr>
          <a:xfrm>
            <a:off x="28440" y="1174680"/>
            <a:ext cx="5459400" cy="511344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174960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ди спрашивают: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Кто это у вас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девочка говорит: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то моя дочка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ди спрашивают: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чему у вашей дочки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рые щёчки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девочка говорит: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на давно не мылась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2ECD-6967-48B2-9A45-785B4B36D8B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AA16-2DCD-4E5F-A137-6F2A6582D24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3" name="Рисунок 5" descr=""/>
          <p:cNvPicPr/>
          <p:nvPr/>
        </p:nvPicPr>
        <p:blipFill>
          <a:blip r:embed="rId2"/>
          <a:stretch/>
        </p:blipFill>
        <p:spPr>
          <a:xfrm>
            <a:off x="5648400" y="1587600"/>
            <a:ext cx="3247920" cy="428616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6"/>
          <p:cNvSpPr/>
          <p:nvPr/>
        </p:nvSpPr>
        <p:spPr>
          <a:xfrm>
            <a:off x="1692360" y="488880"/>
            <a:ext cx="55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5" name="Рисунок 6" descr=""/>
          <p:cNvPicPr/>
          <p:nvPr/>
        </p:nvPicPr>
        <p:blipFill>
          <a:blip r:embed="rId3"/>
          <a:stretch/>
        </p:blipFill>
        <p:spPr>
          <a:xfrm>
            <a:off x="8191440" y="36684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Вертикальный свиток 5"/>
          <p:cNvSpPr/>
          <p:nvPr/>
        </p:nvSpPr>
        <p:spPr>
          <a:xfrm>
            <a:off x="179280" y="1557360"/>
            <a:ext cx="5400720" cy="428616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2169720"/>
            <a:ext cx="4680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ма сдавала в багаж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ван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квояж,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одан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тину, корзину, картонку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маленькую собачонку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E28A-ABA3-4E57-9DFD-8A69D9EBCFB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FF9E-5804-4F49-A4D2-DA9980A4977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5724360" y="1646280"/>
            <a:ext cx="3168720" cy="410832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"/>
          <p:cNvSpPr/>
          <p:nvPr/>
        </p:nvSpPr>
        <p:spPr>
          <a:xfrm>
            <a:off x="1908000" y="620640"/>
            <a:ext cx="545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3"/>
          <a:stretch/>
        </p:blipFill>
        <p:spPr>
          <a:xfrm>
            <a:off x="8124840" y="3222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Вертикальный свиток 2"/>
          <p:cNvSpPr/>
          <p:nvPr/>
        </p:nvSpPr>
        <p:spPr>
          <a:xfrm>
            <a:off x="108000" y="1539720"/>
            <a:ext cx="5688000" cy="43927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206064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 праздник новогодний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дали мы приказ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скай цветут сегодня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снежники у нас!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лесу цветёт подснежник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не метель метёт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тот из вас мятежник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скажет: не метёт!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6C54-45EF-47C4-8A44-51CCB21F6B09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9D07-DCB3-44CC-88E0-8F142F98FD2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5867280" y="1677960"/>
            <a:ext cx="3152880" cy="42861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"/>
          <p:cNvSpPr/>
          <p:nvPr/>
        </p:nvSpPr>
        <p:spPr>
          <a:xfrm>
            <a:off x="1719360" y="549360"/>
            <a:ext cx="552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9" name="Рисунок 1" descr=""/>
          <p:cNvPicPr/>
          <p:nvPr/>
        </p:nvPicPr>
        <p:blipFill>
          <a:blip r:embed="rId3"/>
          <a:stretch/>
        </p:blipFill>
        <p:spPr>
          <a:xfrm>
            <a:off x="8078760" y="325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Вертикальный свиток 2"/>
          <p:cNvSpPr/>
          <p:nvPr/>
        </p:nvSpPr>
        <p:spPr>
          <a:xfrm>
            <a:off x="108000" y="1484280"/>
            <a:ext cx="5256000" cy="41767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000" y="1988640"/>
            <a:ext cx="4330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им – бом! Тили – бом!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дворе - высокий дом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венки резные,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на расписные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на лестнице ковер –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итый золотом узор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узорному ковру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ходит кошка по утру…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DBB1-B3BF-41B5-B334-711C4678AE0A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888A-DEEC-4B63-A79F-4C4D78B8773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5562720" y="1370160"/>
            <a:ext cx="3371760" cy="4506840"/>
          </a:xfrm>
          <a:prstGeom prst="rect">
            <a:avLst/>
          </a:prstGeom>
          <a:ln w="0">
            <a:noFill/>
          </a:ln>
        </p:spPr>
      </p:pic>
      <p:sp>
        <p:nvSpPr>
          <p:cNvPr id="125" name="Стрелка вправо 5">
            <a:hlinkClick r:id="rId3" action="ppaction://hlinksldjump"/>
          </p:cNvPr>
          <p:cNvSpPr/>
          <p:nvPr/>
        </p:nvSpPr>
        <p:spPr>
          <a:xfrm>
            <a:off x="7932600" y="59500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1835280" y="60480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4"/>
          <a:stretch/>
        </p:blipFill>
        <p:spPr>
          <a:xfrm>
            <a:off x="8024760" y="3268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9T07:14:32Z</dcterms:created>
  <dc:creator>Елисеева Е.С.</dc:creator>
  <dc:description>http://aida.ucoz.ru</dc:description>
  <cp:keywords>Маршак</cp:keywords>
  <dc:language>en-US</dc:language>
  <cp:lastModifiedBy>User</cp:lastModifiedBy>
  <dcterms:modified xsi:type="dcterms:W3CDTF">2013-02-05T18:42:58Z</dcterms:modified>
  <cp:revision>143</cp:revision>
  <dc:subject/>
  <dc:title>литература 1</dc:title>
</cp:coreProperties>
</file>