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80A-D67B-43FD-9EA2-083355C9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5F7-3F27-4B7B-9E41-E17E323C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AA3-34C5-4230-B4FC-08019445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AB3-C0E4-4830-A438-EBAD5E3E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94B-4C48-419F-8D03-A4C3EA6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C6E-24EF-4057-AB23-6D705650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2BF-614A-4BEB-B21F-BF5FE34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261-06F6-4584-90DB-DAD744A5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7D1-742D-4B61-9BF9-5CD8AA0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DB2-5352-4B96-9D75-B1EAA47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A1C-3BBC-4C46-B874-780ACE2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CD2-03E7-42B2-A716-846B311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5D6-B3DE-4C1E-88E1-8EABF0312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0" y="0"/>
            <a:ext cx="9429840" cy="6858000"/>
            <a:chOff x="0" y="0"/>
            <a:chExt cx="9429840" cy="685800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2"/>
            <p:cNvSpPr/>
            <p:nvPr/>
          </p:nvSpPr>
          <p:spPr>
            <a:xfrm>
              <a:off x="6643800" y="3357720"/>
              <a:ext cx="278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ВИДЫ     ВОДОЁМ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Группа 18"/>
          <p:cNvGrpSpPr/>
          <p:nvPr/>
        </p:nvGrpSpPr>
        <p:grpSpPr>
          <a:xfrm>
            <a:off x="1071720" y="500040"/>
            <a:ext cx="2000160" cy="2928960"/>
            <a:chOff x="1071720" y="500040"/>
            <a:chExt cx="2000160" cy="2928960"/>
          </a:xfrm>
        </p:grpSpPr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500040"/>
              <a:ext cx="15717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" descr=""/>
            <p:cNvPicPr/>
            <p:nvPr/>
          </p:nvPicPr>
          <p:blipFill>
            <a:blip r:embed="rId2"/>
            <a:stretch/>
          </p:blipFill>
          <p:spPr>
            <a:xfrm>
              <a:off x="1071720" y="1785960"/>
              <a:ext cx="20001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" descr=""/>
            <p:cNvPicPr/>
            <p:nvPr/>
          </p:nvPicPr>
          <p:blipFill>
            <a:blip r:embed="rId3"/>
            <a:stretch/>
          </p:blipFill>
          <p:spPr>
            <a:xfrm>
              <a:off x="1143000" y="2786040"/>
              <a:ext cx="157176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9"/>
          <p:cNvGrpSpPr/>
          <p:nvPr/>
        </p:nvGrpSpPr>
        <p:grpSpPr>
          <a:xfrm>
            <a:off x="4786200" y="357120"/>
            <a:ext cx="4000680" cy="3071880"/>
            <a:chOff x="4786200" y="357120"/>
            <a:chExt cx="4000680" cy="3071880"/>
          </a:xfrm>
        </p:grpSpPr>
        <p:pic>
          <p:nvPicPr>
            <p:cNvPr id="73" name="Picture 5" descr=""/>
            <p:cNvPicPr/>
            <p:nvPr/>
          </p:nvPicPr>
          <p:blipFill>
            <a:blip r:embed="rId4"/>
            <a:srcRect l="3487" t="38633" r="15119" b="8341"/>
            <a:stretch/>
          </p:blipFill>
          <p:spPr>
            <a:xfrm>
              <a:off x="5786280" y="357120"/>
              <a:ext cx="178596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6" descr=""/>
            <p:cNvPicPr/>
            <p:nvPr/>
          </p:nvPicPr>
          <p:blipFill>
            <a:blip r:embed="rId5"/>
            <a:stretch/>
          </p:blipFill>
          <p:spPr>
            <a:xfrm>
              <a:off x="5786280" y="150012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"/>
            <p:cNvPicPr/>
            <p:nvPr/>
          </p:nvPicPr>
          <p:blipFill>
            <a:blip r:embed="rId6"/>
            <a:stretch/>
          </p:blipFill>
          <p:spPr>
            <a:xfrm>
              <a:off x="4786200" y="2500200"/>
              <a:ext cx="400068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Прямоугольник 16"/>
          <p:cNvSpPr/>
          <p:nvPr/>
        </p:nvSpPr>
        <p:spPr>
          <a:xfrm>
            <a:off x="142920" y="4429080"/>
            <a:ext cx="38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ЕСТЕ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4643280" y="44290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ИСКУС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6067440" cy="4734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714680" y="71424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ПРАКТИЧЕСКАЯ   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932" t="7188" r="2495" b="377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Чайки.mp3" descr=""/>
          <p:cNvPicPr/>
          <p:nvPr/>
        </p:nvPicPr>
        <p:blipFill>
          <a:blip r:embed="rId2"/>
          <a:stretch/>
        </p:blipFill>
        <p:spPr>
          <a:xfrm>
            <a:off x="257184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738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3000600" cy="272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00760" y="1000080"/>
            <a:ext cx="2928960" cy="264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1000080" y="3857760"/>
            <a:ext cx="3000600" cy="25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072040" y="385776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571760" y="28584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ЗНАЧЕНИЕ      ВОДОЁМ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petropavl.kz/whouse/inclub/ru1501/2sem1.gif"/>
          <p:cNvPicPr/>
          <p:nvPr/>
        </p:nvPicPr>
        <p:blipFill>
          <a:blip r:embed="rId1"/>
          <a:stretch/>
        </p:blipFill>
        <p:spPr>
          <a:xfrm>
            <a:off x="571680" y="1071720"/>
            <a:ext cx="81435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799360" y="500040"/>
            <a:ext cx="25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85880" y="150012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Водоё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85880" y="20718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Чистые, быстрые, 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85880" y="257184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Текут, питают, полив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85880" y="307188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Мы должны вас сохран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85880" y="357192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Вода – это жизн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714240" y="1214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ru.wikipedia.org/wik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500120" y="642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Источники   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714240" y="157176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14240" y="200016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ugzone.ru/brainmusic/download_mp3/Sound_Of_Nature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5"/>
          <p:cNvGrpSpPr/>
          <p:nvPr/>
        </p:nvGrpSpPr>
        <p:grpSpPr>
          <a:xfrm>
            <a:off x="0" y="0"/>
            <a:ext cx="9352080" cy="6858000"/>
            <a:chOff x="0" y="0"/>
            <a:chExt cx="9352080" cy="6858000"/>
          </a:xfrm>
        </p:grpSpPr>
        <p:pic>
          <p:nvPicPr>
            <p:cNvPr id="9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2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3"/>
            <p:cNvSpPr/>
            <p:nvPr/>
          </p:nvSpPr>
          <p:spPr>
            <a:xfrm>
              <a:off x="2571840" y="4500720"/>
              <a:ext cx="421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СПАСИБО    З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СОТРУДНИЧЕСТВО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3857760" y="5715000"/>
              <a:ext cx="542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езентацию составила Хмельницкая С.Г.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читель начальных классов ГБОУ Гимназии № 15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мени Капцовых  г.Москв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86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143320" cy="3357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286000" y="37148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оедешь ,не пройдёшь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ойдёшь сторонк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водицы не попьёш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синеватой плён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643200" y="564372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БОЛОТ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3080" y="214200"/>
            <a:ext cx="4357800" cy="34862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500200" y="378612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ириною широко,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убиною глубоко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нь и ночь о берег бьёт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 него воды не пьётс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тому что не вкусна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горька, и сол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929040" y="607212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7000560" cy="3357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2286000" y="4000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уть дрожит на ветерк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нта на просторе,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кий кончик в родник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широкий в мо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57760" y="57862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РЕ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642924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2571840" y="3714840"/>
            <a:ext cx="428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лодые берез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ои перед ним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правляют прическ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месяц ,и звёзды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нём всё отражается…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 это зеркало называет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786120" y="60008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ПРУ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6572160" cy="34228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928960" y="400068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 мамочке-речке бег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молчать не могу.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Я её сын родн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родился - вес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929040" y="564372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РУЧ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3500280" cy="2284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857840" y="285840"/>
            <a:ext cx="371484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428760" y="2928960"/>
            <a:ext cx="357192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4857840" y="2928960"/>
            <a:ext cx="371484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5"/>
          <a:stretch/>
        </p:blipFill>
        <p:spPr>
          <a:xfrm>
            <a:off x="2571840" y="4500720"/>
            <a:ext cx="411480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content2.myyearbook.com/zenhex/images/quiz59/291484/291484_res4_.jpg"/>
          <p:cNvPicPr/>
          <p:nvPr/>
        </p:nvPicPr>
        <p:blipFill>
          <a:blip r:embed="rId6"/>
          <a:stretch/>
        </p:blipFill>
        <p:spPr>
          <a:xfrm>
            <a:off x="2857680" y="2858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08:28:28Z</dcterms:created>
  <dc:creator>Sveta</dc:creator>
  <dc:description/>
  <dc:language>en-US</dc:language>
  <cp:lastModifiedBy>Vlad</cp:lastModifiedBy>
  <dcterms:modified xsi:type="dcterms:W3CDTF">2013-03-16T11:54:38Z</dcterms:modified>
  <cp:revision>31</cp:revision>
  <dc:subject/>
  <dc:title>Слайд 1</dc:title>
</cp:coreProperties>
</file>