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1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.png" ContentType="image/png"/>
  <Override PartName="/ppt/media/image19.gif" ContentType="image/gif"/>
  <Override PartName="/ppt/media/image24.png" ContentType="image/png"/>
  <Override PartName="/ppt/media/image31.jpeg" ContentType="image/jpeg"/>
  <Override PartName="/ppt/media/image14.gif" ContentType="image/gif"/>
  <Override PartName="/ppt/media/image17.png" ContentType="image/png"/>
  <Override PartName="/ppt/media/image15.gif" ContentType="image/gif"/>
  <Override PartName="/ppt/media/image16.png" ContentType="image/png"/>
  <Override PartName="/ppt/media/image18.gif" ContentType="image/gif"/>
  <Override PartName="/ppt/media/image2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E50-41BD-44D1-B1B8-FE620CE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A1E1-F000-46E8-AEFA-AED322DB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DCD-B079-4A43-8981-8A775591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8314-2E7F-451A-B987-C0FD7E3A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A33-683F-4F93-9325-33B971E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89F-A31D-4DFE-B306-6517D15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236-DB17-4306-945A-DBD68C53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7DF-00D2-4DAB-BF1D-F1958A2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77F-BC4B-4C3B-A0EC-E813A8DE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8AF-3F25-40C2-844F-7B7433D0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D35-BE88-4F6D-8F03-90C21F30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AF7-DD67-4DFA-886F-C3F06F2A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A01-036A-4210-9F84-20565DF9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.png"/><Relationship Id="rId4" Type="http://schemas.openxmlformats.org/officeDocument/2006/relationships/image" Target="../media/image20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1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-fotki.yandex.ru/get/4313/milkamilkina.23/0_41c6f_f35f00ed_XL.jpg-" TargetMode="External"/><Relationship Id="rId3" Type="http://schemas.openxmlformats.org/officeDocument/2006/relationships/hyperlink" Target="http://img-fotki.yandex.ru/get/4313/milkamilkina.23/0_41c6f_f35f00ed_XL.jpg-" TargetMode="External"/><Relationship Id="rId4" Type="http://schemas.openxmlformats.org/officeDocument/2006/relationships/hyperlink" Target="http://img-fotki.yandex.ru/get/4313/milkamilkina.23/0_41c6f_f35f00ed_XL.jpg-" TargetMode="External"/><Relationship Id="rId5" Type="http://schemas.openxmlformats.org/officeDocument/2006/relationships/hyperlink" Target="http://img-fotki.yandex.ru/get/4313/milkamilkina.23/0_41c6f_f35f00ed_XL.jpg-" TargetMode="External"/><Relationship Id="rId6" Type="http://schemas.openxmlformats.org/officeDocument/2006/relationships/hyperlink" Target="http://img-fotki.yandex.ru/get/4313/milkamilkina.23/0_41c6f_f35f00ed_XL.jpg-" TargetMode="External"/><Relationship Id="rId7" Type="http://schemas.openxmlformats.org/officeDocument/2006/relationships/hyperlink" Target="http://img-fotki.yandex.ru/get/4313/milkamilkina.23/0_41c6f_f35f00ed_XL.jpg-" TargetMode="External"/><Relationship Id="rId8" Type="http://schemas.openxmlformats.org/officeDocument/2006/relationships/hyperlink" Target="http://img-fotki.yandex.ru/get/5009/ew-dan.31/0_5afc0_37e534b0_L" TargetMode="External"/><Relationship Id="rId9" Type="http://schemas.openxmlformats.org/officeDocument/2006/relationships/hyperlink" Target="http://0lik.ru/uploads/posts/2010-02/1266876606_0lik.ru_unbenannt-1.jpg" TargetMode="External"/><Relationship Id="rId10" Type="http://schemas.openxmlformats.org/officeDocument/2006/relationships/hyperlink" Target="http://i025.radikal.ru/0804/d4/48d2585b0d01.png" TargetMode="External"/><Relationship Id="rId11" Type="http://schemas.openxmlformats.org/officeDocument/2006/relationships/hyperlink" Target="http://www.lenagold.ru/fon/tum/beg/tumbeg09.jpg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8" descr="C:\Documents and Settings\larisa\Рабочий стол\к фестив\628359-a65b1128675013dc.gif"/>
          <p:cNvPicPr/>
          <p:nvPr/>
        </p:nvPicPr>
        <p:blipFill>
          <a:blip r:embed="rId2"/>
          <a:stretch/>
        </p:blipFill>
        <p:spPr>
          <a:xfrm flipH="1">
            <a:off x="6372000" y="4365720"/>
            <a:ext cx="1726920" cy="1438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24360" y="4221000"/>
            <a:ext cx="1150920" cy="1151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3357720"/>
            <a:ext cx="1150920" cy="1150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2492280"/>
            <a:ext cx="1150920" cy="115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4" descr="C:\Documents and Settings\larisa\Рабочий стол\к фестив\85b50c1bb7a6.png"/>
          <p:cNvPicPr/>
          <p:nvPr/>
        </p:nvPicPr>
        <p:blipFill>
          <a:blip r:embed="rId2"/>
          <a:stretch/>
        </p:blipFill>
        <p:spPr>
          <a:xfrm>
            <a:off x="2843280" y="1484280"/>
            <a:ext cx="3117960" cy="3371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C:\Documents and Settings\larisa\Рабочий стол\к фестив\628359-a65b1128675013dc.gif"/>
          <p:cNvPicPr/>
          <p:nvPr/>
        </p:nvPicPr>
        <p:blipFill>
          <a:blip r:embed="rId3"/>
          <a:stretch/>
        </p:blipFill>
        <p:spPr>
          <a:xfrm flipH="1">
            <a:off x="6372000" y="4365720"/>
            <a:ext cx="1726920" cy="1438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91636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727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C:\Documents and Settings\larisa\Рабочий стол\к фестив\a56ef6842e02.gif"/>
          <p:cNvPicPr/>
          <p:nvPr/>
        </p:nvPicPr>
        <p:blipFill>
          <a:blip r:embed="rId2"/>
          <a:stretch/>
        </p:blipFill>
        <p:spPr>
          <a:xfrm>
            <a:off x="5219640" y="981000"/>
            <a:ext cx="126360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larisa\Рабочий стол\к фестив\1696063-6be4675656790774.png"/>
          <p:cNvPicPr/>
          <p:nvPr/>
        </p:nvPicPr>
        <p:blipFill>
          <a:blip r:embed="rId3"/>
          <a:stretch/>
        </p:blipFill>
        <p:spPr>
          <a:xfrm>
            <a:off x="3995640" y="3141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:\Documents and Settings\larisa\Рабочий стол\к фестив\41854972_spase025.gif"/>
          <p:cNvPicPr/>
          <p:nvPr/>
        </p:nvPicPr>
        <p:blipFill>
          <a:blip r:embed="rId4"/>
          <a:stretch/>
        </p:blipFill>
        <p:spPr>
          <a:xfrm>
            <a:off x="4211640" y="5157720"/>
            <a:ext cx="1447920" cy="56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C:\Documents and Settings\larisa\Рабочий стол\к фестив\628359-a65b1128675013dc.gif"/>
          <p:cNvPicPr/>
          <p:nvPr/>
        </p:nvPicPr>
        <p:blipFill>
          <a:blip r:embed="rId5"/>
          <a:stretch/>
        </p:blipFill>
        <p:spPr>
          <a:xfrm>
            <a:off x="0" y="5419800"/>
            <a:ext cx="172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1736 C -0.00521 -0.03658 -0.00434 -0.0757 -0.0316 -0.08727 C -0.05868 -0.09861 -0.12917 -0.09167 -0.16458 -0.08727 C -0.19983 -0.08264 -0.22587 -0.075 -0.24375 -0.05926 C -0.2618 -0.04352 -0.2816 -0.01389 -0.27309 0.00741 C -0.26458 0.02893 -0.22795 0.05879 -0.19236 0.06898 C -0.15677 0.07916 -0.09149 0.07569 -0.06042 0.06898 C -0.02934 0.06204 -0.01476 0.04421 -0.0059 0.02754 C 0.00313 0.01088 0.00347 0.00185 -0.00087 -0.01736 Z">
                                      <p:cBhvr>
                                        <p:cTn id="27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2025E-006 L 0.00469 0.10056 E">
                                      <p:cBhvr>
                                        <p:cTn id="2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8CE-FFAD-448F-BC29-4DC773DF2F0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624E-9DD1-453C-AD0B-1DE09C3F15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кот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435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26920" y="765000"/>
            <a:ext cx="7525080" cy="536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C:\Documents and Settings\larisa\Рабочий стол\к фестив\628359-a65b1128675013dc.gif"/>
          <p:cNvPicPr/>
          <p:nvPr/>
        </p:nvPicPr>
        <p:blipFill>
          <a:blip r:embed="rId5"/>
          <a:stretch/>
        </p:blipFill>
        <p:spPr>
          <a:xfrm flipH="1">
            <a:off x="3564000" y="3933720"/>
            <a:ext cx="172728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537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0_41c6f_f35f00ed_XL"/>
          <p:cNvPicPr/>
          <p:nvPr/>
        </p:nvPicPr>
        <p:blipFill>
          <a:blip r:embed="rId2"/>
          <a:stretch/>
        </p:blipFill>
        <p:spPr>
          <a:xfrm>
            <a:off x="1332000" y="836640"/>
            <a:ext cx="6637320" cy="5235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C:\Documents and Settings\larisa\Рабочий стол\к фестив\628359-a65b1128675013dc.gif"/>
          <p:cNvPicPr/>
          <p:nvPr/>
        </p:nvPicPr>
        <p:blipFill>
          <a:blip r:embed="rId3"/>
          <a:stretch/>
        </p:blipFill>
        <p:spPr>
          <a:xfrm>
            <a:off x="0" y="5419800"/>
            <a:ext cx="172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1" descr="C:\Documents and Settings\larisa\Рабочий стол\к фестив\c97254b13f01.png"/>
          <p:cNvPicPr/>
          <p:nvPr/>
        </p:nvPicPr>
        <p:blipFill>
          <a:blip r:embed="rId2"/>
          <a:stretch/>
        </p:blipFill>
        <p:spPr>
          <a:xfrm>
            <a:off x="1692360" y="549360"/>
            <a:ext cx="5259240" cy="568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C:\Documents and Settings\larisa\Рабочий стол\к фестив\85b50c1bb7a6.png"/>
          <p:cNvPicPr/>
          <p:nvPr/>
        </p:nvPicPr>
        <p:blipFill>
          <a:blip r:embed="rId3"/>
          <a:stretch/>
        </p:blipFill>
        <p:spPr>
          <a:xfrm>
            <a:off x="2411280" y="3573360"/>
            <a:ext cx="2232000" cy="221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C:\Documents and Settings\larisa\Рабочий стол\к фестив\628359-a65b1128675013dc.gif"/>
          <p:cNvPicPr/>
          <p:nvPr/>
        </p:nvPicPr>
        <p:blipFill>
          <a:blip r:embed="rId4"/>
          <a:stretch/>
        </p:blipFill>
        <p:spPr>
          <a:xfrm>
            <a:off x="826920" y="5084640"/>
            <a:ext cx="12970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C:\Documents and Settings\larisa\Рабочий стол\к фестив\85b50c1bb7a6.png"/>
          <p:cNvPicPr/>
          <p:nvPr/>
        </p:nvPicPr>
        <p:blipFill>
          <a:blip r:embed="rId2"/>
          <a:stretch/>
        </p:blipFill>
        <p:spPr>
          <a:xfrm>
            <a:off x="4572000" y="2924280"/>
            <a:ext cx="2050920" cy="221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C:\Documents and Settings\larisa\Рабочий стол\к фестив\c97254b13f01.png"/>
          <p:cNvPicPr/>
          <p:nvPr/>
        </p:nvPicPr>
        <p:blipFill>
          <a:blip r:embed="rId3"/>
          <a:stretch/>
        </p:blipFill>
        <p:spPr>
          <a:xfrm>
            <a:off x="1692360" y="549360"/>
            <a:ext cx="5259240" cy="568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Documents and Settings\larisa\Рабочий стол\к фестив\628359-a65b1128675013dc.gif"/>
          <p:cNvPicPr/>
          <p:nvPr/>
        </p:nvPicPr>
        <p:blipFill>
          <a:blip r:embed="rId4"/>
          <a:stretch/>
        </p:blipFill>
        <p:spPr>
          <a:xfrm>
            <a:off x="826920" y="5084640"/>
            <a:ext cx="12970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0416 C 0.07118 -0.0037 0.12101 -0.003 0.15834 -0.00023 C 0.19566 0.00255 0.2217 0.00301 0.24618 0.01297 C 0.27066 0.02292 0.29827 0.04561 0.30452 0.05926 C 0.31111 0.07315 0.30295 0.08357 0.2842 0.09514 C 0.26545 0.10649 0.20973 0.12107 0.19202 0.12825 E">
                                      <p:cBhvr>
                                        <p:cTn id="30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4" descr="C:\Documents and Settings\larisa\Рабочий стол\к фестив\85b50c1bb7a6.png"/>
          <p:cNvPicPr/>
          <p:nvPr/>
        </p:nvPicPr>
        <p:blipFill>
          <a:blip r:embed="rId2"/>
          <a:stretch/>
        </p:blipFill>
        <p:spPr>
          <a:xfrm>
            <a:off x="2843280" y="1484280"/>
            <a:ext cx="3117960" cy="33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Documents and Settings\larisa\Рабочий стол\к фестив\628359-a65b1128675013dc.gif"/>
          <p:cNvPicPr/>
          <p:nvPr/>
        </p:nvPicPr>
        <p:blipFill>
          <a:blip r:embed="rId3"/>
          <a:stretch/>
        </p:blipFill>
        <p:spPr>
          <a:xfrm flipH="1">
            <a:off x="6630480" y="4581360"/>
            <a:ext cx="1468440" cy="122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07672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2568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214-1D09-4449-AB8D-14295307F48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04D-EE78-4615-8CA9-96E9F5F962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2654280" cy="3962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3640" y="2276640"/>
            <a:ext cx="2859120" cy="397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937120" y="981000"/>
            <a:ext cx="21686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21FF-EBC9-4F93-BCFA-550D83B9E44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96E3-ABCF-4BF5-875C-0995F2B797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68480" cy="4162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1197000"/>
            <a:ext cx="2017800" cy="495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708360" y="1557360"/>
            <a:ext cx="25765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larisa\Рабочий стол\к фестив\1696063-6be4675656790774.png"/>
          <p:cNvPicPr/>
          <p:nvPr/>
        </p:nvPicPr>
        <p:blipFill>
          <a:blip r:embed="rId2"/>
          <a:stretch/>
        </p:blipFill>
        <p:spPr>
          <a:xfrm>
            <a:off x="2124000" y="1628640"/>
            <a:ext cx="4176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алфавит"/>
          <p:cNvPicPr/>
          <p:nvPr/>
        </p:nvPicPr>
        <p:blipFill>
          <a:blip r:embed="rId2"/>
          <a:stretch/>
        </p:blipFill>
        <p:spPr>
          <a:xfrm>
            <a:off x="2124000" y="0"/>
            <a:ext cx="525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C:\Documents and Settings\larisa\Рабочий стол\к фестив\85b50c1bb7a6.png"/>
          <p:cNvPicPr/>
          <p:nvPr/>
        </p:nvPicPr>
        <p:blipFill>
          <a:blip r:embed="rId3"/>
          <a:stretch/>
        </p:blipFill>
        <p:spPr>
          <a:xfrm>
            <a:off x="2843280" y="1484280"/>
            <a:ext cx="3117960" cy="337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C:\Documents and Settings\larisa\Рабочий стол\к фестив\628359-a65b1128675013dc.gif"/>
          <p:cNvPicPr/>
          <p:nvPr/>
        </p:nvPicPr>
        <p:blipFill>
          <a:blip r:embed="rId4"/>
          <a:stretch/>
        </p:blipFill>
        <p:spPr>
          <a:xfrm flipH="1">
            <a:off x="7380360" y="5084640"/>
            <a:ext cx="1079280" cy="898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509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971640" y="7174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2340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3348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851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435600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471636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3"/>
          <a:stretch/>
        </p:blipFill>
        <p:spPr>
          <a:xfrm>
            <a:off x="5219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4"/>
          <a:stretch/>
        </p:blipFill>
        <p:spPr>
          <a:xfrm>
            <a:off x="1547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819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48148E-006 L -0.31996 0.28981 E">
                                      <p:cBhvr>
                                        <p:cTn id="32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57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489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539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735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782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4712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518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614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646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8" descr="C:\Documents and Settings\larisa\Рабочий стол\к фестив\628359-a65b1128675013dc.gif"/>
          <p:cNvPicPr/>
          <p:nvPr/>
        </p:nvPicPr>
        <p:blipFill>
          <a:blip r:embed="rId2"/>
          <a:stretch/>
        </p:blipFill>
        <p:spPr>
          <a:xfrm flipH="1">
            <a:off x="6858000" y="4572000"/>
            <a:ext cx="1511280" cy="1258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3676680" cy="4521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908000" y="692280"/>
            <a:ext cx="4154760" cy="5108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859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995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688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881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933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216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4514 C -0.09688 -0.22408 -0.17414 -0.40232 -0.23108 -0.50093 C -0.28785 -0.59954 -0.33438 -0.63033 -0.36094 -0.63658 C -0.38716 -0.64283 -0.38507 -0.55625 -0.38976 -0.54028 E">
                                      <p:cBhvr>
                                        <p:cTn id="374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7217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7217"/>
                            </p:stCondLst>
                            <p:childTnLst>
                              <p:par>
                                <p:cTn id="3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7217"/>
                            </p:stCondLst>
                            <p:childTnLst>
                              <p:par>
                                <p:cTn id="38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258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Над презентацией работ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c0000"/>
                </a:solidFill>
                <a:latin typeface="Monotype Corsiva"/>
              </a:rPr>
              <a:t>Терешкова Елена Борис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учитель-логопед МОУ «СОШ№6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c0000"/>
                </a:solidFill>
                <a:latin typeface="Monotype Corsiva"/>
              </a:rPr>
              <a:t>Жуковская Лариса Константин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учитель-логопед МАОУ «Гимназия №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c0000"/>
                </a:solidFill>
                <a:latin typeface="Monotype Corsiva"/>
              </a:rPr>
              <a:t>г.Сар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763200" y="4437000"/>
            <a:ext cx="80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mg-fotki.yandex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t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4313/milkamilkina.23/0_41c6f_f35f00ed_XL.jpg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7920" y="191628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-fotki.yandex.ru/get/5009/ew-dan.31/0_5afc0_37e534b0_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ба Яга в ст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7360" y="249228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0lik.ru/uploads/posts/2010-02/1266876606_0lik.ru_unbenannt-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ба Яга без сту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8840" y="981000"/>
            <a:ext cx="59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и рамка взяты с сай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agol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025.radikal.ru/0804/d4/48d2585b0d01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а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lenagold.ru/fon/tum/beg/tumbeg09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50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960" y="4149720"/>
            <a:ext cx="72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animated-gifs.eu/mammals-cats-30/0004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ё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9920" y="3645000"/>
            <a:ext cx="82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lpp.ru/sites/default/files/chernyy_kot_skachat_oboi_na_rabochiy_sto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 чёрного к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4640" y="494172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5508/cadi-1986.4d5/0_7f0b9_80addd79_X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0080" y="3068640"/>
            <a:ext cx="740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0lik.ru/uploads/posts/2010-05/1274780827_0lik.ru_bezimeni-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ушка на курьих нож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0080" y="5373720"/>
            <a:ext cx="629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ои мультфильма  «Иван-царевич и серый вол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фавит из книги А.Сунцовой и С.Курдюковой «Учимся ориентировать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странстве» Питер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DB73-2DFB-4A3B-BAB1-3EFE5D71AD9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6C2D-1CA4-44CA-9D34-960B6F1B63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чёрный кот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6048360"/>
          </a:xfrm>
          <a:prstGeom prst="rect">
            <a:avLst/>
          </a:prstGeom>
          <a:ln w="0">
            <a:noFill/>
          </a:ln>
        </p:spPr>
      </p:pic>
      <p:pic>
        <p:nvPicPr>
          <p:cNvPr id="45" name="кот1.wav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48d2585b0d01"/>
          <p:cNvPicPr/>
          <p:nvPr/>
        </p:nvPicPr>
        <p:blipFill>
          <a:blip r:embed="rId4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07672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9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3" descr=""/>
          <p:cNvPicPr/>
          <p:nvPr/>
        </p:nvPicPr>
        <p:blipFill>
          <a:blip r:embed="rId2"/>
          <a:stretch/>
        </p:blipFill>
        <p:spPr>
          <a:xfrm>
            <a:off x="828720" y="1163520"/>
            <a:ext cx="74930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5194440" y="1689120"/>
            <a:ext cx="2060280" cy="72540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3" descr=""/>
          <p:cNvPicPr/>
          <p:nvPr/>
        </p:nvPicPr>
        <p:blipFill>
          <a:blip r:embed="rId3"/>
          <a:stretch/>
        </p:blipFill>
        <p:spPr>
          <a:xfrm>
            <a:off x="4906800" y="4498920"/>
            <a:ext cx="2206800" cy="109692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4" descr=""/>
          <p:cNvPicPr/>
          <p:nvPr/>
        </p:nvPicPr>
        <p:blipFill>
          <a:blip r:embed="rId4"/>
          <a:stretch/>
        </p:blipFill>
        <p:spPr>
          <a:xfrm>
            <a:off x="3035160" y="3121200"/>
            <a:ext cx="27003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WordArt 5" descr=""/>
          <p:cNvPicPr/>
          <p:nvPr/>
        </p:nvPicPr>
        <p:blipFill>
          <a:blip r:embed="rId5"/>
          <a:stretch/>
        </p:blipFill>
        <p:spPr>
          <a:xfrm>
            <a:off x="1017720" y="1962000"/>
            <a:ext cx="2420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AutoShape 6" descr=""/>
          <p:cNvPicPr/>
          <p:nvPr/>
        </p:nvPicPr>
        <p:blipFill>
          <a:blip r:embed="rId6"/>
          <a:stretch/>
        </p:blipFill>
        <p:spPr>
          <a:xfrm>
            <a:off x="7375680" y="938160"/>
            <a:ext cx="720720" cy="1487520"/>
          </a:xfrm>
          <a:prstGeom prst="rect">
            <a:avLst/>
          </a:prstGeom>
          <a:ln w="0">
            <a:noFill/>
          </a:ln>
        </p:spPr>
      </p:pic>
      <p:pic>
        <p:nvPicPr>
          <p:cNvPr id="54" name="WordArt 7" descr=""/>
          <p:cNvPicPr/>
          <p:nvPr/>
        </p:nvPicPr>
        <p:blipFill>
          <a:blip r:embed="rId7"/>
          <a:stretch/>
        </p:blipFill>
        <p:spPr>
          <a:xfrm>
            <a:off x="1090440" y="4552920"/>
            <a:ext cx="2421000" cy="708120"/>
          </a:xfrm>
          <a:prstGeom prst="rect">
            <a:avLst/>
          </a:prstGeom>
          <a:ln w="0">
            <a:noFill/>
          </a:ln>
        </p:spPr>
      </p:pic>
      <p:pic>
        <p:nvPicPr>
          <p:cNvPr id="55" name="AutoShape 8" descr=""/>
          <p:cNvPicPr/>
          <p:nvPr/>
        </p:nvPicPr>
        <p:blipFill>
          <a:blip r:embed="rId8"/>
          <a:stretch/>
        </p:blipFill>
        <p:spPr>
          <a:xfrm>
            <a:off x="7345440" y="4486320"/>
            <a:ext cx="639720" cy="1407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выше"/>
          <p:cNvPicPr/>
          <p:nvPr/>
        </p:nvPicPr>
        <p:blipFill>
          <a:blip r:embed="rId9"/>
          <a:stretch/>
        </p:blipFill>
        <p:spPr>
          <a:xfrm>
            <a:off x="3635280" y="1197000"/>
            <a:ext cx="1697040" cy="1284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ниже"/>
          <p:cNvPicPr/>
          <p:nvPr/>
        </p:nvPicPr>
        <p:blipFill>
          <a:blip r:embed="rId10"/>
          <a:stretch/>
        </p:blipFill>
        <p:spPr>
          <a:xfrm>
            <a:off x="3780000" y="4437000"/>
            <a:ext cx="1122120" cy="1123920"/>
          </a:xfrm>
          <a:prstGeom prst="rect">
            <a:avLst/>
          </a:prstGeom>
          <a:ln w="0">
            <a:noFill/>
          </a:ln>
        </p:spPr>
      </p:pic>
      <p:grpSp>
        <p:nvGrpSpPr>
          <p:cNvPr id="58" name="Двойная стрелка вверх/вниз 10"/>
          <p:cNvGrpSpPr/>
          <p:nvPr/>
        </p:nvGrpSpPr>
        <p:grpSpPr>
          <a:xfrm>
            <a:off x="6626160" y="2682720"/>
            <a:ext cx="639720" cy="1633680"/>
            <a:chOff x="6626160" y="2682720"/>
            <a:chExt cx="639720" cy="1633680"/>
          </a:xfrm>
        </p:grpSpPr>
        <p:pic>
          <p:nvPicPr>
            <p:cNvPr id="59" name="Двойная стрелка вверх/вниз 10" descr=""/>
            <p:cNvPicPr/>
            <p:nvPr/>
          </p:nvPicPr>
          <p:blipFill>
            <a:blip r:embed="rId11"/>
            <a:stretch/>
          </p:blipFill>
          <p:spPr>
            <a:xfrm>
              <a:off x="6626160" y="2682720"/>
              <a:ext cx="63972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804000" y="2852640"/>
              <a:ext cx="28908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4" descr="C:\Documents and Settings\larisa\Рабочий стол\к фестив\85b50c1bb7a6.png"/>
          <p:cNvPicPr/>
          <p:nvPr/>
        </p:nvPicPr>
        <p:blipFill>
          <a:blip r:embed="rId2"/>
          <a:stretch/>
        </p:blipFill>
        <p:spPr>
          <a:xfrm>
            <a:off x="2843280" y="1484280"/>
            <a:ext cx="3117960" cy="3371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87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83528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62728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2767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995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478800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5435640" y="7101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39528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109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857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998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99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829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910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868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635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5194-B37F-4E89-ACF5-7B8DEC45A8E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455-DBBB-4D08-A982-CB21B5F144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кот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564000" y="702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C:\Documents and Settings\larisa\Рабочий стол\к фестив\628359-a65b1128675013dc.gif"/>
          <p:cNvPicPr/>
          <p:nvPr/>
        </p:nvPicPr>
        <p:blipFill>
          <a:blip r:embed="rId4"/>
          <a:stretch/>
        </p:blipFill>
        <p:spPr>
          <a:xfrm>
            <a:off x="3780000" y="1916280"/>
            <a:ext cx="2087280" cy="173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56000" y="4437000"/>
            <a:ext cx="718920" cy="647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5157720"/>
            <a:ext cx="719280" cy="6476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508640"/>
            <a:ext cx="719280" cy="6476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808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C:\Documents and Settings\larisa\Рабочий стол\к фестив\628359-a65b1128675013dc.gif"/>
          <p:cNvPicPr/>
          <p:nvPr/>
        </p:nvPicPr>
        <p:blipFill>
          <a:blip r:embed="rId2"/>
          <a:stretch/>
        </p:blipFill>
        <p:spPr>
          <a:xfrm>
            <a:off x="1403280" y="3933720"/>
            <a:ext cx="1728720" cy="1438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32720" y="7101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0" y="4221000"/>
            <a:ext cx="1150920" cy="1151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357720"/>
            <a:ext cx="1150920" cy="1150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492280"/>
            <a:ext cx="1150920" cy="1150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797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8" descr="C:\Documents and Settings\larisa\Рабочий стол\к фестив\628359-a65b1128675013dc.gif"/>
          <p:cNvPicPr/>
          <p:nvPr/>
        </p:nvPicPr>
        <p:blipFill>
          <a:blip r:embed="rId2"/>
          <a:stretch/>
        </p:blipFill>
        <p:spPr>
          <a:xfrm>
            <a:off x="1763640" y="1484280"/>
            <a:ext cx="1728720" cy="1438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659640" y="7029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0" y="4149720"/>
            <a:ext cx="1150920" cy="1150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284640"/>
            <a:ext cx="1150920" cy="11509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421000"/>
            <a:ext cx="1150920" cy="1150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3699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6:25:32Z</dcterms:created>
  <dc:creator>User</dc:creator>
  <dc:description/>
  <dc:language>en-US</dc:language>
  <cp:lastModifiedBy>User</cp:lastModifiedBy>
  <dcterms:modified xsi:type="dcterms:W3CDTF">2013-01-30T20:16:28Z</dcterms:modified>
  <cp:revision>31</cp:revision>
  <dc:subject/>
  <dc:title>Слайд 1</dc:title>
</cp:coreProperties>
</file>