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7.jpeg" ContentType="image/jpe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7DE-5890-4B59-A788-35A552A8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2AC-4208-40DF-97A3-ABBD29E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29CEC-144B-4505-A91B-040D10A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2D150-7B12-4122-8AD9-924491F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32AEA-E0AE-4A03-8A5B-EF81123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40034-0304-4F43-A851-E02C7FE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82883-B148-4A23-A6DA-26ACABB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A1CBC-16D4-488B-9402-4033A4D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0F36B-B486-400D-875A-9CB5E7B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11985-280E-4115-9F89-8B358E5B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A880-5675-451A-8C7A-B4038816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742-B89D-48A3-9144-53D5D1D9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5C8-79CA-406D-9EB9-FED0B58B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D158-6042-44AA-8FF2-49635ACD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F0B9-79B9-41F3-9977-F9459FE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C6B-6ED7-4997-B8A4-95F97C7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7DA6-26E8-40E6-A88C-5D8A1B1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7A49-C444-4DE6-A4E8-5C0DCC6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643-6190-4B40-81D1-9511FE73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916D-63C8-45ED-93DF-2AAAD241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A55-5439-433A-A914-583C8E59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11FC-1C53-4C39-A094-6D5B55F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278-A7FC-4CF2-9592-2117A90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0381-0FEE-47F6-B80F-C859F1D1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7D3F-8F45-431C-B44F-30F9032E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EA4-C56B-4EFD-9E37-583E61B4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F037-C70D-4023-9403-CCC07862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1576-EB7A-4A92-BF2E-01333E7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5E71-932F-4592-AF80-83A911B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E743-2970-4B44-B9B6-DC3B6E8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41D6-5324-47A2-8F1E-1BE44F3B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32F-3CBA-430E-AFF6-0183438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7DFF-6451-433E-A6F0-8885A0A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945A-BF67-4C04-B67D-B3531EF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A189-8C04-41B3-9AC2-29DECEE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2A0D-E0DA-4689-98DF-732E58D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B4CB-7BE2-44A6-BB54-E3273208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14EF-966D-4140-9D90-8C30B4D6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D73B-6D5A-4631-A9ED-40D475D9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CC5A-3018-4AFC-88EE-407D6916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EDF1-95B5-4266-8333-64DB6CF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F5B6-A376-4204-9C5A-B901D00A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DDF-5C54-4920-A6A2-23B01FB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59FB-12D9-4639-9210-5C881A8A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FE4F-E999-40FB-8A9B-934DC696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39FC-8C89-434E-A93A-C9675F6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45E9-D273-4162-B30A-1047149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8974-71B0-4B58-87DB-85553ED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3C64E-B7A4-4435-B92A-9ECBDA3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BF55-405D-44A2-8257-F550E94D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24EA-FBF0-49EE-AB26-EE9BC4DE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739A-EB47-4D28-A381-7074EDCA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5B3F9-9B48-46DF-AD8C-68AFC656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6D9-2F35-4B84-9111-6501E916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BA0D-2391-4C58-A0D2-8FFF493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13CDC-3E77-470D-9C97-C67CEE3D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0F5F-2400-402E-A8D3-6D92067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B84E-3F3D-41F2-A920-65439248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1743D-571D-4F32-BD5E-678ACA4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E5BA-2169-4C6F-A5E7-54C9903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E25E-15C7-409A-8CF3-D7A452A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82B7-267A-4933-AD3E-F1DAE27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2A83-0A35-4279-B6ED-6E25404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8B8B-9CEA-4558-A569-7519AC86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800-C31E-4ECE-AC04-94C0262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65F7-54AF-4E1F-AAB1-FB916B27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6A3C-83BA-46BE-92A4-F8AC0CDF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D7575-5E98-477A-BE4C-C9442E7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F4CD-9217-46B2-9FA1-881D0601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756B-6C11-4B3B-B7FB-D288282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0D3D-6F26-4234-8E37-A775A3D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0CA40-DD82-4845-AA98-54FD5A7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DDF4-3B09-460B-99C8-37399FB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4137-63CE-408D-AD15-1EA6350B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77B5A-4FC2-49B1-9F55-0EB05AE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1EC-5E47-4E4E-BA2D-4779E2B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A3EF-402D-4B98-8541-E5F0B84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A631-2CE2-4DB4-A705-8D139DD7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B1A1-1D34-4F90-8336-537324D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2D8D-F72F-41B9-8CF5-57244E7E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BAA4-2BCF-453C-8B3D-95286E69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B1A6-7F3D-40FB-A439-6C39C97E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5C5E-063B-4457-B0D5-B60D6E7C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9D60-66E1-4978-87F4-358431D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09A61-0B68-4121-B02F-22F1709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ABE7-7837-48F9-8798-3B9C68C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57C-6103-4FCB-AEC5-ABD4CC8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F1A3-EF81-42F0-84A7-F0E19C5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7B01-25B9-4FFD-A7D1-9CB4F91F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1666-AF13-45AD-B478-B0C1692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A147-EA4E-4E42-8DF4-F888D2F8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0A13-99B4-47E6-87CD-B0AFF37F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BB91-C943-4064-AFB7-25F7D424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331D-F582-48BB-8157-4027DFC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2FF6-62B1-4AF2-9D5F-62C3E9D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828CB-ABCE-48CF-B15E-F8EED1B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5C95-866C-48BC-8B95-7A74BFF6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B1F-9A3C-4862-B501-6EF2105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04BC-1054-4827-89A0-A440A456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30F4-7695-4940-80F9-B39C11A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5284-57D1-4A8E-896F-65E0FAB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23DB-5EE4-43AC-9CF0-A5C60A8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99CA-8DB5-4C58-9787-EE71D8A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265D-FA2A-4937-A02D-D17B82E3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E86C-39DB-4086-8A57-EDD84BAF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F00F-9601-4D4F-AF0C-018BA1C6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80F17-1792-478F-A5E6-DD90DF3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AE798-2A86-47FD-ADCF-553754F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0B4-512A-4906-9F78-831B95C678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147-7053-4D5C-B5F5-D036744C86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B84-F6BC-4D71-AA65-FC29E5EBB8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53A-8C87-4874-9826-0033E4C4B0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13EA-8AAE-4DEA-84F0-778D9B0B8C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0CD-FE5F-4A69-8867-6FE029097C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E2A-3073-4F11-B3EE-57D98E0053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873-EDAA-4D3D-A936-AF2DF5AD7D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D8CB-B66C-4D97-BDC7-C8DF0A3F86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1663560"/>
            <a:ext cx="6937560" cy="21402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5"/>
          <p:cNvSpPr/>
          <p:nvPr/>
        </p:nvSpPr>
        <p:spPr>
          <a:xfrm>
            <a:off x="770760" y="3786120"/>
            <a:ext cx="745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ведение в алгоритмизаци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Алгоритм должен быть представлен в форме, понятной человеку, который его разрабатыва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Алгоритм должен быть представлен в форме, понятной тому объекту (в том числе и человеку), который будет выполнять описанные в алгоритме действ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03320" y="165240"/>
            <a:ext cx="8450280" cy="11030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68000" y="1197000"/>
            <a:ext cx="8389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Исполнител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- объект, который выполняет алгорит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Компьютер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автоматический исполнитель алгоритм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Алгоритм, записанный на языке исполнителя, называется </a:t>
            </a: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граммой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4"/>
          <p:cNvGrpSpPr/>
          <p:nvPr/>
        </p:nvGrpSpPr>
        <p:grpSpPr>
          <a:xfrm>
            <a:off x="357120" y="785880"/>
            <a:ext cx="8218080" cy="5033520"/>
            <a:chOff x="357120" y="785880"/>
            <a:chExt cx="8218080" cy="5033520"/>
          </a:xfrm>
        </p:grpSpPr>
        <p:sp>
          <p:nvSpPr>
            <p:cNvPr id="432" name="AutoShape 5"/>
            <p:cNvSpPr/>
            <p:nvPr/>
          </p:nvSpPr>
          <p:spPr>
            <a:xfrm>
              <a:off x="357120" y="785880"/>
              <a:ext cx="3036960" cy="2433600"/>
            </a:xfrm>
            <a:prstGeom prst="hexagon">
              <a:avLst>
                <a:gd name="adj" fmla="val 30372"/>
                <a:gd name="vf" fmla="val 11547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войства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алгоритмов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WordArt 6"/>
            <p:cNvSpPr txBox="1"/>
            <p:nvPr/>
          </p:nvSpPr>
          <p:spPr>
            <a:xfrm>
              <a:off x="3042720" y="3261960"/>
              <a:ext cx="2549160" cy="13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4" name="AutoShape 8"/>
            <p:cNvSpPr/>
            <p:nvPr/>
          </p:nvSpPr>
          <p:spPr>
            <a:xfrm>
              <a:off x="4785840" y="2739240"/>
              <a:ext cx="3789360" cy="481680"/>
            </a:xfrm>
            <a:prstGeom prst="wedgeRectCallout">
              <a:avLst>
                <a:gd name="adj1" fmla="val -95532"/>
                <a:gd name="adj2" fmla="val -81388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етерминированност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AutoShape 11"/>
            <p:cNvSpPr/>
            <p:nvPr/>
          </p:nvSpPr>
          <p:spPr>
            <a:xfrm>
              <a:off x="3584160" y="4607640"/>
              <a:ext cx="2742840" cy="507600"/>
            </a:xfrm>
            <a:prstGeom prst="wedgeRectCallout">
              <a:avLst>
                <a:gd name="adj1" fmla="val -86092"/>
                <a:gd name="adj2" fmla="val -29909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нечност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4785840" y="3867480"/>
              <a:ext cx="2606760" cy="510840"/>
            </a:xfrm>
            <a:prstGeom prst="wedgeRectCallout">
              <a:avLst>
                <a:gd name="adj1" fmla="val -124402"/>
                <a:gd name="adj2" fmla="val -210546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ссовост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AutoShape 13"/>
            <p:cNvSpPr/>
            <p:nvPr/>
          </p:nvSpPr>
          <p:spPr>
            <a:xfrm>
              <a:off x="510120" y="5262840"/>
              <a:ext cx="3073680" cy="556560"/>
            </a:xfrm>
            <a:prstGeom prst="wedgeRectCallout">
              <a:avLst>
                <a:gd name="adj1" fmla="val -27324"/>
                <a:gd name="adj2" fmla="val -39403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езультативност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AutoShape 14"/>
            <p:cNvSpPr/>
            <p:nvPr/>
          </p:nvSpPr>
          <p:spPr>
            <a:xfrm>
              <a:off x="5024520" y="1673640"/>
              <a:ext cx="2606760" cy="617400"/>
            </a:xfrm>
            <a:prstGeom prst="wedgeRectCallout">
              <a:avLst>
                <a:gd name="adj1" fmla="val -112430"/>
                <a:gd name="adj2" fmla="val 3824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искретност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AutoShape 12"/>
          <p:cNvSpPr/>
          <p:nvPr/>
        </p:nvSpPr>
        <p:spPr>
          <a:xfrm>
            <a:off x="3718080" y="765000"/>
            <a:ext cx="2608200" cy="552600"/>
          </a:xfrm>
          <a:prstGeom prst="wedgeRectCallout">
            <a:avLst>
              <a:gd name="adj1" fmla="val -84800"/>
              <a:gd name="adj2" fmla="val -28481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2"/>
          <a:stretch/>
        </p:blipFill>
        <p:spPr>
          <a:xfrm>
            <a:off x="237960" y="-55440"/>
            <a:ext cx="8436240" cy="15429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мвольный (с помощью набора символов – алгоритмического язык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афический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-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с помощью блок- схем.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На уроках информатики, обычно, используется этот способ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2"/>
          <a:stretch/>
        </p:blipFill>
        <p:spPr>
          <a:xfrm>
            <a:off x="324000" y="255600"/>
            <a:ext cx="8686800" cy="1871640"/>
          </a:xfrm>
          <a:prstGeom prst="rect">
            <a:avLst/>
          </a:prstGeom>
          <a:ln w="0">
            <a:noFill/>
          </a:ln>
        </p:spPr>
      </p:pic>
      <p:pic>
        <p:nvPicPr>
          <p:cNvPr id="443" name="Объект 6" descr=""/>
          <p:cNvPicPr/>
          <p:nvPr/>
        </p:nvPicPr>
        <p:blipFill>
          <a:blip r:embed="rId3"/>
          <a:srcRect l="0" t="55237" r="0" b="0"/>
          <a:stretch/>
        </p:blipFill>
        <p:spPr>
          <a:xfrm>
            <a:off x="1332000" y="2205000"/>
            <a:ext cx="4186080" cy="428616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2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AutoShape 4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7" name="Объект 6" descr=""/>
          <p:cNvPicPr/>
          <p:nvPr/>
        </p:nvPicPr>
        <p:blipFill>
          <a:blip r:embed="rId4"/>
          <a:srcRect l="55592" t="0" r="0" b="57743"/>
          <a:stretch/>
        </p:blipFill>
        <p:spPr>
          <a:xfrm>
            <a:off x="6875640" y="4076640"/>
            <a:ext cx="21222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луформализованные описания алгоритмов на условном алгоритмическом языке, включающие в себя как элементы языка программирования, так и фразы естественного языка, общепринятые математические обозначения и др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AutoShape 2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826920" y="522936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2" name="Picture 6" descr="http://t1.gstatic.com/images?q=tbn:ANd9GcRh6h89oQiTkrIlbG5jwJqZhMOD64Pmp4euMmWB22-akp3bUbfm"/>
          <p:cNvPicPr/>
          <p:nvPr/>
        </p:nvPicPr>
        <p:blipFill>
          <a:blip r:embed="rId3"/>
          <a:stretch/>
        </p:blipFill>
        <p:spPr>
          <a:xfrm>
            <a:off x="5076720" y="4005360"/>
            <a:ext cx="3483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тавления алгоритмов является более компактным и наглядным по сравнению со словесны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афическое представление назыв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лок-схемо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2"/>
          <a:srcRect l="0" t="0" r="0" b="85058"/>
          <a:stretch/>
        </p:blipFill>
        <p:spPr>
          <a:xfrm>
            <a:off x="714240" y="1000080"/>
            <a:ext cx="3294360" cy="6238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5"/>
          <p:cNvSpPr/>
          <p:nvPr/>
        </p:nvSpPr>
        <p:spPr>
          <a:xfrm>
            <a:off x="4572000" y="100008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чало- коне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3"/>
          <a:srcRect l="0" t="18386" r="0" b="67361"/>
          <a:stretch/>
        </p:blipFill>
        <p:spPr>
          <a:xfrm>
            <a:off x="500040" y="2286000"/>
            <a:ext cx="3714840" cy="7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4"/>
          <a:srcRect l="0" t="77552" r="0" b="0"/>
          <a:stretch/>
        </p:blipFill>
        <p:spPr>
          <a:xfrm>
            <a:off x="500040" y="3614760"/>
            <a:ext cx="3651120" cy="1028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5"/>
          <a:srcRect l="0" t="33645" r="0" b="48605"/>
          <a:stretch/>
        </p:blipFill>
        <p:spPr>
          <a:xfrm>
            <a:off x="214200" y="5214960"/>
            <a:ext cx="4071960" cy="71424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9"/>
          <p:cNvSpPr/>
          <p:nvPr/>
        </p:nvSpPr>
        <p:spPr>
          <a:xfrm>
            <a:off x="4572000" y="52862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од-вывод дан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Прямоугольник 10"/>
          <p:cNvSpPr/>
          <p:nvPr/>
        </p:nvSpPr>
        <p:spPr>
          <a:xfrm>
            <a:off x="4714920" y="3571920"/>
            <a:ext cx="40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нятие реш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роверка услов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4500720" y="242892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йствие, опер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1470600" y="22536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бозначение в блок-схем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2"/>
          <a:stretch/>
        </p:blipFill>
        <p:spPr>
          <a:xfrm>
            <a:off x="274680" y="189000"/>
            <a:ext cx="8620200" cy="1036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213840" y="1928880"/>
            <a:ext cx="4249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йствий, которые выполняются однократно в заданном порядк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8" descr="stupeni1"/>
          <p:cNvPicPr/>
          <p:nvPr/>
        </p:nvPicPr>
        <p:blipFill>
          <a:blip r:embed="rId3"/>
          <a:stretch/>
        </p:blipFill>
        <p:spPr>
          <a:xfrm>
            <a:off x="5000760" y="1857240"/>
            <a:ext cx="3657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BD04912_"/>
          <p:cNvPicPr/>
          <p:nvPr/>
        </p:nvPicPr>
        <p:blipFill>
          <a:blip r:embed="rId3"/>
          <a:stretch/>
        </p:blipFill>
        <p:spPr>
          <a:xfrm>
            <a:off x="5508720" y="1484280"/>
            <a:ext cx="3349440" cy="34657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4"/>
          <p:cNvSpPr/>
          <p:nvPr/>
        </p:nvSpPr>
        <p:spPr>
          <a:xfrm>
            <a:off x="428760" y="17146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, в котором в зависимости от условия выполняется либо одна, либо другая последовательность дейст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304920" y="146160"/>
            <a:ext cx="8686800" cy="14936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озникновение алгоритм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нятие «алгоритм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войства алгоритм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иды алгоритм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особы представл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писание действий, которые должны повторятся указанное число раз или пока не выполнено зад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2" name="Picture 6" descr="http://t3.gstatic.com/images?q=tbn:ANd9GcSB6w9F1AZ-4DxiuZy3AOCrNdTpKMB4Fym_kZ3CmqytMIpWG6s7pQ"/>
          <p:cNvPicPr/>
          <p:nvPr/>
        </p:nvPicPr>
        <p:blipFill>
          <a:blip r:embed="rId3"/>
          <a:stretch/>
        </p:blipFill>
        <p:spPr>
          <a:xfrm>
            <a:off x="5214960" y="192888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2"/>
          <a:stretch/>
        </p:blipFill>
        <p:spPr>
          <a:xfrm>
            <a:off x="560520" y="165240"/>
            <a:ext cx="7065720" cy="9871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611280" y="1196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то такое алгоритм? Приведите примеры алгоритм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ие свойства алгоритмов вы знае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ие виды алгоритмов вы знае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ие способы записи алгоритмов вы знае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то такое исполнитель алгоритмов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то такое программа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843768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4753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олее1000 лет назад (в 825 году) ученый из города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резма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бдулла (или Абу Джафар)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хаммед бен Муса аль-Хорезми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жившего в 787 – 850 гг.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здал книгу по математике, в которой описал способы выполнения арифметических действий над многозначными числа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E:\САЙТ\google\Muhammed ben Musa ali-Horezmi.jpg"/>
          <p:cNvPicPr/>
          <p:nvPr/>
        </p:nvPicPr>
        <p:blipFill>
          <a:blip r:embed="rId3"/>
          <a:stretch/>
        </p:blipFill>
        <p:spPr>
          <a:xfrm>
            <a:off x="5364000" y="907920"/>
            <a:ext cx="340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Фильм к презентации.wmv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528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4e3b30"/>
                </a:solidFill>
                <a:uFillTx/>
                <a:latin typeface="Franklin Gothic Book"/>
              </a:rPr>
              <a:t>Алгоритм</a:t>
            </a:r>
            <a:r>
              <a:rPr b="0" lang="en-US" sz="8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описание последовательности действий (план), строгое исполнение которых приводит к решению поставленной задачи за конечное число шаго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4"/>
          <p:cNvGrpSpPr/>
          <p:nvPr/>
        </p:nvGrpSpPr>
        <p:grpSpPr>
          <a:xfrm>
            <a:off x="906480" y="981000"/>
            <a:ext cx="7554600" cy="5162400"/>
            <a:chOff x="906480" y="981000"/>
            <a:chExt cx="7554600" cy="5162400"/>
          </a:xfrm>
        </p:grpSpPr>
        <p:sp>
          <p:nvSpPr>
            <p:cNvPr id="409" name="AutoShape 5"/>
            <p:cNvSpPr/>
            <p:nvPr/>
          </p:nvSpPr>
          <p:spPr>
            <a:xfrm>
              <a:off x="3275640" y="2253240"/>
              <a:ext cx="2804760" cy="2688120"/>
            </a:xfrm>
            <a:prstGeom prst="hexagon">
              <a:avLst>
                <a:gd name="adj" fmla="val 26085"/>
                <a:gd name="vf" fmla="val 11547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WordArt 6"/>
            <p:cNvSpPr txBox="1"/>
            <p:nvPr/>
          </p:nvSpPr>
          <p:spPr>
            <a:xfrm>
              <a:off x="3649680" y="2961000"/>
              <a:ext cx="2011680" cy="126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АЛГОРИТМЫ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1" name="AutoShape 7">
              <a:hlinkClick r:id="rId2" action="ppaction://hlinksldjump"/>
            </p:cNvPr>
            <p:cNvSpPr/>
            <p:nvPr/>
          </p:nvSpPr>
          <p:spPr>
            <a:xfrm>
              <a:off x="6267600" y="2465280"/>
              <a:ext cx="2057040" cy="423720"/>
            </a:xfrm>
            <a:prstGeom prst="wedgeRectCallout">
              <a:avLst>
                <a:gd name="adj1" fmla="val -78324"/>
                <a:gd name="adj2" fmla="val 5625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Литератур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AutoShape 8">
              <a:hlinkClick r:id="rId3" action="ppaction://hlinksldjump"/>
            </p:cNvPr>
            <p:cNvSpPr/>
            <p:nvPr/>
          </p:nvSpPr>
          <p:spPr>
            <a:xfrm>
              <a:off x="1904040" y="5719680"/>
              <a:ext cx="2057400" cy="423720"/>
            </a:xfrm>
            <a:prstGeom prst="wedgeRectCallout">
              <a:avLst>
                <a:gd name="adj1" fmla="val 53273"/>
                <a:gd name="adj2" fmla="val -233453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Истор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AutoShape 9">
              <a:hlinkClick r:id="rId4" action="ppaction://hlinksldjump"/>
            </p:cNvPr>
            <p:cNvSpPr/>
            <p:nvPr/>
          </p:nvSpPr>
          <p:spPr>
            <a:xfrm>
              <a:off x="906480" y="4375440"/>
              <a:ext cx="2057040" cy="423720"/>
            </a:xfrm>
            <a:prstGeom prst="wedgeRectCallout">
              <a:avLst>
                <a:gd name="adj1" fmla="val 78055"/>
                <a:gd name="adj2" fmla="val -10183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Физ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AutoShape 10">
              <a:hlinkClick r:id="rId5" action="ppaction://hlinksldjump"/>
            </p:cNvPr>
            <p:cNvSpPr/>
            <p:nvPr/>
          </p:nvSpPr>
          <p:spPr>
            <a:xfrm>
              <a:off x="969480" y="2465280"/>
              <a:ext cx="2057040" cy="423720"/>
            </a:xfrm>
            <a:prstGeom prst="wedgeRectCallout">
              <a:avLst>
                <a:gd name="adj1" fmla="val 76851"/>
                <a:gd name="adj2" fmla="val 57351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Географ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AutoShape 11"/>
            <p:cNvSpPr/>
            <p:nvPr/>
          </p:nvSpPr>
          <p:spPr>
            <a:xfrm>
              <a:off x="6404040" y="4657680"/>
              <a:ext cx="2057040" cy="572040"/>
            </a:xfrm>
            <a:prstGeom prst="wedgeRectCallout">
              <a:avLst>
                <a:gd name="adj1" fmla="val -74583"/>
                <a:gd name="adj2" fmla="val -16581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Английский  я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AutoShape 12"/>
            <p:cNvSpPr/>
            <p:nvPr/>
          </p:nvSpPr>
          <p:spPr>
            <a:xfrm>
              <a:off x="5271480" y="5719680"/>
              <a:ext cx="2057040" cy="423720"/>
            </a:xfrm>
            <a:prstGeom prst="wedgeRectCallout">
              <a:avLst>
                <a:gd name="adj1" fmla="val -48703"/>
                <a:gd name="adj2" fmla="val -224351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AutoShape 13"/>
            <p:cNvSpPr/>
            <p:nvPr/>
          </p:nvSpPr>
          <p:spPr>
            <a:xfrm>
              <a:off x="5208120" y="1050840"/>
              <a:ext cx="2057400" cy="424080"/>
            </a:xfrm>
            <a:prstGeom prst="wedgeRectCallout">
              <a:avLst>
                <a:gd name="adj1" fmla="val -54541"/>
                <a:gd name="adj2" fmla="val 220953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Русский я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AutoShape 14"/>
            <p:cNvSpPr/>
            <p:nvPr/>
          </p:nvSpPr>
          <p:spPr>
            <a:xfrm>
              <a:off x="2028960" y="981000"/>
              <a:ext cx="2057400" cy="423720"/>
            </a:xfrm>
            <a:prstGeom prst="wedgeRectCallout">
              <a:avLst>
                <a:gd name="adj1" fmla="val 53606"/>
                <a:gd name="adj2" fmla="val 237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Мате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Comic Sans MS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785880" y="2500200"/>
            <a:ext cx="8007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лгоритм разбора предложения по члена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1" name="Picture 6" descr="PEN&amp;INKW"/>
          <p:cNvPicPr/>
          <p:nvPr/>
        </p:nvPicPr>
        <p:blipFill>
          <a:blip r:embed="rId2"/>
          <a:stretch/>
        </p:blipFill>
        <p:spPr>
          <a:xfrm>
            <a:off x="7451640" y="189000"/>
            <a:ext cx="15145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Comic Sans MS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38080" y="1905120"/>
            <a:ext cx="80074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лгоритм решения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лгоритм умножения обыкновенных дроб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Picture 6" descr="CALCLT"/>
          <p:cNvPicPr/>
          <p:nvPr/>
        </p:nvPicPr>
        <p:blipFill>
          <a:blip r:embed="rId2"/>
          <a:stretch/>
        </p:blipFill>
        <p:spPr>
          <a:xfrm>
            <a:off x="7308720" y="0"/>
            <a:ext cx="15732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357120" y="142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Comic Sans MS"/>
              </a:rPr>
              <a:t>Географ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http://www.o-detstve.ru/assets/images/forteachers/School/iniciativa/plaksina_m(1).jpg"/>
          <p:cNvPicPr/>
          <p:nvPr/>
        </p:nvPicPr>
        <p:blipFill>
          <a:blip r:embed="rId2"/>
          <a:stretch/>
        </p:blipFill>
        <p:spPr>
          <a:xfrm>
            <a:off x="928800" y="1193760"/>
            <a:ext cx="69292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5:24:00Z</dcterms:created>
  <dc:creator>минеке</dc:creator>
  <dc:description/>
  <dc:language>en-US</dc:language>
  <cp:lastModifiedBy>Adel</cp:lastModifiedBy>
  <dcterms:modified xsi:type="dcterms:W3CDTF">2013-03-17T13:51:16Z</dcterms:modified>
  <cp:revision>55</cp:revision>
  <dc:subject/>
  <dc:title>Алгоритмы</dc:title>
</cp:coreProperties>
</file>