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237C-D05D-48D7-949E-FA1C80D2A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ернуться в главное меню, нужно навести на совёнка и нажать на одну книгу, которую он держ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ернуться в главное меню, нужно навести на совёнка и нажать на одну книгу, которую он держ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ернуться в главное меню, нужно навести на совёнка и нажать на одну книгу, которую он держ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ернуться в главное меню, нужно навести на совёнка и нажать на одну книгу, которую он держ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ернуться в главное меню, нужно навести на совёнка и нажать на одну книгу, которую он держ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ернуться в главное меню, нужно навести на совёнка и нажать на одну книгу, которую он держ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ернуться в главное меню, нужно навести на совёнка и нажать на одну книгу, которую он держ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ернуться в главное меню, нужно навести на совёнка и нажать на одну книгу, которую он держ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ернуться в главное меню, нужно навести на совёнка и нажать на одну книгу, которую он держ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ернуться в главное меню, нужно навести на совёнка и нажать на одну книгу, которую он держ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ернуться в главное меню, нужно навести на совёнка и нажать на одну книгу, которую он держ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ернуться в главное меню, нужно навести на совёнка и нажать на одну книгу, которую он держ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Чтобы вернуться в главное меню, нужно навести на совёнка и нажать на одну книгу, которую он держ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336C-21B9-4697-A93F-71CFB3C1C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D4C8-9A05-4E8E-B365-29DF727D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5700-847E-4C6D-8A58-E3A7A2BA3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E8FE-D23D-440E-BC97-343D9C55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92BE-B5EC-462C-B703-C992CDBA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833-07CE-432D-8E64-232E6176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6CC9-9DA1-4F3B-980B-A3173065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ED17-0E16-4CCF-A6EB-8C7F4583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67E-6E4B-42C1-92D2-D28C9E99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77D-64F7-45C5-88B9-A406FC51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6D7-E0B7-4C10-B5D1-CBEF053F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4DF8-2C54-48ED-A529-858E8E63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9247-0572-4512-97D4-9333BF174F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5.xml"/><Relationship Id="rId9" Type="http://schemas.openxmlformats.org/officeDocument/2006/relationships/slide" Target="slide16.xml"/><Relationship Id="rId10" Type="http://schemas.openxmlformats.org/officeDocument/2006/relationships/slide" Target="slide13.xml"/><Relationship Id="rId11" Type="http://schemas.openxmlformats.org/officeDocument/2006/relationships/slide" Target="slide13.xml"/><Relationship Id="rId12" Type="http://schemas.openxmlformats.org/officeDocument/2006/relationships/slide" Target="slide15.xml"/><Relationship Id="rId13" Type="http://schemas.openxmlformats.org/officeDocument/2006/relationships/slide" Target="slide14.xml"/><Relationship Id="rId14" Type="http://schemas.openxmlformats.org/officeDocument/2006/relationships/image" Target="../media/image2.png"/><Relationship Id="rId15" Type="http://schemas.openxmlformats.org/officeDocument/2006/relationships/slide" Target="slide9.xml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Внеклассное мероприятие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«Что? Где? Когда?»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по литературе для 6 класса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по биографии и творчеству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Monotype Corsiva"/>
              </a:rPr>
              <a:t>Н.А.Некрас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36576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ыполнил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ёдорова Наталья Петровна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БОУ «Благовещенская СОШ №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Благовещенского района Алтайского к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род услышал слово поэта, недаром многие стихи его стали народными песн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ие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песни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вы знае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зовите 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«Тройка», «Коробейн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(Полна коробушка)», «Похорон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7391520" y="304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о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тавит в пример сельскому школьнику Некрас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«Скоро сам узнаешь в школ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 архангельский муж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о своей и Божьей в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тал разумен и велик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зовите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фамил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М.В. Ломоно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315200" y="304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Чт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зывал Некрасов своей колыбелью, признаваясь в любви к 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Любил ли кто тебя, как 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О, Волга! Колыбель мо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7315200" y="304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1861 году поэт покуп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потомков князя М.Н.Голицы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адьбу в Ярославском кра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зовите </a:t>
            </a: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се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арабих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2" action="ppaction://hlinksldjump"/>
          </p:cNvPr>
          <p:cNvSpPr/>
          <p:nvPr/>
        </p:nvSpPr>
        <p:spPr>
          <a:xfrm>
            <a:off x="7391520" y="380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делал Некра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де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еле Аббакумце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строил шко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7391520" y="380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ыбирай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люб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о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7772400" y="914400"/>
            <a:ext cx="281160" cy="281160"/>
          </a:xfrm>
          <a:custGeom>
            <a:avLst/>
            <a:gdLst>
              <a:gd name="textAreaLeft" fmla="*/ 18000 w 281160"/>
              <a:gd name="textAreaRight" fmla="*/ 263160 w 281160"/>
              <a:gd name="textAreaTop" fmla="*/ 18000 h 281160"/>
              <a:gd name="textAreaBottom" fmla="*/ 263160 h 2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ёрный ящ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кабинете Некрасова на письменном столе стояли маленькие чугунные бюсты Пушкина и Гоголя и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что ещё лежало, изображая Белинско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Белая ма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51" name="">
            <a:hlinkClick r:id="rId2" action="ppaction://hlinksldjump"/>
          </p:cNvPr>
          <p:cNvSpPr/>
          <p:nvPr/>
        </p:nvSpPr>
        <p:spPr>
          <a:xfrm>
            <a:off x="7315200" y="304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8763120" y="64008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Фотоотчё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048120" cy="19922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019920" y="4648320"/>
            <a:ext cx="2209680" cy="16952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156" name="" descr=""/>
          <p:cNvPicPr/>
          <p:nvPr/>
        </p:nvPicPr>
        <p:blipFill>
          <a:blip r:embed="rId3"/>
          <a:srcRect l="0" t="11115" r="0" b="0"/>
          <a:stretch/>
        </p:blipFill>
        <p:spPr>
          <a:xfrm>
            <a:off x="5029200" y="1752480"/>
            <a:ext cx="3809880" cy="243864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380880" y="4295880"/>
            <a:ext cx="4343400" cy="19825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58" name=""/>
          <p:cNvSpPr/>
          <p:nvPr/>
        </p:nvSpPr>
        <p:spPr>
          <a:xfrm rot="20783400">
            <a:off x="456120" y="4351320"/>
            <a:ext cx="1066680" cy="368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р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20791800">
            <a:off x="5262840" y="1905120"/>
            <a:ext cx="109656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то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000"/>
                            </p:stCondLst>
                            <p:childTnLst>
                              <p:par>
                                <p:cTn id="2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6000"/>
                            </p:stCondLst>
                            <p:childTnLst>
                              <p:par>
                                <p:cTn id="2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тернет -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otki.yandex.ru/users/dedeelena/view/394516/?page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wiki.vladimir.i-edu.ru/images/d/db/%D0%A3%D0%BC%D0%BD%D0%B0%D1%8F_%D1%81%D0%BE%D0%B2%D0%B0.p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чебники литературы 5 класс, 6 класс под редакцией В.Я.Корови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68680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072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4191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4191120"/>
            <a:ext cx="1981080" cy="1066680"/>
          </a:xfrm>
          <a:prstGeom prst="rect">
            <a:avLst/>
          </a:prstGeom>
          <a:solidFill>
            <a:srgbClr val="0000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1981080" cy="1066680"/>
          </a:xfrm>
          <a:prstGeom prst="rect">
            <a:avLst/>
          </a:prstGeom>
          <a:solidFill>
            <a:srgbClr val="0000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90920" y="1600200"/>
            <a:ext cx="1981080" cy="1066680"/>
          </a:xfrm>
          <a:prstGeom prst="rect">
            <a:avLst/>
          </a:prstGeom>
          <a:solidFill>
            <a:srgbClr val="0000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1600200"/>
            <a:ext cx="1981440" cy="1066680"/>
          </a:xfrm>
          <a:prstGeom prst="rect">
            <a:avLst/>
          </a:prstGeom>
          <a:solidFill>
            <a:srgbClr val="0000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600200"/>
            <a:ext cx="1981080" cy="1066680"/>
          </a:xfrm>
          <a:prstGeom prst="rect">
            <a:avLst/>
          </a:prstGeom>
          <a:solidFill>
            <a:srgbClr val="0000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2895480"/>
            <a:ext cx="1981080" cy="1067040"/>
          </a:xfrm>
          <a:prstGeom prst="rect">
            <a:avLst/>
          </a:prstGeom>
          <a:solidFill>
            <a:srgbClr val="0000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895480"/>
            <a:ext cx="1981080" cy="1067040"/>
          </a:xfrm>
          <a:prstGeom prst="rect">
            <a:avLst/>
          </a:prstGeom>
          <a:solidFill>
            <a:srgbClr val="0000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24280" y="2895480"/>
            <a:ext cx="1981440" cy="1067040"/>
          </a:xfrm>
          <a:prstGeom prst="rect">
            <a:avLst/>
          </a:prstGeom>
          <a:solidFill>
            <a:srgbClr val="0000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895480"/>
            <a:ext cx="1981080" cy="1067040"/>
          </a:xfrm>
          <a:prstGeom prst="rect">
            <a:avLst/>
          </a:prstGeom>
          <a:solidFill>
            <a:srgbClr val="0000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4191120"/>
            <a:ext cx="1981080" cy="1066680"/>
          </a:xfrm>
          <a:prstGeom prst="rect">
            <a:avLst/>
          </a:prstGeom>
          <a:solidFill>
            <a:srgbClr val="0000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24280" y="4191120"/>
            <a:ext cx="1981440" cy="1066680"/>
          </a:xfrm>
          <a:prstGeom prst="rect">
            <a:avLst/>
          </a:prstGeom>
          <a:solidFill>
            <a:srgbClr val="0000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4191120"/>
            <a:ext cx="1981080" cy="1066680"/>
          </a:xfrm>
          <a:prstGeom prst="rect">
            <a:avLst/>
          </a:prstGeom>
          <a:solidFill>
            <a:srgbClr val="0000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1676520"/>
            <a:ext cx="914400" cy="9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1676520"/>
            <a:ext cx="914400" cy="9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1676520"/>
            <a:ext cx="914400" cy="9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1676520"/>
            <a:ext cx="914400" cy="9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2971800"/>
            <a:ext cx="914400" cy="9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2971800"/>
            <a:ext cx="914400" cy="9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57800" y="2971800"/>
            <a:ext cx="914400" cy="9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2971800"/>
            <a:ext cx="914400" cy="9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24080" y="4267080"/>
            <a:ext cx="914400" cy="9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4267080"/>
            <a:ext cx="914400" cy="9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00200" y="457200"/>
            <a:ext cx="5638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? Где? Когда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">
            <a:hlinkClick r:id="rId1" action="ppaction://hlinksldjump"/>
          </p:cNvPr>
          <p:cNvSpPr/>
          <p:nvPr/>
        </p:nvSpPr>
        <p:spPr>
          <a:xfrm>
            <a:off x="914400" y="1600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3048120" y="1600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5181480" y="16002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7315200" y="1600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5257800" y="290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6" action="ppaction://hlinksldjump"/>
          </p:cNvPr>
          <p:cNvSpPr/>
          <p:nvPr/>
        </p:nvSpPr>
        <p:spPr>
          <a:xfrm>
            <a:off x="7315200" y="290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3048120" y="4191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rId8" action="ppaction://hlinksldjump"/>
          </p:cNvPr>
          <p:cNvSpPr/>
          <p:nvPr/>
        </p:nvSpPr>
        <p:spPr>
          <a:xfrm>
            <a:off x="404964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9" action="ppaction://hlinksldjump"/>
          </p:cNvPr>
          <p:cNvSpPr/>
          <p:nvPr/>
        </p:nvSpPr>
        <p:spPr>
          <a:xfrm>
            <a:off x="404964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1280" y="5562720"/>
            <a:ext cx="1981440" cy="1066680"/>
          </a:xfrm>
          <a:prstGeom prst="rect">
            <a:avLst/>
          </a:prstGeom>
          <a:solidFill>
            <a:srgbClr val="0000ff"/>
          </a:solidFill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5638680"/>
            <a:ext cx="914400" cy="9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rId10" action="ppaction://hlinksldjump"/>
          </p:cNvPr>
          <p:cNvSpPr/>
          <p:nvPr/>
        </p:nvSpPr>
        <p:spPr>
          <a:xfrm>
            <a:off x="5334120" y="4343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4267080"/>
            <a:ext cx="914400" cy="9144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rId11" action="ppaction://hlinksldjump"/>
          </p:cNvPr>
          <p:cNvSpPr/>
          <p:nvPr/>
        </p:nvSpPr>
        <p:spPr>
          <a:xfrm>
            <a:off x="5181480" y="41911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12" action="ppaction://hlinksldjump"/>
          </p:cNvPr>
          <p:cNvSpPr/>
          <p:nvPr/>
        </p:nvSpPr>
        <p:spPr>
          <a:xfrm>
            <a:off x="45720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13" action="ppaction://hlinksldjump"/>
          </p:cNvPr>
          <p:cNvSpPr/>
          <p:nvPr/>
        </p:nvSpPr>
        <p:spPr>
          <a:xfrm>
            <a:off x="7391520" y="4191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4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15" action="ppaction://hlinksldjump"/>
          </p:cNvPr>
          <p:cNvSpPr/>
          <p:nvPr/>
        </p:nvSpPr>
        <p:spPr>
          <a:xfrm>
            <a:off x="3200400" y="3059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3059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4114800"/>
            <a:ext cx="762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ец Некрасова посл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класса взял его из гимназии и отправил в Петербург, дав наказ, который он наруши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Какой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отцовский наказ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нарушил юнош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ступить на военную служб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 Дворянский по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rId2" action="ppaction://hlinksldjump"/>
          </p:cNvPr>
          <p:cNvSpPr/>
          <p:nvPr/>
        </p:nvSpPr>
        <p:spPr>
          <a:xfrm>
            <a:off x="7924680" y="838080"/>
            <a:ext cx="357480" cy="433440"/>
          </a:xfrm>
          <a:custGeom>
            <a:avLst/>
            <a:gdLst>
              <a:gd name="textAreaLeft" fmla="*/ 23040 w 357480"/>
              <a:gd name="textAreaRight" fmla="*/ 334440 w 357480"/>
              <a:gd name="textAreaTop" fmla="*/ 23040 h 433440"/>
              <a:gd name="textAreaBottom" fmla="*/ 410400 h 433440"/>
            </a:gdLst>
            <a:ahLst/>
            <a:rect l="textAreaLeft" t="textAreaTop" r="textAreaRight" b="textAreaBottom"/>
            <a:pathLst>
              <a:path w="21600" h="26185">
                <a:moveTo>
                  <a:pt x="0" y="0"/>
                </a:moveTo>
                <a:lnTo>
                  <a:pt x="21600" y="0"/>
                </a:lnTo>
                <a:lnTo>
                  <a:pt x="21600" y="26185"/>
                </a:lnTo>
                <a:lnTo>
                  <a:pt x="0" y="26185"/>
                </a:lnTo>
                <a:close/>
              </a:path>
              <a:path fill="lightenLess" w="21600" h="2618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185">
                <a:moveTo>
                  <a:pt x="21600" y="0"/>
                </a:moveTo>
                <a:lnTo>
                  <a:pt x="21600" y="26185"/>
                </a:lnTo>
                <a:lnTo>
                  <a:pt x="20200" y="24785"/>
                </a:lnTo>
                <a:lnTo>
                  <a:pt x="20200" y="1400"/>
                </a:lnTo>
                <a:close/>
              </a:path>
              <a:path fill="darkenLess" w="21600" h="26185">
                <a:moveTo>
                  <a:pt x="21600" y="26185"/>
                </a:moveTo>
                <a:lnTo>
                  <a:pt x="0" y="26185"/>
                </a:lnTo>
                <a:lnTo>
                  <a:pt x="1400" y="24785"/>
                </a:lnTo>
                <a:lnTo>
                  <a:pt x="20200" y="24785"/>
                </a:lnTo>
                <a:close/>
              </a:path>
              <a:path fill="lighten" w="21600" h="26185">
                <a:moveTo>
                  <a:pt x="0" y="26185"/>
                </a:moveTo>
                <a:lnTo>
                  <a:pt x="0" y="0"/>
                </a:lnTo>
                <a:lnTo>
                  <a:pt x="1400" y="1400"/>
                </a:lnTo>
                <a:lnTo>
                  <a:pt x="1400" y="2478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боты о заработке позволяли учиться только урывками, и Некрасов жалел об этом всю жизнь. О какой своей мечте, так и не исполнившейся, вспомнит через много лет поэт, обращаясь к деревенскому подрост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«Не без добрых душ на свете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то-нибудь свезёт в Моск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Будешь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??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он свершится наяву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 университе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7848720" y="838080"/>
            <a:ext cx="509400" cy="433440"/>
          </a:xfrm>
          <a:custGeom>
            <a:avLst/>
            <a:gdLst>
              <a:gd name="textAreaLeft" fmla="*/ 28080 w 509400"/>
              <a:gd name="textAreaRight" fmla="*/ 481320 w 5094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382" h="21600">
                <a:moveTo>
                  <a:pt x="0" y="0"/>
                </a:moveTo>
                <a:lnTo>
                  <a:pt x="25382" y="0"/>
                </a:lnTo>
                <a:lnTo>
                  <a:pt x="25382" y="21600"/>
                </a:lnTo>
                <a:lnTo>
                  <a:pt x="0" y="21600"/>
                </a:lnTo>
                <a:close/>
              </a:path>
              <a:path fill="lightenLess" w="25382" h="21600">
                <a:moveTo>
                  <a:pt x="0" y="0"/>
                </a:moveTo>
                <a:lnTo>
                  <a:pt x="25382" y="0"/>
                </a:lnTo>
                <a:lnTo>
                  <a:pt x="23982" y="1400"/>
                </a:lnTo>
                <a:lnTo>
                  <a:pt x="1400" y="1400"/>
                </a:lnTo>
                <a:close/>
              </a:path>
              <a:path fill="darken" w="25382" h="21600">
                <a:moveTo>
                  <a:pt x="25382" y="0"/>
                </a:moveTo>
                <a:lnTo>
                  <a:pt x="25382" y="21600"/>
                </a:lnTo>
                <a:lnTo>
                  <a:pt x="23982" y="20200"/>
                </a:lnTo>
                <a:lnTo>
                  <a:pt x="23982" y="1400"/>
                </a:lnTo>
                <a:close/>
              </a:path>
              <a:path fill="darkenLess" w="25382" h="21600">
                <a:moveTo>
                  <a:pt x="25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82" y="20200"/>
                </a:lnTo>
                <a:close/>
              </a:path>
              <a:path fill="lighten" w="25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БЛИ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звали Мужичка, который лошадку вёл под узд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ольших сапогах, в полушубке овчинн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больших рукавицах, а сам с ногот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колько ему ле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то везла лошад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ласом, 6 миновал, хворосту во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7848720" y="83808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 образом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ко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вяза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Некрасова лучшие воспоминания о детст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 образом своей мат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7543800" y="762120"/>
            <a:ext cx="662040" cy="738000"/>
          </a:xfrm>
          <a:custGeom>
            <a:avLst/>
            <a:gdLst>
              <a:gd name="textAreaLeft" fmla="*/ 42840 w 662040"/>
              <a:gd name="textAreaRight" fmla="*/ 619200 w 662040"/>
              <a:gd name="textAreaTop" fmla="*/ 42840 h 738000"/>
              <a:gd name="textAreaBottom" fmla="*/ 695160 h 738000"/>
            </a:gdLst>
            <a:ahLst/>
            <a:rect l="textAreaLeft" t="textAreaTop" r="textAreaRight" b="textAreaBottom"/>
            <a:pathLst>
              <a:path w="21600" h="24077">
                <a:moveTo>
                  <a:pt x="0" y="0"/>
                </a:moveTo>
                <a:lnTo>
                  <a:pt x="21600" y="0"/>
                </a:lnTo>
                <a:lnTo>
                  <a:pt x="21600" y="24077"/>
                </a:lnTo>
                <a:lnTo>
                  <a:pt x="0" y="24077"/>
                </a:lnTo>
                <a:close/>
              </a:path>
              <a:path fill="lightenLess" w="21600" h="240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77">
                <a:moveTo>
                  <a:pt x="21600" y="0"/>
                </a:moveTo>
                <a:lnTo>
                  <a:pt x="21600" y="24077"/>
                </a:lnTo>
                <a:lnTo>
                  <a:pt x="20200" y="22677"/>
                </a:lnTo>
                <a:lnTo>
                  <a:pt x="20200" y="1400"/>
                </a:lnTo>
                <a:close/>
              </a:path>
              <a:path fill="darkenLess" w="21600" h="24077">
                <a:moveTo>
                  <a:pt x="21600" y="24077"/>
                </a:moveTo>
                <a:lnTo>
                  <a:pt x="0" y="24077"/>
                </a:lnTo>
                <a:lnTo>
                  <a:pt x="1400" y="22677"/>
                </a:lnTo>
                <a:lnTo>
                  <a:pt x="20200" y="22677"/>
                </a:lnTo>
                <a:close/>
              </a:path>
              <a:path fill="lighten" w="21600" h="24077">
                <a:moveTo>
                  <a:pt x="0" y="240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7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 поэма рассказывает о трудностях и тяжестях, горестях и радостях трудовой и дружной крестьянской семьи. Величавость, выносливость, терпение, трудолюбие – вот черты крестьянки, которую прославляет поэ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Как называется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эта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поэм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«Мороз, Красный нос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7772400" y="838080"/>
            <a:ext cx="585720" cy="509760"/>
          </a:xfrm>
          <a:custGeom>
            <a:avLst/>
            <a:gdLst>
              <a:gd name="textAreaLeft" fmla="*/ 32760 w 585720"/>
              <a:gd name="textAreaRight" fmla="*/ 552960 w 585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24816" h="21600">
                <a:moveTo>
                  <a:pt x="0" y="0"/>
                </a:moveTo>
                <a:lnTo>
                  <a:pt x="24816" y="0"/>
                </a:lnTo>
                <a:lnTo>
                  <a:pt x="24816" y="21600"/>
                </a:lnTo>
                <a:lnTo>
                  <a:pt x="0" y="21600"/>
                </a:lnTo>
                <a:close/>
              </a:path>
              <a:path fill="lightenLess" w="24816" h="21600">
                <a:moveTo>
                  <a:pt x="0" y="0"/>
                </a:moveTo>
                <a:lnTo>
                  <a:pt x="24816" y="0"/>
                </a:lnTo>
                <a:lnTo>
                  <a:pt x="23416" y="1400"/>
                </a:lnTo>
                <a:lnTo>
                  <a:pt x="1400" y="1400"/>
                </a:lnTo>
                <a:close/>
              </a:path>
              <a:path fill="darken" w="24816" h="21600">
                <a:moveTo>
                  <a:pt x="24816" y="0"/>
                </a:moveTo>
                <a:lnTo>
                  <a:pt x="24816" y="21600"/>
                </a:lnTo>
                <a:lnTo>
                  <a:pt x="23416" y="20200"/>
                </a:lnTo>
                <a:lnTo>
                  <a:pt x="23416" y="1400"/>
                </a:lnTo>
                <a:close/>
              </a:path>
              <a:path fill="darkenLess" w="24816" h="21600">
                <a:moveTo>
                  <a:pt x="24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16" y="20200"/>
                </a:lnTo>
                <a:close/>
              </a:path>
              <a:path fill="lighten" w="24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50000">
              <a:srgbClr val="ccecff"/>
            </a:gs>
            <a:gs pos="100000">
              <a:srgbClr val="fefe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огда Некрасов прочитал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ем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воё стихотворение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«В дороге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 судьбе крестьянской женщин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от сказа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Да знаете ли вы, что вы поэт – и поэт истинный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зовите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фамилию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кому Некрасов прочитал стихотворени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.Г. Бе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62920" y="7632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7315200" y="380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8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8"/>
                </a:lnTo>
                <a:lnTo>
                  <a:pt x="20200" y="20208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1-12-31T20:55:21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