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EDE6-8864-483D-932D-E6F7E323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68A4-3B95-48E9-A661-081540AF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1DB9-0EF4-4417-90DC-C6554B73F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DF11-1BFC-4EF0-831D-44306AE8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5D89-75D0-4268-A35C-5E795483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8195-3C1B-413A-A11C-C4A2904A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1C5B-60F3-4D4A-A97D-62316459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12A0-409B-4EDD-A887-97E8C153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A08D-CF1F-4895-BE86-DC7D3E80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367A-7021-42B3-8E4A-C0CC1DF4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AC17-3DBF-493F-9860-DBF71EDB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31A4-EB39-4968-A42B-C6BC1191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5404-FD4D-424F-A458-FBAD0A0E46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7772400" cy="22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лассный час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«Вредные привычки и как бороться с плохими привычками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Зависимости: телевизионная, интернет, игров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684360" y="1916280"/>
            <a:ext cx="2361960" cy="1933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5867280" y="1765440"/>
            <a:ext cx="2376720" cy="2023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4"/>
          <a:stretch/>
        </p:blipFill>
        <p:spPr>
          <a:xfrm>
            <a:off x="1865160" y="4238640"/>
            <a:ext cx="2500560" cy="2039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5"/>
          <a:stretch/>
        </p:blipFill>
        <p:spPr>
          <a:xfrm>
            <a:off x="5003640" y="4214880"/>
            <a:ext cx="252108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600120" y="404640"/>
            <a:ext cx="3108240" cy="216072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1078560" y="271764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верно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нехочуха"/>
          <p:cNvPicPr/>
          <p:nvPr/>
        </p:nvPicPr>
        <p:blipFill>
          <a:blip r:embed="rId3"/>
          <a:stretch/>
        </p:blipFill>
        <p:spPr>
          <a:xfrm>
            <a:off x="4859280" y="415800"/>
            <a:ext cx="2865600" cy="2149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02_nehochuha_nevsedoma"/>
          <p:cNvPicPr/>
          <p:nvPr/>
        </p:nvPicPr>
        <p:blipFill>
          <a:blip r:embed="rId4"/>
          <a:stretch/>
        </p:blipFill>
        <p:spPr>
          <a:xfrm>
            <a:off x="611280" y="3187800"/>
            <a:ext cx="3097080" cy="237636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1061640" y="573264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ряшл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5949360" y="2717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5"/>
          <a:stretch/>
        </p:blipFill>
        <p:spPr>
          <a:xfrm>
            <a:off x="4859280" y="3284640"/>
            <a:ext cx="2903760" cy="23256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4820040" y="5805360"/>
            <a:ext cx="30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ызть карандаш или руч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95280" y="62064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Самое главное —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найти причины этой привыч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3419640" y="371628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Отучать себ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мотивировать себ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амому самоорганизовать себ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мотивировать других организовать вас (найти себе «пастуха»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Отучать други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ибо отучить его вообще, чтобы он так не делал нигде и никогда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бы он что-то не делал рядом с ва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и этом одно дело - отучать посторонних людей, другое - близких, при этом отучать своих детей - другое, нежели отучать своих родител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6423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.033 0.027 0.06 0.06 0.06 C 0.099 0.06 0.113 0.03 0.119 0.012 L 0.125 -0.012 C 0.131 -0.03 0.146 -0.06 0.19 -0.06 C 0.218 -0.06 0.25 -0.033 0.25 0 C 0.25 0.033 0.218 0.06 0.19 0.06 C 0.146 0.06 0.131 0.03 0.125 0.012 L 0.119 -0.012 C 0.113 -0.03 0.099 -0.06 0.06 -0.06 C 0.027 -0.06 0 -0.033 0 0 Z">
                                      <p:cBhvr>
                                        <p:cTn id="29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хема ЗДОРОВ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1" descr=""/>
          <p:cNvPicPr/>
          <p:nvPr/>
        </p:nvPicPr>
        <p:blipFill>
          <a:blip r:embed="rId2"/>
          <a:stretch/>
        </p:blipFill>
        <p:spPr>
          <a:xfrm>
            <a:off x="1835280" y="1773360"/>
            <a:ext cx="53355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571680" y="178596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Привычк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действие, которое возникло постепенно, в результате повторен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 теперь выполняется само, без моей во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28760" y="42840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Хорошие привыч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4200" y="1500120"/>
            <a:ext cx="42832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чистить зубы два раза в день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елать зарядку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егать/гулять по утрам или вечерам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ыть посуду сразу после е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бирать вещи на место сразу после их использования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аправлять постель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ержать чистым письменный ст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2"/>
          <a:stretch/>
        </p:blipFill>
        <p:spPr>
          <a:xfrm>
            <a:off x="4572000" y="289080"/>
            <a:ext cx="2041560" cy="1339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10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3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4" descr=""/>
          <p:cNvPicPr/>
          <p:nvPr/>
        </p:nvPicPr>
        <p:blipFill>
          <a:blip r:embed="rId3"/>
          <a:stretch/>
        </p:blipFill>
        <p:spPr>
          <a:xfrm>
            <a:off x="4699080" y="2897280"/>
            <a:ext cx="1790640" cy="2552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"/>
          <p:cNvPicPr/>
          <p:nvPr/>
        </p:nvPicPr>
        <p:blipFill>
          <a:blip r:embed="rId4"/>
          <a:stretch/>
        </p:blipFill>
        <p:spPr>
          <a:xfrm>
            <a:off x="6642000" y="1628640"/>
            <a:ext cx="2008440" cy="1481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5"/>
          <a:stretch/>
        </p:blipFill>
        <p:spPr>
          <a:xfrm>
            <a:off x="6762600" y="4843440"/>
            <a:ext cx="17668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Режим д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1979640" y="1557360"/>
            <a:ext cx="511344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50920" y="1125000"/>
            <a:ext cx="40399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рком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лкоголиз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выряние в нос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ызть ног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ызть карандаш или руч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ыкать зуб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лёвывать на п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выряние в уш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Щелкать пальцами ру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ряшливость и ле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редные привыч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2"/>
          <a:stretch/>
        </p:blipFill>
        <p:spPr>
          <a:xfrm>
            <a:off x="4581360" y="257040"/>
            <a:ext cx="1862280" cy="1673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3"/>
          <a:stretch/>
        </p:blipFill>
        <p:spPr>
          <a:xfrm>
            <a:off x="4784760" y="2492280"/>
            <a:ext cx="1731960" cy="1731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4"/>
          <a:stretch/>
        </p:blipFill>
        <p:spPr>
          <a:xfrm>
            <a:off x="6556320" y="3789360"/>
            <a:ext cx="2009880" cy="150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5"/>
          <a:srcRect l="32672" t="27450" r="30250" b="32593"/>
          <a:stretch/>
        </p:blipFill>
        <p:spPr>
          <a:xfrm>
            <a:off x="6515280" y="1119240"/>
            <a:ext cx="2089080" cy="1685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6"/>
          <a:stretch/>
        </p:blipFill>
        <p:spPr>
          <a:xfrm>
            <a:off x="4484520" y="4886280"/>
            <a:ext cx="208620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333360"/>
            <a:ext cx="822960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Вредные привыч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се те привычки, которые ограничивают человека и работают против его личной эффективности, успешности, благополучия и здоровь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2556000" y="3357720"/>
            <a:ext cx="4132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Алкоголиз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23640" y="1253880"/>
            <a:ext cx="8280360" cy="195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лкоголизация в 76 % случаев начинается до 20 лет, в том числе в 49 % ещё в подростковом возрас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179280" y="3429000"/>
            <a:ext cx="2808360" cy="3181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3"/>
          <a:stretch/>
        </p:blipFill>
        <p:spPr>
          <a:xfrm>
            <a:off x="5796000" y="3459240"/>
            <a:ext cx="300672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Кур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00200" y="249228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икотин – один из самых опасных ядов растительного происхож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34920" y="31680"/>
            <a:ext cx="2075040" cy="1812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3"/>
          <a:stretch/>
        </p:blipFill>
        <p:spPr>
          <a:xfrm>
            <a:off x="5757840" y="4508640"/>
            <a:ext cx="3171960" cy="21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Наркомания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826920" y="1625760"/>
            <a:ext cx="3097440" cy="4643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5160960" y="2494080"/>
            <a:ext cx="312912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8T15:02:50Z</dcterms:created>
  <dc:creator>Puh</dc:creator>
  <dc:description/>
  <dc:language>en-US</dc:language>
  <cp:lastModifiedBy>User</cp:lastModifiedBy>
  <dcterms:modified xsi:type="dcterms:W3CDTF">2013-02-23T16:57:56Z</dcterms:modified>
  <cp:revision>17</cp:revision>
  <dc:subject/>
  <dc:title>Как бороться с плохими привычками?</dc:title>
</cp:coreProperties>
</file>