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BC0-95B0-4753-AB3F-2777C47B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903-1D79-485D-882E-878EC66D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DA6-5438-435E-BE2C-3D8B226A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841-F653-4FEA-9902-D5B1AD02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952-A379-4E4C-8491-F7763D50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D0D-C499-4E85-9C65-46CF20D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AC1-7122-49D5-989C-3F05DBA6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E07-019B-468B-BC67-0CAB93F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085-4143-4B76-BF67-73F5D7D4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0CB-455A-461F-BDF1-3F283C1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267-0998-4D19-9F1E-276A920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C2B-1F23-437A-B7D8-0F88030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D61-450F-46B6-A1FA-2346C0794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22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Алгоритм решения простых зада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3643200"/>
            <a:ext cx="4071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Шнайдер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Надежда Михайло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МБОУ «Балайская СОШ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Уярского райо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расноярского кра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хема 7" descr=""/>
          <p:cNvPicPr/>
          <p:nvPr/>
        </p:nvPicPr>
        <p:blipFill>
          <a:blip r:embed="rId1"/>
          <a:stretch/>
        </p:blipFill>
        <p:spPr>
          <a:xfrm>
            <a:off x="542880" y="3565440"/>
            <a:ext cx="408456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Работа в групп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714240" y="1571760"/>
            <a:ext cx="1363320" cy="1642680"/>
            <a:chOff x="714240" y="1571760"/>
            <a:chExt cx="1363320" cy="1642680"/>
          </a:xfrm>
        </p:grpSpPr>
        <p:sp>
          <p:nvSpPr>
            <p:cNvPr id="90" name="Oval 3"/>
            <p:cNvSpPr/>
            <p:nvPr/>
          </p:nvSpPr>
          <p:spPr>
            <a:xfrm>
              <a:off x="839160" y="1571760"/>
              <a:ext cx="990360" cy="72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714240" y="2300400"/>
              <a:ext cx="1363320" cy="914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"/>
          <p:cNvGrpSpPr/>
          <p:nvPr/>
        </p:nvGrpSpPr>
        <p:grpSpPr>
          <a:xfrm>
            <a:off x="7143840" y="1571760"/>
            <a:ext cx="1363320" cy="1642680"/>
            <a:chOff x="7143840" y="1571760"/>
            <a:chExt cx="1363320" cy="1642680"/>
          </a:xfrm>
        </p:grpSpPr>
        <p:sp>
          <p:nvSpPr>
            <p:cNvPr id="93" name="Oval 3"/>
            <p:cNvSpPr/>
            <p:nvPr/>
          </p:nvSpPr>
          <p:spPr>
            <a:xfrm>
              <a:off x="7268760" y="1571760"/>
              <a:ext cx="990360" cy="72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7143840" y="2300400"/>
              <a:ext cx="1363320" cy="914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"/>
          <p:cNvGrpSpPr/>
          <p:nvPr/>
        </p:nvGrpSpPr>
        <p:grpSpPr>
          <a:xfrm>
            <a:off x="714240" y="4357800"/>
            <a:ext cx="1363320" cy="1642680"/>
            <a:chOff x="714240" y="4357800"/>
            <a:chExt cx="1363320" cy="1642680"/>
          </a:xfrm>
        </p:grpSpPr>
        <p:sp>
          <p:nvSpPr>
            <p:cNvPr id="96" name="Oval 3"/>
            <p:cNvSpPr/>
            <p:nvPr/>
          </p:nvSpPr>
          <p:spPr>
            <a:xfrm>
              <a:off x="839160" y="4357800"/>
              <a:ext cx="990360" cy="72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714240" y="5086440"/>
              <a:ext cx="1363320" cy="914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"/>
          <p:cNvGrpSpPr/>
          <p:nvPr/>
        </p:nvGrpSpPr>
        <p:grpSpPr>
          <a:xfrm>
            <a:off x="7286760" y="4429080"/>
            <a:ext cx="1363320" cy="1642680"/>
            <a:chOff x="7286760" y="4429080"/>
            <a:chExt cx="1363320" cy="1642680"/>
          </a:xfrm>
        </p:grpSpPr>
        <p:sp>
          <p:nvSpPr>
            <p:cNvPr id="99" name="Oval 3"/>
            <p:cNvSpPr/>
            <p:nvPr/>
          </p:nvSpPr>
          <p:spPr>
            <a:xfrm>
              <a:off x="7411680" y="4429080"/>
              <a:ext cx="990360" cy="72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"/>
            <p:cNvSpPr/>
            <p:nvPr/>
          </p:nvSpPr>
          <p:spPr>
            <a:xfrm>
              <a:off x="7286760" y="5157720"/>
              <a:ext cx="1363320" cy="914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Стрелка влево 15"/>
          <p:cNvSpPr/>
          <p:nvPr/>
        </p:nvSpPr>
        <p:spPr>
          <a:xfrm rot="19464000">
            <a:off x="6040440" y="2706480"/>
            <a:ext cx="1071720" cy="4284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лево 16"/>
          <p:cNvSpPr/>
          <p:nvPr/>
        </p:nvSpPr>
        <p:spPr>
          <a:xfrm rot="1917600">
            <a:off x="6099120" y="5052960"/>
            <a:ext cx="1133640" cy="42876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17"/>
          <p:cNvSpPr/>
          <p:nvPr/>
        </p:nvSpPr>
        <p:spPr>
          <a:xfrm rot="1896600">
            <a:off x="2201760" y="2617560"/>
            <a:ext cx="1173240" cy="4284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8"/>
          <p:cNvSpPr/>
          <p:nvPr/>
        </p:nvSpPr>
        <p:spPr>
          <a:xfrm rot="19428000">
            <a:off x="2226960" y="5090760"/>
            <a:ext cx="1174680" cy="4287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9"/>
          <p:cNvSpPr/>
          <p:nvPr/>
        </p:nvSpPr>
        <p:spPr>
          <a:xfrm>
            <a:off x="3857760" y="3071880"/>
            <a:ext cx="171432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стрица Алёнушка сняла с яблоньки 37 жёлтых и 58 красных яблок.  Сколько всего яблок сорвала сестрица Алёнушка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2003400" cy="2229120"/>
          </a:xfrm>
          <a:prstGeom prst="rect">
            <a:avLst/>
          </a:prstGeom>
          <a:ln w="0">
            <a:noFill/>
          </a:ln>
        </p:spPr>
      </p:pic>
      <p:sp>
        <p:nvSpPr>
          <p:cNvPr id="108" name="Минус 7"/>
          <p:cNvSpPr/>
          <p:nvPr/>
        </p:nvSpPr>
        <p:spPr>
          <a:xfrm>
            <a:off x="857160" y="4214880"/>
            <a:ext cx="7358040" cy="214200"/>
          </a:xfrm>
          <a:custGeom>
            <a:avLst/>
            <a:gdLst>
              <a:gd name="textAreaLeft" fmla="*/ 975240 w 7358040"/>
              <a:gd name="textAreaRight" fmla="*/ 6382800 w 7358040"/>
              <a:gd name="textAreaTop" fmla="*/ 81720 h 214200"/>
              <a:gd name="textAreaBottom" fmla="*/ 132480 h 214200"/>
            </a:gdLst>
            <a:ahLst/>
            <a:rect l="textAreaLeft" t="textAreaTop" r="textAreaRight" b="textAreaBottom"/>
            <a:pathLst>
              <a:path w="7358063" h="214312">
                <a:moveTo>
                  <a:pt x="975311" y="81953"/>
                </a:moveTo>
                <a:lnTo>
                  <a:pt x="6382752" y="81953"/>
                </a:lnTo>
                <a:lnTo>
                  <a:pt x="6382752" y="132359"/>
                </a:lnTo>
                <a:lnTo>
                  <a:pt x="975311" y="13235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уга 8"/>
          <p:cNvSpPr/>
          <p:nvPr/>
        </p:nvSpPr>
        <p:spPr>
          <a:xfrm rot="19679400">
            <a:off x="1643040" y="3613320"/>
            <a:ext cx="2714760" cy="2666880"/>
          </a:xfrm>
          <a:custGeom>
            <a:avLst/>
            <a:gdLst>
              <a:gd name="textAreaLeft" fmla="*/ 701640 w 2714760"/>
              <a:gd name="textAreaRight" fmla="*/ 2715120 w 2714760"/>
              <a:gd name="textAreaTop" fmla="*/ 0 h 2666880"/>
              <a:gd name="textAreaBottom" fmla="*/ 1333440 h 2666880"/>
            </a:gdLst>
            <a:ahLst/>
            <a:rect l="textAreaLeft" t="textAreaTop" r="textAreaRight" b="textAreaBottom"/>
            <a:pathLst>
              <a:path stroke="0" w="2714625" h="2667000">
                <a:moveTo>
                  <a:pt x="701642" y="165908"/>
                </a:moveTo>
                <a:lnTo>
                  <a:pt x="701642" y="165908"/>
                </a:lnTo>
                <a:arcTo wR="1357313" hR="1333500" stAng="-7159003" swAng="7159010"/>
                <a:lnTo>
                  <a:pt x="1357313" y="1333500"/>
                </a:lnTo>
                <a:close/>
              </a:path>
              <a:path fill="none" w="2714625" h="2667000">
                <a:moveTo>
                  <a:pt x="701642" y="165908"/>
                </a:moveTo>
                <a:lnTo>
                  <a:pt x="701642" y="165908"/>
                </a:lnTo>
                <a:arcTo wR="1357313" hR="1333500" stAng="-7159003" swAng="715901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Дуга 9"/>
          <p:cNvSpPr/>
          <p:nvPr/>
        </p:nvSpPr>
        <p:spPr>
          <a:xfrm rot="18886800">
            <a:off x="3735720" y="3504240"/>
            <a:ext cx="4100400" cy="4384440"/>
          </a:xfrm>
          <a:custGeom>
            <a:avLst/>
            <a:gdLst>
              <a:gd name="textAreaLeft" fmla="*/ 2050200 w 4100400"/>
              <a:gd name="textAreaRight" fmla="*/ 4100760 w 4100400"/>
              <a:gd name="textAreaTop" fmla="*/ 0 h 4384440"/>
              <a:gd name="textAreaBottom" fmla="*/ 2192400 h 4384440"/>
            </a:gdLst>
            <a:ahLst/>
            <a:rect l="textAreaLeft" t="textAreaTop" r="textAreaRight" b="textAreaBottom"/>
            <a:pathLst>
              <a:path stroke="0" w="4100512" h="4384675">
                <a:moveTo>
                  <a:pt x="2050259" y="0"/>
                </a:moveTo>
                <a:lnTo>
                  <a:pt x="2050259" y="0"/>
                </a:lnTo>
                <a:arcTo wR="2050256" hR="2192338" stAng="-5399995" swAng="5400004"/>
                <a:lnTo>
                  <a:pt x="2050256" y="2192338"/>
                </a:lnTo>
                <a:close/>
              </a:path>
              <a:path fill="none" w="4100512" h="4384675">
                <a:moveTo>
                  <a:pt x="2050259" y="0"/>
                </a:moveTo>
                <a:lnTo>
                  <a:pt x="2050259" y="0"/>
                </a:lnTo>
                <a:arcTo wR="2050256" hR="2192338" stAng="-5399995" swAng="540000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Дуга 10"/>
          <p:cNvSpPr/>
          <p:nvPr/>
        </p:nvSpPr>
        <p:spPr>
          <a:xfrm rot="7863600">
            <a:off x="4099680" y="5117760"/>
            <a:ext cx="1884600" cy="3459240"/>
          </a:xfrm>
          <a:custGeom>
            <a:avLst/>
            <a:gdLst>
              <a:gd name="textAreaLeft" fmla="*/ 942480 w 1884600"/>
              <a:gd name="textAreaRight" fmla="*/ 1884960 w 1884600"/>
              <a:gd name="textAreaTop" fmla="*/ 0 h 3459240"/>
              <a:gd name="textAreaBottom" fmla="*/ 1729800 h 3459240"/>
            </a:gdLst>
            <a:ahLst/>
            <a:rect l="textAreaLeft" t="textAreaTop" r="textAreaRight" b="textAreaBottom"/>
            <a:pathLst>
              <a:path stroke="0" w="1884363" h="3459162">
                <a:moveTo>
                  <a:pt x="942184" y="0"/>
                </a:moveTo>
                <a:lnTo>
                  <a:pt x="942184" y="0"/>
                </a:lnTo>
                <a:arcTo wR="942182" hR="1729581" stAng="-5399996" swAng="5400003"/>
                <a:lnTo>
                  <a:pt x="942182" y="1729581"/>
                </a:lnTo>
                <a:close/>
              </a:path>
              <a:path fill="none" w="1884363" h="3459162">
                <a:moveTo>
                  <a:pt x="942184" y="0"/>
                </a:moveTo>
                <a:lnTo>
                  <a:pt x="942184" y="0"/>
                </a:lnTo>
                <a:arcTo wR="942182" hR="1729581" stAng="-5399996" swAng="5400003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Дуга 11"/>
          <p:cNvSpPr/>
          <p:nvPr/>
        </p:nvSpPr>
        <p:spPr>
          <a:xfrm rot="7776000">
            <a:off x="628560" y="-2355120"/>
            <a:ext cx="6885000" cy="8210520"/>
          </a:xfrm>
          <a:custGeom>
            <a:avLst/>
            <a:gdLst>
              <a:gd name="textAreaLeft" fmla="*/ 3442680 w 6885000"/>
              <a:gd name="textAreaRight" fmla="*/ 6885360 w 6885000"/>
              <a:gd name="textAreaTop" fmla="*/ 0 h 8210520"/>
              <a:gd name="textAreaBottom" fmla="*/ 4105440 h 8210520"/>
            </a:gdLst>
            <a:ahLst/>
            <a:rect l="textAreaLeft" t="textAreaTop" r="textAreaRight" b="textAreaBottom"/>
            <a:pathLst>
              <a:path stroke="0" w="6884988" h="8210551">
                <a:moveTo>
                  <a:pt x="3442499" y="0"/>
                </a:moveTo>
                <a:lnTo>
                  <a:pt x="3442499" y="0"/>
                </a:lnTo>
                <a:arcTo wR="3442494" hR="4105276" stAng="-5399996" swAng="5400004"/>
                <a:lnTo>
                  <a:pt x="3442494" y="4105276"/>
                </a:lnTo>
                <a:close/>
              </a:path>
              <a:path fill="none" w="6884988" h="8210551">
                <a:moveTo>
                  <a:pt x="3442499" y="0"/>
                </a:moveTo>
                <a:lnTo>
                  <a:pt x="3442499" y="0"/>
                </a:lnTo>
                <a:arcTo wR="3442494" hR="4105276" stAng="-5399996" swAng="540000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13" descr=""/>
          <p:cNvPicPr/>
          <p:nvPr/>
        </p:nvPicPr>
        <p:blipFill>
          <a:blip r:embed="rId2"/>
          <a:stretch/>
        </p:blipFill>
        <p:spPr>
          <a:xfrm>
            <a:off x="2498760" y="2901960"/>
            <a:ext cx="853920" cy="9507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4" descr=""/>
          <p:cNvPicPr/>
          <p:nvPr/>
        </p:nvPicPr>
        <p:blipFill>
          <a:blip r:embed="rId3"/>
          <a:stretch/>
        </p:blipFill>
        <p:spPr>
          <a:xfrm>
            <a:off x="5205240" y="2908440"/>
            <a:ext cx="946440" cy="9014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5" descr=""/>
          <p:cNvPicPr/>
          <p:nvPr/>
        </p:nvPicPr>
        <p:blipFill>
          <a:blip r:embed="rId4"/>
          <a:stretch/>
        </p:blipFill>
        <p:spPr>
          <a:xfrm>
            <a:off x="4133880" y="5389560"/>
            <a:ext cx="8762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2487600" y="4029120"/>
            <a:ext cx="4168800" cy="13176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2"/>
          <a:stretch/>
        </p:blipFill>
        <p:spPr>
          <a:xfrm>
            <a:off x="1517760" y="5241960"/>
            <a:ext cx="6108480" cy="131760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низ 8"/>
          <p:cNvSpPr/>
          <p:nvPr/>
        </p:nvSpPr>
        <p:spPr>
          <a:xfrm>
            <a:off x="4357800" y="485784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6" descr=""/>
          <p:cNvPicPr/>
          <p:nvPr/>
        </p:nvPicPr>
        <p:blipFill>
          <a:blip r:embed="rId3"/>
          <a:stretch/>
        </p:blipFill>
        <p:spPr>
          <a:xfrm>
            <a:off x="1517760" y="390600"/>
            <a:ext cx="6108480" cy="130968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низ 7"/>
          <p:cNvSpPr/>
          <p:nvPr/>
        </p:nvSpPr>
        <p:spPr>
          <a:xfrm>
            <a:off x="4357800" y="114300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9" descr=""/>
          <p:cNvPicPr/>
          <p:nvPr/>
        </p:nvPicPr>
        <p:blipFill>
          <a:blip r:embed="rId4"/>
          <a:stretch/>
        </p:blipFill>
        <p:spPr>
          <a:xfrm>
            <a:off x="353880" y="1603440"/>
            <a:ext cx="8508960" cy="131112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низ 10"/>
          <p:cNvSpPr/>
          <p:nvPr/>
        </p:nvSpPr>
        <p:spPr>
          <a:xfrm>
            <a:off x="4357800" y="2428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11" descr=""/>
          <p:cNvPicPr/>
          <p:nvPr/>
        </p:nvPicPr>
        <p:blipFill>
          <a:blip r:embed="rId5"/>
          <a:stretch/>
        </p:blipFill>
        <p:spPr>
          <a:xfrm>
            <a:off x="1590840" y="2852640"/>
            <a:ext cx="5962320" cy="1317600"/>
          </a:xfrm>
          <a:prstGeom prst="rect">
            <a:avLst/>
          </a:prstGeom>
          <a:ln w="0">
            <a:noFill/>
          </a:ln>
        </p:spPr>
      </p:pic>
      <p:sp>
        <p:nvSpPr>
          <p:cNvPr id="124" name="Стрелка вниз 12"/>
          <p:cNvSpPr/>
          <p:nvPr/>
        </p:nvSpPr>
        <p:spPr>
          <a:xfrm>
            <a:off x="4357800" y="3571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28520" y="1143000"/>
            <a:ext cx="7000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приступке у печки лежало 16 пирожков. 7 пирожков съели сестрица Алёнушка и братец Иванушка.  Сколько пирожков остало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инус 3"/>
          <p:cNvSpPr/>
          <p:nvPr/>
        </p:nvSpPr>
        <p:spPr>
          <a:xfrm>
            <a:off x="1000080" y="4572000"/>
            <a:ext cx="6858000" cy="71280"/>
          </a:xfrm>
          <a:custGeom>
            <a:avLst/>
            <a:gdLst>
              <a:gd name="textAreaLeft" fmla="*/ 909000 w 6858000"/>
              <a:gd name="textAreaRight" fmla="*/ 5949000 w 685800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6858000" h="71438">
                <a:moveTo>
                  <a:pt x="909028" y="27318"/>
                </a:moveTo>
                <a:lnTo>
                  <a:pt x="5948972" y="27318"/>
                </a:lnTo>
                <a:lnTo>
                  <a:pt x="5948972" y="44120"/>
                </a:lnTo>
                <a:lnTo>
                  <a:pt x="909028" y="4412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уга 4"/>
          <p:cNvSpPr/>
          <p:nvPr/>
        </p:nvSpPr>
        <p:spPr>
          <a:xfrm rot="19374000">
            <a:off x="-74520" y="3808080"/>
            <a:ext cx="7920000" cy="6438960"/>
          </a:xfrm>
          <a:custGeom>
            <a:avLst/>
            <a:gdLst>
              <a:gd name="textAreaLeft" fmla="*/ 3960000 w 7920000"/>
              <a:gd name="textAreaRight" fmla="*/ 7918560 w 7920000"/>
              <a:gd name="textAreaTop" fmla="*/ 0 h 6438960"/>
              <a:gd name="textAreaBottom" fmla="*/ 3131280 h 6438960"/>
            </a:gdLst>
            <a:ahLst/>
            <a:rect l="textAreaLeft" t="textAreaTop" r="textAreaRight" b="textAreaBottom"/>
            <a:pathLst>
              <a:path stroke="0" w="7920038" h="6438900">
                <a:moveTo>
                  <a:pt x="3960023" y="0"/>
                </a:moveTo>
                <a:lnTo>
                  <a:pt x="3960023" y="0"/>
                </a:lnTo>
                <a:arcTo wR="3960019" hR="3219450" stAng="-5399996" swAng="5323396"/>
                <a:lnTo>
                  <a:pt x="3960019" y="3219450"/>
                </a:lnTo>
                <a:close/>
              </a:path>
              <a:path fill="none" w="7920038" h="6438900">
                <a:moveTo>
                  <a:pt x="3960023" y="0"/>
                </a:moveTo>
                <a:lnTo>
                  <a:pt x="3960023" y="0"/>
                </a:lnTo>
                <a:arcTo wR="3960019" hR="3219450" stAng="-5399996" swAng="532339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5" descr=""/>
          <p:cNvPicPr/>
          <p:nvPr/>
        </p:nvPicPr>
        <p:blipFill>
          <a:blip r:embed="rId1"/>
          <a:stretch/>
        </p:blipFill>
        <p:spPr>
          <a:xfrm>
            <a:off x="3565440" y="2908440"/>
            <a:ext cx="1725840" cy="901440"/>
          </a:xfrm>
          <a:prstGeom prst="rect">
            <a:avLst/>
          </a:prstGeom>
          <a:ln w="0">
            <a:noFill/>
          </a:ln>
        </p:spPr>
      </p:pic>
      <p:sp>
        <p:nvSpPr>
          <p:cNvPr id="130" name="Дуга 6"/>
          <p:cNvSpPr/>
          <p:nvPr/>
        </p:nvSpPr>
        <p:spPr>
          <a:xfrm rot="8179200">
            <a:off x="1299960" y="1328040"/>
            <a:ext cx="4114800" cy="3760920"/>
          </a:xfrm>
          <a:custGeom>
            <a:avLst/>
            <a:gdLst>
              <a:gd name="textAreaLeft" fmla="*/ 2057400 w 4114800"/>
              <a:gd name="textAreaRight" fmla="*/ 4115160 w 4114800"/>
              <a:gd name="textAreaTop" fmla="*/ 0 h 3760920"/>
              <a:gd name="textAreaBottom" fmla="*/ 1880640 h 3760920"/>
            </a:gdLst>
            <a:ahLst/>
            <a:rect l="textAreaLeft" t="textAreaTop" r="textAreaRight" b="textAreaBottom"/>
            <a:pathLst>
              <a:path stroke="0" w="4114800" h="3760787">
                <a:moveTo>
                  <a:pt x="2057402" y="0"/>
                </a:moveTo>
                <a:lnTo>
                  <a:pt x="2057402" y="0"/>
                </a:lnTo>
                <a:arcTo wR="2057400" hR="1880394" stAng="-5399996" swAng="5400005"/>
                <a:lnTo>
                  <a:pt x="2057400" y="1880394"/>
                </a:lnTo>
                <a:close/>
              </a:path>
              <a:path fill="none" w="4114800" h="3760787">
                <a:moveTo>
                  <a:pt x="2057402" y="0"/>
                </a:moveTo>
                <a:lnTo>
                  <a:pt x="2057402" y="0"/>
                </a:lnTo>
                <a:arcTo wR="2057400" hR="1880394" stAng="-5399996" swAng="540000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8" descr=""/>
          <p:cNvPicPr/>
          <p:nvPr/>
        </p:nvPicPr>
        <p:blipFill>
          <a:blip r:embed="rId2"/>
          <a:stretch/>
        </p:blipFill>
        <p:spPr>
          <a:xfrm>
            <a:off x="2852640" y="5089680"/>
            <a:ext cx="1013040" cy="804600"/>
          </a:xfrm>
          <a:prstGeom prst="rect">
            <a:avLst/>
          </a:prstGeom>
          <a:ln w="0">
            <a:noFill/>
          </a:ln>
        </p:spPr>
      </p:pic>
      <p:sp>
        <p:nvSpPr>
          <p:cNvPr id="132" name="Дуга 9"/>
          <p:cNvSpPr/>
          <p:nvPr/>
        </p:nvSpPr>
        <p:spPr>
          <a:xfrm rot="8090400">
            <a:off x="4083480" y="1747080"/>
            <a:ext cx="3476880" cy="3294000"/>
          </a:xfrm>
          <a:custGeom>
            <a:avLst/>
            <a:gdLst>
              <a:gd name="textAreaLeft" fmla="*/ 1738440 w 3476880"/>
              <a:gd name="textAreaRight" fmla="*/ 3477240 w 3476880"/>
              <a:gd name="textAreaTop" fmla="*/ 0 h 3294000"/>
              <a:gd name="textAreaBottom" fmla="*/ 1647000 h 3294000"/>
            </a:gdLst>
            <a:ahLst/>
            <a:rect l="textAreaLeft" t="textAreaTop" r="textAreaRight" b="textAreaBottom"/>
            <a:pathLst>
              <a:path stroke="0" w="3476625" h="3294063">
                <a:moveTo>
                  <a:pt x="1738314" y="0"/>
                </a:moveTo>
                <a:lnTo>
                  <a:pt x="1738314" y="0"/>
                </a:lnTo>
                <a:arcTo wR="1738313" hR="1647032" stAng="-5399996" swAng="5400004"/>
                <a:lnTo>
                  <a:pt x="1738313" y="1647032"/>
                </a:lnTo>
                <a:close/>
              </a:path>
              <a:path fill="none" w="3476625" h="3294063">
                <a:moveTo>
                  <a:pt x="1738314" y="0"/>
                </a:moveTo>
                <a:lnTo>
                  <a:pt x="1738314" y="0"/>
                </a:lnTo>
                <a:arcTo wR="1738313" hR="1647032" stAng="-5399996" swAng="540000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10" descr=""/>
          <p:cNvPicPr/>
          <p:nvPr/>
        </p:nvPicPr>
        <p:blipFill>
          <a:blip r:embed="rId3"/>
          <a:stretch/>
        </p:blipFill>
        <p:spPr>
          <a:xfrm>
            <a:off x="4853160" y="5157720"/>
            <a:ext cx="2151000" cy="90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4"/>
          <a:stretch/>
        </p:blipFill>
        <p:spPr>
          <a:xfrm>
            <a:off x="214200" y="857160"/>
            <a:ext cx="20354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00040" y="571680"/>
          <a:ext cx="8215200" cy="5429160"/>
        </p:xfrm>
        <a:graphic>
          <a:graphicData uri="http://schemas.openxmlformats.org/drawingml/2006/table">
            <a:tbl>
              <a:tblPr/>
              <a:tblGrid>
                <a:gridCol w="1027080"/>
                <a:gridCol w="5473800"/>
                <a:gridCol w="171432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nstantia"/>
                          <a:ea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nstantia"/>
                          <a:ea typeface="Arial"/>
                        </a:rPr>
                        <a:t>ум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nstantia"/>
                          <a:ea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ю делать рисунок к задач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ю делать схему к задач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ю подобрать действие для решения задач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ю работать по алгоритм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6" name="Овал 6"/>
          <p:cNvSpPr/>
          <p:nvPr/>
        </p:nvSpPr>
        <p:spPr>
          <a:xfrm>
            <a:off x="7429680" y="17146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7429680" y="28576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"/>
          <p:cNvSpPr/>
          <p:nvPr/>
        </p:nvSpPr>
        <p:spPr>
          <a:xfrm>
            <a:off x="7429680" y="392904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"/>
          <p:cNvSpPr/>
          <p:nvPr/>
        </p:nvSpPr>
        <p:spPr>
          <a:xfrm>
            <a:off x="7429680" y="50007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Что будем делать на следующем уро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8568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Работать над схемами к задача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нимать, от чего зависит выбор действия при решении задач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7020000" y="1916280"/>
            <a:ext cx="1635120" cy="4227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5 ступ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ИОУ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68360" y="5084640"/>
            <a:ext cx="1488960" cy="98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 ступ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979640" y="4365720"/>
            <a:ext cx="1562040" cy="1706400"/>
          </a:xfrm>
          <a:prstGeom prst="rect">
            <a:avLst/>
          </a:prstGeom>
          <a:solidFill>
            <a:srgbClr val="f9f9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2 ступ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564000" y="3573360"/>
            <a:ext cx="1778040" cy="249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3 ступ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64000" y="2781360"/>
            <a:ext cx="1635120" cy="3311640"/>
          </a:xfrm>
          <a:prstGeom prst="rect">
            <a:avLst/>
          </a:prstGeom>
          <a:solidFill>
            <a:srgbClr val="46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4 ступ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Мой фильм 1.wmv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nstantia"/>
              </a:rPr>
              <a:t>ЗАДАЧ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8" descr=""/>
          <p:cNvPicPr/>
          <p:nvPr/>
        </p:nvPicPr>
        <p:blipFill>
          <a:blip r:embed="rId1"/>
          <a:stretch/>
        </p:blipFill>
        <p:spPr>
          <a:xfrm>
            <a:off x="390600" y="2279520"/>
            <a:ext cx="378468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9" descr=""/>
          <p:cNvPicPr/>
          <p:nvPr/>
        </p:nvPicPr>
        <p:blipFill>
          <a:blip r:embed="rId2"/>
          <a:stretch/>
        </p:blipFill>
        <p:spPr>
          <a:xfrm>
            <a:off x="4705200" y="2146320"/>
            <a:ext cx="401796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Стрелка вправо 14"/>
          <p:cNvSpPr/>
          <p:nvPr/>
        </p:nvSpPr>
        <p:spPr>
          <a:xfrm>
            <a:off x="4071960" y="3214800"/>
            <a:ext cx="1071720" cy="28548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лево 15"/>
          <p:cNvSpPr/>
          <p:nvPr/>
        </p:nvSpPr>
        <p:spPr>
          <a:xfrm>
            <a:off x="4071960" y="2714760"/>
            <a:ext cx="979560" cy="28404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Работа в пар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3"/>
          <p:cNvSpPr/>
          <p:nvPr/>
        </p:nvSpPr>
        <p:spPr>
          <a:xfrm>
            <a:off x="1500120" y="157176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4"/>
          <p:cNvSpPr/>
          <p:nvPr/>
        </p:nvSpPr>
        <p:spPr>
          <a:xfrm>
            <a:off x="6572160" y="16430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Равнобедренный треугольник 5"/>
          <p:cNvSpPr/>
          <p:nvPr/>
        </p:nvSpPr>
        <p:spPr>
          <a:xfrm>
            <a:off x="1428840" y="2500200"/>
            <a:ext cx="1060200" cy="1500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Равнобедренный треугольник 6"/>
          <p:cNvSpPr/>
          <p:nvPr/>
        </p:nvSpPr>
        <p:spPr>
          <a:xfrm>
            <a:off x="6500880" y="2571840"/>
            <a:ext cx="1060560" cy="1500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3571920" y="4786200"/>
            <a:ext cx="171432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9"/>
          <p:cNvSpPr/>
          <p:nvPr/>
        </p:nvSpPr>
        <p:spPr>
          <a:xfrm rot="2863800">
            <a:off x="2421360" y="391716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лево 10"/>
          <p:cNvSpPr/>
          <p:nvPr/>
        </p:nvSpPr>
        <p:spPr>
          <a:xfrm rot="18739800">
            <a:off x="5211000" y="3912120"/>
            <a:ext cx="1272960" cy="35712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21420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Gungsuh"/>
              </a:rPr>
              <a:t>1. Налетело 5 гусей-лебедей, подхватили и унесли братца Ивану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Gungsuh"/>
              </a:rPr>
              <a:t>2. Печка испекла девять ржаных пирожков и девять пшеничных. Сколько всего пирожков испекла печ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Gungsuh"/>
              </a:rPr>
              <a:t>3. Сестрица Алёнушка сняла с яблоньки 37 жёлтых и 58 красных яблок. Сколько всего яблок сорвала сестрица Алёнуш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Gungsuh"/>
              </a:rPr>
              <a:t>4. На приступке у печки лежало 16 пирожков. 7 пирожков съели сестрица Алёнушка и братец Иванушка.  Сколько пирожков осталос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Gungsuh"/>
              </a:rPr>
              <a:t>5. Молочная река в кисельных берегах угостила сестрицу и братца. Алёнушка и Иванушка выпили 3 стакана молока и 4 стакана киселя. Сколько воды выпили де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80" y="4365720"/>
            <a:ext cx="2095560" cy="223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428920" y="4357800"/>
            <a:ext cx="2035080" cy="222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643280" y="4357800"/>
            <a:ext cx="2003760" cy="2228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6786720" y="4357800"/>
            <a:ext cx="20746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2487600" y="2852640"/>
            <a:ext cx="4168800" cy="13176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5" descr=""/>
          <p:cNvPicPr/>
          <p:nvPr/>
        </p:nvPicPr>
        <p:blipFill>
          <a:blip r:embed="rId2"/>
          <a:stretch/>
        </p:blipFill>
        <p:spPr>
          <a:xfrm>
            <a:off x="1517760" y="3956040"/>
            <a:ext cx="6108480" cy="131760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низ 8"/>
          <p:cNvSpPr/>
          <p:nvPr/>
        </p:nvSpPr>
        <p:spPr>
          <a:xfrm>
            <a:off x="4357800" y="3571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2487600" y="2852640"/>
            <a:ext cx="4168800" cy="13176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1517760" y="3956040"/>
            <a:ext cx="6108480" cy="1317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низ 8"/>
          <p:cNvSpPr/>
          <p:nvPr/>
        </p:nvSpPr>
        <p:spPr>
          <a:xfrm>
            <a:off x="4357800" y="3571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6" descr=""/>
          <p:cNvPicPr/>
          <p:nvPr/>
        </p:nvPicPr>
        <p:blipFill>
          <a:blip r:embed="rId3"/>
          <a:stretch/>
        </p:blipFill>
        <p:spPr>
          <a:xfrm>
            <a:off x="1517760" y="1603440"/>
            <a:ext cx="6108480" cy="1311120"/>
          </a:xfrm>
          <a:prstGeom prst="rect">
            <a:avLst/>
          </a:prstGeom>
          <a:ln w="0">
            <a:noFill/>
          </a:ln>
        </p:spPr>
      </p:pic>
      <p:sp>
        <p:nvSpPr>
          <p:cNvPr id="71" name="Стрелка вниз 7"/>
          <p:cNvSpPr/>
          <p:nvPr/>
        </p:nvSpPr>
        <p:spPr>
          <a:xfrm>
            <a:off x="4357800" y="2428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2487600" y="4029120"/>
            <a:ext cx="4168800" cy="13176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5" descr=""/>
          <p:cNvPicPr/>
          <p:nvPr/>
        </p:nvPicPr>
        <p:blipFill>
          <a:blip r:embed="rId2"/>
          <a:stretch/>
        </p:blipFill>
        <p:spPr>
          <a:xfrm>
            <a:off x="1517760" y="5241960"/>
            <a:ext cx="6108480" cy="131760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низ 8"/>
          <p:cNvSpPr/>
          <p:nvPr/>
        </p:nvSpPr>
        <p:spPr>
          <a:xfrm>
            <a:off x="4357800" y="485784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6" descr=""/>
          <p:cNvPicPr/>
          <p:nvPr/>
        </p:nvPicPr>
        <p:blipFill>
          <a:blip r:embed="rId3"/>
          <a:stretch/>
        </p:blipFill>
        <p:spPr>
          <a:xfrm>
            <a:off x="1517760" y="1243080"/>
            <a:ext cx="6108480" cy="1317600"/>
          </a:xfrm>
          <a:prstGeom prst="rect">
            <a:avLst/>
          </a:prstGeom>
          <a:ln w="0">
            <a:noFill/>
          </a:ln>
        </p:spPr>
      </p:pic>
      <p:sp>
        <p:nvSpPr>
          <p:cNvPr id="76" name="Стрелка вниз 7"/>
          <p:cNvSpPr/>
          <p:nvPr/>
        </p:nvSpPr>
        <p:spPr>
          <a:xfrm>
            <a:off x="4357800" y="214308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9" descr=""/>
          <p:cNvPicPr/>
          <p:nvPr/>
        </p:nvPicPr>
        <p:blipFill>
          <a:blip r:embed="rId4"/>
          <a:stretch/>
        </p:blipFill>
        <p:spPr>
          <a:xfrm>
            <a:off x="1517760" y="2603520"/>
            <a:ext cx="6108480" cy="130968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низ 12"/>
          <p:cNvSpPr/>
          <p:nvPr/>
        </p:nvSpPr>
        <p:spPr>
          <a:xfrm>
            <a:off x="4357800" y="3571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d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4" descr=""/>
          <p:cNvPicPr/>
          <p:nvPr/>
        </p:nvPicPr>
        <p:blipFill>
          <a:blip r:embed="rId1"/>
          <a:stretch/>
        </p:blipFill>
        <p:spPr>
          <a:xfrm>
            <a:off x="2487600" y="4029120"/>
            <a:ext cx="4168800" cy="13176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" descr=""/>
          <p:cNvPicPr/>
          <p:nvPr/>
        </p:nvPicPr>
        <p:blipFill>
          <a:blip r:embed="rId2"/>
          <a:stretch/>
        </p:blipFill>
        <p:spPr>
          <a:xfrm>
            <a:off x="1517760" y="5241960"/>
            <a:ext cx="6108480" cy="13176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8"/>
          <p:cNvSpPr/>
          <p:nvPr/>
        </p:nvSpPr>
        <p:spPr>
          <a:xfrm>
            <a:off x="4357800" y="485784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6" descr=""/>
          <p:cNvPicPr/>
          <p:nvPr/>
        </p:nvPicPr>
        <p:blipFill>
          <a:blip r:embed="rId3"/>
          <a:stretch/>
        </p:blipFill>
        <p:spPr>
          <a:xfrm>
            <a:off x="1517760" y="390600"/>
            <a:ext cx="6108480" cy="1309680"/>
          </a:xfrm>
          <a:prstGeom prst="rect">
            <a:avLst/>
          </a:prstGeom>
          <a:ln w="0">
            <a:noFill/>
          </a:ln>
        </p:spPr>
      </p:pic>
      <p:sp>
        <p:nvSpPr>
          <p:cNvPr id="83" name="Стрелка вниз 7"/>
          <p:cNvSpPr/>
          <p:nvPr/>
        </p:nvSpPr>
        <p:spPr>
          <a:xfrm>
            <a:off x="4357800" y="114300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9" descr=""/>
          <p:cNvPicPr/>
          <p:nvPr/>
        </p:nvPicPr>
        <p:blipFill>
          <a:blip r:embed="rId4"/>
          <a:stretch/>
        </p:blipFill>
        <p:spPr>
          <a:xfrm>
            <a:off x="1517760" y="1603440"/>
            <a:ext cx="6108480" cy="131112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10"/>
          <p:cNvSpPr/>
          <p:nvPr/>
        </p:nvSpPr>
        <p:spPr>
          <a:xfrm>
            <a:off x="4357800" y="2428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11" descr=""/>
          <p:cNvPicPr/>
          <p:nvPr/>
        </p:nvPicPr>
        <p:blipFill>
          <a:blip r:embed="rId5"/>
          <a:stretch/>
        </p:blipFill>
        <p:spPr>
          <a:xfrm>
            <a:off x="1590840" y="2852640"/>
            <a:ext cx="5962320" cy="13176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низ 12"/>
          <p:cNvSpPr/>
          <p:nvPr/>
        </p:nvSpPr>
        <p:spPr>
          <a:xfrm>
            <a:off x="4357800" y="3571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120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6:20:20Z</dcterms:created>
  <dc:creator>Надежда</dc:creator>
  <dc:description/>
  <dc:language>en-US</dc:language>
  <cp:lastModifiedBy>Adel</cp:lastModifiedBy>
  <dcterms:modified xsi:type="dcterms:W3CDTF">2013-04-17T07:46:28Z</dcterms:modified>
  <cp:revision>48</cp:revision>
  <dc:subject/>
  <dc:title>Решение простых и составных задач, содержащих математическое отношение «целое и части»</dc:title>
</cp:coreProperties>
</file>