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gif" ContentType="image/gif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30.png" ContentType="image/png"/>
  <Override PartName="/ppt/media/image28.gif" ContentType="image/gif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27.gif" ContentType="image/gif"/>
  <Override PartName="/ppt/media/image12.jpeg" ContentType="image/jpeg"/>
  <Override PartName="/ppt/media/image13.jpeg" ContentType="image/jpeg"/>
  <Override PartName="/ppt/media/image3.png" ContentType="image/png"/>
  <Override PartName="/ppt/media/image1.png" ContentType="image/png"/>
  <Override PartName="/ppt/media/image22.gif" ContentType="image/gif"/>
  <Override PartName="/ppt/media/image15.png" ContentType="image/png"/>
  <Override PartName="/ppt/media/image23.gif" ContentType="image/gif"/>
  <Override PartName="/ppt/media/image16.png" ContentType="image/png"/>
  <Override PartName="/ppt/media/image2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7.png" ContentType="image/png"/>
  <Override PartName="/ppt/media/image24.gif" ContentType="image/gif"/>
  <Override PartName="/ppt/media/image19.png" ContentType="image/png"/>
  <Override PartName="/ppt/media/image2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2271-C8FF-426D-97BB-18485E287A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BF0A-4E55-4C8B-9FF5-BAB5DF631F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DC1A-C44D-452B-80E7-9454BD0E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729-02B3-466B-8B75-7AC409D7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BA9-E6CB-4F56-8E13-DDC8536B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5989-ED31-47FA-B21F-CF5BAC2D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B6D8-D19A-4BAA-8D7F-8730CE17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7642-40B3-4A87-9743-0178F627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D3B4-F737-448F-A26B-84C95C50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92AE-0F2C-437A-8B49-4C0186C9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C877-2BA4-42EF-8274-381054F2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18CB-7178-4697-96D7-B273285E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0995-674A-4E3F-BCE7-2171688D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5868-6C51-4E6B-A3CD-249B79FE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A46D-5E60-483F-BF2A-28A5F519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6AC1-6EFF-4784-ACEC-CE43B5FD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009F-1076-4D02-8A6A-948AB7DD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520C-00BA-4584-B95D-370334D6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C4DB-8892-49E4-A048-BA3240C4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4CB-98B5-40F6-BB02-924B0D9D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CDB-9D30-4B95-A911-32BEDE12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CC5-57F7-4EBA-8FE2-B41A8812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4B9B-5594-4A13-9F73-C5B358E4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69F-148D-49B7-A777-1FD55D68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ACD9-5D08-41F2-828F-4842E026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7E6-C9EB-4DD4-B4FC-CDFFFB81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9B7C-4A87-4691-AC70-E086D1FAF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8AEC-DB40-4594-8104-E1F00C542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30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ubtitle 2"/>
          <p:cNvSpPr/>
          <p:nvPr/>
        </p:nvSpPr>
        <p:spPr>
          <a:xfrm>
            <a:off x="2484360" y="3933720"/>
            <a:ext cx="4248360" cy="2143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Шикова О. Н., 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Максимова А. И., 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МБОУ «Средняя общеобразовательная  школа №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с углубленным изучением отдельных предметов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Зюлина Л.В., 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МАОУ «Прогимназия № 64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Г.Набережные Чел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5280" y="1214280"/>
            <a:ext cx="518472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0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Как ты воспринимаешь окружающий м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Заголовок 4"/>
          <p:cNvSpPr/>
          <p:nvPr/>
        </p:nvSpPr>
        <p:spPr>
          <a:xfrm>
            <a:off x="468360" y="0"/>
            <a:ext cx="77882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Урок окружающего мира в 1 классе по программе «Планета зна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18352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БЕРЕГАЙТЕ ГЛАЗА ОТ ЗАБОЛЕВАНИЙ И ПОВРЕЖД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151840" cy="3786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1)Не трите глаза руками, носовым платк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2)Вытирайте лицо только чистым полотенц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3)Осторожно обращайтесь с перьями, ножичками и другими острыми предмет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4)Не играйте в опасные для глаз иг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5)Если глаза засорились или заболели, немедленно обращайтесь к врачу или медицинской сест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2160" y="162828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ВОТ ГОРА, А У ГОРЫ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ДВЕ ГЛУБОКИЕ НОРЫ.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В ЭТИХ НОРАХ ВОЗДУХ БРОДИТ,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ТО ЗАХОДИТ, ТО ВЫХОДИТ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.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4240" y="571680"/>
            <a:ext cx="7772400" cy="10569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Calibri"/>
              </a:rPr>
              <a:t>Загадк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5596560" y="4005360"/>
            <a:ext cx="168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НО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3645000"/>
            <a:ext cx="806436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- КАК ВЫ ОПРЕДЕЛИЛИ, ВЕДЬ ВЫ ИХ НЕ   ВИДЕЛИ?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- КАКИМ ОРГАНОМ МЫ ЧУВСТВУЕМ ЗАПАХИ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?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2160" y="260280"/>
            <a:ext cx="7772400" cy="7207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781920" y="1052640"/>
            <a:ext cx="79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Нужно определить какой предмет перед в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не трогая его ру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://im2-tub-ru.yandex.net/i?id=516329473-45-72&amp;n=21"/>
          <p:cNvPicPr/>
          <p:nvPr/>
        </p:nvPicPr>
        <p:blipFill>
          <a:blip r:embed="rId2"/>
          <a:stretch/>
        </p:blipFill>
        <p:spPr>
          <a:xfrm>
            <a:off x="826920" y="2060640"/>
            <a:ext cx="1729080" cy="1368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www.clipart.net.ua/images/clip3838.jpg"/>
          <p:cNvPicPr/>
          <p:nvPr/>
        </p:nvPicPr>
        <p:blipFill>
          <a:blip r:embed="rId3"/>
          <a:stretch/>
        </p:blipFill>
        <p:spPr>
          <a:xfrm>
            <a:off x="6227640" y="2060640"/>
            <a:ext cx="1873440" cy="136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s57.radikal.ru/i155/1202/97/57b663e0448b.jpg"/>
          <p:cNvPicPr/>
          <p:nvPr/>
        </p:nvPicPr>
        <p:blipFill>
          <a:blip r:embed="rId4"/>
          <a:stretch/>
        </p:blipFill>
        <p:spPr>
          <a:xfrm>
            <a:off x="4572000" y="2060640"/>
            <a:ext cx="1693800" cy="1368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0.tqn.com/d/pediatrics/1/0/e/O/honey.jpg"/>
          <p:cNvPicPr/>
          <p:nvPr/>
        </p:nvPicPr>
        <p:blipFill>
          <a:blip r:embed="rId5"/>
          <a:stretch/>
        </p:blipFill>
        <p:spPr>
          <a:xfrm>
            <a:off x="2411280" y="1989000"/>
            <a:ext cx="216072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4000" y="836280"/>
            <a:ext cx="8424720" cy="2214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Нос ощущает запахи. Если мы хотим что-нибудь понюхать, то мы втягиваем  ноздрями воздух. Он попадает внутрь носа, пробегает по извилистым каналам и сообщает о запахе чувствительным точкам, покрывающим внутреннюю оболочку носа. А они уже передают эти сведения в моз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Нос – это одновременно, и фильтр, и печка, и сторожевой пос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99640" y="115920"/>
            <a:ext cx="7797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Орган обоня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948360" y="3500280"/>
            <a:ext cx="1981440" cy="25210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/>
          <p:cNvSpPr/>
          <p:nvPr/>
        </p:nvSpPr>
        <p:spPr>
          <a:xfrm>
            <a:off x="826920" y="3573360"/>
            <a:ext cx="58327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Он не дает пыли пробраться внутрь организма.  В носу находится много кровеносных сосудов. Внутри носа жарко как в печке, поэтому он успевает прогреть даже самый морозный воздух и защищает нас от просту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Загад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4240" y="1500120"/>
            <a:ext cx="7715520" cy="26496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Всегда он в работ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Когда мы говорим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А отдыхает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Когда мы молчи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5148360" y="4724280"/>
            <a:ext cx="7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4572000" y="429264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(Язык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00040" y="1213920"/>
            <a:ext cx="8329680" cy="38293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Язык – орган вкуса. Он покрыт бесчисленным множеством крохотных сосочков, которые разбирают, что именно попало в рот - кислое или сладкое, горькое или солено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Язык – также, один из наших «сторожей». Если мы ненароком возьмем в рот что-то противное или несвежее, язык тот час же это почувствует, и мы, не задумываясь, выплюнем то, что вредно нашему организм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Орган вку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5857920" y="3571920"/>
            <a:ext cx="2381040" cy="27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16000" y="1197000"/>
            <a:ext cx="7570800" cy="37447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Голос какой птицы вы услыша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- Чем вы услышали птичье пение 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ак слух помогает нам в жизн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- Как выглядят ваши уши? На что они похож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solovey.mp3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04736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68360" y="981000"/>
            <a:ext cx="8329680" cy="38289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Слышим мы ушами. Ушные раковины, расположенные по бокам головы, помогают понять, с какой стороны долетел звук. Посередине ушной раковины расположено маленькое отверстие, через которое звук проникает внутрь уха. Там его останавливает барабанная перепонка, которая колеблется и передает звуковые колебания среднему уху. Эти колебания передаются жидкости во внутреннем ухе и так возникает звук, который передается в головной  моз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Орган слу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5508720" y="3573360"/>
            <a:ext cx="343512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Как беречь уш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11280" y="1413000"/>
            <a:ext cx="8229600" cy="3456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Не ковырять в ушах острыми предметами, а специальной ушной палоч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Избегать сильных звуков и шумов, а также постоянно использовать науш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Если почувствовали боль в ушах, то нужно обратиться к врач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00040" y="980640"/>
            <a:ext cx="8329680" cy="40626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Кожа «заведует» нашим пятым органом чувств – осязанием. Кожа ощущает все прикосновения. Если бы этого органа не было, мы бы ходили в ожогах и порезах. Ведь именно кожа предупреждает нас о том, что мы дотронулись до чего-то горячего, - и мы отдергиваем ру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610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Орган осяз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2987640" y="3284640"/>
            <a:ext cx="360036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96640"/>
            <a:ext cx="9001080" cy="40179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Органы чувств — сложившаяся в процессе эволюции система, которая обеспечивает получение и первичный анализ информации из окружающего мира и от других органов самого организма, то есть из внешней и внутренней среды организ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Некоторые органы чувств воспринимают раздражения на расстоянии (например, органы зрения, слуха, обоняния); другие органы (вкусовые и осязания) — лишь при непосредственном контак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Одни органы чувств могут в определенной степени дополнять другие. Например, развитое обоняние или осязание может в некоторой степени компенсировать слабо развитое зр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435640" y="1125360"/>
            <a:ext cx="3457440" cy="338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                                                                                     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                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ыт 1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смотрите кожу своей руки. Потрогайте её, потяните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вы можете сказать о кож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Рисунок 5" descr="D:\МОИ ДОКУМЕНТЫ D\Новая папка\fgbghmb.jpg"/>
          <p:cNvPicPr/>
          <p:nvPr/>
        </p:nvPicPr>
        <p:blipFill>
          <a:blip r:embed="rId2">
            <a:alphaModFix amt="65000"/>
          </a:blip>
          <a:stretch/>
        </p:blipFill>
        <p:spPr>
          <a:xfrm>
            <a:off x="291960" y="865080"/>
            <a:ext cx="5121360" cy="4224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5000400"/>
            <a:ext cx="8091360" cy="1857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ывод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: 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Кожа - это прочная эластичная оболочка, надёжно защищающая организм от негативных внешних воздейств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6"/>
          <p:cNvSpPr/>
          <p:nvPr/>
        </p:nvSpPr>
        <p:spPr>
          <a:xfrm>
            <a:off x="2771640" y="26028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Практиче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651640" y="333000"/>
            <a:ext cx="3024000" cy="34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ыт 2</a:t>
            </a:r>
            <a:br>
              <a:rPr sz="3600"/>
            </a:br>
            <a:r>
              <a:rPr b="1" lang="ru-RU" sz="2800" spc="-1" strike="noStrike">
                <a:solidFill>
                  <a:srgbClr val="31859c"/>
                </a:solidFill>
                <a:latin typeface="Calibri"/>
              </a:rPr>
              <a:t>Захватите рукой складки на пальце. Попытайтесь согнуть палец. Для чего нужны складки на кож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2" descr="D:\МОИ ДОКУМЕНТЫ D\Новая папка\Изображение 016.jpg"/>
          <p:cNvPicPr/>
          <p:nvPr/>
        </p:nvPicPr>
        <p:blipFill>
          <a:blip r:embed="rId2"/>
          <a:stretch/>
        </p:blipFill>
        <p:spPr>
          <a:xfrm>
            <a:off x="146160" y="-42840"/>
            <a:ext cx="5584680" cy="4925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0" y="45770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Calibri"/>
              </a:rPr>
              <a:t>Вывод: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ambria"/>
                <a:ea typeface="Calibri"/>
              </a:rPr>
              <a:t>Складки на коже нужны для того, чтобы не мешать движению пальцев, рук, ног и других частей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35640" y="333360"/>
            <a:ext cx="3284640" cy="459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ыт 3</a:t>
            </a:r>
            <a:r>
              <a:rPr b="1" lang="ru-RU" sz="3600" spc="-1" strike="noStrike">
                <a:solidFill>
                  <a:srgbClr val="d818c1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31859c"/>
                </a:solidFill>
                <a:latin typeface="Calibri"/>
              </a:rPr>
              <a:t>Проведите пальцем по лбу, затем приложите палец к стеклу. Что осталось на стекле? </a:t>
            </a:r>
            <a:br>
              <a:rPr sz="2800"/>
            </a:br>
            <a:r>
              <a:rPr b="1" lang="ru-RU" sz="2800" spc="-1" strike="noStrike">
                <a:solidFill>
                  <a:srgbClr val="31859c"/>
                </a:solidFill>
                <a:latin typeface="Calibri"/>
              </a:rPr>
              <a:t>Как вы это объяснит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Содержимое 4" descr="D:\МОИ ДОКУМЕНТЫ D\Новая папка\Изображение 015.jpg"/>
          <p:cNvPicPr/>
          <p:nvPr/>
        </p:nvPicPr>
        <p:blipFill>
          <a:blip r:embed="rId2">
            <a:alphaModFix amt="65000"/>
          </a:blip>
          <a:stretch/>
        </p:blipFill>
        <p:spPr>
          <a:xfrm>
            <a:off x="487440" y="493560"/>
            <a:ext cx="4743360" cy="6345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3131640" y="5300280"/>
            <a:ext cx="5761080" cy="839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ывод: 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Кожа выделяет пот и жир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6835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ыт 4.</a:t>
            </a:r>
            <a:r>
              <a:rPr b="1" lang="ru-RU" sz="2400" spc="-1" strike="noStrike">
                <a:solidFill>
                  <a:srgbClr val="31859c"/>
                </a:solidFill>
                <a:latin typeface="Calibri"/>
              </a:rPr>
              <a:t>Рассмотрите кожу через лупу.Что вы на ней видит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Содержимое 4" descr="D:\МОИ ДОКУМЕНТЫ D\Новая папка\Изображение 018.jpg"/>
          <p:cNvPicPr/>
          <p:nvPr/>
        </p:nvPicPr>
        <p:blipFill>
          <a:blip r:embed="rId2">
            <a:alphaModFix amt="65000"/>
          </a:blip>
          <a:stretch/>
        </p:blipFill>
        <p:spPr>
          <a:xfrm>
            <a:off x="-96840" y="560520"/>
            <a:ext cx="4522680" cy="4090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"/>
          <p:cNvSpPr/>
          <p:nvPr/>
        </p:nvSpPr>
        <p:spPr>
          <a:xfrm>
            <a:off x="4859280" y="774720"/>
            <a:ext cx="41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Вывод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Calibri"/>
              </a:rPr>
              <a:t>При помощи лупы мы увидели волоски и углубления на кож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Calibri"/>
              </a:rPr>
              <a:t>это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поры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4643280" y="3013200"/>
            <a:ext cx="4105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Вывод: </a:t>
            </a:r>
            <a:r>
              <a:rPr b="1" i="1" lang="ru-RU" sz="2600" spc="-1" strike="noStrike">
                <a:solidFill>
                  <a:srgbClr val="002060"/>
                </a:solidFill>
                <a:latin typeface="Arial"/>
                <a:ea typeface="Calibri"/>
              </a:rPr>
              <a:t>Поры являются путём выведения пота и жира из организма, проводниками воздуха, иначе говоря, через поры наша кожа «дышит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179280" y="4508640"/>
            <a:ext cx="43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859c"/>
                </a:solidFill>
                <a:latin typeface="Calibri"/>
                <a:ea typeface="Calibri"/>
              </a:rPr>
              <a:t>Как вы думаете, какое значение они име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142560"/>
            <a:ext cx="74995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Функции кож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28480" y="713880"/>
            <a:ext cx="7715160" cy="5072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Защит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Теплообмен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4c31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318f"/>
                </a:solidFill>
                <a:latin typeface="Calibri"/>
              </a:rPr>
              <a:t>«Это интересно»:</a:t>
            </a:r>
            <a:r>
              <a:rPr b="0" lang="ru-RU" sz="1800" spc="-1" strike="noStrike">
                <a:solidFill>
                  <a:srgbClr val="4c318f"/>
                </a:solidFill>
                <a:latin typeface="Calibri"/>
              </a:rPr>
              <a:t>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Разные участки кожи имеют разную температуру. Во рту 37 градусов, а на коже пальцев ног и рук она колеблется между 26 и 32 градусами. Наивысшая температура, которую может выдержать человек, это 44-44,5 градус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Выделитель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4c31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318f"/>
                </a:solidFill>
                <a:latin typeface="Calibri"/>
              </a:rPr>
              <a:t>«Это интересно»:</a:t>
            </a:r>
            <a:r>
              <a:rPr b="0" lang="ru-RU" sz="1800" spc="-1" strike="noStrike">
                <a:solidFill>
                  <a:srgbClr val="4c318f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жа вырабатывает, при солнечном облучении витамин Д. Участвует в дыхании – поставляет в кровь 1% кислорода, способна к регенерации – восстановле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Орган осяз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4c31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318f"/>
                </a:solidFill>
                <a:latin typeface="Calibri"/>
              </a:rPr>
              <a:t>«Это интересно»:</a:t>
            </a:r>
            <a:r>
              <a:rPr b="0" lang="ru-RU" sz="1800" spc="-1" strike="noStrike">
                <a:solidFill>
                  <a:srgbClr val="4c318f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ибольшей чувствительностью обладают кончики пальцев, середина ладони, средняя линия сп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4c31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318f"/>
                </a:solidFill>
                <a:latin typeface="Calibri"/>
              </a:rPr>
              <a:t>«Это интересно»:</a:t>
            </a:r>
            <a:r>
              <a:rPr b="0" lang="ru-RU" sz="1800" spc="-1" strike="noStrike">
                <a:solidFill>
                  <a:srgbClr val="4c318f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жа – это самый большой орган нашего тела. Площадь её поверхности у взрослого человека составляет около 2 м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, а масса – 4 кг и боле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олосы и ногти – тоже из кожи. Это отвердевший роговой сл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F:\ДИСК УЧИТЕЛЮ Начальных классов_2006\РИСУНКИ\Animated\j0282774.gif"/>
          <p:cNvPicPr/>
          <p:nvPr/>
        </p:nvPicPr>
        <p:blipFill>
          <a:blip r:embed="rId2"/>
          <a:stretch/>
        </p:blipFill>
        <p:spPr>
          <a:xfrm>
            <a:off x="0" y="1429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F:\ДИСК УЧИТЕЛЮ Начальных классов_2006\РИСУНКИ\Animated\j0254474.gif"/>
          <p:cNvPicPr/>
          <p:nvPr/>
        </p:nvPicPr>
        <p:blipFill>
          <a:blip r:embed="rId3"/>
          <a:stretch/>
        </p:blipFill>
        <p:spPr>
          <a:xfrm>
            <a:off x="357120" y="1500120"/>
            <a:ext cx="1181160" cy="1067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F:\ДИСК УЧИТЕЛЮ Начальных классов_2006\РИСУНКИ\Anim\2h2.gif"/>
          <p:cNvPicPr/>
          <p:nvPr/>
        </p:nvPicPr>
        <p:blipFill>
          <a:blip r:embed="rId4"/>
          <a:stretch/>
        </p:blipFill>
        <p:spPr>
          <a:xfrm>
            <a:off x="357120" y="5214960"/>
            <a:ext cx="1238400" cy="1420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4" descr="F:\ДИСК УЧИТЕЛЮ Начальных классов_2006\РИСУНКИ\Animated\j0236448.gif"/>
          <p:cNvPicPr/>
          <p:nvPr/>
        </p:nvPicPr>
        <p:blipFill>
          <a:blip r:embed="rId5"/>
          <a:stretch/>
        </p:blipFill>
        <p:spPr>
          <a:xfrm>
            <a:off x="214200" y="27147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7" descr="H:\анимашки\Анимированные рисунки по темам\Дети\1\baby19.gif"/>
          <p:cNvPicPr/>
          <p:nvPr/>
        </p:nvPicPr>
        <p:blipFill>
          <a:blip r:embed="rId6"/>
          <a:stretch/>
        </p:blipFill>
        <p:spPr>
          <a:xfrm>
            <a:off x="214200" y="4000680"/>
            <a:ext cx="1447920" cy="1266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5057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Arial Black"/>
                <a:ea typeface="Aharoni"/>
              </a:rPr>
              <a:t>С. Островой</a:t>
            </a:r>
            <a:br>
              <a:rPr sz="2200"/>
            </a:br>
            <a:r>
              <a:rPr b="1" lang="ru-RU" sz="2400" spc="-1" strike="noStrike">
                <a:solidFill>
                  <a:srgbClr val="ff00ff"/>
                </a:solidFill>
                <a:latin typeface="Calibri"/>
              </a:rPr>
              <a:t>Человек – он ведь тоже природа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cc3399"/>
                </a:solidFill>
                <a:latin typeface="Calibri"/>
              </a:rPr>
              <a:t>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643040" y="1143000"/>
            <a:ext cx="7215120" cy="5229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ловек – он ведь тоже прир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н ведь тоже закат и восхо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четыре в нём времени го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особый в нём музыки х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особое таинство свет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 с жестоким, то с добрым огнё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ловек – он зима. Или ле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ли осень с грозой и дождё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какая в нём брезжит погод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лько в нём одиночеств? И встреч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ловек – он ведь тоже природ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к давайте природу береч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3" descr="C:\Users\Администратор\Desktop\gallery_19_130_30694.gif"/>
          <p:cNvPicPr/>
          <p:nvPr/>
        </p:nvPicPr>
        <p:blipFill>
          <a:blip r:embed="rId2"/>
          <a:stretch/>
        </p:blipFill>
        <p:spPr>
          <a:xfrm>
            <a:off x="0" y="0"/>
            <a:ext cx="1857240" cy="1762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Users\Администратор\Desktop\gallery_2_130_986.gif"/>
          <p:cNvPicPr/>
          <p:nvPr/>
        </p:nvPicPr>
        <p:blipFill>
          <a:blip r:embed="rId3"/>
          <a:stretch/>
        </p:blipFill>
        <p:spPr>
          <a:xfrm>
            <a:off x="6500880" y="4572000"/>
            <a:ext cx="2643120" cy="1887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C:\Users\Администратор\Desktop\gallery_2_303_8334.gif"/>
          <p:cNvPicPr/>
          <p:nvPr/>
        </p:nvPicPr>
        <p:blipFill>
          <a:blip r:embed="rId4"/>
          <a:stretch/>
        </p:blipFill>
        <p:spPr>
          <a:xfrm rot="16200000">
            <a:off x="127080" y="5079960"/>
            <a:ext cx="1603440" cy="1571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Администратор\Desktop\gallery_2_303_8334.gif"/>
          <p:cNvPicPr/>
          <p:nvPr/>
        </p:nvPicPr>
        <p:blipFill>
          <a:blip r:embed="rId5"/>
          <a:stretch/>
        </p:blipFill>
        <p:spPr>
          <a:xfrm rot="5400000">
            <a:off x="7413120" y="158760"/>
            <a:ext cx="1603440" cy="1571400"/>
          </a:xfrm>
          <a:prstGeom prst="rect">
            <a:avLst/>
          </a:prstGeom>
          <a:ln w="0">
            <a:noFill/>
          </a:ln>
        </p:spPr>
      </p:pic>
      <p:pic>
        <p:nvPicPr>
          <p:cNvPr id="172" name="Сонный берег.wma" descr=""/>
          <p:cNvPicPr/>
          <p:nvPr/>
        </p:nvPicPr>
        <p:blipFill>
          <a:blip r:embed="rId6"/>
          <a:stretch/>
        </p:blipFill>
        <p:spPr>
          <a:xfrm>
            <a:off x="8643960" y="65008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73" name="Сонный берег.wma" descr=""/>
          <p:cNvPicPr/>
          <p:nvPr/>
        </p:nvPicPr>
        <p:blipFill>
          <a:blip r:embed="rId7"/>
          <a:stretch/>
        </p:blipFill>
        <p:spPr>
          <a:xfrm>
            <a:off x="7164360" y="501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2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2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20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200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200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2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" dur="176006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Использованные материал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viki.rdf.ru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етские презентации и кли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minihalva.ru/priprava38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portalik.flyfm.net/10364-princ-limon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ртинки из интерн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.Г.Ивченкова, И.В.Потапов. Окружающий мир. 1 кл.Учебник 4-хлетней нач.шк. АСТ.Астрель, М.:2010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тские энциклопедии «Я познаю мир», «Всё обо всё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Цель работы: </a:t>
            </a: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изучение органов чувств челове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3614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Человек получает информацию посредством пяти основных органов чувст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глаза (зрение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уши (слух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язык (вкус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нос (обоняни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кожа (осязани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4643280" y="2852640"/>
            <a:ext cx="3524400" cy="28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50004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85880" y="1642680"/>
            <a:ext cx="7493040" cy="2071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Два братца через дорогу живут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А друг друга не видя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5796000" y="30686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00040" y="1213920"/>
            <a:ext cx="8329680" cy="38293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Глаз — зрительный орган человека и животных, обеспечивающий функцию зрения. У человека через глаз поступает около 90 % информации из окружающего мира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Природа заботливо охраняет наши глаза. Мигая, веки смывают с глаз пылинки. Если же в опасной близости от глаз появится какой-нибудь предмет – веки захлопнутся раньше, чем мы успеем об этом подума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Органы зр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" descr=""/>
          <p:cNvPicPr/>
          <p:nvPr/>
        </p:nvPicPr>
        <p:blipFill>
          <a:blip r:embed="rId2"/>
          <a:stretch/>
        </p:blipFill>
        <p:spPr>
          <a:xfrm>
            <a:off x="5429160" y="3762360"/>
            <a:ext cx="3071880" cy="23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11280" y="1197000"/>
            <a:ext cx="8229600" cy="41767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смотрите на глаза вашего соседа. Рассмотрите веки, брови, ресницы. Для чего они нуж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ывод: Они защищают наши глаза. Веки, на которых находятся ресницы, защищают глаза от сильного света и пыли. Брови мешают капелькам пота, выступающим на лбу, стекать в гла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4" descr="biometric-2.jpg"/>
          <p:cNvPicPr/>
          <p:nvPr/>
        </p:nvPicPr>
        <p:blipFill>
          <a:blip r:embed="rId2"/>
          <a:stretch/>
        </p:blipFill>
        <p:spPr>
          <a:xfrm>
            <a:off x="6875640" y="4508640"/>
            <a:ext cx="1858680" cy="1643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06940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Посмотрите в глаза друг другу. В центре вы увидите черную точку- зрачок. Цвет ваших глаз зависит от радужки.  А за ней расположен хрусталик. Лучи света проходят через зрачок и хрусталик, собираясь на сетчатке .</a:t>
            </a:r>
            <a:r>
              <a:rPr b="0" lang="ru-RU" sz="3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Дальше по нервам сигналы передаются в мозг, и мы видим</a:t>
            </a:r>
            <a:r>
              <a:rPr b="0" lang="ru-RU" sz="3600" spc="-1" strike="noStrike">
                <a:solidFill>
                  <a:srgbClr val="376092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6" descr="153_1.jpg"/>
          <p:cNvPicPr/>
          <p:nvPr/>
        </p:nvPicPr>
        <p:blipFill>
          <a:blip r:embed="rId2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7" descr=""/>
          <p:cNvPicPr/>
          <p:nvPr/>
        </p:nvPicPr>
        <p:blipFill>
          <a:blip r:embed="rId3"/>
          <a:stretch/>
        </p:blipFill>
        <p:spPr>
          <a:xfrm>
            <a:off x="493560" y="6480"/>
            <a:ext cx="8017200" cy="113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3" descr="7-7.gif"/>
          <p:cNvPicPr/>
          <p:nvPr/>
        </p:nvPicPr>
        <p:blipFill>
          <a:blip r:embed="rId2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0:53:13Z</dcterms:created>
  <dc:creator>kosl</dc:creator>
  <dc:description/>
  <dc:language>en-US</dc:language>
  <cp:lastModifiedBy>User</cp:lastModifiedBy>
  <dcterms:modified xsi:type="dcterms:W3CDTF">2013-03-10T14:07:02Z</dcterms:modified>
  <cp:revision>110</cp:revision>
  <dc:subject/>
  <dc:title>Причастия и деепричас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09991</vt:lpwstr>
  </property>
</Properties>
</file>