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81C-A625-4DD6-9DEF-1DC816ED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7AD-7151-4B9F-8E4D-1291C1F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F24E1-DDD4-4A38-BCA9-99E06CA4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F9D92-91BC-4C83-994A-3378FCF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01B38-A9ED-4F4E-977D-90F176B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BCC85-AC79-4BE1-8B5B-7FBE3C6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CAD8B-C591-4387-8168-90A26BB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48DD8-D300-40C9-9219-3A9BFFC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DA72E-3BB9-4EC7-9C31-E91FA3C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4E23C-8AE4-4878-A125-C2D97B52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0D51D-99B1-4496-8C94-82880B79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26F-1208-4B21-BEB1-4449F028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7AF-548F-4E4A-94C2-89C3C496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A27D-9C56-4897-BC99-7C0A21A2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915-E502-4B0D-BF08-16B6047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CE2E-3AA4-4779-BCF2-A37BC6C1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2481-43E7-4F27-8915-6D0C8D1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6A68-9152-4579-85B5-7DD0A4D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1FAC-93BD-49C2-9D21-711E1CA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4AAD-E39F-473E-BBF9-C867A771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525-E9B4-40DA-95BE-B2AC527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409-F56A-424D-8A23-577D134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EFC-80F9-47AA-A844-AB55D8E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D2AA-FFDD-44B0-BEB1-70A77644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D05-4116-42BA-A7EA-0E1AF0DB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64F-5C68-413B-9A0A-729951F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4404-07DE-41A8-A3E3-D86AE3BE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D005-DD88-40BF-878D-896FED6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C4FC-F52C-4ADE-9F53-606ACC61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42B7-F90A-453A-B92A-772045AB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5115-C274-4FF8-BC00-E67687F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322-7B8E-4CC8-8E79-BA7A7FA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B4BC-700E-497F-B3AE-DB1C641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1254-3361-4C73-B5D2-DCCB8F6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0B2F-7977-49B1-90F6-1E6529A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0AC0-287E-491A-A232-6702C5C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7DE2-DAD9-450F-BFDD-6B7AAE7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147A-ED06-4A5F-BC6F-539A8495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62F6-3DEA-4B09-82C9-E38133E7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A02D-32ED-4FCA-B9DC-3AED1C51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0CE1-E011-45A4-A392-EB66FD2B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5529-2A6E-4D36-89C4-FBB599A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BA3-FDA4-4F02-A328-EBC8680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84C1-5330-44D9-81D9-65E8906F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5EC4-7E95-4064-B760-0595FA72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8F4A-27E7-4665-80A3-870A5C8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8135-6077-4D8F-81D2-D40BFF5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8A62-86A3-451C-AC8C-43D8901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C70E-4031-4E43-803E-ABC5500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4902-29DF-4BB7-94A1-F68B6A8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5ECF-1DD6-41B4-BC2F-46502CB3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EFEA-CF8C-4EFF-9EB2-119D634B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80B7-141E-4AC4-915D-AB7FC24B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C87-45C4-4D81-B034-959AA1A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7C85-984B-4A3E-946E-0B2E98E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0CC1-ADC6-4516-8601-BF04EA22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19BA-6B3F-4A51-8AF1-E46169B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5A84-0E14-4A15-8FB3-5902F18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AF87-1C9B-4484-9921-D1A35933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9E90-4645-4E06-983C-9040342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69653-D535-454C-90F9-7F25506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AF31-B424-4244-B13C-C84544D9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B0587-0F9B-422B-B7D0-780F5AF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43D0-D4EB-4CA8-8E32-215F9508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E4B-4518-48D4-8BA0-41E5AC19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3A953-6140-4F64-97D4-5630FA8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728F-D248-463D-8DE5-19EF578F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E533-5AAA-49E5-BD5E-5C7D348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D6AD-646C-4374-BBCD-8AC2225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64265-7B4A-4BF1-8198-3A3CEEB1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6117-4467-413E-948A-ACFAD4C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B2305-AF8F-4928-83D7-DA0CD6B3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38D0-08AC-4EA5-BBC5-288F5D6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EC6E-CC0D-4CE2-98B0-EB7053E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B197-2C7E-4E42-BFDD-3344B5F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2FA-C821-4D4E-8542-D00C453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8B2A-3A14-4142-8347-E8AEA21E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56CAE-DF4F-465E-968D-D5288C28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5E16-4324-45E7-83B0-4FAA0CA2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3B38B-DFC9-4E30-A1AB-40AC6D10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544F-127D-49C7-A856-C400EC8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11B6-B47D-4C0C-B353-A5E05D36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CEDC1-ED1E-4983-A775-FA3B2405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A019-28F8-4279-ABE5-E1E0F44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51B1C-120D-4BC8-8C62-926BCBF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9A23-FD0B-46B8-96A6-4B8D631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EA7-4935-4448-AF8E-A4094C2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A7451-584D-4E9E-B308-74E7C0E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253D-8E2B-4D9D-8741-9F040C1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3C26-2E1C-4E7A-8C6E-BA1D06C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59C9E-4981-4594-AEA9-61F0F601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5B91-B05B-48DC-B470-7C3A807D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23E5-0953-49C3-AFB7-516BDCC3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7448-A705-4ED7-9478-52A86138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17F7-5CA4-469B-AC4D-1AFBC41D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B17B-129C-4C7E-9107-5A766048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8B0A9-4650-41B3-9BB3-A24D1392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A1B-18D5-4883-B88B-A535B53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01B11-EF0E-48BB-8561-3F4782E8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600D-08B2-4CE7-A7B4-1E0B052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E93FC-F9AA-4535-A7A1-6F28395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C3F3-B8EA-4179-A121-2F49A2C6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A76A-30AD-4C71-ABD0-2AF66CC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EA37-DCEE-47A9-A18F-F67C7E8A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6B7B2-6401-4261-8D81-2F114F54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28FB2-8EC2-4AED-8D0B-7FDCC0F9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88EF5-1FE2-491F-98FA-7E3230A7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56477-7D6F-4F10-BA57-01C7477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54D8-CF41-4876-86F6-958BEA5BE7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503-CE79-4BC9-ACA0-FA482DC5856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0A46-7FC8-4E82-BAA7-0142A8E13C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17D-770A-4107-A14F-F48A85DFC5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08F-7CDE-4836-9C4E-0931E2107D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976-A5C4-42F6-A170-6D6E9AEB5C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C577-14E3-4F25-B33B-BC51CF6181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8F00-BBEE-4436-A443-372F2D016C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1666-31BF-4A7F-A6AD-DC3929703E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4"/>
          <p:cNvSpPr/>
          <p:nvPr/>
        </p:nvSpPr>
        <p:spPr>
          <a:xfrm>
            <a:off x="1285920" y="21430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ладшего школьника в условиях информацион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4292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Сколько времени проводит Ваш ребёнок за компьютером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В какие компьютерные игры играет Ваш ребёнок? Знакомы ли Вам названия, правила этих игр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Какие сайты посещает Ваш ребёнок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Помогаете ли Вы ребёнку использовать компьютер как средство образования и получения информаци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Часто ли ваш сын (дочь) обращается к Вам за помощью при выполнении каких-либо заданий с использованием компьютера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121428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 - 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елаем успехов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пасибо за сотрудничество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i041.radikal.ru/0902/f3/14358e5cf301.png"/>
          <p:cNvPicPr/>
          <p:nvPr/>
        </p:nvPicPr>
        <p:blipFill>
          <a:blip r:embed="rId2"/>
          <a:stretch/>
        </p:blipFill>
        <p:spPr>
          <a:xfrm>
            <a:off x="500040" y="1285920"/>
            <a:ext cx="2728800" cy="2163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http://www.montblancrefills.ru/img/small/05032.png"/>
          <p:cNvPicPr/>
          <p:nvPr/>
        </p:nvPicPr>
        <p:blipFill>
          <a:blip r:embed="rId3"/>
          <a:stretch/>
        </p:blipFill>
        <p:spPr>
          <a:xfrm>
            <a:off x="3071880" y="14288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4" descr="http://computerhistory.narod.ru/sredstva_obrabotki_inf/elektronnaya_pish_mash.png"/>
          <p:cNvPicPr/>
          <p:nvPr/>
        </p:nvPicPr>
        <p:blipFill>
          <a:blip r:embed="rId4"/>
          <a:stretch/>
        </p:blipFill>
        <p:spPr>
          <a:xfrm>
            <a:off x="4857840" y="1428840"/>
            <a:ext cx="3682800" cy="2357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6" descr="http://pcs.in.ua/uploads/posts/2010-05/1274101890_computer.png"/>
          <p:cNvPicPr/>
          <p:nvPr/>
        </p:nvPicPr>
        <p:blipFill>
          <a:blip r:embed="rId5"/>
          <a:stretch/>
        </p:blipFill>
        <p:spPr>
          <a:xfrm>
            <a:off x="1857240" y="3500280"/>
            <a:ext cx="4095720" cy="31435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1643040" y="3571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ера до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135720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D:\мои документы\Мама. Документы\#2 продолжение)))\Гаврилова ТВ\Колембо.jpg"/>
          <p:cNvPicPr/>
          <p:nvPr/>
        </p:nvPicPr>
        <p:blipFill>
          <a:blip r:embed="rId2"/>
          <a:stretch/>
        </p:blipFill>
        <p:spPr>
          <a:xfrm>
            <a:off x="142920" y="2643120"/>
            <a:ext cx="2433600" cy="3429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всё с рабочего стола\кэв\img994.jpg"/>
          <p:cNvPicPr/>
          <p:nvPr/>
        </p:nvPicPr>
        <p:blipFill>
          <a:blip r:embed="rId3"/>
          <a:stretch/>
        </p:blipFill>
        <p:spPr>
          <a:xfrm>
            <a:off x="2357280" y="1214280"/>
            <a:ext cx="2357640" cy="3340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F:\Грамоты детей для Тани\Алина.jpg"/>
          <p:cNvPicPr/>
          <p:nvPr/>
        </p:nvPicPr>
        <p:blipFill>
          <a:blip r:embed="rId4"/>
          <a:stretch/>
        </p:blipFill>
        <p:spPr>
          <a:xfrm>
            <a:off x="4429080" y="3143160"/>
            <a:ext cx="2357640" cy="34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F:\Грамоты детей для Тани\Марина.jpg"/>
          <p:cNvPicPr/>
          <p:nvPr/>
        </p:nvPicPr>
        <p:blipFill>
          <a:blip r:embed="rId5"/>
          <a:stretch/>
        </p:blipFill>
        <p:spPr>
          <a:xfrm>
            <a:off x="6458040" y="1143000"/>
            <a:ext cx="241776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http://yasnodar.ru/wp-content/uploads/rebenokzakompyuterom2.jpg"/>
          <p:cNvPicPr/>
          <p:nvPr/>
        </p:nvPicPr>
        <p:blipFill>
          <a:blip r:embed="rId2"/>
          <a:stretch/>
        </p:blipFill>
        <p:spPr>
          <a:xfrm>
            <a:off x="1279440" y="1030320"/>
            <a:ext cx="6297840" cy="47242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2000160" y="60008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 беда, беда компьютерн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Какую роль в вашей жизни играет компьютер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играю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смотрю фильмы (мультфильмы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) общаюсь с друзьям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) для выполнения конкретных задани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) другие занят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Каждый ли день вы пользуетесь компьютером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Сколько времени в день вы проводите за компьютером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Делаете ли вы при работе за компьютером гимнастику для глаз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Выполняете ли вы физкультминутки в перерывах при работе за компьютером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Можете ли вы, заигравшись, забыть поесть, почистить зубы и т.д.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357120" y="2858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учащихся, у которых есть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Диаграмма 5" descr=""/>
          <p:cNvPicPr/>
          <p:nvPr/>
        </p:nvPicPr>
        <p:blipFill>
          <a:blip r:embed="rId2"/>
          <a:stretch/>
        </p:blipFill>
        <p:spPr>
          <a:xfrm>
            <a:off x="428760" y="1357200"/>
            <a:ext cx="8358120" cy="49611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0" y="2858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в вашей жизни играет компьют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85840" y="121392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ждый день пользуются компьютером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 - 37%                                          Нет – 63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одят за компьютером более 30 мину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 – 68%                                         Нет – 32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лают при работе за компьютером гимнастику для глаз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 – 28%                                         Нет – 72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полняют физкультминутки в перерывах при работе за компьютером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 – 38%                                         Нет – 62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бывают, заигравшись, поесть, почистить зубы и т.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 – 30%                                         Нет – 70%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785880" y="21420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факторы при работе за компью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357120" y="2643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а на 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1643040" y="35002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снённая п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6572160" y="328608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286080" y="27860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ая 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10"/>
          <p:cNvCxnSpPr/>
          <p:nvPr/>
        </p:nvCxnSpPr>
        <p:spPr>
          <a:xfrm flipH="1">
            <a:off x="1856520" y="1070640"/>
            <a:ext cx="2072520" cy="12150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3" name="Прямая со стрелкой 12"/>
          <p:cNvCxnSpPr/>
          <p:nvPr/>
        </p:nvCxnSpPr>
        <p:spPr>
          <a:xfrm flipH="1">
            <a:off x="2785320" y="1071360"/>
            <a:ext cx="1143720" cy="221508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4" name="Прямая со стрелкой 13"/>
          <p:cNvCxnSpPr/>
          <p:nvPr/>
        </p:nvCxnSpPr>
        <p:spPr>
          <a:xfrm>
            <a:off x="3927960" y="1071360"/>
            <a:ext cx="213480" cy="15721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5" name="Прямая со стрелкой 14"/>
          <p:cNvCxnSpPr/>
          <p:nvPr/>
        </p:nvCxnSpPr>
        <p:spPr>
          <a:xfrm>
            <a:off x="3928680" y="1071720"/>
            <a:ext cx="3143880" cy="20718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pic>
        <p:nvPicPr>
          <p:cNvPr id="426" name="Picture 7" descr="http://cs10501.vkontakte.ru/u9266920/136522215/x_07bf7360.jpg"/>
          <p:cNvPicPr/>
          <p:nvPr/>
        </p:nvPicPr>
        <p:blipFill>
          <a:blip r:embed="rId2"/>
          <a:stretch/>
        </p:blipFill>
        <p:spPr>
          <a:xfrm>
            <a:off x="2419200" y="3852720"/>
            <a:ext cx="4305600" cy="287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Видео.mpeg" descr=""/>
          <p:cNvPicPr/>
          <p:nvPr/>
        </p:nvPicPr>
        <p:blipFill>
          <a:blip r:embed="rId2"/>
          <a:stretch/>
        </p:blipFill>
        <p:spPr>
          <a:xfrm>
            <a:off x="1000080" y="1143000"/>
            <a:ext cx="7338960" cy="55040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6"/>
          <p:cNvSpPr/>
          <p:nvPr/>
        </p:nvSpPr>
        <p:spPr>
          <a:xfrm>
            <a:off x="1428840" y="357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сидеть за компью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0T20:07:09Z</dcterms:modified>
  <cp:revision>59</cp:revision>
  <dc:subject/>
  <dc:title>Коммуникация</dc:title>
</cp:coreProperties>
</file>