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185-87A8-4189-80E6-E0CD4033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E1C-0331-4D3B-83AD-F4F586AF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991-41ED-4F04-963A-A81C7073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E55-168A-423D-88D2-CC5EB668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384-BF4E-442D-B5DC-D682409A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E49-81C5-4A18-BC02-1FD0FF9A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50B-66A6-4410-B63E-63E30F28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956-4A1D-4650-BB03-B49948F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F40-9C24-4D22-8315-B84E3A20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FED-5F48-4D36-BDCB-EB071A2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035-BE62-47A5-8D8E-ADF7C3FB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856-24E0-498E-99CD-57B5D040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2830-19FC-4C27-AA83-6A46948D4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468360" y="1125360"/>
            <a:ext cx="83138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PORTS BENEFITS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91" name=""/>
          <p:cNvSpPr txBox="1"/>
          <p:nvPr/>
        </p:nvSpPr>
        <p:spPr>
          <a:xfrm>
            <a:off x="684360" y="0"/>
            <a:ext cx="81356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Use the text and write </a:t>
            </a:r>
            <a:endParaRPr b="1" lang="en-US" sz="4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the modifiers to the adjectives.</a:t>
            </a:r>
            <a:endParaRPr b="1" lang="en-US" sz="4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197000"/>
          <a:ext cx="8291520" cy="569268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DJECTI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ODIFI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-blow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whel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826920" y="260280"/>
            <a:ext cx="7345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eful Expression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16000" y="177336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Giving an Opinion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1311120" y="2852640"/>
            <a:ext cx="6500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my opin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 mean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’m not sure I agre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177336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Giving an Opinion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>
            <a:off x="826920" y="260280"/>
            <a:ext cx="7345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eful Expression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484280"/>
            <a:ext cx="8209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Asking the other person for their view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987640"/>
            <a:ext cx="7561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uld you go along with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what e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do you see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108" name=""/>
          <p:cNvSpPr txBox="1"/>
          <p:nvPr/>
        </p:nvSpPr>
        <p:spPr>
          <a:xfrm>
            <a:off x="826920" y="260280"/>
            <a:ext cx="7345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eful Expression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484280"/>
            <a:ext cx="8209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Coming to a Conclusion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2852640"/>
            <a:ext cx="70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, have we deci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ght, are we agreed t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ll we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at OK with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68360" y="1916280"/>
            <a:ext cx="777564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Think of your own life and of the lives of people you know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Write some sentences about your experiences and achievem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se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ve vocabulary of the lesson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360" y="476280"/>
            <a:ext cx="77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HOMEWORK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10440" y="4221000"/>
            <a:ext cx="1649520" cy="248292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755640" y="33336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BJECTIVES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735120" y="1955880"/>
            <a:ext cx="7581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practise using the vocabulary of 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listen to and understand part of a radio 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revise adjective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discuss sports benef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5003640" y="2997360"/>
            <a:ext cx="36655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Hyppocrat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4467240" cy="346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635280" y="0"/>
            <a:ext cx="467676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24000" y="907920"/>
            <a:ext cx="8640720" cy="17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port is a preserver of health.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635280" y="3645000"/>
            <a:ext cx="5040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755640" y="1052640"/>
            <a:ext cx="7777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a. Sport is deep in the DNA of every communit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b. Sport has an international reach that is beyond compa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c. The true power of sport is to inspi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d. It's actually producing landscapes and the transformation of young live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260280"/>
            <a:ext cx="8642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Make statements from the words in the word clouds. 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179280" y="189000"/>
            <a:ext cx="8713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Watch the video and put </a:t>
            </a:r>
            <a:endParaRPr b="1" lang="en-US" sz="4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the sentences in the order you hear them</a:t>
            </a:r>
            <a:endParaRPr b="1" lang="en-US" sz="4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989000"/>
            <a:ext cx="871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Sport has an international reach that is beyond compa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The true power of sport is to inspi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 It's actually producing landscapes and the transformation of young liv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Sport is deep in the DNA of every community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67240" y="1484280"/>
            <a:ext cx="4676760" cy="292428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79280" y="1557360"/>
            <a:ext cx="4676760" cy="350532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79" name=""/>
          <p:cNvSpPr txBox="1"/>
          <p:nvPr/>
        </p:nvSpPr>
        <p:spPr>
          <a:xfrm>
            <a:off x="324000" y="0"/>
            <a:ext cx="8640720" cy="20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Choose the answer</a:t>
            </a:r>
            <a:endParaRPr b="1" lang="en-US" sz="4000" spc="1" strike="noStrike">
              <a:ln w="1908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40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which fits best </a:t>
            </a:r>
            <a:endParaRPr b="1" lang="en-US" sz="4000" spc="1" strike="noStrike">
              <a:ln w="1908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according to what you hear.</a:t>
            </a:r>
            <a:endParaRPr b="1" lang="en-US" sz="4000" spc="1" strike="noStrike">
              <a:ln w="1908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771640" y="3141720"/>
            <a:ext cx="4175280" cy="350532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1024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76760" cy="3505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3343320"/>
            <a:ext cx="4676760" cy="351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467240" y="3357720"/>
            <a:ext cx="4676760" cy="3500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 rot="5400000">
            <a:off x="1034640" y="2744640"/>
            <a:ext cx="685800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EXTREME SPORT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6:17:08Z</dcterms:created>
  <dc:creator>Ann</dc:creator>
  <dc:description/>
  <dc:language>en-US</dc:language>
  <cp:lastModifiedBy>Ann</cp:lastModifiedBy>
  <dcterms:modified xsi:type="dcterms:W3CDTF">2013-11-02T11:36:15Z</dcterms:modified>
  <cp:revision>57</cp:revision>
  <dc:subject/>
  <dc:title>Слайд 1</dc:title>
</cp:coreProperties>
</file>