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620-99AD-468F-A548-1A7B73CC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F74-FC5D-4C51-BC7D-FC83A47A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9FE-DC57-4018-8B0A-9E428DB2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7C8-67A0-41BC-A702-3952B7C8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47F-6BAD-43AC-A296-74428DB9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B5CE-1FE4-41D4-857C-1E740002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4E8-7504-4347-B287-0FBFD10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5EA8-6F68-48C1-B75C-1BA9AD1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55E-3286-45AC-83AA-8B1D836B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4FF3-195C-40E9-9A86-662EB916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77B-B007-4A00-BDC8-6867BAC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EFB-0005-4AA5-93B7-64766FE6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D7C-EFF7-48B3-97AB-E0D608E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2FD6-555A-4A33-8A4E-3FE7D0A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2BC5-D789-44B3-A9C8-F3B0473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410B-670D-46B6-8340-6F0A27BE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730-A7AF-4BDD-B644-3512E7B4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CB29D-8C66-4E43-AFFD-ABC55FFC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080B6-00A2-4884-BF3A-9853A14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FA6DC-C64E-4A28-BE86-5D3007B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58557-6711-4C7F-88A5-6F29BEEF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59A9B-9E37-4F9F-ACF7-81A9082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F9C-7DAB-40CE-8D23-A0FD3764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BCB57-3440-4246-8C66-AEC962FF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1166B-B574-4401-A046-01FEE35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45538-C1AC-4906-92B1-076FEA8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E091C-9B81-4E70-AB7A-783D92A9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9789B-DD47-4E41-90C5-EC9CAE59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3FCE2-37F5-4443-AD14-E70F5762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71AE8-012B-40D7-8D9E-A20B2AE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480-0BA3-4917-8932-F0D7723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E5B-59EF-4500-B875-0786F7E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B81-CFF7-46E0-9492-C0F393C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E5F-4A78-4F10-89D0-5F80F1F0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727-6AFC-4CE6-87A4-7603875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78C-7B55-4C9F-8185-21C4396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0927-591F-424A-BC5C-B97CC54E5C5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0D67-884A-4746-840F-25A0F212BEA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76B-AFF7-4349-A74D-443F3CF82AE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-kazan.ru/wp-content/uploads/2012/02/&#1064;&#1072;&#1083;&#1103;&#1087;&#1080;&#1085;-&#1091;-&#1092;&#1083;&#1080;&#1075;&#1077;&#1083;&#1103;-&#1089;&#1072;&#1081;&#1090;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3054240"/>
            <a:ext cx="835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939636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45f1f"/>
                </a:solidFill>
                <a:latin typeface="comic"/>
              </a:rPr>
              <a:t>ФЕДОР ШАЛЯПИН – НАШ ВЕЛИКИЙ СООТЕЧЕСТВЕННИК</a:t>
            </a:r>
            <a:endParaRPr b="0" lang="en-US" sz="6000" spc="-1" strike="noStrike">
              <a:solidFill>
                <a:srgbClr val="f9f9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14616"/>
                </a:solidFill>
                <a:latin typeface="comic"/>
              </a:rPr>
              <a:t>«Театр свел меня с ума…»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9640" y="5516640"/>
            <a:ext cx="40388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Казанский городской 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35280" y="2133720"/>
            <a:ext cx="3251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200" spc="-1" strike="noStrike">
                <a:solidFill>
                  <a:srgbClr val="314616"/>
                </a:solidFill>
                <a:latin typeface="Times New Roman"/>
              </a:rPr>
              <a:t>"Шаляпин сохранил в себе сердце и великую любовь к искусству. Не потому ли, что в городе был театр. Не будь его - не было бы и Шаляпина"</a:t>
            </a:r>
            <a:r>
              <a:rPr b="0" lang="ru-RU" sz="2200" spc="-1" strike="noStrike">
                <a:solidFill>
                  <a:srgbClr val="314616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4616"/>
                </a:solidFill>
                <a:latin typeface="Times New Roman"/>
              </a:rPr>
              <a:t>   </a:t>
            </a:r>
            <a:r>
              <a:rPr b="0" i="1" lang="ru-RU" sz="2200" spc="-1" strike="noStrike">
                <a:solidFill>
                  <a:srgbClr val="314616"/>
                </a:solidFill>
                <a:latin typeface="Times New Roman"/>
              </a:rPr>
              <a:t>К.Коровин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1782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200720" cy="505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57976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1854000" cy="2896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0" y="45079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4616"/>
                </a:solidFill>
                <a:latin typeface="Times New Roman"/>
              </a:rPr>
              <a:t>Ф.И.Шаляпин в роли Ивана Сусанина (опера "Иван Сусанин" М.Глинки)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335640" y="37065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4616"/>
                </a:solidFill>
                <a:latin typeface="Times New Roman"/>
              </a:rPr>
              <a:t>Ф.И.Шаляпин в роли Бориса(оп. "Борис Годунов" М.П.Мусоргског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2070000" cy="2884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4356000" y="1125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4616"/>
                </a:solidFill>
                <a:latin typeface="Times New Roman"/>
              </a:rPr>
              <a:t>Ф.И.Шаляпин в роли князя Галицкого (опера А.Бородина "Князь Игорь"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6732720" y="620640"/>
            <a:ext cx="204768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1954080" cy="2982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395280" y="56271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4616"/>
                </a:solidFill>
                <a:latin typeface="Times New Roman"/>
              </a:rPr>
              <a:t>Ф.И.Шаляпин в роли Мельника (опера А.Даргомыжского "Русалка")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4000680" cy="3333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104920" cy="2909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3"/>
          <a:stretch/>
        </p:blipFill>
        <p:spPr>
          <a:xfrm>
            <a:off x="5292720" y="3573360"/>
            <a:ext cx="3411720" cy="2808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5"/>
          <a:stretch/>
        </p:blipFill>
        <p:spPr>
          <a:xfrm>
            <a:off x="5364000" y="476280"/>
            <a:ext cx="2552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2857680" cy="2048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4247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616"/>
                </a:solidFill>
                <a:latin typeface="comic"/>
              </a:rPr>
              <a:t>Места в Казани, связанные с детством Шаляпина.</a:t>
            </a:r>
            <a:endParaRPr b="0" lang="en-US" sz="28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79280" y="3429000"/>
            <a:ext cx="50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Дом П.Д. Лисицына 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857320" cy="2000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0"/>
          <p:cNvSpPr/>
          <p:nvPr/>
        </p:nvSpPr>
        <p:spPr>
          <a:xfrm>
            <a:off x="468360" y="3458520"/>
            <a:ext cx="12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Шестое приходское училище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3"/>
          <a:stretch/>
        </p:blipFill>
        <p:spPr>
          <a:xfrm>
            <a:off x="1187280" y="40766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344240" y="60922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Благовещенский собор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99" name="Picture 13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2857320" cy="1819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4643280" y="6093000"/>
            <a:ext cx="41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Варваринская церковь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484520" cy="3240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59280" y="83628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314616"/>
                </a:solidFill>
                <a:latin typeface="Times New Roman"/>
              </a:rPr>
              <a:t>   </a:t>
            </a:r>
            <a:r>
              <a:rPr b="0" i="1" lang="ru-RU" sz="2200" spc="-1" strike="noStrike">
                <a:solidFill>
                  <a:srgbClr val="314616"/>
                </a:solidFill>
                <a:latin typeface="Times New Roman"/>
              </a:rPr>
              <a:t>"Взгрустнулось маленько, - пишет Шаляпин Горькому в 1928 году из Парижа, - как прочитал в письме о твоем пребывании в Казани. Как перед глазами вырос город. Вспомнил всю разнообразную жизнь в нем, счастье и несчастье, будни и праздники, масленицу, гимназисток, магазины, ссудные кассы и сапожные мастерские. Чуть не заплакал, остановив воображение у дорогого Казанского городского театра!"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14616"/>
                </a:solidFill>
                <a:latin typeface="comic"/>
              </a:rPr>
              <a:t>XXXI Международный оперный фестиваль имени Федора Шаляпин</a:t>
            </a:r>
            <a:endParaRPr b="0" lang="en-US" sz="34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281320" cy="2481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940360" y="4724280"/>
            <a:ext cx="2778120" cy="1424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394000" cy="1795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3051000" cy="164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6"/>
          <a:stretch/>
        </p:blipFill>
        <p:spPr>
          <a:xfrm>
            <a:off x="3059280" y="2637000"/>
            <a:ext cx="32241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14616"/>
                </a:solidFill>
                <a:latin typeface="comic"/>
              </a:rPr>
              <a:t>Знаменитые участники Шаляпинского фестиваля </a:t>
            </a:r>
            <a:endParaRPr b="0" lang="en-US" sz="34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895480" cy="1581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571480" cy="178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1962360" cy="2333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5940360" y="1989000"/>
            <a:ext cx="2800440" cy="16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5"/>
          <a:stretch/>
        </p:blipFill>
        <p:spPr>
          <a:xfrm>
            <a:off x="755640" y="3860640"/>
            <a:ext cx="2209680" cy="198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3348000" y="4149720"/>
            <a:ext cx="2357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151920"/>
            <a:ext cx="74739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14616"/>
                </a:solidFill>
                <a:latin typeface="comic"/>
              </a:rPr>
              <a:t>Памятник Шаляпину в Казани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1936440" cy="2911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1724040" cy="264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0192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4"/>
          <a:stretch/>
        </p:blipFill>
        <p:spPr>
          <a:xfrm>
            <a:off x="3203640" y="46530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151920"/>
            <a:ext cx="74739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14616"/>
                </a:solidFill>
                <a:latin typeface="comic"/>
              </a:rPr>
              <a:t>Камерный Шаляпинский Зал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561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Экспонаты Шаляпинского зала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1684440" cy="341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093760" cy="324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2843280" y="2133720"/>
            <a:ext cx="3058920" cy="2192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3"/>
          <p:cNvSpPr/>
          <p:nvPr/>
        </p:nvSpPr>
        <p:spPr>
          <a:xfrm>
            <a:off x="179280" y="540792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Богоявленская колокольня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724360" y="52999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Камерный Шаляпинский зал.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944880" cy="5378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2195640" y="5660280"/>
            <a:ext cx="45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4616"/>
                </a:solidFill>
                <a:latin typeface="comic"/>
              </a:rPr>
              <a:t>1873 – 1938 г.г.</a:t>
            </a:r>
            <a:endParaRPr b="0" lang="en-US" sz="4000" spc="-1" strike="noStrike">
              <a:solidFill>
                <a:srgbClr val="ffffff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14616"/>
                </a:solidFill>
                <a:latin typeface="Times New Roman"/>
              </a:rPr>
              <a:t>Автопортрет.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30" name="10. Вдоль по Питерской_mp3cut.foxcom.su_.mp3" descr=""/>
          <p:cNvPicPr/>
          <p:nvPr/>
        </p:nvPicPr>
        <p:blipFill>
          <a:blip r:embed="rId2"/>
          <a:stretch/>
        </p:blipFill>
        <p:spPr>
          <a:xfrm>
            <a:off x="810108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596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90880" cy="2982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397240" cy="2397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389320" cy="238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3276720" y="3357720"/>
            <a:ext cx="2241360" cy="26222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2124000" y="60238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Ф.И.Шаляпин в роли Дон Кихота в одноименном кинофильме, 1933 г.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356000" y="76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Ф.И.Шаляпи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прослушивает записи...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235" name="Picture 11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2394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17136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616"/>
                </a:solidFill>
                <a:latin typeface="comic"/>
              </a:rPr>
              <a:t>«Шаляпин никогда не умрет. Умереть не может. Ибо он, этот чудо-артист, с истинно сказочным дарованием, незабываем... Для будущих поколений он будет легендой»</a:t>
            </a:r>
            <a:r>
              <a:rPr b="0" lang="en-US" sz="2800" spc="-1" strike="noStrike">
                <a:solidFill>
                  <a:srgbClr val="314616"/>
                </a:solidFill>
                <a:latin typeface="comic"/>
              </a:rPr>
              <a:t>                          </a:t>
            </a:r>
            <a:r>
              <a:rPr b="0" lang="ru-RU" sz="2800" spc="-1" strike="noStrike">
                <a:solidFill>
                  <a:srgbClr val="314616"/>
                </a:solidFill>
                <a:latin typeface="comic"/>
              </a:rPr>
              <a:t> С.В.Рахманинов</a:t>
            </a:r>
            <a:r>
              <a:rPr b="0" lang="ru-RU" sz="3800" spc="-1" strike="noStrike">
                <a:solidFill>
                  <a:srgbClr val="f9f9f9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2119320" cy="3274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46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шал-портрет"/>
          <p:cNvPicPr/>
          <p:nvPr/>
        </p:nvPicPr>
        <p:blipFill>
          <a:blip r:embed="rId1"/>
          <a:stretch/>
        </p:blipFill>
        <p:spPr>
          <a:xfrm>
            <a:off x="900000" y="1844640"/>
            <a:ext cx="2627280" cy="4249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14616"/>
                </a:solidFill>
                <a:latin typeface="comic"/>
              </a:rPr>
              <a:t>140 лет со дня рождения </a:t>
            </a:r>
            <a:br>
              <a:rPr sz="4200"/>
            </a:br>
            <a:r>
              <a:rPr b="0" lang="ru-RU" sz="4200" spc="-1" strike="noStrike">
                <a:solidFill>
                  <a:srgbClr val="314616"/>
                </a:solidFill>
                <a:latin typeface="comic"/>
              </a:rPr>
              <a:t>великого артиста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95280" y="1447560"/>
            <a:ext cx="46911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14616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314616"/>
                </a:solidFill>
                <a:latin typeface="Times New Roman"/>
              </a:rPr>
              <a:t>«Прекрасные певцы были, есть и будут… Но все музыканты мира воздают дань восхищения неповторимому гению Шаляпина. Этот великий артист соединил в себе непревзойденного вокалиста, музыканта, актера. Таким гармоничным комплексом всех этих качеств, воплощенном в одном художнике, обладал только один Шаляпин»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4616"/>
                </a:solidFill>
                <a:latin typeface="Times New Roman"/>
              </a:rPr>
              <a:t>                                       </a:t>
            </a:r>
            <a:r>
              <a:rPr b="0" lang="ru-RU" sz="2200" spc="-1" strike="noStrike">
                <a:solidFill>
                  <a:srgbClr val="314616"/>
                </a:solidFill>
                <a:latin typeface="Times New Roman"/>
              </a:rPr>
              <a:t>Жорж Орик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14616"/>
                </a:solidFill>
                <a:latin typeface="comic"/>
              </a:rPr>
              <a:t>Фотографии Шаляпина в образах</a:t>
            </a:r>
            <a:r>
              <a:rPr b="0" lang="ru-RU" sz="3400" spc="-1" strike="noStrike">
                <a:solidFill>
                  <a:srgbClr val="577b27"/>
                </a:solidFill>
                <a:latin typeface="comic"/>
              </a:rPr>
              <a:t> </a:t>
            </a:r>
            <a:r>
              <a:rPr b="0" lang="ru-RU" sz="3400" spc="-1" strike="noStrike">
                <a:solidFill>
                  <a:srgbClr val="314616"/>
                </a:solidFill>
                <a:latin typeface="comic"/>
              </a:rPr>
              <a:t>героев любимых опер</a:t>
            </a:r>
            <a:endParaRPr b="0" lang="en-US" sz="34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258920" y="4005360"/>
            <a:ext cx="1695240" cy="237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1617840" cy="2262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620720" cy="226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6012000" y="3933720"/>
            <a:ext cx="1712880" cy="236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1227240" cy="226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6"/>
          <a:stretch/>
        </p:blipFill>
        <p:spPr>
          <a:xfrm>
            <a:off x="3492360" y="1484280"/>
            <a:ext cx="1959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14616"/>
                </a:solidFill>
                <a:latin typeface="comic"/>
              </a:rPr>
              <a:t>Шаляпин – излюбленная модель художников-современников</a:t>
            </a:r>
            <a:endParaRPr b="0" lang="en-US" sz="34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655640" cy="2522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1076400" cy="254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2084400" cy="2193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7"/>
          <p:cNvSpPr/>
          <p:nvPr/>
        </p:nvSpPr>
        <p:spPr>
          <a:xfrm>
            <a:off x="468360" y="4076280"/>
            <a:ext cx="20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А.Я.Головин. "Ф.И.</a:t>
            </a:r>
            <a:r>
              <a:rPr b="1" i="1" lang="ru-RU" sz="1800" spc="-1" strike="noStrike">
                <a:solidFill>
                  <a:srgbClr val="314616"/>
                </a:solidFill>
                <a:latin typeface="Times New Roman"/>
              </a:rPr>
              <a:t>Шаляпин</a:t>
            </a: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 в роли Бориса Годунова"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5796000" y="41540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Портрет Федора </a:t>
            </a:r>
            <a:r>
              <a:rPr b="1" i="1" lang="ru-RU" sz="1800" spc="-1" strike="noStrike">
                <a:solidFill>
                  <a:srgbClr val="314616"/>
                </a:solidFill>
                <a:latin typeface="Times New Roman"/>
              </a:rPr>
              <a:t>Шаляпина</a:t>
            </a: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 работы К.Коров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3708360" y="220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В.Серов "Портрет Ф.И.</a:t>
            </a:r>
            <a:r>
              <a:rPr b="1" i="1" lang="ru-RU" sz="1800" spc="-1" strike="noStrike">
                <a:solidFill>
                  <a:srgbClr val="314616"/>
                </a:solidFill>
                <a:latin typeface="Times New Roman"/>
              </a:rPr>
              <a:t>Шаляпина</a:t>
            </a: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"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4788000" y="55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Бюст Ф.И.</a:t>
            </a:r>
            <a:r>
              <a:rPr b="1" i="1" lang="ru-RU" sz="1800" spc="-1" strike="noStrike">
                <a:solidFill>
                  <a:srgbClr val="314616"/>
                </a:solidFill>
                <a:latin typeface="Times New Roman"/>
              </a:rPr>
              <a:t>Шаляпина</a:t>
            </a: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 работы С.Коненкова</a:t>
            </a:r>
            <a:r>
              <a:rPr b="0" lang="ru-RU" sz="1800" spc="-1" strike="noStrike">
                <a:solidFill>
                  <a:srgbClr val="314616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4"/>
          <a:stretch/>
        </p:blipFill>
        <p:spPr>
          <a:xfrm>
            <a:off x="5796000" y="1628640"/>
            <a:ext cx="2854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616"/>
                </a:solidFill>
                <a:latin typeface="comic"/>
              </a:rPr>
              <a:t>Портрет работы Б.Кустодиева</a:t>
            </a:r>
            <a:br>
              <a:rPr sz="3200"/>
            </a:br>
            <a:r>
              <a:rPr b="0" lang="ru-RU" sz="3200" spc="-1" strike="noStrike">
                <a:solidFill>
                  <a:srgbClr val="314616"/>
                </a:solidFill>
                <a:latin typeface="comic"/>
              </a:rPr>
              <a:t>«Шаляпин на ярмарке в Нижнем Новгороде»</a:t>
            </a:r>
            <a:endParaRPr b="0" lang="en-US" sz="32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525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14616"/>
                </a:solidFill>
                <a:latin typeface="comic"/>
              </a:rPr>
              <a:t>Шаляпин – художник.</a:t>
            </a:r>
            <a:br>
              <a:rPr sz="4200"/>
            </a:br>
            <a:r>
              <a:rPr b="0" lang="ru-RU" sz="4200" spc="-1" strike="noStrike">
                <a:solidFill>
                  <a:srgbClr val="314616"/>
                </a:solidFill>
                <a:latin typeface="comic"/>
              </a:rPr>
              <a:t> Скульптура и зарисовки артиста.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465280" cy="333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202040" cy="1968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1266840" cy="183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490760" cy="184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5"/>
          <a:stretch/>
        </p:blipFill>
        <p:spPr>
          <a:xfrm>
            <a:off x="4859280" y="4365720"/>
            <a:ext cx="1585800" cy="1865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4"/>
          <p:cNvSpPr/>
          <p:nvPr/>
        </p:nvSpPr>
        <p:spPr>
          <a:xfrm>
            <a:off x="900000" y="5154120"/>
            <a:ext cx="3384720" cy="1372680"/>
          </a:xfrm>
          <a:prstGeom prst="rect">
            <a:avLst/>
          </a:prstGeom>
          <a:solidFill>
            <a:srgbClr val="ffe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4616"/>
                </a:solidFill>
                <a:latin typeface="Times New Roman"/>
              </a:rPr>
              <a:t>"...Нет сомнения - перед нами скульптор, каких еще не было. Потрясающая сила дарования, всесторонняя, многогранная. Шаляпин и был таков - всеобъемлющий гений."</a:t>
            </a:r>
            <a:endParaRPr b="0" lang="en-US" sz="1400" spc="-1" strike="noStrike">
              <a:solidFill>
                <a:srgbClr val="ffffff"/>
              </a:solidFill>
              <a:latin typeface="com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4616"/>
                </a:solidFill>
                <a:latin typeface="Times New Roman"/>
              </a:rPr>
              <a:t>С.Т.Коненков</a:t>
            </a:r>
            <a:endParaRPr b="0" lang="en-US" sz="14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14616"/>
                </a:solidFill>
                <a:latin typeface="comic"/>
              </a:rPr>
              <a:t>Казань – родина Федора Шаляпина</a:t>
            </a:r>
            <a:endParaRPr b="0" lang="en-US" sz="3800" spc="-1" strike="noStrike">
              <a:solidFill>
                <a:srgbClr val="f9f9f9"/>
              </a:solidFill>
              <a:latin typeface="Arial"/>
            </a:endParaRPr>
          </a:p>
        </p:txBody>
      </p:sp>
      <p:pic>
        <p:nvPicPr>
          <p:cNvPr id="160" name="Picture 5" descr="каз_0"/>
          <p:cNvPicPr/>
          <p:nvPr/>
        </p:nvPicPr>
        <p:blipFill>
          <a:blip r:embed="rId1"/>
          <a:stretch/>
        </p:blipFill>
        <p:spPr>
          <a:xfrm>
            <a:off x="324000" y="1341360"/>
            <a:ext cx="6992640" cy="4303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249640" cy="2886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1763640" y="5875920"/>
            <a:ext cx="59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14616"/>
                </a:solidFill>
                <a:latin typeface="comic"/>
              </a:rPr>
              <a:t>“</a:t>
            </a:r>
            <a:r>
              <a:rPr b="0" i="1" lang="ru-RU" sz="2400" spc="-1" strike="noStrike">
                <a:solidFill>
                  <a:srgbClr val="314616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314616"/>
                </a:solidFill>
                <a:latin typeface="Arial"/>
              </a:rPr>
              <a:t>..</a:t>
            </a:r>
            <a:r>
              <a:rPr b="0" i="1" lang="ru-RU" sz="2400" spc="-1" strike="noStrike">
                <a:solidFill>
                  <a:srgbClr val="314616"/>
                </a:solidFill>
                <a:latin typeface="comic"/>
              </a:rPr>
              <a:t>прекраснейший город в мире"</a:t>
            </a:r>
            <a:r>
              <a:rPr b="0" lang="ru-RU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105160" y="333000"/>
            <a:ext cx="35701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314616"/>
                </a:solidFill>
                <a:latin typeface="Times New Roman"/>
              </a:rPr>
              <a:t>Такой была Богоявленская церковь, когда в ней крестили Федю Шаляп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18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65" name="Picture 5" descr="http://history-kazan.ru/wp-content/uploads/2012/02/%D0%A8%D0%B0%D0%BB%D1%8F%D0%BF%D0%B8%D0%BD-%D1%83-%D1%84%D0%BB%D0%B8%D0%B3%D0%B5%D0%BB%D1%8F-%D1%81%D0%B0%D0%B9%D1%82-199x3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852640"/>
            <a:ext cx="1895400" cy="2857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539640" y="472392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Arial"/>
                <a:ea typeface="Times New Roman"/>
              </a:rPr>
              <a:t>Федор Шаляпин у флигеля, в котором родился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2857320" cy="1981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5148360" y="364392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14616"/>
                </a:solidFill>
                <a:latin typeface="Times New Roman"/>
              </a:rPr>
              <a:t>Улица в Суконной слобод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2857320" cy="196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"/>
          <p:cNvPicPr/>
          <p:nvPr/>
        </p:nvPicPr>
        <p:blipFill>
          <a:blip r:embed="rId5"/>
          <a:stretch/>
        </p:blipFill>
        <p:spPr>
          <a:xfrm>
            <a:off x="684360" y="836640"/>
            <a:ext cx="1903320" cy="26766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5"/>
          <p:cNvSpPr/>
          <p:nvPr/>
        </p:nvSpPr>
        <p:spPr>
          <a:xfrm>
            <a:off x="2627280" y="1051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4616"/>
                </a:solidFill>
                <a:latin typeface="Times New Roman"/>
              </a:rPr>
              <a:t>Иван Шаляпин — отец Федора Шаляпина</a:t>
            </a:r>
            <a:r>
              <a:rPr b="0" lang="ru-RU" sz="1800" spc="-1" strike="noStrike">
                <a:solidFill>
                  <a:srgbClr val="314616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11-05T16:14:07Z</dcterms:modified>
  <cp:revision>29</cp:revision>
  <dc:subject/>
  <dc:title>ТРАДИЦИИ</dc:title>
</cp:coreProperties>
</file>