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5.jpeg" ContentType="image/jpeg"/>
  <Override PartName="/ppt/media/image51.jpeg" ContentType="image/jpeg"/>
  <Override PartName="/ppt/media/image62.png" ContentType="image/png"/>
  <Override PartName="/ppt/media/image14.jpeg" ContentType="image/jpeg"/>
  <Override PartName="/ppt/media/image59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41.jpeg" ContentType="image/jpeg"/>
  <Override PartName="/ppt/media/image66.png" ContentType="image/pn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72.jpeg" ContentType="image/jpeg"/>
  <Override PartName="/ppt/media/image23.jpeg" ContentType="image/jpeg"/>
  <Override PartName="/ppt/media/image12.png" ContentType="image/png"/>
  <Override PartName="/ppt/media/image71.jpeg" ContentType="image/jpeg"/>
  <Override PartName="/ppt/media/image70.jpeg" ContentType="image/jpeg"/>
  <Override PartName="/ppt/media/image43.jpeg" ContentType="image/jpeg"/>
  <Override PartName="/ppt/media/image69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7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64.png" ContentType="image/png"/>
  <Override PartName="/ppt/media/image16.jpeg" ContentType="image/jpeg"/>
  <Override PartName="/ppt/media/image21.jpeg" ContentType="image/jpeg"/>
  <Override PartName="/ppt/media/image65.png" ContentType="image/png"/>
  <Override PartName="/ppt/media/image7.jpeg" ContentType="image/jpeg"/>
  <Override PartName="/ppt/media/image42.jpeg" ContentType="image/jpeg"/>
  <Override PartName="/ppt/media/image3.gif" ContentType="image/gif"/>
  <Override PartName="/ppt/media/image20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9.jpeg" ContentType="image/jpeg"/>
  <Override PartName="/ppt/media/image44.jpeg" ContentType="image/jpeg"/>
  <Override PartName="/ppt/media/image38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media/image36.jpeg" ContentType="image/jpe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358-9F36-412A-80E7-D2B8BE0C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253-C13A-4441-AC52-507B066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1C2-5EA4-41E4-8AD3-8CA2610B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49E-ECA1-408B-922E-237AD169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F87E-0AE0-41A2-A25F-39D52B1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770-1615-4230-9A15-DB3A617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BCCD-7513-4B4A-9CDE-F2E64BD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C05-3D98-4AFA-9B6D-9C668E8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907B-6B00-405E-B16C-6D4A71A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B16-A2C0-4F6E-AA83-94D8F59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5409-8894-457E-9F5D-C29167D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0AF-D1B8-41DE-845F-11328A0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D5A-7B5C-4CCC-BB3F-CAF51D2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1C1-BCB0-42CF-BEAC-0999713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0866-A721-4B44-8BC8-BF258EAE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6F6D-673C-47E7-B984-8AAE7E9D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1E0-C3FD-4F94-80FD-4E9B9174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09-B5C7-4F18-A11D-1F1B4C28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5C0-CC11-4860-8334-4C3CD25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2DF-D237-4CB0-BEA0-CEF26B5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F0A-ED8E-4141-A27D-80CEF14E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2FE-D621-40A8-8C70-817A4DA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119-4B06-4C74-8A93-AE23179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3D8-91DF-4E75-AC9A-5374978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AC6-B6F1-44BB-8AF6-5F445A626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E49-B5A3-4EFA-B5D3-7DCF5C722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jpeg"/><Relationship Id="rId13" Type="http://schemas.openxmlformats.org/officeDocument/2006/relationships/image" Target="../media/image52.jpeg"/><Relationship Id="rId14" Type="http://schemas.openxmlformats.org/officeDocument/2006/relationships/image" Target="../media/image53.jpeg"/><Relationship Id="rId15" Type="http://schemas.openxmlformats.org/officeDocument/2006/relationships/image" Target="../media/image54.jpeg"/><Relationship Id="rId16" Type="http://schemas.openxmlformats.org/officeDocument/2006/relationships/image" Target="../media/image55.jpeg"/><Relationship Id="rId17" Type="http://schemas.openxmlformats.org/officeDocument/2006/relationships/image" Target="../media/image56.jpeg"/><Relationship Id="rId18" Type="http://schemas.openxmlformats.org/officeDocument/2006/relationships/image" Target="../media/image57.jpe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я1"/>
          <p:cNvPicPr/>
          <p:nvPr/>
        </p:nvPicPr>
        <p:blipFill>
          <a:blip r:embed="rId1"/>
          <a:stretch/>
        </p:blipFill>
        <p:spPr>
          <a:xfrm>
            <a:off x="5940360" y="1773360"/>
            <a:ext cx="2790720" cy="280800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583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ВОЗМОЖНОСТИ АУДИОВИЗУАЛЬНЫХ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РЕДСТВ ОБУЧЕНИЯ В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ЗДАНИИ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ЗЫКОВОЙ СРЕДЫ»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7280" y="5589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:                 Фетисова Светла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БОУ СОШ № 46 г. Вороне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483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i="1" lang="ru-RU" sz="2400" spc="-1" strike="noStrike">
                <a:solidFill>
                  <a:srgbClr val="8c8cb4"/>
                </a:solidFill>
                <a:latin typeface="Times New Roman"/>
              </a:rPr>
              <a:t>аудиовизуальными средствами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ВСО)  подразумеваются учебные пособия, предназначенные для создания иноязычной среды и стимулирования речевой деятельности учащихся, рассчитанные на зрительное, слуховое либо зрительно-слуховое восприятие заключенной в них информации. Это диапроекции (диафильмы и диапозитивы), эпипроекции (демонстрация на экране рисунков, чертежей и т.п., напечатанных или нарисованных на бумаге и демонстрируемых с помощью эпископов), кодопроекции ( учебные кинофильмы, учебные телекинофильмы, звуковые пособ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1833"/>
          <p:cNvPicPr/>
          <p:nvPr/>
        </p:nvPicPr>
        <p:blipFill>
          <a:blip r:embed="rId2"/>
          <a:stretch/>
        </p:blipFill>
        <p:spPr>
          <a:xfrm>
            <a:off x="179280" y="333360"/>
            <a:ext cx="3313080" cy="21589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6" descr="6289_200"/>
          <p:cNvPicPr/>
          <p:nvPr/>
        </p:nvPicPr>
        <p:blipFill>
          <a:blip r:embed="rId3"/>
          <a:stretch/>
        </p:blipFill>
        <p:spPr>
          <a:xfrm>
            <a:off x="250920" y="2637000"/>
            <a:ext cx="1419120" cy="190476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7" descr="1001101227"/>
          <p:cNvPicPr/>
          <p:nvPr/>
        </p:nvPicPr>
        <p:blipFill>
          <a:blip r:embed="rId4"/>
          <a:stretch/>
        </p:blipFill>
        <p:spPr>
          <a:xfrm>
            <a:off x="1835280" y="2637000"/>
            <a:ext cx="1523880" cy="18716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8" descr="images"/>
          <p:cNvPicPr/>
          <p:nvPr/>
        </p:nvPicPr>
        <p:blipFill>
          <a:blip r:embed="rId5"/>
          <a:stretch/>
        </p:blipFill>
        <p:spPr>
          <a:xfrm>
            <a:off x="324000" y="4724280"/>
            <a:ext cx="3024000" cy="1944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692280"/>
            <a:ext cx="800748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c8cb4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8c8cb4"/>
                </a:solidFill>
                <a:latin typeface="Times New Roman"/>
              </a:rPr>
              <a:t>Естественная языковая среда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вокупность речевых и неречевых условий, которые отражают быт, историю, культуру и традиции носителей языка в фактах данн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c8cb4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8c8cb4"/>
                </a:solidFill>
                <a:latin typeface="Times New Roman"/>
              </a:rPr>
              <a:t>Искусственная (учебная) языковая среда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вокупность моделируемых ситуаций общения, которые вызывают у обучаемых готовность к иноязычной коммуникативной деятельности и побуждают их к адекватному использованию речевых и неречевых средств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90384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627280" y="4653000"/>
            <a:ext cx="4105440" cy="2087640"/>
          </a:xfrm>
          <a:prstGeom prst="rect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348000" y="5013360"/>
            <a:ext cx="2664000" cy="107964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ЗЫКОВАЯ СРЕД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763640" y="3860640"/>
            <a:ext cx="5832720" cy="792360"/>
          </a:xfrm>
          <a:prstGeom prst="rect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УДИОВИЗУАЛЬНЫЕ СРЕДСТВА ОБУЧЕНИЯ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3851280" y="5877000"/>
            <a:ext cx="111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276720" y="59691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РЕЧЕВОЕ ОБЩЕНИ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203640" y="460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ЗЫКОВОЙ МАТЕРИАЛ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468360" y="4941720"/>
            <a:ext cx="2879640" cy="136872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ЧЕВЫ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ТУАЦИ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AutoShape 26"/>
          <p:cNvSpPr/>
          <p:nvPr/>
        </p:nvSpPr>
        <p:spPr>
          <a:xfrm flipH="1">
            <a:off x="6012000" y="4869000"/>
            <a:ext cx="2952720" cy="136836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ОВЕДЧЕСКИ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826920" y="1143000"/>
            <a:ext cx="7534440" cy="171612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ДИОВИЗУАЛЬНЫЕ СРЕДСТВА ОБУЧЕНИ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0" y="4311720"/>
            <a:ext cx="2987640" cy="137160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нограммы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078000" y="4311720"/>
            <a:ext cx="2988000" cy="135396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граммы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156360" y="4311720"/>
            <a:ext cx="2987640" cy="13255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еофонограммы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Line 7"/>
          <p:cNvSpPr/>
          <p:nvPr/>
        </p:nvSpPr>
        <p:spPr>
          <a:xfrm flipH="1">
            <a:off x="1401840" y="2849400"/>
            <a:ext cx="3170160" cy="146232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4572000" y="2876400"/>
            <a:ext cx="0" cy="143532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572000" y="2819520"/>
            <a:ext cx="3032280" cy="149220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68360" y="260280"/>
            <a:ext cx="8136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канала поступления информации АВСО принято подразделять на слуховые (фонограммы),зритель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идеограммы), зрительно-слухов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идеофонограммы)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755640" y="620640"/>
            <a:ext cx="7534440" cy="171612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нограммы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4149720"/>
            <a:ext cx="2987640" cy="137160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мзапись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059280" y="3429000"/>
            <a:ext cx="2987640" cy="135396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оза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6156360" y="4221000"/>
            <a:ext cx="2987640" cy="132588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опередачи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 flipH="1">
            <a:off x="1403280" y="2349360"/>
            <a:ext cx="3168720" cy="1749600"/>
          </a:xfrm>
          <a:prstGeom prst="line">
            <a:avLst/>
          </a:prstGeom>
          <a:ln w="572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572000" y="2349360"/>
            <a:ext cx="0" cy="107964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572000" y="2349360"/>
            <a:ext cx="3095640" cy="187164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Picture 10" descr="bk103_16_01_01"/>
          <p:cNvPicPr/>
          <p:nvPr/>
        </p:nvPicPr>
        <p:blipFill>
          <a:blip r:embed="rId2"/>
          <a:stretch/>
        </p:blipFill>
        <p:spPr>
          <a:xfrm>
            <a:off x="179280" y="189000"/>
            <a:ext cx="571680" cy="75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2"/>
          <p:cNvSpPr/>
          <p:nvPr/>
        </p:nvSpPr>
        <p:spPr>
          <a:xfrm>
            <a:off x="395280" y="260280"/>
            <a:ext cx="6624720" cy="165600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грамм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2924280"/>
            <a:ext cx="2987640" cy="15127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ые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, действия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078000" y="3860640"/>
            <a:ext cx="2988000" cy="280836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-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зительные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рисунки,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ции с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 живописи,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ы,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фильмы,  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ии, 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ие карт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156360" y="4149720"/>
            <a:ext cx="2987640" cy="172728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е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, схемы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0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 flipH="1">
            <a:off x="1403280" y="1916280"/>
            <a:ext cx="2376720" cy="100800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708360" y="1916280"/>
            <a:ext cx="719280" cy="194436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3708360" y="1916280"/>
            <a:ext cx="3024360" cy="151128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10" descr="igrushki"/>
          <p:cNvPicPr/>
          <p:nvPr/>
        </p:nvPicPr>
        <p:blipFill>
          <a:blip r:embed="rId2"/>
          <a:stretch/>
        </p:blipFill>
        <p:spPr>
          <a:xfrm>
            <a:off x="250920" y="4437000"/>
            <a:ext cx="2396880" cy="23036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5" name="Picture 12" descr="1210253709_15"/>
          <p:cNvPicPr/>
          <p:nvPr/>
        </p:nvPicPr>
        <p:blipFill>
          <a:blip r:embed="rId3"/>
          <a:stretch/>
        </p:blipFill>
        <p:spPr>
          <a:xfrm>
            <a:off x="5364000" y="1341360"/>
            <a:ext cx="3672000" cy="27370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2"/>
          <p:cNvSpPr/>
          <p:nvPr/>
        </p:nvSpPr>
        <p:spPr>
          <a:xfrm>
            <a:off x="804960" y="260280"/>
            <a:ext cx="7534080" cy="130500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фонограмм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0" y="2349360"/>
            <a:ext cx="2087640" cy="256248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2268360" y="2205000"/>
            <a:ext cx="2087640" cy="25621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788000" y="2349360"/>
            <a:ext cx="2087640" cy="256248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056360" y="2336760"/>
            <a:ext cx="2087640" cy="25621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 flipH="1">
            <a:off x="960480" y="1554120"/>
            <a:ext cx="3611520" cy="77796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3428640" y="1539720"/>
            <a:ext cx="1143000" cy="79236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572000" y="1554120"/>
            <a:ext cx="1249200" cy="79236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4572000" y="1569960"/>
            <a:ext cx="3597120" cy="76212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Picture 11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2"/>
          <p:cNvSpPr/>
          <p:nvPr/>
        </p:nvSpPr>
        <p:spPr>
          <a:xfrm rot="18282600">
            <a:off x="-617400" y="3378240"/>
            <a:ext cx="2751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Кинофильмы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 rot="18282600">
            <a:off x="1684440" y="3147840"/>
            <a:ext cx="29476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идеофильмы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 rot="18282600">
            <a:off x="4194000" y="3375000"/>
            <a:ext cx="300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Телепередачи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 rot="18282600">
            <a:off x="6656760" y="3361320"/>
            <a:ext cx="2971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Компьютерные программы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0" name="Picture 16" descr="top_title"/>
          <p:cNvPicPr/>
          <p:nvPr/>
        </p:nvPicPr>
        <p:blipFill>
          <a:blip r:embed="rId2"/>
          <a:stretch/>
        </p:blipFill>
        <p:spPr>
          <a:xfrm>
            <a:off x="1763640" y="5734080"/>
            <a:ext cx="6334200" cy="981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1000209025"/>
          <p:cNvPicPr/>
          <p:nvPr/>
        </p:nvPicPr>
        <p:blipFill>
          <a:blip r:embed="rId3"/>
          <a:stretch/>
        </p:blipFill>
        <p:spPr>
          <a:xfrm>
            <a:off x="5940360" y="4724280"/>
            <a:ext cx="1524240" cy="14572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Picture 18" descr="1000818928"/>
          <p:cNvPicPr/>
          <p:nvPr/>
        </p:nvPicPr>
        <p:blipFill>
          <a:blip r:embed="rId4"/>
          <a:stretch/>
        </p:blipFill>
        <p:spPr>
          <a:xfrm>
            <a:off x="3276720" y="3933720"/>
            <a:ext cx="1523880" cy="215280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24000" y="509760"/>
            <a:ext cx="842472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20151000">
            <a:off x="390960" y="1536480"/>
            <a:ext cx="8396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ально доказано, что если человек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ет информацию одновременно с помощью зрения и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ха, то она воспринимается более обостренно по сравнению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й информацией, которая поступает только через посредство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ния, или только через посредство слуха. Таким образом,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о подобранные зрительно-слуховые образцы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вукозапись, таблицы, схемы, учебные картинки, кино-и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еофильмы, компьютерные программы) помогаю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мся овладевать звукопроизносительными нормами языка,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сико-грамматическими единицами, научиться понимать речь на слух и выражать свои мысли в пределах отобранного круга тем и ситуаций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я.  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5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ss_010704-111031-4023139-77"/>
          <p:cNvPicPr/>
          <p:nvPr/>
        </p:nvPicPr>
        <p:blipFill>
          <a:blip r:embed="rId2"/>
          <a:stretch/>
        </p:blipFill>
        <p:spPr>
          <a:xfrm>
            <a:off x="395280" y="333360"/>
            <a:ext cx="2540160" cy="19051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Picture 9" descr="images"/>
          <p:cNvPicPr/>
          <p:nvPr/>
        </p:nvPicPr>
        <p:blipFill>
          <a:blip r:embed="rId3"/>
          <a:stretch/>
        </p:blipFill>
        <p:spPr>
          <a:xfrm>
            <a:off x="5508720" y="5373720"/>
            <a:ext cx="1038240" cy="12286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Picture 10" descr="1000518404"/>
          <p:cNvPicPr/>
          <p:nvPr/>
        </p:nvPicPr>
        <p:blipFill>
          <a:blip r:embed="rId4"/>
          <a:stretch/>
        </p:blipFill>
        <p:spPr>
          <a:xfrm>
            <a:off x="6588000" y="4221000"/>
            <a:ext cx="1524240" cy="24386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8920" y="4581000"/>
            <a:ext cx="799308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СО являются эффективным источником повышения качества обучения благодаря яркости, выразительности и информационной насыщенности зрительно-слуховых образов, воссоздающих ситуации общения и знакомящих со страной изучаемого языка. Повышается мотивационная сторона обучения, а систематическое применение АВСО позволяет восполнить отсутствие языковой среды на всех этапах занят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3_6"/>
          <p:cNvPicPr/>
          <p:nvPr/>
        </p:nvPicPr>
        <p:blipFill>
          <a:blip r:embed="rId1"/>
          <a:stretch/>
        </p:blipFill>
        <p:spPr>
          <a:xfrm>
            <a:off x="179280" y="0"/>
            <a:ext cx="7239240" cy="454356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Picture 5" descr="TSo 4"/>
          <p:cNvPicPr/>
          <p:nvPr/>
        </p:nvPicPr>
        <p:blipFill>
          <a:blip r:embed="rId2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TSo 4"/>
          <p:cNvPicPr/>
          <p:nvPr/>
        </p:nvPicPr>
        <p:blipFill>
          <a:blip r:embed="rId3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1536840" y="260280"/>
            <a:ext cx="6070320" cy="129564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использования аудиовизуальны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 обучения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39640" y="1700280"/>
            <a:ext cx="315612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возрастных 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е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хся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5580000" y="1628640"/>
            <a:ext cx="3156120" cy="152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монично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разны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 обучения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0" y="3429000"/>
            <a:ext cx="2951280" cy="138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дидактически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й и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ов дидактики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1280" y="5084640"/>
            <a:ext cx="3155760" cy="153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ворчество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а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учающего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148360" y="5084640"/>
            <a:ext cx="337176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ое  внимание уделять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е учащихся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х средств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987880" y="3357720"/>
            <a:ext cx="3156120" cy="152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звукозапис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сточник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цовой   речи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132000" y="3357720"/>
            <a:ext cx="2735280" cy="152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у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ь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1" name="Picture 10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908000" y="267840"/>
            <a:ext cx="63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. 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о АВСО в системе современных средств обучения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419640" y="1349640"/>
            <a:ext cx="52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спространением новых информационных технологий учителя получили возможность использовать различные медиа для обогащения языковой среды своего класса. К концу 90-х - началу XXI века на помощь педагогу пришли компьютерные CD-ROMы, видео, спутниковое телевидение и Интернет. Немногие российские школьники и студенты имеют возможность регулярно посещать страну изучаемого языка. В основном, школьники и студенты путешествуют виртуально, используя телевидение, видео или компьютер.  Очевидно, что медиаобразовательные задания и формы работы стимулируют тренировку навыков чтения, письма, аудирования и разговорной речи. Они развивают критическое мышление, творческие способности учащихся и значительно повышают познавательный интерес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Picture 7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ILTC%20I"/>
          <p:cNvPicPr/>
          <p:nvPr/>
        </p:nvPicPr>
        <p:blipFill>
          <a:blip r:embed="rId2"/>
          <a:stretch/>
        </p:blipFill>
        <p:spPr>
          <a:xfrm>
            <a:off x="684360" y="907920"/>
            <a:ext cx="1714320" cy="94320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6" name="Picture 13" descr="interactive-language_1"/>
          <p:cNvPicPr/>
          <p:nvPr/>
        </p:nvPicPr>
        <p:blipFill>
          <a:blip r:embed="rId3"/>
          <a:stretch/>
        </p:blipFill>
        <p:spPr>
          <a:xfrm>
            <a:off x="179280" y="2492280"/>
            <a:ext cx="3097440" cy="3168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8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Все люди одинак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успешно могут овла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любыми областями</a:t>
            </a:r>
            <a:r>
              <a:rPr b="1" lang="en-US" sz="2400" spc="-1" strike="noStrike">
                <a:solidFill>
                  <a:srgbClr val="8c8cb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Дело не в способност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а в организации процесс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i="1" lang="en-US" sz="2400" spc="-1" strike="noStrike">
                <a:solidFill>
                  <a:srgbClr val="8c8cb4"/>
                </a:solidFill>
                <a:latin typeface="Arial"/>
              </a:rPr>
              <a:t>Сеймур Пейп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violet_flower_divider_hw"/>
          <p:cNvPicPr/>
          <p:nvPr/>
        </p:nvPicPr>
        <p:blipFill>
          <a:blip r:embed="rId2"/>
          <a:stretch/>
        </p:blipFill>
        <p:spPr>
          <a:xfrm>
            <a:off x="0" y="574560"/>
            <a:ext cx="6524640" cy="1295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3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6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427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b4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8c8cb4"/>
                </a:solidFill>
                <a:latin typeface="Arial Black"/>
              </a:rPr>
              <a:t>. ПРАКТИЧЕСКОЕ ПРИМЕНЕНИЕ</a:t>
            </a:r>
            <a:r>
              <a:rPr b="1" lang="ru-RU" sz="2400" spc="-1" strike="noStrike">
                <a:solidFill>
                  <a:srgbClr val="8c8cb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c8cb4"/>
                </a:solidFill>
                <a:latin typeface="Arial Black"/>
              </a:rPr>
              <a:t>АУДИОВИЗУАЛЬНЫХ </a:t>
            </a:r>
            <a:r>
              <a:rPr b="1" lang="ru-RU" sz="2400" spc="-1" strike="noStrike">
                <a:solidFill>
                  <a:srgbClr val="8c8cb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c8cb4"/>
                </a:solidFill>
                <a:latin typeface="Arial Black"/>
              </a:rPr>
              <a:t>СРЕДСТВ ОБУЧЕНИЯ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 аудиовизуальных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я на  начальной ступен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5280" y="2211480"/>
            <a:ext cx="640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зучении иностранного языка в начальной школе принцип наглядности является одним из ведущих. Он во многом компенсирует отсутствие языковой среды, наглядность, представленная при помощи аудиовизуальных средств обучения, способна сделать уроки иностранного языка более разнообразными, доступными и развивающими как по форме, так и по содержанию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упное цветное изображение на экране притягивает внимание       учащихся, создаёт эффект таинственности и позволяет разнообразить языковую тренировку даже в тех случаях, когда запоминаемая лексика достаточно однотипна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0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7232_200"/>
          <p:cNvPicPr/>
          <p:nvPr/>
        </p:nvPicPr>
        <p:blipFill>
          <a:blip r:embed="rId2"/>
          <a:stretch/>
        </p:blipFill>
        <p:spPr>
          <a:xfrm rot="389400">
            <a:off x="6924240" y="195120"/>
            <a:ext cx="1219320" cy="17161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Picture 8" descr="7236_200"/>
          <p:cNvPicPr/>
          <p:nvPr/>
        </p:nvPicPr>
        <p:blipFill>
          <a:blip r:embed="rId3"/>
          <a:stretch/>
        </p:blipFill>
        <p:spPr>
          <a:xfrm rot="21456600">
            <a:off x="7781400" y="1196640"/>
            <a:ext cx="1362240" cy="19051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Picture 9" descr="7234_200"/>
          <p:cNvPicPr/>
          <p:nvPr/>
        </p:nvPicPr>
        <p:blipFill>
          <a:blip r:embed="rId4"/>
          <a:stretch/>
        </p:blipFill>
        <p:spPr>
          <a:xfrm rot="21244200">
            <a:off x="6732720" y="2133360"/>
            <a:ext cx="1380960" cy="190476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4" name="Picture 10" descr="7241_200"/>
          <p:cNvPicPr/>
          <p:nvPr/>
        </p:nvPicPr>
        <p:blipFill>
          <a:blip r:embed="rId5"/>
          <a:stretch/>
        </p:blipFill>
        <p:spPr>
          <a:xfrm rot="609600">
            <a:off x="7451280" y="3284280"/>
            <a:ext cx="1352520" cy="190476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5" name="Picture 11" descr="7238_200"/>
          <p:cNvPicPr/>
          <p:nvPr/>
        </p:nvPicPr>
        <p:blipFill>
          <a:blip r:embed="rId6"/>
          <a:stretch/>
        </p:blipFill>
        <p:spPr>
          <a:xfrm rot="20890800">
            <a:off x="6877080" y="4581360"/>
            <a:ext cx="1352520" cy="19051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бинативное пособие «Visual English (Наглядный английский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646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ор демонстрационного материала каждого пособия включа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постеров «Грамматика, произношение, лексика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карточек «Азбука в картинках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«Буквы и словосочетания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карточек «Лексические темы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бинативный набор «Определяем время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транспарантов «Предметы одежды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ическое посо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ns08"/>
          <p:cNvPicPr/>
          <p:nvPr/>
        </p:nvPicPr>
        <p:blipFill>
          <a:blip r:embed="rId1"/>
          <a:stretch/>
        </p:blipFill>
        <p:spPr>
          <a:xfrm>
            <a:off x="6156360" y="1484280"/>
            <a:ext cx="2695680" cy="19051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9" name="Text Box 5"/>
          <p:cNvSpPr/>
          <p:nvPr/>
        </p:nvSpPr>
        <p:spPr>
          <a:xfrm>
            <a:off x="0" y="3716280"/>
            <a:ext cx="2008044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обие имеет универсальный характер и может быть использовано при обучении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глийскому языку по всем учебникам первых трех лет обучения в общеобразовательно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четание разных видов наглядности в комплексе способствует достижению высокого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а знаний учащихся. Оригинальные рисунки, подробные методически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использованию всех компонентов комплекта, включая вопросы и задания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егчают работу преподавателя.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Picture 6" descr="TSo 4"/>
          <p:cNvPicPr/>
          <p:nvPr/>
        </p:nvPicPr>
        <p:blipFill>
          <a:blip r:embed="rId2"/>
          <a:stretch/>
        </p:blipFill>
        <p:spPr>
          <a:xfrm>
            <a:off x="7812000" y="544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771640" y="620280"/>
            <a:ext cx="61358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над формированием у учащихся умения называть дату может происходить на уроке с помощью двух демонстрационных блокнотов. Первый блокнот содержит набор дат для каждого месяца, во втором перечислены названия месяцев. Приводя в соответствие обе части перекидного календаря, можно выставить люб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ь может быть использован для развития умений в монологической и диалогической речи.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те свой любимый месяц года. Объясните, почему он вам нрав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жи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чаю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ющ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здни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ew Year, Christmas in Russia/ in Britain, St Valentine’s Day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TSo 4"/>
          <p:cNvPicPr/>
          <p:nvPr/>
        </p:nvPicPr>
        <p:blipFill>
          <a:blip r:embed="rId1"/>
          <a:stretch/>
        </p:blipFill>
        <p:spPr>
          <a:xfrm>
            <a:off x="7596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english-for-friends"/>
          <p:cNvPicPr/>
          <p:nvPr/>
        </p:nvPicPr>
        <p:blipFill>
          <a:blip r:embed="rId2"/>
          <a:stretch/>
        </p:blipFill>
        <p:spPr>
          <a:xfrm>
            <a:off x="324000" y="260280"/>
            <a:ext cx="2381040" cy="27529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4" name="Picture 6" descr="0000702553-preview"/>
          <p:cNvPicPr/>
          <p:nvPr/>
        </p:nvPicPr>
        <p:blipFill>
          <a:blip r:embed="rId3"/>
          <a:stretch/>
        </p:blipFill>
        <p:spPr>
          <a:xfrm>
            <a:off x="755640" y="3860640"/>
            <a:ext cx="1706400" cy="13384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модули динамических транспарантов, которые демонстрируются с помощью проектора, можно комбинировать варианты одежды и, опираясь на картинки, развивать устно- речевые умения учащихся.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еньте девочку для прогулки в тёплый солнечный день/ для зимней прогулки/ для школьного праздник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02"/>
          <p:cNvPicPr/>
          <p:nvPr/>
        </p:nvPicPr>
        <p:blipFill>
          <a:blip r:embed="rId2"/>
          <a:stretch/>
        </p:blipFill>
        <p:spPr>
          <a:xfrm>
            <a:off x="2411280" y="333360"/>
            <a:ext cx="3810240" cy="28576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"/>
          <p:cNvPicPr/>
          <p:nvPr/>
        </p:nvPicPr>
        <p:blipFill>
          <a:blip r:embed="rId1"/>
          <a:stretch/>
        </p:blipFill>
        <p:spPr>
          <a:xfrm>
            <a:off x="6300720" y="0"/>
            <a:ext cx="2048040" cy="32338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9" name="Picture 7" descr="2"/>
          <p:cNvPicPr/>
          <p:nvPr/>
        </p:nvPicPr>
        <p:blipFill>
          <a:blip r:embed="rId2"/>
          <a:stretch/>
        </p:blipFill>
        <p:spPr>
          <a:xfrm rot="20280000">
            <a:off x="6443640" y="1052280"/>
            <a:ext cx="1584360" cy="1471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1196349251_0lik_ru_kukly"/>
          <p:cNvPicPr/>
          <p:nvPr/>
        </p:nvPicPr>
        <p:blipFill>
          <a:blip r:embed="rId3"/>
          <a:stretch/>
        </p:blipFill>
        <p:spPr>
          <a:xfrm>
            <a:off x="395280" y="404640"/>
            <a:ext cx="4216320" cy="630900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1" name="Picture 9" descr="1"/>
          <p:cNvPicPr/>
          <p:nvPr/>
        </p:nvPicPr>
        <p:blipFill>
          <a:blip r:embed="rId4"/>
          <a:stretch/>
        </p:blipFill>
        <p:spPr>
          <a:xfrm>
            <a:off x="6394320" y="3357720"/>
            <a:ext cx="2073240" cy="35002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2" name="Picture 10" descr="2"/>
          <p:cNvPicPr/>
          <p:nvPr/>
        </p:nvPicPr>
        <p:blipFill>
          <a:blip r:embed="rId5"/>
          <a:stretch/>
        </p:blipFill>
        <p:spPr>
          <a:xfrm rot="21135600">
            <a:off x="6659280" y="3068280"/>
            <a:ext cx="1297080" cy="765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3"/>
          <p:cNvPicPr/>
          <p:nvPr/>
        </p:nvPicPr>
        <p:blipFill>
          <a:blip r:embed="rId6"/>
          <a:stretch/>
        </p:blipFill>
        <p:spPr>
          <a:xfrm>
            <a:off x="6443640" y="4365720"/>
            <a:ext cx="1873440" cy="230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TSo 4"/>
          <p:cNvPicPr/>
          <p:nvPr/>
        </p:nvPicPr>
        <p:blipFill>
          <a:blip r:embed="rId7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N39BE68440C6F"/>
          <p:cNvPicPr/>
          <p:nvPr/>
        </p:nvPicPr>
        <p:blipFill>
          <a:blip r:embed="rId1"/>
          <a:stretch/>
        </p:blipFill>
        <p:spPr>
          <a:xfrm>
            <a:off x="179280" y="333360"/>
            <a:ext cx="6121440" cy="41752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Text Box 6"/>
          <p:cNvSpPr/>
          <p:nvPr/>
        </p:nvSpPr>
        <p:spPr>
          <a:xfrm>
            <a:off x="6877080" y="404640"/>
            <a:ext cx="45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300720" y="333360"/>
            <a:ext cx="184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ерах представлен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зыковая информация,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ая требуе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оминания 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ующего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ения учащимися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цессе общения на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глийском языке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сонажи на картинка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ются в движении, с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раженными чувствам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эмоциями. Рисунки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личает яркая цветовая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итра и мультиплика-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онный стиль, которы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1280" y="4508640"/>
            <a:ext cx="907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доступны и привычны для младших школьников. Данные постеры могу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ыть использованы как для формирования языковых навыков, так и для развития речевых умений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жите о героях картинок: придумайте им имена, опишите их внешность, скажите, что они делают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ыграйте диалог, который мог бы состояться между героями картинок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9" name="Picture 9" descr="TSo 4"/>
          <p:cNvPicPr/>
          <p:nvPr/>
        </p:nvPicPr>
        <p:blipFill>
          <a:blip r:embed="rId2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TSo 4"/>
          <p:cNvPicPr/>
          <p:nvPr/>
        </p:nvPicPr>
        <p:blipFill>
          <a:blip r:embed="rId3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373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Электронное наглядное пособие с приложением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6" descr="in01-01"/>
          <p:cNvPicPr/>
          <p:nvPr/>
        </p:nvPicPr>
        <p:blipFill>
          <a:blip r:embed="rId1"/>
          <a:stretch/>
        </p:blipFill>
        <p:spPr>
          <a:xfrm>
            <a:off x="108000" y="134136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n01-02"/>
          <p:cNvPicPr/>
          <p:nvPr/>
        </p:nvPicPr>
        <p:blipFill>
          <a:blip r:embed="rId2"/>
          <a:stretch/>
        </p:blipFill>
        <p:spPr>
          <a:xfrm>
            <a:off x="2124000" y="1341360"/>
            <a:ext cx="779400" cy="1247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in01-03"/>
          <p:cNvPicPr/>
          <p:nvPr/>
        </p:nvPicPr>
        <p:blipFill>
          <a:blip r:embed="rId3"/>
          <a:stretch/>
        </p:blipFill>
        <p:spPr>
          <a:xfrm>
            <a:off x="2987640" y="1341360"/>
            <a:ext cx="187020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in01-04"/>
          <p:cNvPicPr/>
          <p:nvPr/>
        </p:nvPicPr>
        <p:blipFill>
          <a:blip r:embed="rId4"/>
          <a:stretch/>
        </p:blipFill>
        <p:spPr>
          <a:xfrm>
            <a:off x="5003640" y="1341360"/>
            <a:ext cx="1974960" cy="1251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in01-06"/>
          <p:cNvPicPr/>
          <p:nvPr/>
        </p:nvPicPr>
        <p:blipFill>
          <a:blip r:embed="rId5"/>
          <a:stretch/>
        </p:blipFill>
        <p:spPr>
          <a:xfrm>
            <a:off x="7093080" y="1341360"/>
            <a:ext cx="1869840" cy="1235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in01-07"/>
          <p:cNvPicPr/>
          <p:nvPr/>
        </p:nvPicPr>
        <p:blipFill>
          <a:blip r:embed="rId6"/>
          <a:stretch/>
        </p:blipFill>
        <p:spPr>
          <a:xfrm>
            <a:off x="108000" y="2637000"/>
            <a:ext cx="1871640" cy="1234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in01-08"/>
          <p:cNvPicPr/>
          <p:nvPr/>
        </p:nvPicPr>
        <p:blipFill>
          <a:blip r:embed="rId7"/>
          <a:stretch/>
        </p:blipFill>
        <p:spPr>
          <a:xfrm>
            <a:off x="2050920" y="2637000"/>
            <a:ext cx="1870200" cy="123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in01-09"/>
          <p:cNvPicPr/>
          <p:nvPr/>
        </p:nvPicPr>
        <p:blipFill>
          <a:blip r:embed="rId8"/>
          <a:stretch/>
        </p:blipFill>
        <p:spPr>
          <a:xfrm>
            <a:off x="4067280" y="2637000"/>
            <a:ext cx="1873080" cy="1238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in01-10"/>
          <p:cNvPicPr/>
          <p:nvPr/>
        </p:nvPicPr>
        <p:blipFill>
          <a:blip r:embed="rId9"/>
          <a:stretch/>
        </p:blipFill>
        <p:spPr>
          <a:xfrm>
            <a:off x="4859280" y="4076640"/>
            <a:ext cx="1973160" cy="1301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in01-11"/>
          <p:cNvPicPr/>
          <p:nvPr/>
        </p:nvPicPr>
        <p:blipFill>
          <a:blip r:embed="rId10"/>
          <a:stretch/>
        </p:blipFill>
        <p:spPr>
          <a:xfrm>
            <a:off x="7020000" y="2637000"/>
            <a:ext cx="1976400" cy="1304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in01-12"/>
          <p:cNvPicPr/>
          <p:nvPr/>
        </p:nvPicPr>
        <p:blipFill>
          <a:blip r:embed="rId11"/>
          <a:stretch/>
        </p:blipFill>
        <p:spPr>
          <a:xfrm>
            <a:off x="7020000" y="4005360"/>
            <a:ext cx="1976400" cy="130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in01-13"/>
          <p:cNvPicPr/>
          <p:nvPr/>
        </p:nvPicPr>
        <p:blipFill>
          <a:blip r:embed="rId12"/>
          <a:stretch/>
        </p:blipFill>
        <p:spPr>
          <a:xfrm>
            <a:off x="6084720" y="2637000"/>
            <a:ext cx="844560" cy="135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in01-14"/>
          <p:cNvPicPr/>
          <p:nvPr/>
        </p:nvPicPr>
        <p:blipFill>
          <a:blip r:embed="rId13"/>
          <a:stretch/>
        </p:blipFill>
        <p:spPr>
          <a:xfrm>
            <a:off x="179280" y="4076640"/>
            <a:ext cx="1976400" cy="13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in01-16"/>
          <p:cNvPicPr/>
          <p:nvPr/>
        </p:nvPicPr>
        <p:blipFill>
          <a:blip r:embed="rId14"/>
          <a:stretch/>
        </p:blipFill>
        <p:spPr>
          <a:xfrm>
            <a:off x="2411280" y="5484960"/>
            <a:ext cx="2079720" cy="1373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" descr="in01-17"/>
          <p:cNvPicPr/>
          <p:nvPr/>
        </p:nvPicPr>
        <p:blipFill>
          <a:blip r:embed="rId15"/>
          <a:stretch/>
        </p:blipFill>
        <p:spPr>
          <a:xfrm>
            <a:off x="179280" y="5484960"/>
            <a:ext cx="2079720" cy="1373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" descr="in01-18"/>
          <p:cNvPicPr/>
          <p:nvPr/>
        </p:nvPicPr>
        <p:blipFill>
          <a:blip r:embed="rId16"/>
          <a:stretch/>
        </p:blipFill>
        <p:spPr>
          <a:xfrm>
            <a:off x="2556000" y="4076640"/>
            <a:ext cx="1974600" cy="1301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4" descr="in01-19"/>
          <p:cNvPicPr/>
          <p:nvPr/>
        </p:nvPicPr>
        <p:blipFill>
          <a:blip r:embed="rId17"/>
          <a:stretch/>
        </p:blipFill>
        <p:spPr>
          <a:xfrm>
            <a:off x="4643280" y="5486400"/>
            <a:ext cx="20797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5" descr="in01-15"/>
          <p:cNvPicPr/>
          <p:nvPr/>
        </p:nvPicPr>
        <p:blipFill>
          <a:blip r:embed="rId18"/>
          <a:stretch/>
        </p:blipFill>
        <p:spPr>
          <a:xfrm>
            <a:off x="6948360" y="5527800"/>
            <a:ext cx="2016360" cy="133020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7"/>
          <p:cNvSpPr txBox="1"/>
          <p:nvPr/>
        </p:nvSpPr>
        <p:spPr>
          <a:xfrm>
            <a:off x="1619280" y="907920"/>
            <a:ext cx="604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Знакомство с Великобританией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1" name="Ennio Morricone - Поль Мориа (mp3ostrov.com).mp3" descr=""/>
          <p:cNvPicPr/>
          <p:nvPr/>
        </p:nvPicPr>
        <p:blipFill>
          <a:blip r:embed="rId19"/>
          <a:stretch/>
        </p:blipFill>
        <p:spPr>
          <a:xfrm>
            <a:off x="684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обие помогает усилить страноведческую направленность курса, освоить целый ряд разговорных тем, связанных со страной изучаемого языка, ее местом на карте, особенностями культуры и истории. Изобразительный ряд содержит фотографии достопримечательностей, памятников культуры Великобритании, связанных с особенностями исторического развития страны и оставившими след в ее архитектурном обл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можно провести коммуникативную игру “Конкурс гидов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ьте, что вы работаете в туристическом агентстве, и вам необходимо провести экскурсию по Великобритании. (Один или двое учащихся после подготовки представляют свою экскурсию, а остальные выступают в роли экспертов и должны дать критическую оценку предложенным проектам, используя разговорные фраз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TSo 4"/>
          <p:cNvPicPr/>
          <p:nvPr/>
        </p:nvPicPr>
        <p:blipFill>
          <a:blip r:embed="rId1"/>
          <a:stretch/>
        </p:blipFill>
        <p:spPr>
          <a:xfrm>
            <a:off x="7740720" y="551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0" y="2086200"/>
            <a:ext cx="330048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7. It's Like Winter Today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's like winter today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 looks like winter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 fee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like winter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ose the windows!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ut the door!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ight the stove! Hold me!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's like spring today!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 looks like spring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t feels like spring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 all the windows!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 the door!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urn off the stove! Hold me!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3635280" y="2114640"/>
            <a:ext cx="475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й сюжет можно  применять в качестве: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270000">
              <a:lnSpc>
                <a:spcPct val="100000"/>
              </a:lnSpc>
              <a:buClr>
                <a:srgbClr val="a3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нетической зарядки на любом этапе       урока,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270000">
              <a:lnSpc>
                <a:spcPct val="100000"/>
              </a:lnSpc>
              <a:buClr>
                <a:srgbClr val="a3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лагая имитационные                упражнения на отработку интонации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артикуляции звуков;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270000">
              <a:lnSpc>
                <a:spcPct val="100000"/>
              </a:lnSpc>
              <a:buClr>
                <a:srgbClr val="a3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чевой зарядки в самом начале урока,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лагая проведение специальных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й на развитие речи учащихся;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6" name="Picture 13" descr="TSo 4"/>
          <p:cNvPicPr/>
          <p:nvPr/>
        </p:nvPicPr>
        <p:blipFill>
          <a:blip r:embed="rId1"/>
          <a:stretch/>
        </p:blipFill>
        <p:spPr>
          <a:xfrm>
            <a:off x="774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eng1"/>
          <p:cNvPicPr/>
          <p:nvPr/>
        </p:nvPicPr>
        <p:blipFill>
          <a:blip r:embed="rId2"/>
          <a:stretch/>
        </p:blipFill>
        <p:spPr>
          <a:xfrm>
            <a:off x="4211640" y="115920"/>
            <a:ext cx="4608360" cy="1728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8" name="Picture 16" descr="1ec078d0f9dae8a802bf0cd36cc24bf5"/>
          <p:cNvPicPr/>
          <p:nvPr/>
        </p:nvPicPr>
        <p:blipFill>
          <a:blip r:embed="rId3"/>
          <a:stretch/>
        </p:blipFill>
        <p:spPr>
          <a:xfrm>
            <a:off x="395280" y="189000"/>
            <a:ext cx="1015920" cy="15238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9" name="Picture 17" descr="fc0a49911d4b8c04f97603d4326d1b70"/>
          <p:cNvPicPr/>
          <p:nvPr/>
        </p:nvPicPr>
        <p:blipFill>
          <a:blip r:embed="rId4"/>
          <a:stretch/>
        </p:blipFill>
        <p:spPr>
          <a:xfrm>
            <a:off x="1908000" y="404640"/>
            <a:ext cx="1016280" cy="15242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38 It's like winter today.mp3" descr=""/>
          <p:cNvPicPr/>
          <p:nvPr/>
        </p:nvPicPr>
        <p:blipFill>
          <a:blip r:embed="rId5"/>
          <a:stretch/>
        </p:blipFill>
        <p:spPr>
          <a:xfrm>
            <a:off x="1403280" y="5805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6155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2. Работа с  видеоматериалом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 достоинств видеофильма является его эмоциональное воздействие на учащихся. Использование видеофильма помогает развитию внимания и памяти.  Для того, чтобы понять содержание фильма, школьникам необходимо приложить определенные усилия. Так, непроизвольное внимание переходит в произволь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еофильм является одновременно на уроках материалом для ауд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, на котором говорят в классе, - это не чистый «живой» язык. Когда на экране появляется изображение – ученик, будучи одновременно слушателем и зрителем, погружается в иной мир, даже если перед ним вымышленный сценарий, язык все равно будет чистым, жи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еофильм – это «аудиовизуальный опыт», это значит, что когда ученик смотрит фильм с субтитрами, он слышит произносимые слова и одновременно видит их. Видя, что происходит на экране, ученик может лучше вникнуть в речь героев и понять, почему они произносят именно эти слова и фразы? Здесь становится понятной и очевидной разница между языком, который используется в формальных и неформальных ситу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1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92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8c8cb4"/>
                </a:solidFill>
                <a:latin typeface="Times New Roman"/>
              </a:rPr>
              <a:t>Иностранный язы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обязательный предмет учебного плана, он изучается в течение многих лет, требует особенной методики и мастерства преподавания от учителя, но овладение им вне среды языка представляет большую трудность. Каждый учитель, планируя очередной урок, стремится, чтобы он был не только эффективным и качественным, но и живым и ярким, ведь то, что интересно ученикам, что “ярко” было представлено на уроке, то и запомнится больше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258920" y="69228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32000" y="69228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9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40000" y="333360"/>
            <a:ext cx="32036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этапе развития языковых навыков и умений устной речи возможны такие коммуникативные упражнения, ка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ерекодирование информации из невербальной в вербальную и наоборо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олевая игр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ешение проблемных задач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5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539640" y="5157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шения каждой из поставленных задач ученики должны использовать слова и выражения из речевого сопровождения видеофильма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рименять различные технологии в работе с видеофильмами, помогает моделировать ситуации, при которых изучение языка проходит при погружении в культурную среду носителей языка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7" name="Фильм.wmv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9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900000" y="1413000"/>
            <a:ext cx="7534440" cy="143964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4b767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 задач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шаемые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ми ресурсами сети интер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79280" y="4292640"/>
            <a:ext cx="2808360" cy="201600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дирования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аутентичны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ых текстов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 интернет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3059280" y="4508640"/>
            <a:ext cx="2987640" cy="135396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лнять словарны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с, как активной,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и пассивной лексико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ого языка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156360" y="4365720"/>
            <a:ext cx="2808360" cy="19429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устойчиву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ю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язычной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2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93" name="Line 7"/>
          <p:cNvSpPr/>
          <p:nvPr/>
        </p:nvSpPr>
        <p:spPr>
          <a:xfrm flipH="1">
            <a:off x="1476360" y="2781360"/>
            <a:ext cx="3170160" cy="146196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572000" y="2852640"/>
            <a:ext cx="0" cy="165600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4572000" y="2852640"/>
            <a:ext cx="3032280" cy="1492200"/>
          </a:xfrm>
          <a:prstGeom prst="line">
            <a:avLst/>
          </a:prstGeom>
          <a:ln w="28440">
            <a:solidFill>
              <a:srgbClr val="b8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50920" y="549360"/>
            <a:ext cx="95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и использования сети Интерне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учении иностранному язык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7" name="Picture 11" descr="logo-new1"/>
          <p:cNvPicPr/>
          <p:nvPr/>
        </p:nvPicPr>
        <p:blipFill>
          <a:blip r:embed="rId2"/>
          <a:stretch/>
        </p:blipFill>
        <p:spPr>
          <a:xfrm>
            <a:off x="179280" y="189000"/>
            <a:ext cx="1552680" cy="145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е простое применение интернета - это использовать его как источник дополнительных материалов для преподавателя при подготовке к занятию. Материалы могут распечатываться и использоваться затем в ходе традиционного занят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TSo 4"/>
          <p:cNvPicPr/>
          <p:nvPr/>
        </p:nvPicPr>
        <p:blipFill>
          <a:blip r:embed="rId1"/>
          <a:stretch/>
        </p:blipFill>
        <p:spPr>
          <a:xfrm>
            <a:off x="774072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611280" y="2011680"/>
            <a:ext cx="75610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 лучших считается сайт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http://www.inopressa.ru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этом сайте представлены переводы наиболее интересных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ей о России из иностранных газет. Непосредственно с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го сайта можно выйти на оригинал этих статей и получит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ьные тексты на русском и иностранном языках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овышает интерес обучающихся, усиливает их мотивацию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изучению языка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й популярностью как в средней, так и в высшей школе, пользуются уроки, разрабатываемые группой специалистов агентства Рейтер English To Go Ltd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(http://www.english-to-go.com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а программа обращена непосредственно к преподавателю иностранного (английского) языка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"/>
          <p:cNvPicPr/>
          <p:nvPr/>
        </p:nvPicPr>
        <p:blipFill>
          <a:blip r:embed="rId1"/>
          <a:stretch/>
        </p:blipFill>
        <p:spPr>
          <a:xfrm>
            <a:off x="0" y="260280"/>
            <a:ext cx="4516560" cy="630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2"/>
          <a:stretch/>
        </p:blipFill>
        <p:spPr>
          <a:xfrm>
            <a:off x="4587840" y="260280"/>
            <a:ext cx="4556160" cy="6308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4570560" cy="633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610160" y="260280"/>
            <a:ext cx="45338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851280" y="1125360"/>
            <a:ext cx="5113440" cy="5183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электронной почте  и  Chat  (англ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"разговор") ученики могут общаться  со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ими  сверстниками  в  любых странах.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яют  свой словарный  запас,  в первую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редь  обиходную лексику, приобр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ыт  опосредованного общения пу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ого обмена  информацией, мн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ой или иной пробл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сами могут участвовать в подб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а для урока  и чувствуют себя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ыми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TSo 4"/>
          <p:cNvPicPr/>
          <p:nvPr/>
        </p:nvPicPr>
        <p:blipFill>
          <a:blip r:embed="rId1"/>
          <a:stretch/>
        </p:blipFill>
        <p:spPr>
          <a:xfrm>
            <a:off x="7596360" y="54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untitled"/>
          <p:cNvPicPr/>
          <p:nvPr/>
        </p:nvPicPr>
        <p:blipFill>
          <a:blip r:embed="rId2"/>
          <a:stretch/>
        </p:blipFill>
        <p:spPr>
          <a:xfrm>
            <a:off x="179280" y="1197000"/>
            <a:ext cx="3641760" cy="4392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8" name="Text Box 6"/>
          <p:cNvSpPr/>
          <p:nvPr/>
        </p:nvSpPr>
        <p:spPr>
          <a:xfrm>
            <a:off x="468360" y="333360"/>
            <a:ext cx="85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учать речевой деятельности можно лишь в общении, живом общении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87280" y="256500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возможно участие в телекоммуникацио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ых проектах, телекоммуникационных конкурс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мпиадах, тестировании (возможность получить объективную оценку знаний, самоутвердиться, подготовиться к экзаменам, участию в других видах конкурсов и олимпиад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TSo 4"/>
          <p:cNvPicPr/>
          <p:nvPr/>
        </p:nvPicPr>
        <p:blipFill>
          <a:blip r:embed="rId1"/>
          <a:stretch/>
        </p:blipFill>
        <p:spPr>
          <a:xfrm>
            <a:off x="7740720" y="54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online_test"/>
          <p:cNvPicPr/>
          <p:nvPr/>
        </p:nvPicPr>
        <p:blipFill>
          <a:blip r:embed="rId2"/>
          <a:stretch/>
        </p:blipFill>
        <p:spPr>
          <a:xfrm>
            <a:off x="6012000" y="260280"/>
            <a:ext cx="2844720" cy="2133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12" name="Picture 6" descr="BC"/>
          <p:cNvPicPr/>
          <p:nvPr/>
        </p:nvPicPr>
        <p:blipFill>
          <a:blip r:embed="rId3"/>
          <a:stretch/>
        </p:blipFill>
        <p:spPr>
          <a:xfrm>
            <a:off x="826920" y="620640"/>
            <a:ext cx="1276560" cy="171468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03280" y="404280"/>
            <a:ext cx="5638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8cb4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8c8cb4"/>
                </a:solidFill>
                <a:latin typeface="Times New Roman"/>
              </a:rPr>
              <a:t>АКЛЮЧЕНИЕ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00360" y="1268280"/>
            <a:ext cx="5997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СО при рациональном использовании улучшают условия труда, как учителя, так и учеников, при этом их ценность тем выше, чем в больших пределах они позволяют целенаправленно трансформировать учебное пространство и время. Применение АВСО интенсифицирует передачу информации, значительно расширяет иллюстрированный материал, создаёт проблемные ситуации и организует поисковую деятельность учащихся, усиливает эмоциональный фон обучения, формирует учебную мотивацию у обучаемых, индивидуализирует и дифференцирует учебный процесс. Много новых возможностей АВСО открывается для проведения внеучебной и досуговой работы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ства обучения наряду с живым словом педагога являются важным компонентом образовательного процесса и элементом учебно-материальной базы любого образователь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ре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photosCours"/>
          <p:cNvPicPr/>
          <p:nvPr/>
        </p:nvPicPr>
        <p:blipFill>
          <a:blip r:embed="rId2"/>
          <a:stretch/>
        </p:blipFill>
        <p:spPr>
          <a:xfrm>
            <a:off x="324000" y="3789360"/>
            <a:ext cx="2438280" cy="244800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17" name="Picture 8" descr="lur_1"/>
          <p:cNvPicPr/>
          <p:nvPr/>
        </p:nvPicPr>
        <p:blipFill>
          <a:blip r:embed="rId3"/>
          <a:stretch/>
        </p:blipFill>
        <p:spPr>
          <a:xfrm>
            <a:off x="108000" y="765000"/>
            <a:ext cx="2951280" cy="25196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04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27280" y="1125000"/>
            <a:ext cx="4197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ешении данных задач хорошими помощниками могут выступать современные средства обучения. Особое место в комплексе современных средств обучения занимают аудиовизуальные средства: слайды, кино, различные звуковые пособия, видеопрограммы и учебное телевидение, компьютерные программы, 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я"/>
          <p:cNvPicPr/>
          <p:nvPr/>
        </p:nvPicPr>
        <p:blipFill>
          <a:blip r:embed="rId2"/>
          <a:stretch/>
        </p:blipFill>
        <p:spPr>
          <a:xfrm>
            <a:off x="179280" y="1628640"/>
            <a:ext cx="4464000" cy="37339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 u="sng">
                <a:solidFill>
                  <a:srgbClr val="8c8cb4"/>
                </a:solidFill>
                <a:uFillTx/>
                <a:latin typeface="Times New Roman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зучение возможностей аудиовизуальных средств обучения в создании языковой среды в рамках обучения иностранному языку в современном среднем образовательном учреждении, выявление преимуществ и сложностей их использования в учеб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826920" y="260280"/>
            <a:ext cx="7534440" cy="1440000"/>
          </a:xfrm>
          <a:prstGeom prst="ellipse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0" y="3500280"/>
            <a:ext cx="2987640" cy="165924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ыть сущност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удиовизуальных средств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3078000" y="3429000"/>
            <a:ext cx="2988000" cy="17287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еть особенности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я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равила их применения,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 функциональность при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и иностранном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зыку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6156360" y="3429000"/>
            <a:ext cx="2987640" cy="1728720"/>
          </a:xfrm>
          <a:prstGeom prst="flowChartAlternateProcess">
            <a:avLst/>
          </a:prstGeom>
          <a:gradFill rotWithShape="0">
            <a:gsLst>
              <a:gs pos="0">
                <a:srgbClr val="a3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b8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 эффективность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 использования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уроках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ого языка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азных ступенях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я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Picture 6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H="1">
            <a:off x="1403280" y="1700280"/>
            <a:ext cx="3170160" cy="172872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572000" y="1700280"/>
            <a:ext cx="0" cy="180000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0" y="1700280"/>
            <a:ext cx="3095640" cy="1728720"/>
          </a:xfrm>
          <a:prstGeom prst="line">
            <a:avLst/>
          </a:prstGeom>
          <a:ln w="28440">
            <a:solidFill>
              <a:srgbClr val="b85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8cb4"/>
                </a:solidFill>
                <a:uFillTx/>
                <a:latin typeface="Times New Roman"/>
              </a:rPr>
              <a:t>Гипотеза:</a:t>
            </a:r>
            <a:r>
              <a:rPr b="0" lang="en-US" sz="2800" spc="-1" strike="noStrike">
                <a:solidFill>
                  <a:srgbClr val="8c8cb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ильное использование аудиовизуальных средств обучения  на уроках иностранного языка способствует интенсификации обучения, облегчает запоминание материала, делает его более доступ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8cb4"/>
                </a:solidFill>
                <a:uFillTx/>
                <a:latin typeface="Times New Roman"/>
              </a:rPr>
              <a:t>Метод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учение педагогической, методической, лингвистической, психологиче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учение опыта учителей английского языка, применяющих на практике аудиовизуальные средства обучения на различных этапах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38512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c8cb4"/>
                </a:solidFill>
                <a:uFillTx/>
                <a:latin typeface="Arial Black"/>
              </a:rPr>
              <a:t>I.</a:t>
            </a:r>
            <a:r>
              <a:rPr b="0" lang="ru-RU" sz="2400" spc="-1" strike="noStrike" u="sng">
                <a:solidFill>
                  <a:srgbClr val="8c8cb4"/>
                </a:solidFill>
                <a:uFillTx/>
                <a:latin typeface="Arial Black"/>
              </a:rPr>
              <a:t>Аудиовизуальные средства в учебно-воспитательном процессе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является важнейшим средством общения и используется людьми для взаимодействия между индивидами и группами индивидов. Обучение иностранному языку есть обучение пользованию этим средством. Сегодня предмет “иностранный язык” в средней общеобразовательной школе имеет одной из ведущих задач - обучение коммуникации, что требует определённого уровня языковой, речевой и социокультурной компетен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26920" y="176688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Понятие и классификация аудиовизуальных средств обучения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284360" y="764640"/>
            <a:ext cx="462132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8c8cb4"/>
                </a:solidFill>
                <a:latin typeface="Times New Roman"/>
              </a:rPr>
              <a:t>Средства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комплекс учебных пособий и технических приспособлений, с помощью которых осуществляется управление деятельностью преподавателя по обучению языку и деятельностью учащихся по овладению языком. Средства обучения облегчают процессы обучения и овладения языком и делают их более эффектив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So 4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00240" cy="396072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2089080" cy="192564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124000" y="4581360"/>
            <a:ext cx="2303640" cy="2149560"/>
          </a:xfrm>
          <a:prstGeom prst="rect">
            <a:avLst/>
          </a:prstGeom>
          <a:ln w="76320">
            <a:solidFill>
              <a:srgbClr val="66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8:34:28Z</dcterms:created>
  <dc:creator>школьник</dc:creator>
  <dc:description/>
  <dc:language>en-US</dc:language>
  <cp:lastModifiedBy>User</cp:lastModifiedBy>
  <dcterms:modified xsi:type="dcterms:W3CDTF">2014-01-03T11:59:33Z</dcterms:modified>
  <cp:revision>124</cp:revision>
  <dc:subject/>
  <dc:title>  ВЫПУСКНАЯ РАБОТА    на тему  «ВОЗМОЖНОСТИ АУДИОВИЗУАЛЬНЫХ  СРЕДСТВ ОБУЧЕНИЯ В СОЗДАНИИ ЯЗЫКОВОЙ СРЕДЫ».</dc:title>
</cp:coreProperties>
</file>