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C97-1DCA-4B38-AE46-BA87CB83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952-BD64-4002-A40B-861B1F58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4E4-0188-4531-81F0-DF02F9F5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80D-1F8F-486A-AC78-322FADDE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D57-D744-40DD-9DCF-3A9FA4C6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FD3-12B4-4C8E-B813-79998BFF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03C-7DF6-445C-9C59-4720F3D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ABB-C5D7-4E41-825B-93BCC8C7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004-8695-4CFC-B133-F13681F9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CCB-820E-417E-A504-355C093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0B9-8B93-4907-8FF1-5C485AD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F18-7C33-4222-9077-B83B1C7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63EB-5B5C-4B78-A450-96F9143FC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tle Red Riding 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63564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Объект 3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32004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Little girl started for her grandmother. She was walking through the forest and singing a funny song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1039680" y="1619280"/>
            <a:ext cx="72932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96000" y="4221000"/>
            <a:ext cx="3564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acha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6" descr=""/>
          <p:cNvPicPr/>
          <p:nvPr/>
        </p:nvPicPr>
        <p:blipFill>
          <a:blip r:embed="rId1"/>
          <a:stretch/>
        </p:blipFill>
        <p:spPr>
          <a:xfrm>
            <a:off x="4605480" y="7920"/>
            <a:ext cx="4538520" cy="3240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4464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rocodi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7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4260600" cy="403236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11"/>
          <p:cNvCxnSpPr>
            <a:stCxn id="48" idx="2"/>
          </p:cNvCxnSpPr>
          <p:nvPr/>
        </p:nvCxnSpPr>
        <p:spPr>
          <a:xfrm>
            <a:off x="2555640" y="1341000"/>
            <a:ext cx="253080" cy="136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14"/>
          <p:cNvCxnSpPr>
            <a:stCxn id="46" idx="0"/>
          </p:cNvCxnSpPr>
          <p:nvPr/>
        </p:nvCxnSpPr>
        <p:spPr>
          <a:xfrm flipH="1" flipV="1">
            <a:off x="7308360" y="2923920"/>
            <a:ext cx="270720" cy="129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8600" y="549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impanz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6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116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51640" y="5805000"/>
            <a:ext cx="324144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ver hou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7" descr=""/>
          <p:cNvPicPr/>
          <p:nvPr/>
        </p:nvPicPr>
        <p:blipFill>
          <a:blip r:embed="rId2"/>
          <a:stretch/>
        </p:blipFill>
        <p:spPr>
          <a:xfrm>
            <a:off x="5396040" y="12600"/>
            <a:ext cx="3747960" cy="5319720"/>
          </a:xfrm>
          <a:prstGeom prst="rect">
            <a:avLst/>
          </a:prstGeom>
          <a:ln w="0">
            <a:noFill/>
          </a:ln>
        </p:spPr>
      </p:pic>
      <p:cxnSp>
        <p:nvCxnSpPr>
          <p:cNvPr id="56" name="Прямая со стрелкой 9"/>
          <p:cNvCxnSpPr>
            <a:stCxn id="52" idx="2"/>
          </p:cNvCxnSpPr>
          <p:nvPr/>
        </p:nvCxnSpPr>
        <p:spPr>
          <a:xfrm flipH="1">
            <a:off x="2201400" y="1189080"/>
            <a:ext cx="138960" cy="82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3"/>
          <p:cNvCxnSpPr>
            <a:stCxn id="54" idx="1"/>
          </p:cNvCxnSpPr>
          <p:nvPr/>
        </p:nvCxnSpPr>
        <p:spPr>
          <a:xfrm flipV="1">
            <a:off x="5651640" y="5300280"/>
            <a:ext cx="792720" cy="85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green –yellow cockato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022400" y="1600200"/>
            <a:ext cx="686268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785880" y="1989000"/>
            <a:ext cx="748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056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2597040" y="1660680"/>
            <a:ext cx="398628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7:09:26Z</dcterms:created>
  <dc:creator>Юрий</dc:creator>
  <dc:description/>
  <dc:language>en-US</dc:language>
  <cp:lastModifiedBy>Vlad</cp:lastModifiedBy>
  <dcterms:modified xsi:type="dcterms:W3CDTF">2014-02-23T17:38:00Z</dcterms:modified>
  <cp:revision>8</cp:revision>
  <dc:subject/>
  <dc:title>Little Red Riding Hood</dc:title>
</cp:coreProperties>
</file>