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E63-94DE-41C6-80B1-D2B94D05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542-BE32-465D-986E-7B7417CF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175-58F8-4207-8318-32DF56BD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C41-9B9A-412A-B7FB-B1E1D5BF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CE5-8B06-4ED3-96C2-3D61BAB6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BF4-1DF9-406B-A1C8-107136D7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46B-ACF2-4A34-A41B-90E1E051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2D1-38CE-4EF1-912F-8F1FAB7C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3D7-A19E-433C-8DD9-EB30F97A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95C-439B-45A3-AD95-831DCA90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86A-002A-400B-97DC-FA18091B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2AD-0679-4EE7-93B4-1648E652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3E4F-E51A-402A-A9F9-A9CF930AD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oshk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is a very lazy and funny boy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oshka-Antoshk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grie num na garmoshk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069240" cy="4551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250920" y="189000"/>
            <a:ext cx="668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lli-tilli, trally-val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o mi ne prokhodil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o num ne zadaval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105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am- pam- p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am- pam- p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2703600" y="1557360"/>
            <a:ext cx="5626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oshka-Antoshk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tov k obedue lozkue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ready spoon for dinner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oshka-Antoshk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tov k obedue lozku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4067280" y="3068640"/>
            <a:ext cx="47592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lli-tilli, trally-val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o “bratsy” mner po siller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o it easy, my dear friends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kazus tyeper yedvally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don’t refuse it exac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2916360" y="2492280"/>
            <a:ext cx="56084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63356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- pam- p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- pam- p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4781520" cy="3705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541440" y="303372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9120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toshka  – potato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900000" y="1495440"/>
            <a:ext cx="766440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zka – a sp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1001880" y="1700280"/>
            <a:ext cx="6821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rmoshka – an accord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atsy –  brothers, but sometimes we name  very close friends with this w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0991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 Antoshka-Antoshk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 poydyom kopat kartoshk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224400" cy="4044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068640" y="1484280"/>
            <a:ext cx="59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Let’s go to dig up potato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7740720" y="2924280"/>
            <a:ext cx="129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re  Antoshka’s close friends – “bratsy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 Antoshka-Antoshk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 poydyom kopat kartoshk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316160" y="1628640"/>
            <a:ext cx="6424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4358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lli-tilli, trally-val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o mi ne prokhodilly- (I didn’t study it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o num ne zadavally –(I haven’t got such hometask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ram- pam- pa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57578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oshka-Antoshk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grie num na garmoshker- Play the accordion for u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6454800" cy="4840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108000" y="299736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worked so much. They are very ti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0:07:18Z</dcterms:created>
  <dc:creator>Юрий</dc:creator>
  <dc:description/>
  <dc:language>en-US</dc:language>
  <cp:lastModifiedBy>Vlad</cp:lastModifiedBy>
  <dcterms:modified xsi:type="dcterms:W3CDTF">2014-02-23T17:36:31Z</dcterms:modified>
  <cp:revision>11</cp:revision>
  <dc:subject/>
  <dc:title>Antoshka</dc:title>
</cp:coreProperties>
</file>