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42C4-D6F7-4F24-84B4-043888FDFE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F5A0-AE41-4D5A-92D6-6A15FFA5E4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970A-A054-48A8-A158-E43B44F131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6376-8F5E-4133-8073-CB5DBE6D98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A678-BB34-43F9-9C44-319DFC8F61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0C5A-747D-44E9-972A-35A633D334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0631-A49F-453D-82C9-439DD03B04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F357-E42E-4FFF-83DA-9CA218CC0E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72CF-796D-4CE2-AC9D-8A542332A8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C741-1201-4E1B-BAEB-E0F6C8569F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E0A5-F7D8-477A-A2E3-2753D808FA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47FC-B91F-4440-9A54-726C6BCD0F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D3C1-A40E-4893-A314-49AC8334C5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D005-8562-4017-A022-97C4C9A3BA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6F6C-7F6C-4FE9-AA8E-C3E0306FD9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703F-235B-42A5-9885-76BDEE9FC6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C055-69C3-4F85-B3BC-E72E6A38B2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9774-F2EC-451A-A570-0C70E87E81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7A9F-4692-4FB6-AAFD-59AC9A4402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60AB-1F14-402C-8753-FA540332B8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2EE4-A86C-478E-8F5D-33A60B4468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EE79-E048-4C32-9207-FC90B456BD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43FD-744E-4578-84BD-95282266AF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C7F6-0722-45C7-880E-3DB16161EC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B205-1369-43B2-8831-3BBC486D37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DE56-22EC-44B7-AEA8-6B5F21316F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360D-2F28-4469-9333-D33A4AF18A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5ED3-72DD-4FC8-9E04-81B120E6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A3D0-16F9-4CF5-97F5-5BA313B1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BA6C-8F73-4A89-8B8C-DB927DAEF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C0C4-F1FC-4516-979C-F9C8F6927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BFB9-208D-4CC2-93F2-C3CCEEEE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E1DE-A085-4774-A489-832DC70E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8CF2-7E15-4349-8C09-8096E10F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67D8-B616-4039-9D4F-5C2C1B22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4BE8-6455-4E1D-B526-CB10C190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1A87-7D1F-410D-B6FA-30D6B5FC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EFA7-AF21-4406-9750-B3AA14B4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C022-0102-4695-AD41-3992AF1A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9952-A2D3-4C63-87EF-7C3EB8959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 фон (26)"/>
          <p:cNvPicPr/>
          <p:nvPr/>
        </p:nvPicPr>
        <p:blipFill>
          <a:blip r:embed="rId1"/>
          <a:stretch/>
        </p:blipFill>
        <p:spPr>
          <a:xfrm>
            <a:off x="468360" y="333360"/>
            <a:ext cx="8388360" cy="62928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3924360" y="1484280"/>
            <a:ext cx="189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2х2=4.mp3" descr=""/>
          <p:cNvPicPr/>
          <p:nvPr/>
        </p:nvPicPr>
        <p:blipFill>
          <a:blip r:embed="rId2"/>
          <a:stretch/>
        </p:blipFill>
        <p:spPr>
          <a:xfrm>
            <a:off x="6443640" y="4149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5334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2, 20, 48, 9, 60, 28, 35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2, 20, 48, 9, 60, 28, 35,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2, 20, 48, 9, 60, 28, 35, 7,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2, 20, 48, 9, 60, 28, 35, 7, 30,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«Дом»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«Строитель»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«Мастерок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5"/>
          <p:cNvSpPr/>
          <p:nvPr/>
        </p:nvSpPr>
        <p:spPr>
          <a:xfrm>
            <a:off x="395280" y="711360"/>
            <a:ext cx="835200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657600"/>
                <a:tab algn="l" pos="4591080"/>
                <a:tab algn="l" pos="5657760"/>
                <a:tab algn="l" pos="6610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SimSu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SimSun"/>
              </a:rPr>
              <a:t>«До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4591080"/>
                <a:tab algn="l" pos="5657760"/>
                <a:tab algn="l" pos="6610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 4        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4591080"/>
                <a:tab algn="l" pos="5657760"/>
                <a:tab algn="l" pos="6610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(ХХХ + ХХХ : ХХХ) – ХХХ : ХХ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4591080"/>
                <a:tab algn="l" pos="5657760"/>
                <a:tab algn="l" pos="66103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657600"/>
                <a:tab algn="l" pos="4591080"/>
                <a:tab algn="l" pos="5657760"/>
                <a:tab algn="l" pos="6610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SimSun"/>
              </a:rPr>
              <a:t>«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SimSun"/>
              </a:rPr>
              <a:t>Стро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  <a:ea typeface="SimSun"/>
              </a:rPr>
              <a:t>итель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SimSu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4591080"/>
                <a:tab algn="l" pos="5657760"/>
                <a:tab algn="l" pos="6610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1          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 4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4591080"/>
                <a:tab algn="l" pos="5657760"/>
                <a:tab algn="l" pos="6610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(УУУ : УУУ + УУУ) – УУУ : УУ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4591080"/>
                <a:tab algn="l" pos="5657760"/>
                <a:tab algn="l" pos="6610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imes New Roman"/>
                <a:ea typeface="SimSu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657600"/>
                <a:tab algn="l" pos="4591080"/>
                <a:tab algn="l" pos="5657760"/>
                <a:tab algn="l" pos="6610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imes New Roman"/>
                <a:ea typeface="SimSun"/>
              </a:rPr>
              <a:t>«Мастер</a:t>
            </a:r>
            <a:r>
              <a:rPr b="0" lang="ru-RU" sz="3200" spc="-1" strike="noStrike">
                <a:solidFill>
                  <a:srgbClr val="ff6600"/>
                </a:solidFill>
                <a:latin typeface="Times New Roman"/>
                <a:ea typeface="SimSun"/>
              </a:rPr>
              <a:t>ок</a:t>
            </a:r>
            <a:r>
              <a:rPr b="1" lang="ru-RU" sz="3200" spc="-1" strike="noStrike">
                <a:solidFill>
                  <a:srgbClr val="ff6600"/>
                </a:solidFill>
                <a:latin typeface="Times New Roman"/>
                <a:ea typeface="SimSu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4591080"/>
                <a:tab algn="l" pos="5657760"/>
                <a:tab algn="l" pos="6610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1          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4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4591080"/>
                <a:tab algn="l" pos="5657760"/>
                <a:tab algn="l" pos="6610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(ААА + ААА : ААА) : ААА – АА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4591080"/>
                <a:tab algn="l" pos="5657760"/>
                <a:tab algn="l" pos="6610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j0312134[1]"/>
          <p:cNvPicPr/>
          <p:nvPr/>
        </p:nvPicPr>
        <p:blipFill>
          <a:blip r:embed="rId1"/>
          <a:stretch/>
        </p:blipFill>
        <p:spPr>
          <a:xfrm>
            <a:off x="7596360" y="333360"/>
            <a:ext cx="12175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395280" y="711360"/>
            <a:ext cx="835200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657600"/>
                <a:tab algn="l" pos="4591080"/>
                <a:tab algn="l" pos="5657760"/>
                <a:tab algn="l" pos="6610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SimSu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SimSun"/>
              </a:rPr>
              <a:t>«До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4591080"/>
                <a:tab algn="l" pos="5657760"/>
                <a:tab algn="l" pos="6610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 4        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4591080"/>
                <a:tab algn="l" pos="5657760"/>
                <a:tab algn="l" pos="6610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(ХХХ + ХХХ : ХХХ) – ХХХ : ХХ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4591080"/>
                <a:tab algn="l" pos="5657760"/>
                <a:tab algn="l" pos="66103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657600"/>
                <a:tab algn="l" pos="4591080"/>
                <a:tab algn="l" pos="5657760"/>
                <a:tab algn="l" pos="6610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SimSun"/>
              </a:rPr>
              <a:t>«Стро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SimSun"/>
              </a:rPr>
              <a:t>итель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SimSu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4591080"/>
                <a:tab algn="l" pos="5657760"/>
                <a:tab algn="l" pos="6610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1           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 4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4591080"/>
                <a:tab algn="l" pos="5657760"/>
                <a:tab algn="l" pos="6610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(УУУ : УУУ + УУУ) – УУУ : УУ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4591080"/>
                <a:tab algn="l" pos="5657760"/>
                <a:tab algn="l" pos="6610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imes New Roman"/>
                <a:ea typeface="SimSu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657600"/>
                <a:tab algn="l" pos="4591080"/>
                <a:tab algn="l" pos="5657760"/>
                <a:tab algn="l" pos="6610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imes New Roman"/>
                <a:ea typeface="SimSun"/>
              </a:rPr>
              <a:t>«Мастер</a:t>
            </a:r>
            <a:r>
              <a:rPr b="0" lang="ru-RU" sz="3200" spc="-1" strike="noStrike">
                <a:solidFill>
                  <a:srgbClr val="ff6600"/>
                </a:solidFill>
                <a:latin typeface="Times New Roman"/>
                <a:ea typeface="SimSun"/>
              </a:rPr>
              <a:t>ок</a:t>
            </a:r>
            <a:r>
              <a:rPr b="1" lang="ru-RU" sz="3200" spc="-1" strike="noStrike">
                <a:solidFill>
                  <a:srgbClr val="ff6600"/>
                </a:solidFill>
                <a:latin typeface="Times New Roman"/>
                <a:ea typeface="SimSu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4591080"/>
                <a:tab algn="l" pos="5657760"/>
                <a:tab algn="l" pos="6610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2         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 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4591080"/>
                <a:tab algn="l" pos="5657760"/>
                <a:tab algn="l" pos="6610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(ААА + ААА : ААА) : ААА – АА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4591080"/>
                <a:tab algn="l" pos="5657760"/>
                <a:tab algn="l" pos="6610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j0312134[1]"/>
          <p:cNvPicPr/>
          <p:nvPr/>
        </p:nvPicPr>
        <p:blipFill>
          <a:blip r:embed="rId1"/>
          <a:stretch/>
        </p:blipFill>
        <p:spPr>
          <a:xfrm>
            <a:off x="7596360" y="333360"/>
            <a:ext cx="12175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«Дом»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1 месяц          64 – 16 : 8 + 15 = 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 месяц          40 : 5 + 7 * 8 = </a:t>
            </a:r>
            <a:br>
              <a:rPr sz="3600"/>
            </a:b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«Строитель»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 месяц         36 : 6 + 6 * 7 =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2 месяц         52 – 14 : 7 + 6 = 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«Мастерок»</a:t>
            </a:r>
            <a:br>
              <a:rPr sz="3600"/>
            </a:b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 месяц          28  : (35 – 28) + 40= 2месяц          15 : 5 + 39 + 2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V+magazine+-+shum+ocheredi+i+kassovogo+apparata_(mp3top100.net).mp3" descr=""/>
          <p:cNvPicPr/>
          <p:nvPr/>
        </p:nvPicPr>
        <p:blipFill>
          <a:blip r:embed="rId1"/>
          <a:stretch/>
        </p:blipFill>
        <p:spPr>
          <a:xfrm>
            <a:off x="8317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82003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Дом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месяц          64 – 16 : 8 + 15 =  77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месяц          40 : 5 + 7 * 8 = 64</a:t>
            </a:r>
            <a:br>
              <a:rPr sz="3200"/>
            </a:b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«Строитель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месяц         36 : 6 + 6 * 7 = 48 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месяц         52 – 14 : 7 + 6 = 56</a:t>
            </a:r>
            <a:br>
              <a:rPr sz="3200"/>
            </a:b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«Мастерок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месяц          28  : (35 – 28) + 40 = 44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месяц          15 : 5 + 39 + 2 = 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«Дом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«Строитель»</a:t>
                      </a:r>
                      <a:r>
                        <a:rPr b="0" lang="ru-RU" sz="2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«Мастерок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8" descr=""/>
          <p:cNvPicPr/>
          <p:nvPr/>
        </p:nvPicPr>
        <p:blipFill>
          <a:blip r:embed="rId1"/>
          <a:stretch/>
        </p:blipFill>
        <p:spPr>
          <a:xfrm>
            <a:off x="1187280" y="3284640"/>
            <a:ext cx="1548000" cy="1143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0" descr=""/>
          <p:cNvPicPr/>
          <p:nvPr/>
        </p:nvPicPr>
        <p:blipFill>
          <a:blip r:embed="rId2"/>
          <a:stretch/>
        </p:blipFill>
        <p:spPr>
          <a:xfrm>
            <a:off x="6588000" y="4797360"/>
            <a:ext cx="1548000" cy="1143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1" descr=""/>
          <p:cNvPicPr/>
          <p:nvPr/>
        </p:nvPicPr>
        <p:blipFill>
          <a:blip r:embed="rId3"/>
          <a:stretch/>
        </p:blipFill>
        <p:spPr>
          <a:xfrm>
            <a:off x="6516720" y="3357720"/>
            <a:ext cx="154764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2" descr=""/>
          <p:cNvPicPr/>
          <p:nvPr/>
        </p:nvPicPr>
        <p:blipFill>
          <a:blip r:embed="rId4"/>
          <a:stretch/>
        </p:blipFill>
        <p:spPr>
          <a:xfrm>
            <a:off x="3780000" y="4724280"/>
            <a:ext cx="1547640" cy="1143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70704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4" descr=""/>
          <p:cNvPicPr/>
          <p:nvPr/>
        </p:nvPicPr>
        <p:blipFill>
          <a:blip r:embed="rId5"/>
          <a:stretch/>
        </p:blipFill>
        <p:spPr>
          <a:xfrm>
            <a:off x="1332000" y="5013360"/>
            <a:ext cx="936360" cy="692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5" descr=""/>
          <p:cNvPicPr/>
          <p:nvPr/>
        </p:nvPicPr>
        <p:blipFill>
          <a:blip r:embed="rId6"/>
          <a:stretch/>
        </p:blipFill>
        <p:spPr>
          <a:xfrm>
            <a:off x="4067280" y="3429000"/>
            <a:ext cx="93636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-316440"/>
            <a:ext cx="8280360" cy="575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Таблица умножения. Закрепл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6084720" y="3933720"/>
            <a:ext cx="2400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9" descr="Preview_Zaryadka_04"/>
          <p:cNvPicPr/>
          <p:nvPr/>
        </p:nvPicPr>
        <p:blipFill>
          <a:blip r:embed="rId1"/>
          <a:stretch/>
        </p:blipFill>
        <p:spPr>
          <a:xfrm>
            <a:off x="1403280" y="1052640"/>
            <a:ext cx="6723000" cy="4314600"/>
          </a:xfrm>
          <a:prstGeom prst="rect">
            <a:avLst/>
          </a:prstGeom>
          <a:ln w="0">
            <a:noFill/>
          </a:ln>
        </p:spPr>
      </p:pic>
      <p:pic>
        <p:nvPicPr>
          <p:cNvPr id="83" name="Вместе весело шагать.mp3" descr=""/>
          <p:cNvPicPr/>
          <p:nvPr/>
        </p:nvPicPr>
        <p:blipFill>
          <a:blip r:embed="rId2"/>
          <a:stretch/>
        </p:blipFill>
        <p:spPr>
          <a:xfrm>
            <a:off x="7885080" y="530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41143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j0431675[1]"/>
          <p:cNvPicPr/>
          <p:nvPr/>
        </p:nvPicPr>
        <p:blipFill>
          <a:blip r:embed="rId1"/>
          <a:srcRect l="0" t="0" r="0" b="8820"/>
          <a:stretch/>
        </p:blipFill>
        <p:spPr>
          <a:xfrm>
            <a:off x="179280" y="476280"/>
            <a:ext cx="8713800" cy="58626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1619280" y="2708280"/>
            <a:ext cx="458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11280" y="285264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68360" y="306864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5651640" y="2852640"/>
            <a:ext cx="2303280" cy="165744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2627280" y="2708280"/>
            <a:ext cx="1800360" cy="23050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324000" y="2781360"/>
            <a:ext cx="1871640" cy="180000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971640" y="2349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2998800" y="22766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4390920" y="371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9"/>
          <p:cNvSpPr/>
          <p:nvPr/>
        </p:nvSpPr>
        <p:spPr>
          <a:xfrm>
            <a:off x="6324480" y="24098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7956720" y="342900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j0431675[1]"/>
          <p:cNvPicPr/>
          <p:nvPr/>
        </p:nvPicPr>
        <p:blipFill>
          <a:blip r:embed="rId1"/>
          <a:srcRect l="0" t="0" r="0" b="8820"/>
          <a:stretch/>
        </p:blipFill>
        <p:spPr>
          <a:xfrm>
            <a:off x="179280" y="476280"/>
            <a:ext cx="8713800" cy="5862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1619280" y="2708280"/>
            <a:ext cx="458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11280" y="285264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68360" y="306864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5651640" y="2852640"/>
            <a:ext cx="2303280" cy="165744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627280" y="2708280"/>
            <a:ext cx="1800360" cy="23050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324000" y="2781360"/>
            <a:ext cx="1871640" cy="180000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468360" y="5013360"/>
            <a:ext cx="172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= 5 *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= 2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1763640" y="5445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2843280" y="5300640"/>
            <a:ext cx="12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2771640" y="5157720"/>
            <a:ext cx="187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= 6 *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= 1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6012000" y="5229360"/>
            <a:ext cx="2305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4140360" y="5589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7380360" y="5445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48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ктябре сотрудники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Дом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атили на оформление документа 15 мин, а в ноябре в 5 раз меньше. Сколько времени на оформление документов они тратят в ноябре?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ктябре сотрудники </a:t>
            </a: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«Строителя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атили на оформление документа 12 мин, а в ноябре в 4 раза меньше. Сколько времени на оформление документов они тратят в ноябре?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ктябре сотрудники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«Мастерк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атили на оформление документа 21 мин, а в ноябре в 7 раз меньше. Сколько времени на оформление документов они тратят в ноябре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j0431533[1]"/>
          <p:cNvPicPr/>
          <p:nvPr/>
        </p:nvPicPr>
        <p:blipFill>
          <a:blip r:embed="rId1"/>
          <a:stretch/>
        </p:blipFill>
        <p:spPr>
          <a:xfrm>
            <a:off x="324000" y="115920"/>
            <a:ext cx="1081080" cy="1557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j0279224[1]"/>
          <p:cNvPicPr/>
          <p:nvPr/>
        </p:nvPicPr>
        <p:blipFill>
          <a:blip r:embed="rId2"/>
          <a:srcRect l="0" t="0" r="0" b="18651"/>
          <a:stretch/>
        </p:blipFill>
        <p:spPr>
          <a:xfrm>
            <a:off x="7093080" y="4797360"/>
            <a:ext cx="12888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«Дом»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5 : 5 = 3 (мин)</a:t>
            </a:r>
            <a:br>
              <a:rPr sz="4400"/>
            </a:br>
            <a:br>
              <a:rPr sz="4400"/>
            </a:b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«Строитель»</a:t>
            </a:r>
            <a:br>
              <a:rPr sz="36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2 : 4 = 3 (мин)</a:t>
            </a:r>
            <a:br>
              <a:rPr sz="4400"/>
            </a:br>
            <a:br>
              <a:rPr sz="4400"/>
            </a:b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«Мастерок»</a:t>
            </a:r>
            <a:br>
              <a:rPr sz="36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1 : 7 =3 (мин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j0279224[1]"/>
          <p:cNvPicPr/>
          <p:nvPr/>
        </p:nvPicPr>
        <p:blipFill>
          <a:blip r:embed="rId1"/>
          <a:srcRect l="0" t="0" r="0" b="18651"/>
          <a:stretch/>
        </p:blipFill>
        <p:spPr>
          <a:xfrm>
            <a:off x="7180200" y="3716280"/>
            <a:ext cx="1611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13330_The_Office"/>
          <p:cNvPicPr/>
          <p:nvPr/>
        </p:nvPicPr>
        <p:blipFill>
          <a:blip r:embed="rId1"/>
          <a:stretch/>
        </p:blipFill>
        <p:spPr>
          <a:xfrm>
            <a:off x="1692360" y="907920"/>
            <a:ext cx="6408720" cy="48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404640"/>
            <a:ext cx="7545240" cy="60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7561440" cy="49960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2556000" y="1197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4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3780000" y="836640"/>
            <a:ext cx="20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3348000" y="836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До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5148360" y="1268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2484360" y="2852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8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5003640" y="292428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5292720" y="2852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3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3132000" y="24922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«Строите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3419640" y="4221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Мастер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2268360" y="4437000"/>
            <a:ext cx="11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4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5292720" y="4437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«Дом»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61 м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«Строитель»</a:t>
            </a:r>
            <a:br>
              <a:rPr sz="4400"/>
            </a:b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71 м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«Мастерок»</a:t>
            </a:r>
            <a:br>
              <a:rPr sz="4400"/>
            </a:b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72 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lang="en-US" sz="8000" spc="-1" strike="noStrike">
                <a:solidFill>
                  <a:srgbClr val="00b0f0"/>
                </a:solidFill>
                <a:latin typeface="Arial"/>
              </a:rPr>
              <a:t>о</a:t>
            </a:r>
            <a:r>
              <a:rPr b="1" lang="en-US" sz="8000" spc="-1" strike="noStrike">
                <a:solidFill>
                  <a:srgbClr val="00b050"/>
                </a:solidFill>
                <a:latin typeface="Arial"/>
              </a:rPr>
              <a:t>л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8000" spc="-1" strike="noStrike">
                <a:solidFill>
                  <a:srgbClr val="7030a0"/>
                </a:solidFill>
                <a:latin typeface="Arial"/>
              </a:rPr>
              <a:t>д</a:t>
            </a:r>
            <a:r>
              <a:rPr b="1" lang="en-US" sz="8000" spc="-1" strike="noStrike">
                <a:solidFill>
                  <a:srgbClr val="00b0f0"/>
                </a:solidFill>
                <a:latin typeface="Arial"/>
              </a:rPr>
              <a:t>ц</a:t>
            </a:r>
            <a:r>
              <a:rPr b="1" lang="en-US" sz="8000" spc="-1" strike="noStrike">
                <a:solidFill>
                  <a:srgbClr val="00b050"/>
                </a:solidFill>
                <a:latin typeface="Arial"/>
              </a:rPr>
              <a:t>ы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j0149059[1]"/>
          <p:cNvPicPr/>
          <p:nvPr/>
        </p:nvPicPr>
        <p:blipFill>
          <a:blip r:embed="rId1"/>
          <a:stretch/>
        </p:blipFill>
        <p:spPr>
          <a:xfrm>
            <a:off x="1403280" y="1268280"/>
            <a:ext cx="6624720" cy="4451400"/>
          </a:xfrm>
          <a:prstGeom prst="rect">
            <a:avLst/>
          </a:prstGeom>
          <a:ln w="0">
            <a:noFill/>
          </a:ln>
        </p:spPr>
      </p:pic>
      <p:pic>
        <p:nvPicPr>
          <p:cNvPr id="55" name="marsh.mp3" descr=""/>
          <p:cNvPicPr/>
          <p:nvPr/>
        </p:nvPicPr>
        <p:blipFill>
          <a:blip r:embed="rId2"/>
          <a:stretch/>
        </p:blipFill>
        <p:spPr>
          <a:xfrm>
            <a:off x="7020000" y="4797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28627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2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2,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2, 20, 48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2, 20, 48, 9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2, 20, 48, 9, 60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2, 20, 48, 9, 60, 28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5T08:09:16Z</dcterms:created>
  <dc:creator>Алусик</dc:creator>
  <dc:description/>
  <dc:language>en-US</dc:language>
  <cp:lastModifiedBy>Adel</cp:lastModifiedBy>
  <dcterms:modified xsi:type="dcterms:W3CDTF">2014-03-09T18:13:52Z</dcterms:modified>
  <cp:revision>35</cp:revision>
  <dc:subject/>
  <dc:title>Урок математики Таблица умножения. Закрепление</dc:title>
</cp:coreProperties>
</file>