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E3E-1872-4740-A330-79C77BBC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B60-09A4-49C2-8A25-40C590D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52E-1AA6-4DB9-B2D0-5CBD79CF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337-989A-404C-8866-024C05BC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D2346-E3AD-4BE3-8D36-3BDB8170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DE5AC-23AC-4592-B7D8-B27A0AF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B0429-F257-4B18-8CDF-77B673F7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F741C-99DD-4283-800C-AC4C55F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24FC-EC35-4C11-8351-313112F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2ED1-80CE-4E07-BEF7-F5AD50D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9628-9F66-47D7-A160-7910AB2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7A9-0A85-44F3-9449-DFFD0DD2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31FE2-EA4B-4CB9-A843-A4CB0BB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A2949-7CBF-4306-85B0-BD44A4F4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A3915-9A6C-43AC-84FF-8F5F0EA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D43CA-F357-4A30-97C3-B527FA70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D446-FF09-4F40-8BF1-81F78C3A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E801-C4A1-4A72-937C-B6AD7378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F978-C1F6-4238-A3E9-5496B4E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8C73-C9B9-428B-B2F6-548FFC6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D7E6-9DFF-4658-87E9-BE89899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B3F1-D24F-485D-8EAA-2324F785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E8D-CBA3-45A4-8136-EC2325A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E646-A2B1-4B63-9C79-B19A01F1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BFC5-6834-4D77-B206-98C1009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EA1A-C50A-4ED8-A12C-C53B6E2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4E8C-D612-4568-ABE1-BA9DB43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0336-1A6E-4215-9D9F-D254C045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F3EC-FC0A-4C11-A932-8D33C900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BAAD-68C0-4EBB-9DB2-0AC4138A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7554-9E10-465C-883C-CC0F7AC7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2E7E-C048-42C4-A3CE-CD5D422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6561-E2DC-4BA2-909E-EC07CE62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9DC-29B5-4D7F-8B37-D2D5BE1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FE09-5994-44E7-804C-C7665206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5002-3C99-4B38-BF67-ADB6C33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7BB-8BE2-4977-AD81-34F5BE9A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8358-C207-4DDE-B00D-7C4DAA1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2CE5-E687-4CB4-9F6B-8E56902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2E3E-68C7-41F7-828A-28DA989A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0F7C-49FE-488A-B468-42D10EC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9FDF-C5B1-40CD-85E6-E7B45109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CC99-4977-4B59-9C9A-4776677D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8A1B-B193-4D89-BFF9-093A88EC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842-3EB7-4964-8650-06616910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57D7-C942-44BE-B3F3-03B7426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D116-0972-4CBB-BA97-78FA33E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EB16-9DAC-4B03-A5D7-B732640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A4CA-67CD-41E9-B27E-F9A998D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4473-3102-41F8-BFC5-07883F61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5DC7-BB49-4861-9B4C-38A5D3B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18C1-9346-4DB3-AE6F-1D9BD64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97C8-4841-4E2D-BBE4-FA570E5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BE62B-5D7B-4F70-89F1-36667CCA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53A8-0AD4-4A0B-85CA-3ECCF8E5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AEE-CACA-4BBC-BD7B-1F88FE42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6572-802A-4A4B-9376-8976A299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7EE5-8497-4823-9E63-91669E22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0541-A525-485B-BCCC-E60497F5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8AAC-F398-4AB7-AACE-F1E3B6E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2942E-E243-4F67-B2A4-595C8097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463A-7E1C-43E4-912B-6DED82E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0FCE-75D7-479A-B451-7A05C7C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A039-F573-4560-97A0-45DEE57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5FB2-8B15-46C0-B86C-483B74B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A6BD-9DC0-4FAE-BBF6-892654E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CD0-266D-420C-B5D0-305D62E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AA1A-AB9C-4343-8E9B-1FDFCB8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8BD7-6682-4F65-A5B2-D3A4E350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726AA-EDF7-47BD-AE8B-37B5708D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24C7-0847-4278-A27C-602217EA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82E3-A804-4801-860C-72539C2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F1347-C85D-429A-900D-A920EBF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6ED2-5549-4674-91B6-4A76B2DA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BFD0-9B38-4011-AA10-3D775CF8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34F1F-8733-468A-9F08-2369D30C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C6A5-907B-4D57-A6E8-BC38986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56-567D-43B8-8F9C-9B94818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B451-5F49-4447-BB9D-0A2308B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FD9ED-1E52-49AA-9043-CE43B448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F02F4-4857-40A8-B9AB-6436673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1A99-2AF0-4684-BDDA-97673CD6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C8FD-59D6-4E7E-B702-F1F6F256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4F8D8-B0FB-4835-9CE6-2A302D7A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1621-29DD-4B14-A8F1-2EC998F9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01290-D10C-40E7-83F7-EC898295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3465-E708-4E8A-92E0-BB1D7D6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1C51-C132-47A4-B721-01A054B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89E-5CF5-4677-8017-8BD039A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9168C-80DD-4E39-902D-D2FE60C2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B73F-BDCC-4FC7-BEE4-A7FBB88F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6E02-0117-4B57-8755-090815E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77CF-511C-49E9-8189-2DD46F8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B860-EC9F-4942-A457-F54CF2E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A2272-E221-4E9F-8786-CE7A66FA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39BDD-75EC-4565-B542-050FDD97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185-845B-4EFE-8666-E4E859B8E2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624-A0FB-475A-87D6-2304F8D35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2732-EC2C-412A-9DC2-C15AE91AC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grpSp>
          <p:nvGrpSpPr>
            <p:cNvPr id="1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</p:grpSp>
      <p:sp>
        <p:nvSpPr>
          <p:cNvPr id="15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07C-9F30-4E2D-A67B-4CD4B9A300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0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20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F32-4E32-4B00-AA6D-31A8979EB9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grpSp>
          <p:nvGrpSpPr>
            <p:cNvPr id="2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2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2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  <p:grpSp>
          <p:nvGrpSpPr>
            <p:cNvPr id="2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2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16B-9B40-41B6-B034-2EF7F2FE12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0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larendon Extended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6FA-D2C6-45DD-B225-6FB0F5598A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7405-24E0-4DE3-B302-593AA5F9A4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31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12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.xm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1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92" name="Rectangle 4"/>
            <p:cNvSpPr/>
            <p:nvPr/>
          </p:nvSpPr>
          <p:spPr>
            <a:xfrm>
              <a:off x="0" y="1958400"/>
              <a:ext cx="3827880" cy="979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ХРИСТИАНСТВО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3" name="Rectangle 5"/>
            <p:cNvSpPr/>
            <p:nvPr/>
          </p:nvSpPr>
          <p:spPr>
            <a:xfrm>
              <a:off x="0" y="2938680"/>
              <a:ext cx="3827880" cy="979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ИСЛАМ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0" y="3918960"/>
              <a:ext cx="3827880" cy="979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БУДДИЗМ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0" y="4898880"/>
              <a:ext cx="3827880" cy="9784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СВЕТСКАЯ ЭТИКА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0" y="5877720"/>
              <a:ext cx="3827880" cy="979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ВСЯКАЯ ВСЯЧИНА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0" y="979920"/>
              <a:ext cx="3827880" cy="9784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ИУДАИЗМ</a:t>
              </a:r>
              <a:endParaRPr b="0" lang="en-US" sz="32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8" name="Rectangle 10">
              <a:hlinkClick r:id="rId1" action="ppaction://hlinksldjump"/>
            </p:cNvPr>
            <p:cNvSpPr/>
            <p:nvPr/>
          </p:nvSpPr>
          <p:spPr>
            <a:xfrm>
              <a:off x="3827880" y="979920"/>
              <a:ext cx="1060920" cy="97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399" name="Rectangle 12">
              <a:hlinkClick r:id="rId2" action="ppaction://hlinksldjump"/>
            </p:cNvPr>
            <p:cNvSpPr/>
            <p:nvPr/>
          </p:nvSpPr>
          <p:spPr>
            <a:xfrm>
              <a:off x="4888800" y="979920"/>
              <a:ext cx="1062000" cy="97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0" name="Rectangle 13">
              <a:hlinkClick r:id="rId3" action="ppaction://hlinksldjump"/>
            </p:cNvPr>
            <p:cNvSpPr/>
            <p:nvPr/>
          </p:nvSpPr>
          <p:spPr>
            <a:xfrm>
              <a:off x="5952960" y="979920"/>
              <a:ext cx="1062360" cy="97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1" name="Rectangle 14">
              <a:hlinkClick r:id="rId4" action="ppaction://hlinksldjump"/>
            </p:cNvPr>
            <p:cNvSpPr/>
            <p:nvPr/>
          </p:nvSpPr>
          <p:spPr>
            <a:xfrm>
              <a:off x="7015680" y="979920"/>
              <a:ext cx="1062360" cy="97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2" name="Rectangle 15"/>
            <p:cNvSpPr/>
            <p:nvPr/>
          </p:nvSpPr>
          <p:spPr>
            <a:xfrm>
              <a:off x="0" y="0"/>
              <a:ext cx="3827880" cy="979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3" name="Rectangle 26">
              <a:hlinkClick r:id="rId5" action="ppaction://hlinksldjump"/>
            </p:cNvPr>
            <p:cNvSpPr/>
            <p:nvPr/>
          </p:nvSpPr>
          <p:spPr>
            <a:xfrm>
              <a:off x="8079840" y="979920"/>
              <a:ext cx="1062360" cy="978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4" name="Rectangle 33">
              <a:hlinkClick r:id="rId6" action="ppaction://hlinksldjump"/>
            </p:cNvPr>
            <p:cNvSpPr/>
            <p:nvPr/>
          </p:nvSpPr>
          <p:spPr>
            <a:xfrm>
              <a:off x="3827880" y="4898880"/>
              <a:ext cx="1060920" cy="9784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5" name="Rectangle 34">
              <a:hlinkClick r:id="rId7" action="ppaction://hlinksldjump"/>
            </p:cNvPr>
            <p:cNvSpPr/>
            <p:nvPr/>
          </p:nvSpPr>
          <p:spPr>
            <a:xfrm>
              <a:off x="4888800" y="4898880"/>
              <a:ext cx="1062000" cy="9784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6" name="Rectangle 35">
              <a:hlinkClick r:id="rId8" action="ppaction://hlinksldjump"/>
            </p:cNvPr>
            <p:cNvSpPr/>
            <p:nvPr/>
          </p:nvSpPr>
          <p:spPr>
            <a:xfrm>
              <a:off x="5952960" y="4898880"/>
              <a:ext cx="1062360" cy="9784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7" name="Rectangle 36">
              <a:hlinkClick r:id="rId9" action="ppaction://hlinksldjump"/>
            </p:cNvPr>
            <p:cNvSpPr/>
            <p:nvPr/>
          </p:nvSpPr>
          <p:spPr>
            <a:xfrm>
              <a:off x="7015680" y="4898880"/>
              <a:ext cx="1062360" cy="9784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8" name="Rectangle 37">
              <a:hlinkClick r:id="rId10" action="ppaction://hlinksldjump"/>
            </p:cNvPr>
            <p:cNvSpPr/>
            <p:nvPr/>
          </p:nvSpPr>
          <p:spPr>
            <a:xfrm>
              <a:off x="8079840" y="4898880"/>
              <a:ext cx="1062360" cy="9784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09" name="Rectangle 43">
              <a:hlinkClick r:id="rId11" action="ppaction://hlinksldjump"/>
            </p:cNvPr>
            <p:cNvSpPr/>
            <p:nvPr/>
          </p:nvSpPr>
          <p:spPr>
            <a:xfrm>
              <a:off x="3827880" y="5877720"/>
              <a:ext cx="1060920" cy="979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0" name="Rectangle 44">
              <a:hlinkClick r:id="rId12" action="ppaction://hlinksldjump"/>
            </p:cNvPr>
            <p:cNvSpPr/>
            <p:nvPr/>
          </p:nvSpPr>
          <p:spPr>
            <a:xfrm>
              <a:off x="4888800" y="5877720"/>
              <a:ext cx="1062000" cy="979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1" name="Rectangle 45">
              <a:hlinkClick r:id="rId13" action="ppaction://hlinksldjump"/>
            </p:cNvPr>
            <p:cNvSpPr/>
            <p:nvPr/>
          </p:nvSpPr>
          <p:spPr>
            <a:xfrm>
              <a:off x="5952960" y="5877720"/>
              <a:ext cx="1062360" cy="979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2" name="Rectangle 46">
              <a:hlinkClick r:id="rId14" action="ppaction://hlinksldjump"/>
            </p:cNvPr>
            <p:cNvSpPr/>
            <p:nvPr/>
          </p:nvSpPr>
          <p:spPr>
            <a:xfrm>
              <a:off x="7015680" y="5877720"/>
              <a:ext cx="1062360" cy="979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3" name="Rectangle 47">
              <a:hlinkClick r:id="rId15" action="ppaction://hlinksldjump"/>
            </p:cNvPr>
            <p:cNvSpPr/>
            <p:nvPr/>
          </p:nvSpPr>
          <p:spPr>
            <a:xfrm>
              <a:off x="8079840" y="5877720"/>
              <a:ext cx="1062360" cy="979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4" name="Rectangle 48"/>
            <p:cNvSpPr/>
            <p:nvPr/>
          </p:nvSpPr>
          <p:spPr>
            <a:xfrm>
              <a:off x="3827880" y="3918960"/>
              <a:ext cx="1060920" cy="979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5" name="Rectangle 49"/>
            <p:cNvSpPr/>
            <p:nvPr/>
          </p:nvSpPr>
          <p:spPr>
            <a:xfrm>
              <a:off x="4888800" y="3918960"/>
              <a:ext cx="1062000" cy="979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6" name="Rectangle 50"/>
            <p:cNvSpPr/>
            <p:nvPr/>
          </p:nvSpPr>
          <p:spPr>
            <a:xfrm>
              <a:off x="5952960" y="3918960"/>
              <a:ext cx="1062360" cy="979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7" name="Rectangle 51"/>
            <p:cNvSpPr/>
            <p:nvPr/>
          </p:nvSpPr>
          <p:spPr>
            <a:xfrm>
              <a:off x="7015680" y="3918960"/>
              <a:ext cx="1062360" cy="979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8" name="Rectangle 52"/>
            <p:cNvSpPr/>
            <p:nvPr/>
          </p:nvSpPr>
          <p:spPr>
            <a:xfrm>
              <a:off x="8079840" y="3918960"/>
              <a:ext cx="1062360" cy="979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19" name="Rectangle 53"/>
            <p:cNvSpPr/>
            <p:nvPr/>
          </p:nvSpPr>
          <p:spPr>
            <a:xfrm>
              <a:off x="3827880" y="2938680"/>
              <a:ext cx="1060920" cy="97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0" name="Rectangle 54">
              <a:hlinkClick r:id="rId16" action="ppaction://hlinksldjump"/>
            </p:cNvPr>
            <p:cNvSpPr/>
            <p:nvPr/>
          </p:nvSpPr>
          <p:spPr>
            <a:xfrm>
              <a:off x="4888800" y="2938680"/>
              <a:ext cx="1062000" cy="97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1" name="Rectangle 55"/>
            <p:cNvSpPr/>
            <p:nvPr/>
          </p:nvSpPr>
          <p:spPr>
            <a:xfrm>
              <a:off x="5952960" y="2938680"/>
              <a:ext cx="1062360" cy="97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2" name="Rectangle 56">
              <a:hlinkClick r:id="rId17" action="ppaction://hlinksldjump"/>
            </p:cNvPr>
            <p:cNvSpPr/>
            <p:nvPr/>
          </p:nvSpPr>
          <p:spPr>
            <a:xfrm>
              <a:off x="7015680" y="2938680"/>
              <a:ext cx="1062360" cy="97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3" name="Rectangle 57"/>
            <p:cNvSpPr/>
            <p:nvPr/>
          </p:nvSpPr>
          <p:spPr>
            <a:xfrm>
              <a:off x="8079840" y="2938680"/>
              <a:ext cx="1062360" cy="97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4" name="Rectangle 58">
              <a:hlinkClick r:id="rId18" action="ppaction://hlinksldjump"/>
            </p:cNvPr>
            <p:cNvSpPr/>
            <p:nvPr/>
          </p:nvSpPr>
          <p:spPr>
            <a:xfrm>
              <a:off x="3827880" y="1958400"/>
              <a:ext cx="1060920" cy="979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5" name="Rectangle 59"/>
            <p:cNvSpPr/>
            <p:nvPr/>
          </p:nvSpPr>
          <p:spPr>
            <a:xfrm>
              <a:off x="4888800" y="1958400"/>
              <a:ext cx="1062000" cy="979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6" name="Rectangle 60"/>
            <p:cNvSpPr/>
            <p:nvPr/>
          </p:nvSpPr>
          <p:spPr>
            <a:xfrm>
              <a:off x="5952960" y="1958400"/>
              <a:ext cx="1062360" cy="979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7" name="Rectangle 61">
              <a:hlinkClick r:id="rId19" action="ppaction://hlinksldjump"/>
            </p:cNvPr>
            <p:cNvSpPr/>
            <p:nvPr/>
          </p:nvSpPr>
          <p:spPr>
            <a:xfrm>
              <a:off x="7015680" y="1958400"/>
              <a:ext cx="1062360" cy="979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8" name="Rectangle 62">
              <a:hlinkClick r:id="rId20" action="ppaction://hlinksldjump"/>
            </p:cNvPr>
            <p:cNvSpPr/>
            <p:nvPr/>
          </p:nvSpPr>
          <p:spPr>
            <a:xfrm>
              <a:off x="8079840" y="1958400"/>
              <a:ext cx="1062360" cy="979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29" name="Line 63"/>
            <p:cNvSpPr/>
            <p:nvPr/>
          </p:nvSpPr>
          <p:spPr>
            <a:xfrm>
              <a:off x="0" y="0"/>
              <a:ext cx="3827880" cy="9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  <p:sp>
          <p:nvSpPr>
            <p:cNvPr id="430" name="Rectangle 64"/>
            <p:cNvSpPr/>
            <p:nvPr/>
          </p:nvSpPr>
          <p:spPr>
            <a:xfrm>
              <a:off x="3827880" y="0"/>
              <a:ext cx="5315760" cy="979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Monotype Corsiva"/>
                </a:rPr>
                <a:t>БАЛЛЫ</a:t>
              </a:r>
              <a:endParaRPr b="0" lang="en-US" sz="5400" spc="-1" strike="noStrike">
                <a:solidFill>
                  <a:srgbClr val="000000"/>
                </a:solidFill>
                <a:latin typeface="Clarendon Extended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0" y="0"/>
            <a:ext cx="323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игии</a:t>
            </a:r>
            <a:endParaRPr b="0" lang="en-US" sz="3200" spc="-1" strike="noStrike">
              <a:solidFill>
                <a:srgbClr val="000000"/>
              </a:solidFill>
              <a:latin typeface="Clarendon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 Unicode MS"/>
              </a:rPr>
              <a:t>БУДДИЗМ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 40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71" name=""/>
          <p:cNvSpPr/>
          <p:nvPr/>
        </p:nvSpPr>
        <p:spPr>
          <a:xfrm>
            <a:off x="687960" y="3021120"/>
            <a:ext cx="35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называется здание,</a:t>
            </a:r>
            <a:endParaRPr b="0" lang="en-US" sz="2400" spc="-1" strike="noStrike">
              <a:solidFill>
                <a:srgbClr val="000000"/>
              </a:solidFill>
              <a:latin typeface="Clarendon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де хранятся </a:t>
            </a:r>
            <a:endParaRPr b="0" lang="en-US" sz="2400" spc="-1" strike="noStrike">
              <a:solidFill>
                <a:srgbClr val="000000"/>
              </a:solidFill>
              <a:latin typeface="Clarendon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щенные предметы</a:t>
            </a:r>
            <a:endParaRPr b="0" lang="en-US" sz="2400" spc="-1" strike="noStrike">
              <a:solidFill>
                <a:srgbClr val="000000"/>
              </a:solidFill>
              <a:latin typeface="Clarendon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реликвии) буддистов?</a:t>
            </a:r>
            <a:endParaRPr b="0" lang="en-US" sz="24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72" name="Picture 2" descr="C:\Documents and Settings\HARd\Мои документы\Downloads\а.jpg"/>
          <p:cNvPicPr/>
          <p:nvPr/>
        </p:nvPicPr>
        <p:blipFill>
          <a:blip r:embed="rId2"/>
          <a:stretch/>
        </p:blipFill>
        <p:spPr>
          <a:xfrm>
            <a:off x="4572000" y="1197000"/>
            <a:ext cx="39337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 Unicode MS"/>
              </a:rPr>
              <a:t>БУДДИЗМ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 50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74" name="Picture 4" descr="Пагода Храма Синто"/>
          <p:cNvPicPr/>
          <p:nvPr/>
        </p:nvPicPr>
        <p:blipFill>
          <a:blip r:embed="rId1"/>
          <a:stretch/>
        </p:blipFill>
        <p:spPr>
          <a:xfrm>
            <a:off x="4624560" y="620640"/>
            <a:ext cx="4046400" cy="5394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7"/>
          <p:cNvSpPr/>
          <p:nvPr/>
        </p:nvSpPr>
        <p:spPr>
          <a:xfrm>
            <a:off x="5364000" y="6216480"/>
            <a:ext cx="2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larendon Extended"/>
              </a:rPr>
              <a:t>Пагода Храма Синт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76" name=""/>
          <p:cNvSpPr/>
          <p:nvPr/>
        </p:nvSpPr>
        <p:spPr>
          <a:xfrm>
            <a:off x="974520" y="2781360"/>
            <a:ext cx="34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называется 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щина буддистов?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77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1962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ИАНСТВО -  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йдите лишне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рещение, Владимир, Днепр,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71992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ИАНСТВО 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84" name="Rectangle 8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4084920" cy="3065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405240" cy="4438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967320" y="1700280"/>
            <a:ext cx="39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акие церкви разделилась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иная христианская Церковь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87" name=""/>
          <p:cNvSpPr/>
          <p:nvPr/>
        </p:nvSpPr>
        <p:spPr>
          <a:xfrm>
            <a:off x="2050200" y="58770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ор святого Вита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88" name=""/>
          <p:cNvSpPr/>
          <p:nvPr/>
        </p:nvSpPr>
        <p:spPr>
          <a:xfrm>
            <a:off x="5506560" y="623736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м Василия Блаженного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ИАНСТВО  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92" name=""/>
          <p:cNvSpPr/>
          <p:nvPr/>
        </p:nvSpPr>
        <p:spPr>
          <a:xfrm>
            <a:off x="946800" y="1550880"/>
            <a:ext cx="50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о преподобный Сергий Радонежский 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ословляет на битву с врагом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93" name=""/>
          <p:cNvSpPr/>
          <p:nvPr/>
        </p:nvSpPr>
        <p:spPr>
          <a:xfrm>
            <a:off x="2317320" y="558324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 дан в шифровке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46814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ИАНСТВО 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97" name="Picture 5" descr="C:\Users\РАИСА\Desktop\038-039-11-02-pic\pic.png"/>
          <p:cNvPicPr/>
          <p:nvPr/>
        </p:nvPicPr>
        <p:blipFill>
          <a:blip r:embed="rId2"/>
          <a:stretch/>
        </p:blipFill>
        <p:spPr>
          <a:xfrm>
            <a:off x="1979640" y="2060640"/>
            <a:ext cx="5292720" cy="4562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924000" y="1484280"/>
            <a:ext cx="482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это православное таи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6623280" cy="44164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ИАНСТВО   </a:t>
            </a: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200988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03" name=""/>
          <p:cNvSpPr/>
          <p:nvPr/>
        </p:nvSpPr>
        <p:spPr>
          <a:xfrm>
            <a:off x="1109880" y="1557360"/>
            <a:ext cx="47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называется храм в нашем городе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220500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м Рождества Христова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м Казанской иконы Божией Матери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м Петра и Павла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971640" y="130320"/>
            <a:ext cx="7704000" cy="6421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лам 1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651280" y="836640"/>
            <a:ext cx="298764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Arial"/>
                <a:ea typeface="Arial"/>
              </a:rPr>
              <a:t>Мусульмане верят в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ffffe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Тро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ffffe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Духов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ffffe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e1"/>
                </a:solidFill>
                <a:latin typeface="Arial"/>
                <a:ea typeface="Arial"/>
              </a:rPr>
              <a:t>Алла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dominateImage" descr="i-1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24000" y="2599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ЛАМ 2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13840" y="1341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haroni"/>
              </a:rPr>
              <a:t>Слово ислам переводится как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haroni"/>
              </a:rPr>
              <a:t>Мировая религ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haroni"/>
              </a:rPr>
              <a:t>Пророческая религ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haroni"/>
              </a:rPr>
              <a:t>Покорность Аллах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переводится имя пророка Мухаммад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р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частлив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стойный хв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лам 3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4"/>
          <p:cNvSpPr/>
          <p:nvPr/>
        </p:nvSpPr>
        <p:spPr>
          <a:xfrm>
            <a:off x="971640" y="5805360"/>
            <a:ext cx="1439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УДАИЗМ   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619280" y="2361960"/>
            <a:ext cx="69120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69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От кого произошёл еврейский народ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693360" indent="-3733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Авраам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693360" indent="-3733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Но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693360" indent="-3733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Иса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693360" indent="-3733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Иосиф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35" name="Picture 5" descr="Безымянный"/>
          <p:cNvPicPr/>
          <p:nvPr/>
        </p:nvPicPr>
        <p:blipFill>
          <a:blip r:embed="rId2"/>
          <a:stretch/>
        </p:blipFill>
        <p:spPr>
          <a:xfrm>
            <a:off x="5508720" y="400536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dominateImage" descr="i-168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7869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ЛАМ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из названных обязанностей мусульман является ежедневной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маз                                           закят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1189080" y="285264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521" name="Picture 8" descr="C:\Users\РАИСА\Desktop\семинар по ОРКСЭ\046-047-03-01-pic\pic.jpg"/>
          <p:cNvPicPr/>
          <p:nvPr/>
        </p:nvPicPr>
        <p:blipFill>
          <a:blip r:embed="rId3"/>
          <a:stretch/>
        </p:blipFill>
        <p:spPr>
          <a:xfrm>
            <a:off x="4643280" y="2081160"/>
            <a:ext cx="4105440" cy="3192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Users\РАИСА\Desktop\семинар по ОРКСЭ\040-041-01-01-pic\pic.jpg"/>
          <p:cNvPicPr/>
          <p:nvPr/>
        </p:nvPicPr>
        <p:blipFill>
          <a:blip r:embed="rId4"/>
          <a:stretch/>
        </p:blipFill>
        <p:spPr>
          <a:xfrm>
            <a:off x="395280" y="2133720"/>
            <a:ext cx="40672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C:\Users\РАИСА\Desktop\семинар по ОРКСЭ\006-007-03-01-pic\pic.jpg"/>
          <p:cNvPicPr/>
          <p:nvPr/>
        </p:nvPicPr>
        <p:blipFill>
          <a:blip r:embed="rId1"/>
          <a:stretch/>
        </p:blipFill>
        <p:spPr>
          <a:xfrm>
            <a:off x="5148360" y="2708280"/>
            <a:ext cx="3344760" cy="36385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C:\Users\РАИСА\Desktop\016-017-02-02-pic\pic.JPG"/>
          <p:cNvPicPr/>
          <p:nvPr/>
        </p:nvPicPr>
        <p:blipFill>
          <a:blip r:embed="rId2"/>
          <a:stretch/>
        </p:blipFill>
        <p:spPr>
          <a:xfrm>
            <a:off x="900000" y="2637000"/>
            <a:ext cx="3702240" cy="37814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08360" y="0"/>
            <a:ext cx="49118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ЛАМ   5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907560"/>
            <a:ext cx="835488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На какой из фотографий изображена главная святыня мусульман –мечеть Кааб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Rectangle 4">
            <a:hlinkClick r:id="rId3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6" descr="C:\Users\РАИСА\Desktop\семинар по ОРКСЭ\078-079-01-01-pic\pic.jpg"/>
          <p:cNvPicPr/>
          <p:nvPr/>
        </p:nvPicPr>
        <p:blipFill>
          <a:blip r:embed="rId1"/>
          <a:stretch/>
        </p:blipFill>
        <p:spPr>
          <a:xfrm>
            <a:off x="4932360" y="2781360"/>
            <a:ext cx="3745080" cy="296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4680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ы живем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в государстве,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которое называется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усь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осковия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ссия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ссийское государство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Rectangle 4">
            <a:hlinkClick r:id="rId2" action="ppaction://hlinksldjump"/>
          </p:cNvPr>
          <p:cNvSpPr/>
          <p:nvPr/>
        </p:nvSpPr>
        <p:spPr>
          <a:xfrm>
            <a:off x="579600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31" name=""/>
          <p:cNvSpPr/>
          <p:nvPr/>
        </p:nvSpPr>
        <p:spPr>
          <a:xfrm>
            <a:off x="1187280" y="981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Светская этика – 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териальная культура – это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ивотный ми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едметы человеческого тру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авила пове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ветская этика - 2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981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Светская этика – 2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тская этика - 3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38420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116000" y="2492280"/>
            <a:ext cx="985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     </a:t>
            </a: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Основателем науки этики был: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Рафаэль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Геродот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SL_Times New Roman"/>
              </a:rPr>
              <a:t>Аристофан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3"/>
          <a:stretch/>
        </p:blipFill>
        <p:spPr>
          <a:xfrm>
            <a:off x="5929200" y="3071880"/>
            <a:ext cx="26481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ветская этика -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6560" y="2781360"/>
            <a:ext cx="81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онятие «культура» появилось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ревнем Кита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ревней Гре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ревнем Рим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ревнем Егип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Rectangle 5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ветская этика - 5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977760" y="97776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ветская этика - 50</a:t>
            </a: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249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49" name=""/>
          <p:cNvSpPr/>
          <p:nvPr/>
        </p:nvSpPr>
        <p:spPr>
          <a:xfrm>
            <a:off x="1160640" y="2558880"/>
            <a:ext cx="72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 сейчас является президентом Республики Татарстан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700360" y="3181320"/>
            <a:ext cx="6048360" cy="3141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6659640" y="404640"/>
            <a:ext cx="1428840" cy="10195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1438560" cy="1457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8028000" y="17002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3794"/>
                </a:moveTo>
                <a:lnTo>
                  <a:pt x="19000" y="10800"/>
                </a:lnTo>
                <a:lnTo>
                  <a:pt x="498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сякая всячина - 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71640" y="2349360"/>
            <a:ext cx="7632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называется картина В.Васнецова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46083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сякая всячина - 2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55280" y="243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чем вы видите духовное богатство нашей многонациональной Родин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духовных традициях народов, которые живут на территории Рос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богатых и влиятельных людя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большой территории и природных ресурс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Всякая всячина - 3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26560" y="2276640"/>
            <a:ext cx="69850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религия дает человек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териальное благополуч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евосходство над нерелигиозными людь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ормы морали и нравственности, ориентиры на жизненном пути, возможность быть счастлив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сто  собрания членов иудейской общины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УДАИЗ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39" name="Picture 4" descr="Синагога в Санкт-Петербурге"/>
          <p:cNvPicPr/>
          <p:nvPr/>
        </p:nvPicPr>
        <p:blipFill>
          <a:blip r:embed="rId2"/>
          <a:stretch/>
        </p:blipFill>
        <p:spPr>
          <a:xfrm>
            <a:off x="2987640" y="2924280"/>
            <a:ext cx="4919760" cy="3695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12200615204726"/>
          <p:cNvPicPr/>
          <p:nvPr/>
        </p:nvPicPr>
        <p:blipFill>
          <a:blip r:embed="rId3"/>
          <a:stretch/>
        </p:blipFill>
        <p:spPr>
          <a:xfrm>
            <a:off x="6227640" y="476280"/>
            <a:ext cx="1019160" cy="11523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216920" y="111924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нора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Всякая всячина - 40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394200" y="9954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SL_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507672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68" name=""/>
          <p:cNvSpPr/>
          <p:nvPr/>
        </p:nvSpPr>
        <p:spPr>
          <a:xfrm>
            <a:off x="1620360" y="112536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Духовная музыка</a:t>
            </a: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69" name=""/>
          <p:cNvSpPr/>
          <p:nvPr/>
        </p:nvSpPr>
        <p:spPr>
          <a:xfrm>
            <a:off x="6516720" y="414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70" name=""/>
          <p:cNvSpPr/>
          <p:nvPr/>
        </p:nvSpPr>
        <p:spPr>
          <a:xfrm>
            <a:off x="2268360" y="422100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71" name=""/>
          <p:cNvSpPr/>
          <p:nvPr/>
        </p:nvSpPr>
        <p:spPr>
          <a:xfrm>
            <a:off x="1809360" y="2630520"/>
            <a:ext cx="70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 какой религии относятся эти музыкальные фрагменты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Rectangle 5">
            <a:hlinkClick r:id="rId2" action="ppaction://hlinksldjump"/>
          </p:cNvPr>
          <p:cNvSpPr/>
          <p:nvPr/>
        </p:nvSpPr>
        <p:spPr>
          <a:xfrm>
            <a:off x="2340000" y="6093000"/>
            <a:ext cx="144000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6659640" y="4221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убики </a:t>
            </a: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для всех</a:t>
            </a:r>
            <a:endParaRPr b="0" lang="en-US" sz="36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575" name="Picture 9" descr="мешок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293080" y="170028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КОТ В МЕШКЕ</a:t>
            </a:r>
            <a:endParaRPr b="0" lang="en-US" sz="32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372360" y="5084640"/>
            <a:ext cx="1439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0" descr="Men_praying_at_Western_Wall_tb_n010200"/>
          <p:cNvPicPr/>
          <p:nvPr/>
        </p:nvPicPr>
        <p:blipFill>
          <a:blip r:embed="rId1"/>
          <a:stretch/>
        </p:blipFill>
        <p:spPr>
          <a:xfrm>
            <a:off x="2556000" y="3379680"/>
            <a:ext cx="4968720" cy="30924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УДАИЗ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тыня еврейского народ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имвол скорби по утраченному Хра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6" descr="C:\Users\РАИСА\Desktop\семинар по ОРКСЭ\030-031-03-01-pic\pic.jpg"/>
          <p:cNvPicPr/>
          <p:nvPr/>
        </p:nvPicPr>
        <p:blipFill>
          <a:blip r:embed="rId1"/>
          <a:stretch/>
        </p:blipFill>
        <p:spPr>
          <a:xfrm>
            <a:off x="2411280" y="2781360"/>
            <a:ext cx="6050160" cy="36100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УДАИЗ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65419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щенные книги, в которых содержатся основы иудейской рели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889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УДАИЗ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58560" y="2852640"/>
            <a:ext cx="3025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какого праздника начинается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иудейскому календарю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3132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 Unicode MS"/>
              </a:rPr>
              <a:t>БУДДИЗМ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 10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56" name="Picture 4" descr="ЕСМЬ Гаутама Будда, пришедший к вам этим днем"/>
          <p:cNvPicPr/>
          <p:nvPr/>
        </p:nvPicPr>
        <p:blipFill>
          <a:blip r:embed="rId1"/>
          <a:stretch/>
        </p:blipFill>
        <p:spPr>
          <a:xfrm>
            <a:off x="3276720" y="3230640"/>
            <a:ext cx="4535280" cy="34066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0"/>
          <p:cNvSpPr/>
          <p:nvPr/>
        </p:nvSpPr>
        <p:spPr>
          <a:xfrm>
            <a:off x="1116000" y="2492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larendon Extended"/>
              </a:rPr>
              <a:t>Чье изображение вы видите на фотографии?</a:t>
            </a:r>
            <a:endParaRPr b="0" lang="en-US" sz="24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58" name="Rectangle 4">
            <a:hlinkClick r:id="rId2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 Unicode MS"/>
              </a:rPr>
              <a:t>БУДДИЗМ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 20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61" name=""/>
          <p:cNvSpPr/>
          <p:nvPr/>
        </p:nvSpPr>
        <p:spPr>
          <a:xfrm>
            <a:off x="1303560" y="2414520"/>
            <a:ext cx="54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го цвета одежда у буддийского монаха?</a:t>
            </a:r>
            <a:endParaRPr b="0" lang="en-US" sz="20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2558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 Unicode MS"/>
              </a:rPr>
              <a:t>БУДДИЗМ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 30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Rectangle 4">
            <a:hlinkClick r:id="rId1" action="ppaction://hlinksldjump"/>
          </p:cNvPr>
          <p:cNvSpPr/>
          <p:nvPr/>
        </p:nvSpPr>
        <p:spPr>
          <a:xfrm>
            <a:off x="395280" y="602136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  <p:sp>
        <p:nvSpPr>
          <p:cNvPr id="466" name=""/>
          <p:cNvSpPr/>
          <p:nvPr/>
        </p:nvSpPr>
        <p:spPr>
          <a:xfrm>
            <a:off x="973800" y="3141720"/>
            <a:ext cx="29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еди каких 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родов России 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пространен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уддизм?</a:t>
            </a:r>
            <a:endParaRPr b="0" lang="en-US" sz="2800" spc="-1" strike="noStrike">
              <a:solidFill>
                <a:srgbClr val="000000"/>
              </a:solidFill>
              <a:latin typeface="Clarendon Extended"/>
            </a:endParaRPr>
          </a:p>
        </p:txBody>
      </p:sp>
      <p:pic>
        <p:nvPicPr>
          <p:cNvPr id="467" name="Picture 13" descr="696025"/>
          <p:cNvPicPr/>
          <p:nvPr/>
        </p:nvPicPr>
        <p:blipFill>
          <a:blip r:embed="rId2"/>
          <a:stretch/>
        </p:blipFill>
        <p:spPr>
          <a:xfrm>
            <a:off x="4788000" y="1268280"/>
            <a:ext cx="3879720" cy="4754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6"/>
          <p:cNvSpPr/>
          <p:nvPr/>
        </p:nvSpPr>
        <p:spPr>
          <a:xfrm>
            <a:off x="5625000" y="6093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larendon Extended"/>
              </a:rPr>
              <a:t>Золотая Ступа</a:t>
            </a:r>
            <a:endParaRPr b="0" lang="en-US" sz="1800" spc="-1" strike="noStrike">
              <a:solidFill>
                <a:srgbClr val="000000"/>
              </a:solidFill>
              <a:latin typeface="Clarendon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1:57:33Z</dcterms:created>
  <dc:creator>User</dc:creator>
  <dc:description/>
  <dc:language>en-US</dc:language>
  <cp:lastModifiedBy>User</cp:lastModifiedBy>
  <dcterms:modified xsi:type="dcterms:W3CDTF">2014-02-08T13:15:32Z</dcterms:modified>
  <cp:revision>81</cp:revision>
  <dc:subject/>
  <dc:title>Слайд 1</dc:title>
</cp:coreProperties>
</file>