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9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8F1-23B0-475B-B02C-8F488727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B3DE-3A7A-44F6-B028-2160723D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9A8B-774F-4E46-B21E-CF9C1018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8CE-A200-476B-8465-4892078F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EBF8-C222-4F38-B3AB-9CC7E2A6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211E-80AB-49ED-B7A5-FB5CF4DA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B586-0A66-4C6B-A288-43DE916E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20AD-7161-481C-8AAF-56E8B336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BC0-14F9-45E4-AFEF-3707317D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A5F-A0AA-450A-B87E-B2F160BB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7818-F82F-4C48-8011-35FE39CB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03F0-8E78-4E24-9D61-84D32527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0E02-77BF-4DFC-95E2-7256106060A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oza.ru/2010/12/24/1499" TargetMode="External"/><Relationship Id="rId3" Type="http://schemas.openxmlformats.org/officeDocument/2006/relationships/hyperlink" Target="http://www.proza.ru/2010/12/24/1499" TargetMode="External"/><Relationship Id="rId4" Type="http://schemas.openxmlformats.org/officeDocument/2006/relationships/hyperlink" Target="http://www.proza.ru/2010/12/24/1499" TargetMode="External"/><Relationship Id="rId5" Type="http://schemas.openxmlformats.org/officeDocument/2006/relationships/hyperlink" Target="http://www.proza.ru/2010/12/24/1499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«Мир вокруг нас»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Содержимое 3" descr="huxley1932.jpg"/>
          <p:cNvPicPr/>
          <p:nvPr/>
        </p:nvPicPr>
        <p:blipFill>
          <a:blip r:embed="rId2"/>
          <a:stretch/>
        </p:blipFill>
        <p:spPr>
          <a:xfrm>
            <a:off x="1042920" y="1125360"/>
            <a:ext cx="7242120" cy="45262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1547640" y="566100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Урок литературы в 11 классе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Разработала: Игнатьева О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179280" y="260280"/>
            <a:ext cx="8964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В романе Хаксли «О дивный новый мир» происходит коллективное едине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через любов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Рисунок 2" descr="массы.jpg"/>
          <p:cNvPicPr/>
          <p:nvPr/>
        </p:nvPicPr>
        <p:blipFill>
          <a:blip r:embed="rId2"/>
          <a:stretch/>
        </p:blipFill>
        <p:spPr>
          <a:xfrm>
            <a:off x="539640" y="2349360"/>
            <a:ext cx="815652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395280" y="260280"/>
            <a:ext cx="8209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В романе Оруэлла «1984» единение людей иде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через ненави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Рисунок 2" descr="ненависть.jpg"/>
          <p:cNvPicPr/>
          <p:nvPr/>
        </p:nvPicPr>
        <p:blipFill>
          <a:blip r:embed="rId2"/>
          <a:stretch/>
        </p:blipFill>
        <p:spPr>
          <a:xfrm>
            <a:off x="1403280" y="2205000"/>
            <a:ext cx="65534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ОСНОВОПОЛАГАЮЩИЕ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МОТИВЫ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Содержимое 3" descr="мир антиутоп.jpg"/>
          <p:cNvPicPr/>
          <p:nvPr/>
        </p:nvPicPr>
        <p:blipFill>
          <a:blip r:embed="rId2"/>
          <a:stretch/>
        </p:blipFill>
        <p:spPr>
          <a:xfrm>
            <a:off x="539640" y="2637000"/>
            <a:ext cx="81154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395280" y="404640"/>
            <a:ext cx="82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мотив навязанного счасть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539640" y="148428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мотив обезличивания       люд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Рисунок 3" descr="обезличивание2.jpg"/>
          <p:cNvPicPr/>
          <p:nvPr/>
        </p:nvPicPr>
        <p:blipFill>
          <a:blip r:embed="rId2"/>
          <a:stretch/>
        </p:blipFill>
        <p:spPr>
          <a:xfrm>
            <a:off x="1403280" y="2997360"/>
            <a:ext cx="661680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395280" y="260280"/>
            <a:ext cx="8569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Конфликт  в романе «1984» между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Calibri"/>
              </a:rPr>
              <a:t>свободой личности 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Calibri"/>
              </a:rPr>
              <a:t>государственной машиной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Конфликт в романе «О дивный новый мир» — между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Calibri"/>
              </a:rPr>
              <a:t>культурой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Calibri"/>
              </a:rPr>
              <a:t>цивилизацией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Шекспир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– это символ старого мира, в центре которого был человек, а не его функц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Содержимое 4" descr="шексп.jpg"/>
          <p:cNvPicPr/>
          <p:nvPr/>
        </p:nvPicPr>
        <p:blipFill>
          <a:blip r:embed="rId2"/>
          <a:stretch/>
        </p:blipFill>
        <p:spPr>
          <a:xfrm>
            <a:off x="1611360" y="2271600"/>
            <a:ext cx="59850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Читаем текст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(Раздаточный материал №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Содержимое 3" descr="1339401360_82685990_brave_new_world_by_marie_rd4mqsih.jpg"/>
          <p:cNvPicPr/>
          <p:nvPr/>
        </p:nvPicPr>
        <p:blipFill>
          <a:blip r:embed="rId2"/>
          <a:stretch/>
        </p:blipFill>
        <p:spPr>
          <a:xfrm>
            <a:off x="900000" y="2060640"/>
            <a:ext cx="7313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Это интересно!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Содержимое 3" descr="1984 роман.jpg"/>
          <p:cNvPicPr/>
          <p:nvPr/>
        </p:nvPicPr>
        <p:blipFill>
          <a:blip r:embed="rId2"/>
          <a:stretch/>
        </p:blipFill>
        <p:spPr>
          <a:xfrm>
            <a:off x="539640" y="1700280"/>
            <a:ext cx="817272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611280" y="476280"/>
            <a:ext cx="8137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Роман Оруэлла «1984»  был экранизирован как раз в 1984 году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у фильма  был эпиграф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Calibri"/>
              </a:rPr>
              <a:t>«Кто контролирует прошлое, тот контролирует будущее»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Calibri"/>
              </a:rPr>
              <a:t>Как вы понимаете эти слова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395280" y="47628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Роман Хаксли или Оруэлла ближе к роману Замятина?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Рисунок 2" descr="герои.jpg"/>
          <p:cNvPicPr/>
          <p:nvPr/>
        </p:nvPicPr>
        <p:blipFill>
          <a:blip r:embed="rId2"/>
          <a:stretch/>
        </p:blipFill>
        <p:spPr>
          <a:xfrm>
            <a:off x="1403280" y="2205000"/>
            <a:ext cx="66866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7868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ультовый научно-фантастический боевик «Матрица» (кон. ХХ в.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Содержимое 3" descr="матрица.jpg"/>
          <p:cNvPicPr/>
          <p:nvPr/>
        </p:nvPicPr>
        <p:blipFill>
          <a:blip r:embed="rId2"/>
          <a:stretch/>
        </p:blipFill>
        <p:spPr>
          <a:xfrm>
            <a:off x="1428840" y="1714680"/>
            <a:ext cx="658008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250920" y="540720"/>
            <a:ext cx="8497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В тоталитарном государстве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форма подавления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личности –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запрет и насил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А единственной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формой протеста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-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тайная организация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, готовящая восстание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В этом Оруэлл близок к Замятину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539640" y="189000"/>
            <a:ext cx="8209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Герой и Замятина, и Оруэлла либо активно протестует против государства, либо активно принимает его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Цель, смысл жизни  героя заключается в активной деятельност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Рисунок 2" descr="протест.jpg"/>
          <p:cNvPicPr/>
          <p:nvPr/>
        </p:nvPicPr>
        <p:blipFill>
          <a:blip r:embed="rId2"/>
          <a:stretch/>
        </p:blipFill>
        <p:spPr>
          <a:xfrm>
            <a:off x="4284720" y="3860640"/>
            <a:ext cx="357660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250920" y="404640"/>
            <a:ext cx="87138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В романе «О дивный новый мир»  центральным для Хаксли является вопрос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Times New Roman"/>
              </a:rPr>
              <a:t>в чем заключен смысл человеческой жизни?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Цель личности заключена в самом её существовани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50920" y="404640"/>
            <a:ext cx="849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Times New Roman"/>
              </a:rPr>
              <a:t>Смысл жизни утрачивается, когда индивид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замыкается на самом себе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Times New Roman"/>
              </a:rPr>
              <a:t>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Рисунок 2" descr="надо чаще встречаться.jpeg"/>
          <p:cNvPicPr/>
          <p:nvPr/>
        </p:nvPicPr>
        <p:blipFill>
          <a:blip r:embed="rId2"/>
          <a:stretch/>
        </p:blipFill>
        <p:spPr>
          <a:xfrm>
            <a:off x="5418000" y="1989000"/>
            <a:ext cx="3527640" cy="47037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395280" y="3105000"/>
            <a:ext cx="482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В этом, по мнению Хаксли, заключается трагедия человека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Все ли счастливы в «дивном мире»?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Содержимое 5" descr="базилия.jpg"/>
          <p:cNvPicPr/>
          <p:nvPr/>
        </p:nvPicPr>
        <p:blipFill>
          <a:blip r:embed="rId2"/>
          <a:stretch/>
        </p:blipFill>
        <p:spPr>
          <a:xfrm>
            <a:off x="1692360" y="2060640"/>
            <a:ext cx="590400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324000" y="1700280"/>
            <a:ext cx="8712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В «дивном мире» меньше свободы, чем в любом тоталитарном государстве, хотя люди живут в наслаждении и удовольствиях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1116000" y="26028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ПОЧЕМУ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95280" y="189000"/>
            <a:ext cx="8569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У человека нет права на собственное формирова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За индивидуума решают, какие у него должны быть наклонности и умственные способност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«Люди счастливы; они получают всё, что хотят, и не способны хотеть того, чего получить не могут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324000" y="189000"/>
            <a:ext cx="84247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Вывод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И у Замятина, и у Оруэлла запрет побуждает к сопротивлению, мятеж возможен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Рисунок 2" descr="19844.jpg"/>
          <p:cNvPicPr/>
          <p:nvPr/>
        </p:nvPicPr>
        <p:blipFill>
          <a:blip r:embed="rId2"/>
          <a:stretch/>
        </p:blipFill>
        <p:spPr>
          <a:xfrm>
            <a:off x="250920" y="3500280"/>
            <a:ext cx="4321080" cy="23371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1984-writing2.jpg"/>
          <p:cNvPicPr/>
          <p:nvPr/>
        </p:nvPicPr>
        <p:blipFill>
          <a:blip r:embed="rId3"/>
          <a:stretch/>
        </p:blipFill>
        <p:spPr>
          <a:xfrm>
            <a:off x="4788000" y="3213000"/>
            <a:ext cx="413208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468360" y="260280"/>
            <a:ext cx="8351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 Хаксли, хотя нет ни запретов, ни карательной системы, мятеж возможен только в форме «бунта одиночки»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Рисунок 4" descr="развлечения.jpg"/>
          <p:cNvPicPr/>
          <p:nvPr/>
        </p:nvPicPr>
        <p:blipFill>
          <a:blip r:embed="rId2"/>
          <a:stretch/>
        </p:blipFill>
        <p:spPr>
          <a:xfrm>
            <a:off x="17928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развлечения1.jpg"/>
          <p:cNvPicPr/>
          <p:nvPr/>
        </p:nvPicPr>
        <p:blipFill>
          <a:blip r:embed="rId3"/>
          <a:stretch/>
        </p:blipFill>
        <p:spPr>
          <a:xfrm>
            <a:off x="4859280" y="3500280"/>
            <a:ext cx="4105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250920" y="476280"/>
            <a:ext cx="871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Сами люди не хотят менять своей жизни, к которой приспособлены и предназначены изначально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Рисунок 2" descr="televizyon_293687_m.gif.png"/>
          <p:cNvPicPr/>
          <p:nvPr/>
        </p:nvPicPr>
        <p:blipFill>
          <a:blip r:embed="rId2"/>
          <a:stretch/>
        </p:blipFill>
        <p:spPr>
          <a:xfrm>
            <a:off x="1187280" y="2924280"/>
            <a:ext cx="66675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Нео выбирает красную таблетку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Содержимое 3" descr="таблет.jpg"/>
          <p:cNvPicPr/>
          <p:nvPr/>
        </p:nvPicPr>
        <p:blipFill>
          <a:blip r:embed="rId2"/>
          <a:stretch/>
        </p:blipFill>
        <p:spPr>
          <a:xfrm>
            <a:off x="498600" y="1600200"/>
            <a:ext cx="814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ктно.jpg"/>
          <p:cNvPicPr/>
          <p:nvPr/>
        </p:nvPicPr>
        <p:blipFill>
          <a:blip r:embed="rId2"/>
          <a:stretch/>
        </p:blipFill>
        <p:spPr>
          <a:xfrm>
            <a:off x="179280" y="189000"/>
            <a:ext cx="5372280" cy="40291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2" descr="кинотеатры.jpg"/>
          <p:cNvPicPr/>
          <p:nvPr/>
        </p:nvPicPr>
        <p:blipFill>
          <a:blip r:embed="rId3"/>
          <a:stretch/>
        </p:blipFill>
        <p:spPr>
          <a:xfrm>
            <a:off x="3995640" y="2852640"/>
            <a:ext cx="49611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229600" cy="22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Насколько актуальны в наши дни романы Хаксли и Оруэлла? Чьи прогнозы частично сбываются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Содержимое 3" descr="2055.jpg"/>
          <p:cNvPicPr/>
          <p:nvPr/>
        </p:nvPicPr>
        <p:blipFill>
          <a:blip r:embed="rId2"/>
          <a:stretch/>
        </p:blipFill>
        <p:spPr>
          <a:xfrm>
            <a:off x="1979640" y="2924280"/>
            <a:ext cx="51433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Хаксли против Оруэлл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Содержимое 3" descr="notes_1374072623.jpg"/>
          <p:cNvPicPr/>
          <p:nvPr/>
        </p:nvPicPr>
        <p:blipFill>
          <a:blip r:embed="rId2"/>
          <a:stretch/>
        </p:blipFill>
        <p:spPr>
          <a:xfrm>
            <a:off x="324000" y="1844640"/>
            <a:ext cx="86137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Содержимое 3" descr="2.jpg"/>
          <p:cNvPicPr/>
          <p:nvPr/>
        </p:nvPicPr>
        <p:blipFill>
          <a:blip r:embed="rId2"/>
          <a:stretch/>
        </p:blipFill>
        <p:spPr>
          <a:xfrm>
            <a:off x="214200" y="857160"/>
            <a:ext cx="87217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Содержимое 3" descr="4.jpg"/>
          <p:cNvPicPr/>
          <p:nvPr/>
        </p:nvPicPr>
        <p:blipFill>
          <a:blip r:embed="rId2"/>
          <a:stretch/>
        </p:blipFill>
        <p:spPr>
          <a:xfrm>
            <a:off x="2000160" y="203040"/>
            <a:ext cx="564372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Содержимое 3" descr="xgrZksNz8BM.jpg"/>
          <p:cNvPicPr/>
          <p:nvPr/>
        </p:nvPicPr>
        <p:blipFill>
          <a:blip r:embed="rId2"/>
          <a:stretch/>
        </p:blipFill>
        <p:spPr>
          <a:xfrm>
            <a:off x="1928880" y="228600"/>
            <a:ext cx="55720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Содержимое 4" descr="64375036_x_3e39d75f.jpg"/>
          <p:cNvPicPr/>
          <p:nvPr/>
        </p:nvPicPr>
        <p:blipFill>
          <a:blip r:embed="rId2"/>
          <a:stretch/>
        </p:blipFill>
        <p:spPr>
          <a:xfrm>
            <a:off x="142920" y="214200"/>
            <a:ext cx="5286240" cy="3929040"/>
          </a:xfrm>
          <a:prstGeom prst="rect">
            <a:avLst/>
          </a:prstGeom>
          <a:ln w="0">
            <a:noFill/>
          </a:ln>
        </p:spPr>
      </p:pic>
      <p:pic>
        <p:nvPicPr>
          <p:cNvPr id="116" name="Содержимое 5" descr="Vm_y_dkDz4I.jpg"/>
          <p:cNvPicPr/>
          <p:nvPr/>
        </p:nvPicPr>
        <p:blipFill>
          <a:blip r:embed="rId3"/>
          <a:stretch/>
        </p:blipFill>
        <p:spPr>
          <a:xfrm>
            <a:off x="2857680" y="3071880"/>
            <a:ext cx="61084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Содержимое 3" descr="6.jpg"/>
          <p:cNvPicPr/>
          <p:nvPr/>
        </p:nvPicPr>
        <p:blipFill>
          <a:blip r:embed="rId2"/>
          <a:stretch/>
        </p:blipFill>
        <p:spPr>
          <a:xfrm>
            <a:off x="433440" y="285840"/>
            <a:ext cx="8254800" cy="63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250920" y="192960"/>
            <a:ext cx="849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ак зачем же обращаться к произведениям, которым скоро минет целый век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Рисунок 2" descr="книги.jpg"/>
          <p:cNvPicPr/>
          <p:nvPr/>
        </p:nvPicPr>
        <p:blipFill>
          <a:blip r:embed="rId2"/>
          <a:stretch/>
        </p:blipFill>
        <p:spPr>
          <a:xfrm>
            <a:off x="1619280" y="2421000"/>
            <a:ext cx="600084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5075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Британская рок-группа «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USE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»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Композиция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«United States of Eurasia» (2009 г.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Содержимое 3" descr="muse.jpg"/>
          <p:cNvPicPr/>
          <p:nvPr/>
        </p:nvPicPr>
        <p:blipFill>
          <a:blip r:embed="rId2"/>
          <a:stretch/>
        </p:blipFill>
        <p:spPr>
          <a:xfrm>
            <a:off x="1763640" y="2205000"/>
            <a:ext cx="5857920" cy="4421160"/>
          </a:xfrm>
          <a:prstGeom prst="rect">
            <a:avLst/>
          </a:prstGeom>
          <a:ln w="0">
            <a:noFill/>
          </a:ln>
        </p:spPr>
      </p:pic>
      <p:pic>
        <p:nvPicPr>
          <p:cNvPr id="123" name="Muse-United-States-of-Eurasia (mp3cut.ru).mp3" descr=""/>
          <p:cNvPicPr/>
          <p:nvPr/>
        </p:nvPicPr>
        <p:blipFill>
          <a:blip r:embed="rId3"/>
          <a:stretch/>
        </p:blipFill>
        <p:spPr>
          <a:xfrm>
            <a:off x="810108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4788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матрих.jpg"/>
          <p:cNvPicPr/>
          <p:nvPr/>
        </p:nvPicPr>
        <p:blipFill>
          <a:blip r:embed="rId2"/>
          <a:stretch/>
        </p:blipFill>
        <p:spPr>
          <a:xfrm>
            <a:off x="571680" y="428760"/>
            <a:ext cx="7953120" cy="59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280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Проигрыш: Ф.Шопен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«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Ноктюрн №2»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Содержимое 3" descr="muse2.jpg"/>
          <p:cNvPicPr/>
          <p:nvPr/>
        </p:nvPicPr>
        <p:blipFill>
          <a:blip r:embed="rId2"/>
          <a:stretch/>
        </p:blipFill>
        <p:spPr>
          <a:xfrm>
            <a:off x="2411280" y="1844640"/>
            <a:ext cx="4824720" cy="4824360"/>
          </a:xfrm>
          <a:prstGeom prst="rect">
            <a:avLst/>
          </a:prstGeom>
          <a:ln w="0">
            <a:noFill/>
          </a:ln>
        </p:spPr>
      </p:pic>
      <p:pic>
        <p:nvPicPr>
          <p:cNvPr id="126" name="Muse-United-States-of-Eurasia (mp3cut.ru)-1.mp3" descr=""/>
          <p:cNvPicPr/>
          <p:nvPr/>
        </p:nvPicPr>
        <p:blipFill>
          <a:blip r:embed="rId3"/>
          <a:stretch/>
        </p:blipFill>
        <p:spPr>
          <a:xfrm>
            <a:off x="774072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508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395280" y="402840"/>
            <a:ext cx="849780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Домашнее задани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Написать домашнее сочинение по  теме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«Что общего, а что различного между нашим современным миром и мирами Оруэлла и Хаксли?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324000" y="362160"/>
            <a:ext cx="8496000" cy="63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Источник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Хаксли О. Контрапункт. О дивный новый мир. Обезьяна и сущность. Рассказы. М.: НФ «Пушкинская библиотека», ООО «Издательство АСТ», 200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руэлл Дж. 1984. Роман. Скотный двор. Сказка. Пермь: Издательство «КАПИК», 199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риходовская Е. Антиутопия О. Хаксли и Дж. Оруэлла  («О дивный новый мир», «1984») История зарубежной литературы ХХ века  (1914— 1994 гг.)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roza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/2010/12/24/1499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стман Н. Развлекаемся до смерти. Общественный диалог в эпоху шоу-бизнеса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[http://lib2.podelise.ru/docs/27082/index-12580.html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Мир, где возможно всё…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Матрица конец-1.avi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781848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Зачем  нам читать эти книги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428328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О. Хаксли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«О дивный новый мир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Содержимое 6" descr="un-mundo-feliz-aldous-huxley-e1326120085173_large.jpg"/>
          <p:cNvPicPr/>
          <p:nvPr/>
        </p:nvPicPr>
        <p:blipFill>
          <a:blip r:embed="rId2"/>
          <a:stretch/>
        </p:blipFill>
        <p:spPr>
          <a:xfrm>
            <a:off x="179280" y="3284640"/>
            <a:ext cx="4286520" cy="2571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3680" y="856800"/>
            <a:ext cx="371448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Дж. Оруэлл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«1984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Содержимое 11" descr="dLm6pY.jpg"/>
          <p:cNvPicPr/>
          <p:nvPr/>
        </p:nvPicPr>
        <p:blipFill>
          <a:blip r:embed="rId3"/>
          <a:stretch/>
        </p:blipFill>
        <p:spPr>
          <a:xfrm>
            <a:off x="4643280" y="3286080"/>
            <a:ext cx="43610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антиутопия.jpg"/>
          <p:cNvPicPr/>
          <p:nvPr/>
        </p:nvPicPr>
        <p:blipFill>
          <a:blip r:embed="rId2"/>
          <a:stretch/>
        </p:blipFill>
        <p:spPr>
          <a:xfrm>
            <a:off x="1908000" y="2492280"/>
            <a:ext cx="5616720" cy="42134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250920" y="18900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В Антиутопиях говорится о том, что всеобщность стирает индивидуальность, равенство переходит в уравниловку, а технический прогресс  обездушивает люд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79280" y="1125360"/>
            <a:ext cx="4392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Под строжайшим запретом оказывается все, что может способствовать индивидуальному развитию личност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Рисунок 3" descr="радость.jpg"/>
          <p:cNvPicPr/>
          <p:nvPr/>
        </p:nvPicPr>
        <p:blipFill>
          <a:blip r:embed="rId2"/>
          <a:stretch/>
        </p:blipFill>
        <p:spPr>
          <a:xfrm>
            <a:off x="4427640" y="1197000"/>
            <a:ext cx="4535280" cy="45356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179280" y="26028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ТАБУ - уединение человека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«Двухминутка ненависти»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1984-2.mp4.avi" descr=""/>
          <p:cNvPicPr/>
          <p:nvPr/>
        </p:nvPicPr>
        <p:blipFill>
          <a:blip r:embed="rId2"/>
          <a:stretch/>
        </p:blipFill>
        <p:spPr>
          <a:xfrm>
            <a:off x="214200" y="1500120"/>
            <a:ext cx="85615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1:26:13Z</dcterms:created>
  <dc:creator>Админ</dc:creator>
  <dc:description/>
  <dc:language>en-US</dc:language>
  <cp:lastModifiedBy>Adel</cp:lastModifiedBy>
  <dcterms:modified xsi:type="dcterms:W3CDTF">2014-03-14T21:30:43Z</dcterms:modified>
  <cp:revision>68</cp:revision>
  <dc:subject/>
  <dc:title>Хаксли против Оруэлла</dc:title>
</cp:coreProperties>
</file>