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4.png" ContentType="image/png"/>
  <Override PartName="/ppt/media/image54.wmf" ContentType="image/x-wmf"/>
  <Override PartName="/ppt/media/image58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41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8.png" ContentType="image/png"/>
  <Override PartName="/ppt/media/image39.jpeg" ContentType="image/jpeg"/>
  <Override PartName="/ppt/media/image45.gif" ContentType="image/gif"/>
  <Override PartName="/ppt/media/image38.png" ContentType="image/png"/>
  <Override PartName="/ppt/media/image52.png" ContentType="image/png"/>
  <Override PartName="/ppt/media/image12.gif" ContentType="image/gif"/>
  <Override PartName="/ppt/media/image31.png" ContentType="image/png"/>
  <Override PartName="/ppt/media/image3.jpeg" ContentType="image/jpeg"/>
  <Override PartName="/ppt/media/image30.png" ContentType="image/png"/>
  <Override PartName="/ppt/media/image15.png" ContentType="image/png"/>
  <Override PartName="/ppt/media/image55.wmf" ContentType="image/x-wmf"/>
  <Override PartName="/ppt/media/image9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A6C-13A7-4680-BD1C-886FAFB10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987-FE6F-42CB-B0CB-D41EBA8BC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096-8858-4CF2-921C-989DB978B5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32C4-B685-48D6-BD9A-FC9A7EA61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3319-9EAC-4ACD-9768-A0808056D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53CE-25AA-49DF-8875-A6CE01B05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901-78B7-4537-954D-4DEEF23D3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0B70-A389-43CE-83CE-AB2925425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66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6880" y="107604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66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6880" y="3713760"/>
            <a:ext cx="272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91B2-6433-492F-BE05-FB2FF0F60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6E67-2776-4B6B-958B-5E3B85380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8B47-CD27-4208-BD5C-89C51C8F2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598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0921-C70E-4B16-A3B6-E383D69D5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3711-E0C8-4B24-AA3D-ABEC3047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71376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5262-CF20-4642-BABC-5F94318C0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076040"/>
            <a:ext cx="4127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713760"/>
            <a:ext cx="84582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DD7C-E465-43D2-9A62-6D850B591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550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9280">
              <a:spcBef>
                <a:spcPts val="55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179280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73240">
              <a:spcBef>
                <a:spcPts val="55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4360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552-D010-49CA-A089-B2E4408A1EF5}" type="slidenum">
              <a:rPr b="0" lang="ru-RU" sz="10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Рисунок 6" descr="logo.jpg"/>
          <p:cNvPicPr/>
          <p:nvPr/>
        </p:nvPicPr>
        <p:blipFill>
          <a:blip r:embed="rId3"/>
          <a:stretch/>
        </p:blipFill>
        <p:spPr>
          <a:xfrm>
            <a:off x="208080" y="6234120"/>
            <a:ext cx="17953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7e0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55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3240">
              <a:spcBef>
                <a:spcPts val="550"/>
              </a:spcBef>
              <a:buClr>
                <a:srgbClr val="dd7e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9280">
              <a:spcBef>
                <a:spcPts val="55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179280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73240">
              <a:spcBef>
                <a:spcPts val="55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76400" indent="-273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slide" Target="slide12.xml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eather.vk.flv/" TargetMode="External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hyperlink" Target="file:///&#1089;&#1080;&#1085;&#1082;&#1074;&#1077;&#1081;&#1085;.ppt" TargetMode="External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idos.ru/news/compet.htm" TargetMode="External"/><Relationship Id="rId2" Type="http://schemas.openxmlformats.org/officeDocument/2006/relationships/hyperlink" Target="http://www.eidos.ru/news/compet.htm" TargetMode="External"/><Relationship Id="rId3" Type="http://schemas.openxmlformats.org/officeDocument/2006/relationships/hyperlink" Target="http://www.eidos.ru/news/compet.htm" TargetMode="External"/><Relationship Id="rId4" Type="http://schemas.openxmlformats.org/officeDocument/2006/relationships/hyperlink" Target="http://www.eidos.ru/news/compet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99680" y="3485880"/>
            <a:ext cx="34290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Arial"/>
              </a:rPr>
              <a:t>Практико-ориентированный про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Arial"/>
              </a:rPr>
              <a:t>Автор: Носкова Н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Arial"/>
              </a:rPr>
              <a:t>учитель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Arial"/>
              </a:rPr>
              <a:t>МКОУ «Шеркальская СО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80960" y="590040"/>
            <a:ext cx="6772320" cy="28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Реализация компетентностного подхода в обучении английскому языку через инновационные 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Ценностно-смысловые компетенции</a:t>
            </a:r>
            <a:br>
              <a:rPr sz="2800"/>
            </a:b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Список проблемных ситуаций </a:t>
            </a:r>
            <a:endParaRPr b="1" lang="en-US" sz="22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97E-D849-4546-9B54-6A72FBAAF8DB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0440" y="1351080"/>
          <a:ext cx="8788320" cy="4897440"/>
        </p:xfrm>
        <a:graphic>
          <a:graphicData uri="http://schemas.openxmlformats.org/drawingml/2006/table">
            <a:tbl>
              <a:tblPr/>
              <a:tblGrid>
                <a:gridCol w="1109880"/>
                <a:gridCol w="2206440"/>
                <a:gridCol w="547200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ом. Кварти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о ли придерживаться древнего учения «Фэн-Шуй» при обстановке мебели в доме? Игра «Квартирный вопрос»; Как ты понимаешь английскую поговорку «Мой дом – моя крепость»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нешн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я проблема у героя песни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k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рисуй его). Что ты ему посоветуеш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нужно выглядеть привлекательны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23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ружб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Могут ли люди обойтись без тебя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такой настоящий дру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рузья занимают много времени» - гласит английская пословица. Ты согласен с н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ебя есть проблемы с друзья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ожешь сделать лично ты для того, чтоб стало больше света и добра на Земле?» (ситуация «Спешите творить добро!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Ценностно-смысловые компетенции</a:t>
            </a:r>
            <a:br>
              <a:rPr sz="2800"/>
            </a:b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Список проблемных ситуаций </a:t>
            </a:r>
            <a:endParaRPr b="1" lang="en-US" sz="22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4D7-480D-4FE3-9D7F-040A37590A56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5240" y="1282680"/>
          <a:ext cx="8826480" cy="5423040"/>
        </p:xfrm>
        <a:graphic>
          <a:graphicData uri="http://schemas.openxmlformats.org/drawingml/2006/table">
            <a:tbl>
              <a:tblPr/>
              <a:tblGrid>
                <a:gridCol w="914400"/>
                <a:gridCol w="2146320"/>
                <a:gridCol w="5765760"/>
              </a:tblGrid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тение, почему бы нет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ОЖ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жно ли читать в наше врем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ебе даёт чтен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влияет классическая музыка (рок музыка) на здоровье человек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ё здоровье в моих руках. Так ли э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егко ли быть молодым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праведлива ли система благосостояния граждан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дость - прекрасная пора, не так 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а любви. Что это тебе д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что потратить юные годы своей жиз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гко ли живётся вашим бабушкам и дедушк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89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разнообразен этот мир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географическое положение влияет на жизнь людей? Где лучше жить – в городе или в поселке? Аргументируй свой выб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географическое положение вашего села повлияло на жизнедеятельность и характер его жител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2400" y="363240"/>
            <a:ext cx="8458200" cy="117324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7e0e"/>
                </a:solidFill>
                <a:latin typeface="Arial"/>
              </a:rPr>
              <a:t>Общекультурные компетенции</a:t>
            </a:r>
            <a:br>
              <a:rPr sz="2500"/>
            </a:br>
            <a:br>
              <a:rPr sz="2500"/>
            </a:br>
            <a:endParaRPr b="1" lang="en-US" sz="36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9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F63-9E4B-46C4-8F49-B76B892A512B}" type="slidenum">
              <a:rPr b="0" lang="en-US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10" descr=""/>
          <p:cNvPicPr/>
          <p:nvPr/>
        </p:nvPicPr>
        <p:blipFill>
          <a:blip r:embed="rId2"/>
          <a:stretch/>
        </p:blipFill>
        <p:spPr>
          <a:xfrm>
            <a:off x="1322280" y="1322280"/>
            <a:ext cx="6621480" cy="9082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2" descr=""/>
          <p:cNvPicPr/>
          <p:nvPr/>
        </p:nvPicPr>
        <p:blipFill>
          <a:blip r:embed="rId3"/>
          <a:stretch/>
        </p:blipFill>
        <p:spPr>
          <a:xfrm>
            <a:off x="1000080" y="2273400"/>
            <a:ext cx="6838920" cy="7984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3" descr=""/>
          <p:cNvPicPr/>
          <p:nvPr/>
        </p:nvPicPr>
        <p:blipFill>
          <a:blip r:embed="rId4"/>
          <a:stretch/>
        </p:blipFill>
        <p:spPr>
          <a:xfrm>
            <a:off x="2225520" y="3200400"/>
            <a:ext cx="4784760" cy="7984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4" descr=""/>
          <p:cNvPicPr/>
          <p:nvPr/>
        </p:nvPicPr>
        <p:blipFill>
          <a:blip r:embed="rId5"/>
          <a:stretch/>
        </p:blipFill>
        <p:spPr>
          <a:xfrm>
            <a:off x="665280" y="4005360"/>
            <a:ext cx="79246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erry-christmas-with-tree"/>
          <p:cNvPicPr/>
          <p:nvPr/>
        </p:nvPicPr>
        <p:blipFill>
          <a:blip r:embed="rId1"/>
          <a:stretch/>
        </p:blipFill>
        <p:spPr>
          <a:xfrm>
            <a:off x="2384280" y="787320"/>
            <a:ext cx="6085080" cy="5499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00040" y="428760"/>
            <a:ext cx="3571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10" descr=""/>
          <p:cNvPicPr/>
          <p:nvPr/>
        </p:nvPicPr>
        <p:blipFill>
          <a:blip r:embed="rId2"/>
          <a:stretch/>
        </p:blipFill>
        <p:spPr>
          <a:xfrm>
            <a:off x="-23760" y="109440"/>
            <a:ext cx="4424400" cy="11034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1"/>
          <p:cNvSpPr/>
          <p:nvPr/>
        </p:nvSpPr>
        <p:spPr>
          <a:xfrm>
            <a:off x="6643800" y="6357960"/>
            <a:ext cx="221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12" descr=""/>
          <p:cNvPicPr/>
          <p:nvPr/>
        </p:nvPicPr>
        <p:blipFill>
          <a:blip r:embed="rId3"/>
          <a:stretch/>
        </p:blipFill>
        <p:spPr>
          <a:xfrm>
            <a:off x="6480000" y="5546880"/>
            <a:ext cx="2816280" cy="1152360"/>
          </a:xfrm>
          <a:prstGeom prst="rect">
            <a:avLst/>
          </a:prstGeom>
          <a:ln w="0">
            <a:noFill/>
          </a:ln>
        </p:spPr>
      </p:pic>
      <p:sp>
        <p:nvSpPr>
          <p:cNvPr id="149" name="Управляющая кнопка: домой 6">
            <a:hlinkClick r:id="rId4" action="ppaction://hlinksldjump"/>
          </p:cNvPr>
          <p:cNvSpPr/>
          <p:nvPr/>
        </p:nvSpPr>
        <p:spPr>
          <a:xfrm>
            <a:off x="685800" y="5956200"/>
            <a:ext cx="635040" cy="660600"/>
          </a:xfrm>
          <a:custGeom>
            <a:avLst/>
            <a:gdLst>
              <a:gd name="textAreaLeft" fmla="*/ 41040 w 635040"/>
              <a:gd name="textAreaRight" fmla="*/ 594000 w 635040"/>
              <a:gd name="textAreaTop" fmla="*/ 41040 h 660600"/>
              <a:gd name="textAreaBottom" fmla="*/ 619560 h 660600"/>
            </a:gdLst>
            <a:ahLst/>
            <a:rect l="textAreaLeft" t="textAreaTop" r="textAreaRight" b="textAreaBottom"/>
            <a:pathLst>
              <a:path w="21600" h="22469">
                <a:moveTo>
                  <a:pt x="0" y="0"/>
                </a:moveTo>
                <a:lnTo>
                  <a:pt x="21600" y="0"/>
                </a:lnTo>
                <a:lnTo>
                  <a:pt x="21600" y="22469"/>
                </a:lnTo>
                <a:lnTo>
                  <a:pt x="0" y="22469"/>
                </a:lnTo>
                <a:close/>
              </a:path>
              <a:path fill="lightenLess" w="21600" h="224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69">
                <a:moveTo>
                  <a:pt x="21600" y="0"/>
                </a:moveTo>
                <a:lnTo>
                  <a:pt x="21600" y="22469"/>
                </a:lnTo>
                <a:lnTo>
                  <a:pt x="20200" y="21069"/>
                </a:lnTo>
                <a:lnTo>
                  <a:pt x="20200" y="1400"/>
                </a:lnTo>
                <a:close/>
              </a:path>
              <a:path fill="darkenLess" w="21600" h="22469">
                <a:moveTo>
                  <a:pt x="21600" y="22469"/>
                </a:moveTo>
                <a:lnTo>
                  <a:pt x="0" y="22469"/>
                </a:lnTo>
                <a:lnTo>
                  <a:pt x="1400" y="21069"/>
                </a:lnTo>
                <a:lnTo>
                  <a:pt x="20200" y="21069"/>
                </a:lnTo>
                <a:close/>
              </a:path>
              <a:path fill="lighten" w="21600" h="22469">
                <a:moveTo>
                  <a:pt x="0" y="224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69"/>
                </a:lnTo>
                <a:close/>
              </a:path>
              <a:path fill="darken" w="21600" h="22469">
                <a:moveTo>
                  <a:pt x="10800" y="4271"/>
                </a:moveTo>
                <a:lnTo>
                  <a:pt x="13376" y="6883"/>
                </a:lnTo>
                <a:lnTo>
                  <a:pt x="13376" y="5142"/>
                </a:lnTo>
                <a:lnTo>
                  <a:pt x="15152" y="5142"/>
                </a:lnTo>
                <a:lnTo>
                  <a:pt x="15152" y="8658"/>
                </a:lnTo>
                <a:lnTo>
                  <a:pt x="17763" y="11234"/>
                </a:lnTo>
                <a:lnTo>
                  <a:pt x="16109" y="11234"/>
                </a:lnTo>
                <a:lnTo>
                  <a:pt x="16109" y="18424"/>
                </a:lnTo>
                <a:lnTo>
                  <a:pt x="5491" y="18424"/>
                </a:lnTo>
                <a:lnTo>
                  <a:pt x="5491" y="11234"/>
                </a:lnTo>
                <a:lnTo>
                  <a:pt x="3837" y="11234"/>
                </a:lnTo>
                <a:close/>
              </a:path>
              <a:path fill="darkenLess" w="21600" h="22469">
                <a:moveTo>
                  <a:pt x="13376" y="6883"/>
                </a:moveTo>
                <a:lnTo>
                  <a:pt x="13376" y="5142"/>
                </a:lnTo>
                <a:lnTo>
                  <a:pt x="15152" y="5142"/>
                </a:lnTo>
                <a:lnTo>
                  <a:pt x="15152" y="8658"/>
                </a:lnTo>
                <a:close/>
              </a:path>
              <a:path fill="darkenLess" w="21600" h="22469">
                <a:moveTo>
                  <a:pt x="9877" y="14733"/>
                </a:moveTo>
                <a:lnTo>
                  <a:pt x="11723" y="14733"/>
                </a:lnTo>
                <a:lnTo>
                  <a:pt x="11723" y="18424"/>
                </a:lnTo>
                <a:lnTo>
                  <a:pt x="16109" y="18424"/>
                </a:lnTo>
                <a:lnTo>
                  <a:pt x="16109" y="11234"/>
                </a:lnTo>
                <a:lnTo>
                  <a:pt x="5491" y="11234"/>
                </a:lnTo>
                <a:lnTo>
                  <a:pt x="5491" y="18424"/>
                </a:lnTo>
                <a:lnTo>
                  <a:pt x="9877" y="18424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38120" y="347760"/>
            <a:ext cx="8534520" cy="1461960"/>
          </a:xfrm>
          <a:prstGeom prst="rect">
            <a:avLst/>
          </a:prstGeom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</p:pic>
      <p:sp>
        <p:nvSpPr>
          <p:cNvPr id="151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232A-BE8B-49AC-87BC-295F6A1DA1A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54160" y="17017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 и тактики  речевого поведения, принятые в англоязычной среде:  стратегия коммуникативного контакта,  тактика подчеркнутого преувеличения (гиперболизации), тактика усиления значимости, стратегия коммуникативной,  поддержки собеседника (старшеклассн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тное использование слов «спасибо, пожалуйста, извините, здравствуйте, конечно» (младшие и средние школьн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обращения, принятые в англоязычных странах, связанные с родственными отношениями, ласковые и дружественные, вежли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18240" y="6311880"/>
            <a:ext cx="457200" cy="241200"/>
          </a:xfrm>
          <a:custGeom>
            <a:avLst/>
            <a:gdLst>
              <a:gd name="textAreaLeft" fmla="*/ 15480 w 457200"/>
              <a:gd name="textAreaRight" fmla="*/ 441720 w 45720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40914" h="21600">
                <a:moveTo>
                  <a:pt x="0" y="0"/>
                </a:moveTo>
                <a:lnTo>
                  <a:pt x="40914" y="0"/>
                </a:lnTo>
                <a:lnTo>
                  <a:pt x="40914" y="21600"/>
                </a:lnTo>
                <a:lnTo>
                  <a:pt x="0" y="21600"/>
                </a:lnTo>
                <a:close/>
              </a:path>
              <a:path fill="lightenLess" w="40914" h="21600">
                <a:moveTo>
                  <a:pt x="0" y="0"/>
                </a:moveTo>
                <a:lnTo>
                  <a:pt x="40914" y="0"/>
                </a:lnTo>
                <a:lnTo>
                  <a:pt x="39514" y="1400"/>
                </a:lnTo>
                <a:lnTo>
                  <a:pt x="1400" y="1400"/>
                </a:lnTo>
                <a:close/>
              </a:path>
              <a:path fill="darken" w="40914" h="21600">
                <a:moveTo>
                  <a:pt x="40914" y="0"/>
                </a:moveTo>
                <a:lnTo>
                  <a:pt x="40914" y="21600"/>
                </a:lnTo>
                <a:lnTo>
                  <a:pt x="39514" y="20200"/>
                </a:lnTo>
                <a:lnTo>
                  <a:pt x="39514" y="1400"/>
                </a:lnTo>
                <a:close/>
              </a:path>
              <a:path fill="darkenLess" w="40914" h="21600">
                <a:moveTo>
                  <a:pt x="40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14" y="20200"/>
                </a:lnTo>
                <a:close/>
              </a:path>
              <a:path fill="lighten" w="40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14" h="21600">
                <a:moveTo>
                  <a:pt x="13451" y="3794"/>
                </a:moveTo>
                <a:lnTo>
                  <a:pt x="27464" y="10800"/>
                </a:lnTo>
                <a:lnTo>
                  <a:pt x="13451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38120" y="304920"/>
            <a:ext cx="8534520" cy="1189080"/>
          </a:xfrm>
          <a:prstGeom prst="rect">
            <a:avLst/>
          </a:prstGeom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</p:pic>
      <p:sp>
        <p:nvSpPr>
          <p:cNvPr id="155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EE4A-7545-4BD5-B76A-F3A1A99E60BB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66920"/>
            <a:ext cx="1609560" cy="44604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15"/>
          <p:cNvCxnSpPr>
            <a:stCxn id="156" idx="0"/>
          </p:cNvCxnSpPr>
          <p:nvPr/>
        </p:nvCxnSpPr>
        <p:spPr>
          <a:xfrm flipV="1">
            <a:off x="1023840" y="1739160"/>
            <a:ext cx="1199520" cy="55476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triangle" w="med"/>
          </a:ln>
        </p:spPr>
      </p:cxnSp>
      <p:cxnSp>
        <p:nvCxnSpPr>
          <p:cNvPr id="158" name="Прямая со стрелкой 17"/>
          <p:cNvCxnSpPr>
            <a:stCxn id="156" idx="2"/>
          </p:cNvCxnSpPr>
          <p:nvPr/>
        </p:nvCxnSpPr>
        <p:spPr>
          <a:xfrm>
            <a:off x="1022760" y="2693520"/>
            <a:ext cx="1212120" cy="583560"/>
          </a:xfrm>
          <a:prstGeom prst="straightConnector1">
            <a:avLst/>
          </a:prstGeom>
          <a:ln w="19080">
            <a:solidFill>
              <a:srgbClr val="dd7e0e"/>
            </a:solidFill>
            <a:miter/>
            <a:tailEnd len="med" type="triangle" w="med"/>
          </a:ln>
        </p:spPr>
      </p:cxnSp>
      <p:cxnSp>
        <p:nvCxnSpPr>
          <p:cNvPr id="159" name="Прямая со стрелкой 19"/>
          <p:cNvCxnSpPr>
            <a:stCxn id="156" idx="3"/>
          </p:cNvCxnSpPr>
          <p:nvPr/>
        </p:nvCxnSpPr>
        <p:spPr>
          <a:xfrm flipV="1">
            <a:off x="1758600" y="2209320"/>
            <a:ext cx="896040" cy="28512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arrow" w="med"/>
          </a:ln>
        </p:spPr>
      </p:cxnSp>
      <p:cxnSp>
        <p:nvCxnSpPr>
          <p:cNvPr id="160" name="Прямая со стрелкой 21"/>
          <p:cNvCxnSpPr>
            <a:stCxn id="156" idx="3"/>
          </p:cNvCxnSpPr>
          <p:nvPr/>
        </p:nvCxnSpPr>
        <p:spPr>
          <a:xfrm>
            <a:off x="1758600" y="2493720"/>
            <a:ext cx="896040" cy="16092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arrow" w="med"/>
          </a:ln>
        </p:spPr>
      </p:cxnSp>
      <p:sp>
        <p:nvSpPr>
          <p:cNvPr id="161" name="TextBox 22"/>
          <p:cNvSpPr/>
          <p:nvPr/>
        </p:nvSpPr>
        <p:spPr>
          <a:xfrm>
            <a:off x="5676840" y="1625760"/>
            <a:ext cx="29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23" descr=""/>
          <p:cNvPicPr/>
          <p:nvPr/>
        </p:nvPicPr>
        <p:blipFill>
          <a:blip r:embed="rId3"/>
          <a:stretch/>
        </p:blipFill>
        <p:spPr>
          <a:xfrm>
            <a:off x="6040440" y="1511280"/>
            <a:ext cx="2165400" cy="64620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25" descr=""/>
          <p:cNvPicPr/>
          <p:nvPr/>
        </p:nvPicPr>
        <p:blipFill>
          <a:blip r:embed="rId4"/>
          <a:stretch/>
        </p:blipFill>
        <p:spPr>
          <a:xfrm>
            <a:off x="5230800" y="2103480"/>
            <a:ext cx="238284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7" descr=""/>
          <p:cNvPicPr/>
          <p:nvPr/>
        </p:nvPicPr>
        <p:blipFill>
          <a:blip r:embed="rId5"/>
          <a:stretch/>
        </p:blipFill>
        <p:spPr>
          <a:xfrm>
            <a:off x="7192800" y="2597040"/>
            <a:ext cx="203688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29" descr=""/>
          <p:cNvPicPr/>
          <p:nvPr/>
        </p:nvPicPr>
        <p:blipFill>
          <a:blip r:embed="rId6"/>
          <a:stretch/>
        </p:blipFill>
        <p:spPr>
          <a:xfrm>
            <a:off x="5175360" y="2968560"/>
            <a:ext cx="2182680" cy="4399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30" descr=""/>
          <p:cNvPicPr/>
          <p:nvPr/>
        </p:nvPicPr>
        <p:blipFill>
          <a:blip r:embed="rId7"/>
          <a:stretch/>
        </p:blipFill>
        <p:spPr>
          <a:xfrm>
            <a:off x="7034040" y="3408480"/>
            <a:ext cx="1957680" cy="4204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4" descr=""/>
          <p:cNvPicPr/>
          <p:nvPr/>
        </p:nvPicPr>
        <p:blipFill>
          <a:blip r:embed="rId8"/>
          <a:stretch/>
        </p:blipFill>
        <p:spPr>
          <a:xfrm>
            <a:off x="5413320" y="4035600"/>
            <a:ext cx="3260880" cy="712440"/>
          </a:xfrm>
          <a:prstGeom prst="rect">
            <a:avLst/>
          </a:prstGeom>
          <a:ln w="0">
            <a:noFill/>
          </a:ln>
        </p:spPr>
      </p:pic>
      <p:cxnSp>
        <p:nvCxnSpPr>
          <p:cNvPr id="168" name="Прямая со стрелкой 36"/>
          <p:cNvCxnSpPr/>
          <p:nvPr/>
        </p:nvCxnSpPr>
        <p:spPr>
          <a:xfrm flipH="1">
            <a:off x="6057720" y="1866960"/>
            <a:ext cx="1028880" cy="317880"/>
          </a:xfrm>
          <a:prstGeom prst="straightConnector1">
            <a:avLst/>
          </a:prstGeom>
          <a:ln w="28440">
            <a:solidFill>
              <a:srgbClr val="9eb160"/>
            </a:solidFill>
            <a:miter/>
            <a:tailEnd len="med" type="arrow" w="med"/>
          </a:ln>
        </p:spPr>
      </p:cxnSp>
      <p:cxnSp>
        <p:nvCxnSpPr>
          <p:cNvPr id="169" name="Прямая со стрелкой 38"/>
          <p:cNvCxnSpPr/>
          <p:nvPr/>
        </p:nvCxnSpPr>
        <p:spPr>
          <a:xfrm>
            <a:off x="7251840" y="1854360"/>
            <a:ext cx="1156320" cy="902160"/>
          </a:xfrm>
          <a:prstGeom prst="straightConnector1">
            <a:avLst/>
          </a:prstGeom>
          <a:ln w="28440">
            <a:solidFill>
              <a:srgbClr val="7d9263"/>
            </a:solidFill>
            <a:miter/>
            <a:tailEnd len="med" type="arrow" w="med"/>
          </a:ln>
        </p:spPr>
      </p:cxnSp>
      <p:cxnSp>
        <p:nvCxnSpPr>
          <p:cNvPr id="170" name="Прямая со стрелкой 40"/>
          <p:cNvCxnSpPr/>
          <p:nvPr/>
        </p:nvCxnSpPr>
        <p:spPr>
          <a:xfrm flipH="1">
            <a:off x="6146280" y="1866960"/>
            <a:ext cx="1003680" cy="1156320"/>
          </a:xfrm>
          <a:prstGeom prst="straightConnector1">
            <a:avLst/>
          </a:prstGeom>
          <a:ln w="28440">
            <a:solidFill>
              <a:srgbClr val="9eb160"/>
            </a:solidFill>
            <a:miter/>
            <a:tailEnd len="med" type="arrow" w="med"/>
          </a:ln>
        </p:spPr>
      </p:cxnSp>
      <p:cxnSp>
        <p:nvCxnSpPr>
          <p:cNvPr id="171" name="Прямая со стрелкой 42"/>
          <p:cNvCxnSpPr/>
          <p:nvPr/>
        </p:nvCxnSpPr>
        <p:spPr>
          <a:xfrm>
            <a:off x="7192800" y="1825560"/>
            <a:ext cx="694800" cy="1604160"/>
          </a:xfrm>
          <a:prstGeom prst="straightConnector1">
            <a:avLst/>
          </a:prstGeom>
          <a:ln w="19080">
            <a:solidFill>
              <a:srgbClr val="7d9263"/>
            </a:solidFill>
            <a:miter/>
            <a:tailEnd len="med" type="triangle" w="med"/>
          </a:ln>
        </p:spPr>
      </p:cxnSp>
      <p:cxnSp>
        <p:nvCxnSpPr>
          <p:cNvPr id="172" name="Прямая со стрелкой 44"/>
          <p:cNvCxnSpPr/>
          <p:nvPr/>
        </p:nvCxnSpPr>
        <p:spPr>
          <a:xfrm flipH="1">
            <a:off x="7125840" y="1802880"/>
            <a:ext cx="62640" cy="2040840"/>
          </a:xfrm>
          <a:prstGeom prst="straightConnector1">
            <a:avLst/>
          </a:prstGeom>
          <a:ln w="19080">
            <a:solidFill>
              <a:srgbClr val="9eb160"/>
            </a:solidFill>
            <a:miter/>
            <a:tailEnd len="med" type="triangle" w="med"/>
          </a:ln>
        </p:spPr>
      </p:cxnSp>
      <p:pic>
        <p:nvPicPr>
          <p:cNvPr id="173" name="Прямоугольник 46" descr=""/>
          <p:cNvPicPr/>
          <p:nvPr/>
        </p:nvPicPr>
        <p:blipFill>
          <a:blip r:embed="rId9"/>
          <a:stretch/>
        </p:blipFill>
        <p:spPr>
          <a:xfrm>
            <a:off x="219240" y="3633840"/>
            <a:ext cx="4584600" cy="6206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8" descr=""/>
          <p:cNvPicPr/>
          <p:nvPr/>
        </p:nvPicPr>
        <p:blipFill>
          <a:blip r:embed="rId10"/>
          <a:stretch/>
        </p:blipFill>
        <p:spPr>
          <a:xfrm>
            <a:off x="743040" y="5486400"/>
            <a:ext cx="3024000" cy="64620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 49" descr=""/>
          <p:cNvPicPr/>
          <p:nvPr/>
        </p:nvPicPr>
        <p:blipFill>
          <a:blip r:embed="rId11"/>
          <a:stretch/>
        </p:blipFill>
        <p:spPr>
          <a:xfrm>
            <a:off x="1914480" y="4260960"/>
            <a:ext cx="2475000" cy="6285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50" descr=""/>
          <p:cNvPicPr/>
          <p:nvPr/>
        </p:nvPicPr>
        <p:blipFill>
          <a:blip r:embed="rId12"/>
          <a:stretch/>
        </p:blipFill>
        <p:spPr>
          <a:xfrm>
            <a:off x="115920" y="4254480"/>
            <a:ext cx="1828800" cy="6462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52" descr=""/>
          <p:cNvPicPr/>
          <p:nvPr/>
        </p:nvPicPr>
        <p:blipFill>
          <a:blip r:embed="rId13"/>
          <a:stretch/>
        </p:blipFill>
        <p:spPr>
          <a:xfrm>
            <a:off x="1504800" y="4816440"/>
            <a:ext cx="1427400" cy="57312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54"/>
          <p:cNvCxnSpPr>
            <a:endCxn id="176" idx="0"/>
          </p:cNvCxnSpPr>
          <p:nvPr/>
        </p:nvCxnSpPr>
        <p:spPr>
          <a:xfrm flipH="1">
            <a:off x="1037520" y="3948480"/>
            <a:ext cx="1159560" cy="351360"/>
          </a:xfrm>
          <a:prstGeom prst="straightConnector1">
            <a:avLst/>
          </a:prstGeom>
          <a:ln w="28440">
            <a:solidFill>
              <a:srgbClr val="7c354d"/>
            </a:solidFill>
            <a:miter/>
            <a:tailEnd len="med" type="arrow" w="med"/>
          </a:ln>
        </p:spPr>
      </p:cxnSp>
      <p:cxnSp>
        <p:nvCxnSpPr>
          <p:cNvPr id="179" name="Прямая со стрелкой 56"/>
          <p:cNvCxnSpPr/>
          <p:nvPr/>
        </p:nvCxnSpPr>
        <p:spPr>
          <a:xfrm>
            <a:off x="2209320" y="3975120"/>
            <a:ext cx="1080360" cy="356400"/>
          </a:xfrm>
          <a:prstGeom prst="straightConnector1">
            <a:avLst/>
          </a:prstGeom>
          <a:ln w="28440">
            <a:solidFill>
              <a:srgbClr val="b55475"/>
            </a:solidFill>
            <a:miter/>
            <a:tailEnd len="med" type="arrow" w="med"/>
          </a:ln>
        </p:spPr>
      </p:cxnSp>
      <p:cxnSp>
        <p:nvCxnSpPr>
          <p:cNvPr id="180" name="Прямая со стрелкой 58"/>
          <p:cNvCxnSpPr>
            <a:stCxn id="176" idx="2"/>
          </p:cNvCxnSpPr>
          <p:nvPr/>
        </p:nvCxnSpPr>
        <p:spPr>
          <a:xfrm>
            <a:off x="1037160" y="4670280"/>
            <a:ext cx="1096200" cy="207360"/>
          </a:xfrm>
          <a:prstGeom prst="straightConnector1">
            <a:avLst/>
          </a:prstGeom>
          <a:ln w="28440">
            <a:solidFill>
              <a:srgbClr val="b55475"/>
            </a:solidFill>
            <a:miter/>
            <a:tailEnd len="med" type="arrow" w="med"/>
          </a:ln>
        </p:spPr>
      </p:cxnSp>
      <p:cxnSp>
        <p:nvCxnSpPr>
          <p:cNvPr id="181" name="Прямая со стрелкой 60"/>
          <p:cNvCxnSpPr/>
          <p:nvPr/>
        </p:nvCxnSpPr>
        <p:spPr>
          <a:xfrm flipH="1">
            <a:off x="2183760" y="4622760"/>
            <a:ext cx="1245240" cy="241920"/>
          </a:xfrm>
          <a:prstGeom prst="straightConnector1">
            <a:avLst/>
          </a:prstGeom>
          <a:ln w="28440">
            <a:solidFill>
              <a:srgbClr val="b55475"/>
            </a:solidFill>
            <a:miter/>
            <a:tailEnd len="med" type="arrow" w="med"/>
          </a:ln>
        </p:spPr>
      </p:cxnSp>
      <p:cxnSp>
        <p:nvCxnSpPr>
          <p:cNvPr id="182" name="Прямая со стрелкой 62"/>
          <p:cNvCxnSpPr/>
          <p:nvPr/>
        </p:nvCxnSpPr>
        <p:spPr>
          <a:xfrm>
            <a:off x="2171880" y="4000680"/>
            <a:ext cx="25920" cy="1613520"/>
          </a:xfrm>
          <a:prstGeom prst="straightConnector1">
            <a:avLst/>
          </a:prstGeom>
          <a:ln w="28440">
            <a:solidFill>
              <a:srgbClr val="b55475"/>
            </a:solidFill>
            <a:miter/>
            <a:tailEnd len="med" type="arrow" w="med"/>
          </a:ln>
        </p:spPr>
      </p:cxnSp>
      <p:pic>
        <p:nvPicPr>
          <p:cNvPr id="183" name="Прямоугольник 64" descr=""/>
          <p:cNvPicPr/>
          <p:nvPr/>
        </p:nvPicPr>
        <p:blipFill>
          <a:blip r:embed="rId14"/>
          <a:stretch/>
        </p:blipFill>
        <p:spPr>
          <a:xfrm>
            <a:off x="2152800" y="1463760"/>
            <a:ext cx="2151000" cy="40788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65" descr=""/>
          <p:cNvPicPr/>
          <p:nvPr/>
        </p:nvPicPr>
        <p:blipFill>
          <a:blip r:embed="rId15"/>
          <a:stretch/>
        </p:blipFill>
        <p:spPr>
          <a:xfrm>
            <a:off x="2577960" y="1944720"/>
            <a:ext cx="2487600" cy="40788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66" descr=""/>
          <p:cNvPicPr/>
          <p:nvPr/>
        </p:nvPicPr>
        <p:blipFill>
          <a:blip r:embed="rId16"/>
          <a:stretch/>
        </p:blipFill>
        <p:spPr>
          <a:xfrm>
            <a:off x="2577960" y="2517840"/>
            <a:ext cx="2872080" cy="407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67" descr=""/>
          <p:cNvPicPr/>
          <p:nvPr/>
        </p:nvPicPr>
        <p:blipFill>
          <a:blip r:embed="rId17"/>
          <a:stretch/>
        </p:blipFill>
        <p:spPr>
          <a:xfrm>
            <a:off x="2225520" y="3187800"/>
            <a:ext cx="1260720" cy="4093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69" descr=""/>
          <p:cNvPicPr/>
          <p:nvPr/>
        </p:nvPicPr>
        <p:blipFill>
          <a:blip r:embed="rId18"/>
          <a:stretch/>
        </p:blipFill>
        <p:spPr>
          <a:xfrm>
            <a:off x="3676680" y="5467320"/>
            <a:ext cx="1431720" cy="44604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71" descr=""/>
          <p:cNvPicPr/>
          <p:nvPr/>
        </p:nvPicPr>
        <p:blipFill>
          <a:blip r:embed="rId19"/>
          <a:stretch/>
        </p:blipFill>
        <p:spPr>
          <a:xfrm>
            <a:off x="6516720" y="6156360"/>
            <a:ext cx="1292040" cy="4158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72" descr=""/>
          <p:cNvPicPr/>
          <p:nvPr/>
        </p:nvPicPr>
        <p:blipFill>
          <a:blip r:embed="rId20"/>
          <a:stretch/>
        </p:blipFill>
        <p:spPr>
          <a:xfrm>
            <a:off x="6566040" y="4853160"/>
            <a:ext cx="1047600" cy="40788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74" descr=""/>
          <p:cNvPicPr/>
          <p:nvPr/>
        </p:nvPicPr>
        <p:blipFill>
          <a:blip r:embed="rId21"/>
          <a:stretch/>
        </p:blipFill>
        <p:spPr>
          <a:xfrm>
            <a:off x="6572160" y="5413320"/>
            <a:ext cx="2333880" cy="65268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76"/>
          <p:cNvCxnSpPr/>
          <p:nvPr/>
        </p:nvCxnSpPr>
        <p:spPr>
          <a:xfrm flipV="1">
            <a:off x="5079600" y="5054040"/>
            <a:ext cx="1397880" cy="648360"/>
          </a:xfrm>
          <a:prstGeom prst="straightConnector1">
            <a:avLst/>
          </a:prstGeom>
          <a:ln w="19080">
            <a:solidFill>
              <a:srgbClr val="dd7e0e"/>
            </a:solidFill>
            <a:miter/>
            <a:tailEnd len="med" type="triangle" w="med"/>
          </a:ln>
        </p:spPr>
      </p:cxnSp>
      <p:cxnSp>
        <p:nvCxnSpPr>
          <p:cNvPr id="192" name="Прямая со стрелкой 78"/>
          <p:cNvCxnSpPr/>
          <p:nvPr/>
        </p:nvCxnSpPr>
        <p:spPr>
          <a:xfrm flipV="1">
            <a:off x="5105520" y="5625720"/>
            <a:ext cx="1499040" cy="10224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arrow" w="med"/>
          </a:ln>
        </p:spPr>
      </p:cxnSp>
      <p:cxnSp>
        <p:nvCxnSpPr>
          <p:cNvPr id="193" name="Прямая со стрелкой 80"/>
          <p:cNvCxnSpPr/>
          <p:nvPr/>
        </p:nvCxnSpPr>
        <p:spPr>
          <a:xfrm>
            <a:off x="5016600" y="5715000"/>
            <a:ext cx="1435320" cy="59760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arrow" w="med"/>
          </a:ln>
        </p:spPr>
      </p:cxnSp>
      <p:sp>
        <p:nvSpPr>
          <p:cNvPr id="194" name="Управляющая кнопка: домой 45">
            <a:hlinkClick r:id="rId22" action="ppaction://hlinksldjump"/>
          </p:cNvPr>
          <p:cNvSpPr/>
          <p:nvPr/>
        </p:nvSpPr>
        <p:spPr>
          <a:xfrm>
            <a:off x="8420040" y="6286680"/>
            <a:ext cx="343080" cy="4190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419040"/>
              <a:gd name="textAreaBottom" fmla="*/ 397080 h 419040"/>
            </a:gdLst>
            <a:ahLst/>
            <a:rect l="textAreaLeft" t="textAreaTop" r="textAreaRight" b="textAreaBottom"/>
            <a:pathLst>
              <a:path w="21600" h="26377">
                <a:moveTo>
                  <a:pt x="0" y="0"/>
                </a:moveTo>
                <a:lnTo>
                  <a:pt x="21600" y="0"/>
                </a:lnTo>
                <a:lnTo>
                  <a:pt x="21600" y="26377"/>
                </a:lnTo>
                <a:lnTo>
                  <a:pt x="0" y="26377"/>
                </a:lnTo>
                <a:close/>
              </a:path>
              <a:path fill="lightenLess" w="21600" h="263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77">
                <a:moveTo>
                  <a:pt x="21600" y="0"/>
                </a:moveTo>
                <a:lnTo>
                  <a:pt x="21600" y="26377"/>
                </a:lnTo>
                <a:lnTo>
                  <a:pt x="20200" y="24977"/>
                </a:lnTo>
                <a:lnTo>
                  <a:pt x="20200" y="1400"/>
                </a:lnTo>
                <a:close/>
              </a:path>
              <a:path fill="darkenLess" w="21600" h="26377">
                <a:moveTo>
                  <a:pt x="21600" y="26377"/>
                </a:moveTo>
                <a:lnTo>
                  <a:pt x="0" y="26377"/>
                </a:lnTo>
                <a:lnTo>
                  <a:pt x="1400" y="24977"/>
                </a:lnTo>
                <a:lnTo>
                  <a:pt x="20200" y="24977"/>
                </a:lnTo>
                <a:close/>
              </a:path>
              <a:path fill="lighten" w="21600" h="26377">
                <a:moveTo>
                  <a:pt x="0" y="263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77"/>
                </a:lnTo>
                <a:close/>
              </a:path>
              <a:path fill="darken" w="21600" h="26377">
                <a:moveTo>
                  <a:pt x="10800" y="6226"/>
                </a:moveTo>
                <a:lnTo>
                  <a:pt x="13376" y="8837"/>
                </a:lnTo>
                <a:lnTo>
                  <a:pt x="13376" y="7096"/>
                </a:lnTo>
                <a:lnTo>
                  <a:pt x="15152" y="7096"/>
                </a:lnTo>
                <a:lnTo>
                  <a:pt x="15152" y="10612"/>
                </a:lnTo>
                <a:lnTo>
                  <a:pt x="17763" y="13189"/>
                </a:lnTo>
                <a:lnTo>
                  <a:pt x="16109" y="13189"/>
                </a:lnTo>
                <a:lnTo>
                  <a:pt x="16109" y="20378"/>
                </a:lnTo>
                <a:lnTo>
                  <a:pt x="5491" y="20378"/>
                </a:lnTo>
                <a:lnTo>
                  <a:pt x="5491" y="13189"/>
                </a:lnTo>
                <a:lnTo>
                  <a:pt x="3837" y="13189"/>
                </a:lnTo>
                <a:close/>
              </a:path>
              <a:path fill="darkenLess" w="21600" h="26377">
                <a:moveTo>
                  <a:pt x="13376" y="8837"/>
                </a:moveTo>
                <a:lnTo>
                  <a:pt x="13376" y="7096"/>
                </a:lnTo>
                <a:lnTo>
                  <a:pt x="15152" y="7096"/>
                </a:lnTo>
                <a:lnTo>
                  <a:pt x="15152" y="10612"/>
                </a:lnTo>
                <a:close/>
              </a:path>
              <a:path fill="darkenLess" w="21600" h="26377">
                <a:moveTo>
                  <a:pt x="9877" y="16688"/>
                </a:moveTo>
                <a:lnTo>
                  <a:pt x="11723" y="16688"/>
                </a:lnTo>
                <a:lnTo>
                  <a:pt x="11723" y="20378"/>
                </a:lnTo>
                <a:lnTo>
                  <a:pt x="16109" y="20378"/>
                </a:lnTo>
                <a:lnTo>
                  <a:pt x="16109" y="13189"/>
                </a:lnTo>
                <a:lnTo>
                  <a:pt x="5491" y="13189"/>
                </a:lnTo>
                <a:lnTo>
                  <a:pt x="5491" y="20378"/>
                </a:lnTo>
                <a:lnTo>
                  <a:pt x="9877" y="20378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534520" cy="1200240"/>
          </a:xfrm>
          <a:prstGeom prst="rect">
            <a:avLst/>
          </a:prstGeom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</p:pic>
      <p:sp>
        <p:nvSpPr>
          <p:cNvPr id="196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6F53-CB4B-4DC8-B0D5-82344C5F2559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82760" y="139716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Hungry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as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hu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– Голодный, как волк, буквально: голодный, как охотн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good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beginning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makes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good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ending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начало полдела откачало. (Хорошее начало – половина битв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East or west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home is bes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стях хорошо, а дома лучше. (Восток или запад, а дом лучш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Live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and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lear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 живи – век учись. (Живи и учи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Actions speak louder than word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ньше слов – больше дела. (Поступки говорят громче с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tree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is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known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by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its</a:t>
            </a:r>
            <a:r>
              <a:rPr b="1" i="1" lang="ru-RU" sz="1800" spc="-1" strike="noStrike">
                <a:solidFill>
                  <a:srgbClr val="93540a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fruit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о от яблони не далеко падает. / От яблони яблоко, от ели шишка. (Дерево познаётся по плодам./ Дерево известно своими фрукт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Curiosity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killed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c354d"/>
                </a:solidFill>
                <a:latin typeface="Arial"/>
              </a:rPr>
              <a:t>ca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ного будешь знать – скоро состаришься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пытство убило кош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3540a"/>
                </a:solidFill>
                <a:latin typeface="Arial"/>
              </a:rPr>
              <a:t>Half a loaf is better than no br</a:t>
            </a:r>
            <a:r>
              <a:rPr b="0" i="1" lang="en-US" sz="1800" spc="-1" strike="noStrike">
                <a:solidFill>
                  <a:srgbClr val="93540a"/>
                </a:solidFill>
                <a:latin typeface="Arial"/>
              </a:rPr>
              <a:t>ea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безрыбье и рак ры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ловина буханки лучше, чем нич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Управляющая кнопка: домой 5">
            <a:hlinkClick r:id="rId2" action="ppaction://hlinksldjump"/>
          </p:cNvPr>
          <p:cNvSpPr/>
          <p:nvPr/>
        </p:nvSpPr>
        <p:spPr>
          <a:xfrm>
            <a:off x="8597880" y="6362640"/>
            <a:ext cx="368280" cy="495360"/>
          </a:xfrm>
          <a:custGeom>
            <a:avLst/>
            <a:gdLst>
              <a:gd name="textAreaLeft" fmla="*/ 23760 w 368280"/>
              <a:gd name="textAreaRight" fmla="*/ 344520 w 368280"/>
              <a:gd name="textAreaTop" fmla="*/ 23760 h 495360"/>
              <a:gd name="textAreaBottom" fmla="*/ 471600 h 495360"/>
            </a:gdLst>
            <a:ahLst/>
            <a:rect l="textAreaLeft" t="textAreaTop" r="textAreaRight" b="textAreaBottom"/>
            <a:pathLst>
              <a:path w="21600" h="29046">
                <a:moveTo>
                  <a:pt x="0" y="0"/>
                </a:moveTo>
                <a:lnTo>
                  <a:pt x="21600" y="0"/>
                </a:lnTo>
                <a:lnTo>
                  <a:pt x="21600" y="29046"/>
                </a:lnTo>
                <a:lnTo>
                  <a:pt x="0" y="29046"/>
                </a:lnTo>
                <a:close/>
              </a:path>
              <a:path fill="lightenLess" w="21600" h="290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46">
                <a:moveTo>
                  <a:pt x="21600" y="0"/>
                </a:moveTo>
                <a:lnTo>
                  <a:pt x="21600" y="29046"/>
                </a:lnTo>
                <a:lnTo>
                  <a:pt x="20200" y="27646"/>
                </a:lnTo>
                <a:lnTo>
                  <a:pt x="20200" y="1400"/>
                </a:lnTo>
                <a:close/>
              </a:path>
              <a:path fill="darkenLess" w="21600" h="29046">
                <a:moveTo>
                  <a:pt x="21600" y="29046"/>
                </a:moveTo>
                <a:lnTo>
                  <a:pt x="0" y="29046"/>
                </a:lnTo>
                <a:lnTo>
                  <a:pt x="1400" y="27646"/>
                </a:lnTo>
                <a:lnTo>
                  <a:pt x="20200" y="27646"/>
                </a:lnTo>
                <a:close/>
              </a:path>
              <a:path fill="lighten" w="21600" h="29046">
                <a:moveTo>
                  <a:pt x="0" y="290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46"/>
                </a:lnTo>
                <a:close/>
              </a:path>
              <a:path fill="darken" w="21600" h="29046">
                <a:moveTo>
                  <a:pt x="10800" y="7560"/>
                </a:moveTo>
                <a:lnTo>
                  <a:pt x="13376" y="10171"/>
                </a:lnTo>
                <a:lnTo>
                  <a:pt x="13376" y="8430"/>
                </a:lnTo>
                <a:lnTo>
                  <a:pt x="15152" y="8430"/>
                </a:lnTo>
                <a:lnTo>
                  <a:pt x="15152" y="11947"/>
                </a:lnTo>
                <a:lnTo>
                  <a:pt x="17763" y="14523"/>
                </a:lnTo>
                <a:lnTo>
                  <a:pt x="16109" y="14523"/>
                </a:lnTo>
                <a:lnTo>
                  <a:pt x="16109" y="21712"/>
                </a:lnTo>
                <a:lnTo>
                  <a:pt x="5491" y="21712"/>
                </a:lnTo>
                <a:lnTo>
                  <a:pt x="5491" y="14523"/>
                </a:lnTo>
                <a:lnTo>
                  <a:pt x="3837" y="14523"/>
                </a:lnTo>
                <a:close/>
              </a:path>
              <a:path fill="darkenLess" w="21600" h="29046">
                <a:moveTo>
                  <a:pt x="13376" y="10171"/>
                </a:moveTo>
                <a:lnTo>
                  <a:pt x="13376" y="8430"/>
                </a:lnTo>
                <a:lnTo>
                  <a:pt x="15152" y="8430"/>
                </a:lnTo>
                <a:lnTo>
                  <a:pt x="15152" y="11947"/>
                </a:lnTo>
                <a:close/>
              </a:path>
              <a:path fill="darkenLess" w="21600" h="29046">
                <a:moveTo>
                  <a:pt x="9877" y="18022"/>
                </a:moveTo>
                <a:lnTo>
                  <a:pt x="11723" y="18022"/>
                </a:lnTo>
                <a:lnTo>
                  <a:pt x="11723" y="21712"/>
                </a:lnTo>
                <a:lnTo>
                  <a:pt x="16109" y="21712"/>
                </a:lnTo>
                <a:lnTo>
                  <a:pt x="16109" y="14523"/>
                </a:lnTo>
                <a:lnTo>
                  <a:pt x="5491" y="14523"/>
                </a:lnTo>
                <a:lnTo>
                  <a:pt x="5491" y="21712"/>
                </a:lnTo>
                <a:lnTo>
                  <a:pt x="9877" y="21712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2"/>
          <a:stretch/>
        </p:blipFill>
        <p:spPr>
          <a:xfrm>
            <a:off x="669960" y="549360"/>
            <a:ext cx="8529480" cy="1182600"/>
          </a:xfrm>
          <a:prstGeom prst="rect">
            <a:avLst/>
          </a:prstGeom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</p:pic>
      <p:sp>
        <p:nvSpPr>
          <p:cNvPr id="200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A8D-7494-4025-838A-CF52559D4ECA}" type="slidenum">
              <a:rPr b="0" lang="en-US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74720" y="2387520"/>
            <a:ext cx="212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fa502d2428ff"/>
          <p:cNvPicPr/>
          <p:nvPr/>
        </p:nvPicPr>
        <p:blipFill>
          <a:blip r:embed="rId3"/>
          <a:stretch/>
        </p:blipFill>
        <p:spPr>
          <a:xfrm>
            <a:off x="444600" y="2955960"/>
            <a:ext cx="1650960" cy="213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Users\Юрий\Downloads\сестра.jpg"/>
          <p:cNvPicPr/>
          <p:nvPr/>
        </p:nvPicPr>
        <p:blipFill>
          <a:blip r:embed="rId4"/>
          <a:stretch/>
        </p:blipFill>
        <p:spPr>
          <a:xfrm>
            <a:off x="5510160" y="4438800"/>
            <a:ext cx="3341880" cy="18828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5537160" y="2095560"/>
            <a:ext cx="32893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54d"/>
                </a:solidFill>
                <a:latin typeface="Arial"/>
              </a:rPr>
              <a:t>A Strange Wild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c354d"/>
                </a:solidFill>
                <a:latin typeface="Arial"/>
              </a:rPr>
              <a:t>(Lewis Carr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hought he saw a Buffal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the chimney-piec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ooked again, and found it w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Sister's Husband's Ni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146320" y="2044800"/>
            <a:ext cx="33145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54d"/>
                </a:solidFill>
                <a:latin typeface="Arial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c35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c354d"/>
                </a:solidFill>
                <a:latin typeface="Arial"/>
              </a:rPr>
              <a:t>(John Lennon )</a:t>
            </a:r>
            <a:br>
              <a:rPr sz="1600"/>
            </a:b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say I'm a dream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'm not the only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ope someday you'll join 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world will be as one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no poss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nder if you c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greed or hung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otherhood of m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all the peo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all the world..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75440" y="6350040"/>
            <a:ext cx="571680" cy="317520"/>
          </a:xfrm>
          <a:custGeom>
            <a:avLst/>
            <a:gdLst>
              <a:gd name="textAreaLeft" fmla="*/ 20520 w 571680"/>
              <a:gd name="textAreaRight" fmla="*/ 551160 w 57168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8870" h="21600">
                <a:moveTo>
                  <a:pt x="0" y="0"/>
                </a:moveTo>
                <a:lnTo>
                  <a:pt x="38870" y="0"/>
                </a:lnTo>
                <a:lnTo>
                  <a:pt x="38870" y="21600"/>
                </a:lnTo>
                <a:lnTo>
                  <a:pt x="0" y="21600"/>
                </a:lnTo>
                <a:close/>
              </a:path>
              <a:path fill="lightenLess" w="38870" h="21600">
                <a:moveTo>
                  <a:pt x="0" y="0"/>
                </a:moveTo>
                <a:lnTo>
                  <a:pt x="38870" y="0"/>
                </a:lnTo>
                <a:lnTo>
                  <a:pt x="37470" y="1400"/>
                </a:lnTo>
                <a:lnTo>
                  <a:pt x="1400" y="1400"/>
                </a:lnTo>
                <a:close/>
              </a:path>
              <a:path fill="darken" w="38870" h="21600">
                <a:moveTo>
                  <a:pt x="38870" y="0"/>
                </a:moveTo>
                <a:lnTo>
                  <a:pt x="38870" y="21600"/>
                </a:lnTo>
                <a:lnTo>
                  <a:pt x="37470" y="20200"/>
                </a:lnTo>
                <a:lnTo>
                  <a:pt x="37470" y="1400"/>
                </a:lnTo>
                <a:close/>
              </a:path>
              <a:path fill="darkenLess" w="38870" h="21600">
                <a:moveTo>
                  <a:pt x="38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0" y="20200"/>
                </a:lnTo>
                <a:close/>
              </a:path>
              <a:path fill="lighten" w="38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0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black4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42"/>
          <p:cNvPicPr/>
          <p:nvPr/>
        </p:nvPicPr>
        <p:blipFill>
          <a:blip r:embed="rId3"/>
          <a:stretch/>
        </p:blipFill>
        <p:spPr>
          <a:xfrm>
            <a:off x="738360" y="2190600"/>
            <a:ext cx="1161720" cy="201312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4" descr=""/>
          <p:cNvPicPr/>
          <p:nvPr/>
        </p:nvPicPr>
        <p:blipFill>
          <a:blip r:embed="rId4"/>
          <a:stretch/>
        </p:blipFill>
        <p:spPr>
          <a:xfrm>
            <a:off x="2000160" y="1006560"/>
            <a:ext cx="6096240" cy="901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2171880" y="563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832120" y="2057400"/>
            <a:ext cx="53085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inkle Twinkle  Little  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inkle  twinkle  little  star 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 wonder what you ar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 above the world so high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diamond in the sky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 light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 brigh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star I see tonight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sh I may, I wish I might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the wish I wish tonight, 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правляющая кнопка: далее 7">
            <a:hlinkClick r:id="rId5" action="ppaction://hlinksldjump"/>
          </p:cNvPr>
          <p:cNvSpPr/>
          <p:nvPr/>
        </p:nvSpPr>
        <p:spPr>
          <a:xfrm>
            <a:off x="7124760" y="5956200"/>
            <a:ext cx="901800" cy="330480"/>
          </a:xfrm>
          <a:custGeom>
            <a:avLst/>
            <a:gdLst>
              <a:gd name="textAreaLeft" fmla="*/ 21240 w 901800"/>
              <a:gd name="textAreaRight" fmla="*/ 880560 w 90180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58901" h="21600">
                <a:moveTo>
                  <a:pt x="0" y="0"/>
                </a:moveTo>
                <a:lnTo>
                  <a:pt x="58901" y="0"/>
                </a:lnTo>
                <a:lnTo>
                  <a:pt x="58901" y="21600"/>
                </a:lnTo>
                <a:lnTo>
                  <a:pt x="0" y="21600"/>
                </a:lnTo>
                <a:close/>
              </a:path>
              <a:path fill="lightenLess" w="58901" h="21600">
                <a:moveTo>
                  <a:pt x="0" y="0"/>
                </a:moveTo>
                <a:lnTo>
                  <a:pt x="58901" y="0"/>
                </a:lnTo>
                <a:lnTo>
                  <a:pt x="57501" y="1400"/>
                </a:lnTo>
                <a:lnTo>
                  <a:pt x="1400" y="1400"/>
                </a:lnTo>
                <a:close/>
              </a:path>
              <a:path fill="darken" w="58901" h="21600">
                <a:moveTo>
                  <a:pt x="58901" y="0"/>
                </a:moveTo>
                <a:lnTo>
                  <a:pt x="58901" y="21600"/>
                </a:lnTo>
                <a:lnTo>
                  <a:pt x="57501" y="20200"/>
                </a:lnTo>
                <a:lnTo>
                  <a:pt x="57501" y="1400"/>
                </a:lnTo>
                <a:close/>
              </a:path>
              <a:path fill="darkenLess" w="58901" h="21600">
                <a:moveTo>
                  <a:pt x="58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501" y="20200"/>
                </a:lnTo>
                <a:close/>
              </a:path>
              <a:path fill="lighten" w="58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901" h="21600">
                <a:moveTo>
                  <a:pt x="22444" y="3794"/>
                </a:moveTo>
                <a:lnTo>
                  <a:pt x="36457" y="10800"/>
                </a:lnTo>
                <a:lnTo>
                  <a:pt x="22444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1798560" y="914400"/>
            <a:ext cx="6272280" cy="1189080"/>
          </a:xfrm>
          <a:prstGeom prst="rect">
            <a:avLst/>
          </a:prstGeom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</p:pic>
      <p:sp>
        <p:nvSpPr>
          <p:cNvPr id="214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BB58-C511-4C50-90F3-507C56554FA8}" type="slidenum">
              <a:rPr b="0" lang="en-US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577960" y="2209680"/>
            <a:ext cx="6083280" cy="423936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ook Antiqua"/>
              </a:rPr>
              <a:t>Jingle B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ashing through the snow, in a one- horse open sleig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’er the fields we go, laughing all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ells on bobtail ring, making spirits brig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What fun it is to ride and sing a sleighing song to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horus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ingle bells, jingle bells, jingle  all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h! What fun it is to ride in a one- horse open sleig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ingle bells, jingle bells, jingle  all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h! What fun it is to ride in a one- horse open sleig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Содержимое 4" descr="santa.gif"/>
          <p:cNvPicPr/>
          <p:nvPr/>
        </p:nvPicPr>
        <p:blipFill>
          <a:blip r:embed="rId3"/>
          <a:stretch/>
        </p:blipFill>
        <p:spPr>
          <a:xfrm>
            <a:off x="230040" y="2584440"/>
            <a:ext cx="2160720" cy="2178000"/>
          </a:xfrm>
          <a:prstGeom prst="rect">
            <a:avLst/>
          </a:prstGeom>
          <a:ln w="0">
            <a:noFill/>
          </a:ln>
        </p:spPr>
      </p:pic>
      <p:pic>
        <p:nvPicPr>
          <p:cNvPr id="217" name="jingle_bells.mp3" descr=""/>
          <p:cNvPicPr/>
          <p:nvPr/>
        </p:nvPicPr>
        <p:blipFill>
          <a:blip r:embed="rId4"/>
          <a:stretch/>
        </p:blipFill>
        <p:spPr>
          <a:xfrm>
            <a:off x="939960" y="5854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62840" y="5956200"/>
            <a:ext cx="507960" cy="304920"/>
          </a:xfrm>
          <a:custGeom>
            <a:avLst/>
            <a:gdLst>
              <a:gd name="textAreaLeft" fmla="*/ 19440 w 507960"/>
              <a:gd name="textAreaRight" fmla="*/ 488520 w 5079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8518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143000" y="546120"/>
            <a:ext cx="67946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рнизация и инновационное развитие - единственный путь, который позволит России стать конкурентным обществом в мире 21-го века. В условиях решения этих стратегических задач важнейшими качествами личности становятся инициативность, способность творчески мыслить и находить нестандартные решения, умение выбирать профессиональный путь, готовность обучаться в течение всей жизни…Главные задачи современной школы - раскрытие способностей каждого ученика, воспитание личности, готовой к жизни в высокотехнологичном, конкурентно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А. Медвед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Наша новая школа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4 февраля 201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4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E61-6C0E-48BB-B180-BBB7EA6044FB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Учебно-познаватель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92E-0EED-4722-BCB8-854CE78318C3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16000" y="825480"/>
            <a:ext cx="8775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формирования учебно-познавательной компетенции большие возможности даёт технология КИМ. Автор технологии: Вазина Кима Яковл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развивающих пространств в условиях раз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блемной ситу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7840" y="1940040"/>
          <a:ext cx="8800920" cy="4755960"/>
        </p:xfrm>
        <a:graphic>
          <a:graphicData uri="http://schemas.openxmlformats.org/drawingml/2006/table">
            <a:tbl>
              <a:tblPr/>
              <a:tblGrid>
                <a:gridCol w="2717640"/>
                <a:gridCol w="60832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Функции  управ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Алгоритм реализации фун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ЦЕЛЕВОЕ ПРОСТР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внешнего механизма саморазвития (включение человека в систему отношен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Начало выращивания внутренних целей (новых потребностей)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Функционеры (обучающиеся) объединяются по желанию, по личной симпатии или общему интересу в творческие группы – создается внешний механизм саморазвития для каждого члена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остановка проблемы, обсуждение целей предстоящей деятельности, определение общей целевой зоны (мы убеждены, что цели только индивидуальны, так как каждый должен в результате получить личную выгоду. При совместной деятельности можно лишь говорить об общей зоне целей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ыбор средств, позволяющих реализовать це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ектирование результа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пределение ключевых понятий (смысловых опор поисковой /продуктивной деятельн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Рефлексия организации целевого простран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Учебно-познаватель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24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FF69-291D-4F8F-B5C7-C40F38FC56A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1200" y="961920"/>
          <a:ext cx="8724960" cy="5718240"/>
        </p:xfrm>
        <a:graphic>
          <a:graphicData uri="http://schemas.openxmlformats.org/drawingml/2006/table">
            <a:tbl>
              <a:tblPr/>
              <a:tblGrid>
                <a:gridCol w="2694240"/>
                <a:gridCol w="6030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Функции  управ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Алгоритм реализации фун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ПОИСКОВОЕ (ПРОДУКТИВНОЕ) ПРОСТР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следование, коррекция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одолжение выращивания внутренней цели (новой потребности) у каждого члена коллекти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Развитие способностей (овладение средствами) самостоятельного добывания культур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Формирование собственной позиции, уб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продуктивной (поисковой) деятельности по творческим группа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ррекция векторов движения индивидуальных целей и общей целевой зо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пределение способов совместной деятельности (кто, что будет делать, в какой последовательнос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сследование проблемы и реализация программы общей деятельности – получение точного прогнозируемого результа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работка личных, групповых пози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ефлексия произведенной (индивидуальной, общей) деятельности: оценка норм отношений, проявление предметной, профессиональной способности (оценка производится в такой последовательности: вначале человек сам оценивает себя, затем его оценивают члены творческой группы, лишь потом – управитель–технолог, который выделяет, прежде всего, положительное и обсуждает с каждым вектор его дальнейшего рост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Учебно-познаватель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27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3B3-23C5-4A90-A4B0-D1312CCB7616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338040"/>
          <a:ext cx="8966160" cy="6407280"/>
        </p:xfrm>
        <a:graphic>
          <a:graphicData uri="http://schemas.openxmlformats.org/drawingml/2006/table">
            <a:tbl>
              <a:tblPr/>
              <a:tblGrid>
                <a:gridCol w="2768760"/>
                <a:gridCol w="6197400"/>
              </a:tblGrid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Функции  управ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Алгоритм реализации фун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63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РЕФЛЕКСИВНОЕ ПРОСТРА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сознание человеком норм отношений с другими людьми; закрепление культурных но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ыявление ошибок, их причин и путей исправления (проверяется и корректируется реализация программы индивидуального разви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ознание реализации цели деятельности (технического зад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пределение степени овладения конкретной способ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Закрепление культурных норм успеш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Выявление затруднений, содержание которых определяет цели последующ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позволяет осознать способ творческой деятельности. Именно способ, понятый функционерами, становится тем социокультурным результатом, новой способностью, которая позволяет им по-новому строить свою практическую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ленам коллектива предлагается обратиться к их совместной и индивидуальной деятельности и рассказать о своих неудачах и затруднениях в решении проблемы, выявить причины своих ошибок не только в части содержания деятельности, но и, что важно, в части способов общения; наметить пути их исправления. Это, по существу, и является вводом коллектива и каждого участника в новую проблему – проблему осознания средств собственной и совмест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постоянно ведет человека к осознанию его конкретных способов деятельности, к их систематизации, обобщению, отказу от ошибочных алгоритмов и подходов, что в итоге развивает его сознание,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включается на любом этапе деятельности при «сбоях», производится внутри творческих групп или специально организуется технологом со всем коллектив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Информацион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30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258-FC43-4F79-9D8C-CFB4AE19D61E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584280" y="965160"/>
            <a:ext cx="82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Использование ИКТ на уроках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736560" y="1612800"/>
            <a:ext cx="37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Электронные пособ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урсы, обучающие программы по английскому я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5079960" y="1587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Разные  тип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029200" y="3390840"/>
            <a:ext cx="379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в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в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закреп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йд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37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система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обоб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37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конт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– 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37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 action="ppaction://hlinksldjump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8"/>
          <p:cNvCxnSpPr/>
          <p:nvPr/>
        </p:nvCxnSpPr>
        <p:spPr>
          <a:xfrm flipH="1">
            <a:off x="6576120" y="1906560"/>
            <a:ext cx="3960" cy="1486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6" name="Прямая со стрелкой 10"/>
          <p:cNvCxnSpPr/>
          <p:nvPr/>
        </p:nvCxnSpPr>
        <p:spPr>
          <a:xfrm flipH="1">
            <a:off x="2133720" y="1295280"/>
            <a:ext cx="2349720" cy="356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37" name="Прямая со стрелкой 12"/>
          <p:cNvCxnSpPr/>
          <p:nvPr/>
        </p:nvCxnSpPr>
        <p:spPr>
          <a:xfrm>
            <a:off x="4508640" y="1294920"/>
            <a:ext cx="2273760" cy="3819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8" name="TextBox 15"/>
          <p:cNvSpPr/>
          <p:nvPr/>
        </p:nvSpPr>
        <p:spPr>
          <a:xfrm>
            <a:off x="228600" y="2946240"/>
            <a:ext cx="486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глядный Английский» (1-4 класс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актическая грамматика».  Уровен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ор Хиггинс. Готовимся к ЕГЭ по английскому язы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етитор по английскому языку Кирилла и Мефод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HeinemannTOEF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in Ac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tar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inAc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oyalFamil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17"/>
          <p:cNvCxnSpPr/>
          <p:nvPr/>
        </p:nvCxnSpPr>
        <p:spPr>
          <a:xfrm flipH="1">
            <a:off x="1991520" y="2490480"/>
            <a:ext cx="3960" cy="5464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5778360" y="1727280"/>
            <a:ext cx="2235240" cy="2235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500040" y="13320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: round,  lovely, funny, me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:  blue,  beautiful, little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s: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e: short, big, goo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: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obok is nice. He has got an orange hair, a big nose, no ears, blue little  eyes, a merry round face. I love Kolob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531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2071800" y="5716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y Favourit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2928960" y="21420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Nov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4929120" y="5715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uthor: Misha Ry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Form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09480" y="5702400"/>
            <a:ext cx="32133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797960" y="6184800"/>
            <a:ext cx="838080" cy="470160"/>
          </a:xfrm>
          <a:custGeom>
            <a:avLst/>
            <a:gdLst>
              <a:gd name="textAreaLeft" fmla="*/ 30240 w 838080"/>
              <a:gd name="textAreaRight" fmla="*/ 807840 w 838080"/>
              <a:gd name="textAreaTop" fmla="*/ 30240 h 470160"/>
              <a:gd name="textAreaBottom" fmla="*/ 439920 h 470160"/>
            </a:gdLst>
            <a:ahLst/>
            <a:rect l="textAreaLeft" t="textAreaTop" r="textAreaRight" b="textAreaBottom"/>
            <a:pathLst>
              <a:path w="38490" h="21600">
                <a:moveTo>
                  <a:pt x="0" y="0"/>
                </a:moveTo>
                <a:lnTo>
                  <a:pt x="38490" y="0"/>
                </a:lnTo>
                <a:lnTo>
                  <a:pt x="38490" y="21600"/>
                </a:lnTo>
                <a:lnTo>
                  <a:pt x="0" y="21600"/>
                </a:lnTo>
                <a:close/>
              </a:path>
              <a:path fill="lightenLess" w="38490" h="21600">
                <a:moveTo>
                  <a:pt x="0" y="0"/>
                </a:moveTo>
                <a:lnTo>
                  <a:pt x="38490" y="0"/>
                </a:lnTo>
                <a:lnTo>
                  <a:pt x="37090" y="1400"/>
                </a:lnTo>
                <a:lnTo>
                  <a:pt x="1400" y="1400"/>
                </a:lnTo>
                <a:close/>
              </a:path>
              <a:path fill="darken" w="38490" h="21600">
                <a:moveTo>
                  <a:pt x="38490" y="0"/>
                </a:moveTo>
                <a:lnTo>
                  <a:pt x="38490" y="21600"/>
                </a:lnTo>
                <a:lnTo>
                  <a:pt x="37090" y="20200"/>
                </a:lnTo>
                <a:lnTo>
                  <a:pt x="37090" y="1400"/>
                </a:lnTo>
                <a:close/>
              </a:path>
              <a:path fill="darkenLess" w="38490" h="21600">
                <a:moveTo>
                  <a:pt x="38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90" y="20200"/>
                </a:lnTo>
                <a:close/>
              </a:path>
              <a:path fill="lighten" w="38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90" h="21600">
                <a:moveTo>
                  <a:pt x="12239" y="3794"/>
                </a:moveTo>
                <a:lnTo>
                  <a:pt x="26251" y="10800"/>
                </a:lnTo>
                <a:lnTo>
                  <a:pt x="12239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d7e0e"/>
                </a:solidFill>
                <a:latin typeface="Arial"/>
              </a:rPr>
              <a:t>Информационные компетенции</a:t>
            </a:r>
            <a:br>
              <a:rPr sz="2500"/>
            </a:br>
            <a:endParaRPr b="1" lang="en-US" sz="25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49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923E-B349-42B9-A924-7AF4FB4F9AF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1333440" y="86832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пользование ИКТ на уроках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2793960" y="1650960"/>
            <a:ext cx="380988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44e6d"/>
                </a:solidFill>
                <a:latin typeface="Arial"/>
              </a:rPr>
              <a:t>Решение дидакт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368280" y="2405160"/>
            <a:ext cx="380988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и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381560" y="3090960"/>
            <a:ext cx="1854000" cy="91692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лнение словарного за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464160" y="3103560"/>
            <a:ext cx="2374920" cy="119124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52280" y="2976480"/>
            <a:ext cx="165096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ау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3772080"/>
            <a:ext cx="104148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048120" y="3098880"/>
            <a:ext cx="118116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723960" y="3733920"/>
            <a:ext cx="156204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17"/>
          <p:cNvCxnSpPr/>
          <p:nvPr/>
        </p:nvCxnSpPr>
        <p:spPr>
          <a:xfrm flipH="1">
            <a:off x="4239360" y="1245960"/>
            <a:ext cx="3960" cy="369000"/>
          </a:xfrm>
          <a:prstGeom prst="straightConnector1">
            <a:avLst/>
          </a:prstGeom>
          <a:ln w="28440">
            <a:solidFill>
              <a:srgbClr val="dd7e0e"/>
            </a:solidFill>
            <a:miter/>
            <a:tailEnd len="med" type="arrow" w="med"/>
          </a:ln>
        </p:spPr>
      </p:cxnSp>
      <p:cxnSp>
        <p:nvCxnSpPr>
          <p:cNvPr id="260" name="Прямая со стрелкой 19"/>
          <p:cNvCxnSpPr/>
          <p:nvPr/>
        </p:nvCxnSpPr>
        <p:spPr>
          <a:xfrm flipH="1">
            <a:off x="1904400" y="2044800"/>
            <a:ext cx="2400840" cy="28008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1" name="Прямая со стрелкой 21"/>
          <p:cNvCxnSpPr/>
          <p:nvPr/>
        </p:nvCxnSpPr>
        <p:spPr>
          <a:xfrm>
            <a:off x="4254480" y="2044440"/>
            <a:ext cx="1169280" cy="100368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2" name="Прямая со стрелкой 23"/>
          <p:cNvCxnSpPr/>
          <p:nvPr/>
        </p:nvCxnSpPr>
        <p:spPr>
          <a:xfrm>
            <a:off x="4254480" y="2044440"/>
            <a:ext cx="3264480" cy="99108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3" name="Прямая со стрелкой 25"/>
          <p:cNvCxnSpPr/>
          <p:nvPr/>
        </p:nvCxnSpPr>
        <p:spPr>
          <a:xfrm flipH="1">
            <a:off x="850680" y="2806560"/>
            <a:ext cx="1219680" cy="14040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4" name="Прямая со стрелкой 27"/>
          <p:cNvCxnSpPr/>
          <p:nvPr/>
        </p:nvCxnSpPr>
        <p:spPr>
          <a:xfrm flipH="1">
            <a:off x="1765080" y="2793600"/>
            <a:ext cx="305280" cy="80100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5" name="Прямая со стрелкой 29"/>
          <p:cNvCxnSpPr>
            <a:endCxn id="256" idx="0"/>
          </p:cNvCxnSpPr>
          <p:nvPr/>
        </p:nvCxnSpPr>
        <p:spPr>
          <a:xfrm>
            <a:off x="2082960" y="2793600"/>
            <a:ext cx="876960" cy="97884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266" name="Прямая со стрелкой 31"/>
          <p:cNvCxnSpPr/>
          <p:nvPr/>
        </p:nvCxnSpPr>
        <p:spPr>
          <a:xfrm>
            <a:off x="2095200" y="2806200"/>
            <a:ext cx="1677240" cy="267120"/>
          </a:xfrm>
          <a:prstGeom prst="straightConnector1">
            <a:avLst/>
          </a:prstGeom>
          <a:ln w="28440">
            <a:solidFill>
              <a:srgbClr val="a1b28e"/>
            </a:solidFill>
            <a:miter/>
            <a:tailEnd len="med" type="arrow" w="med"/>
          </a:ln>
        </p:spPr>
      </p:cxnSp>
      <p:pic>
        <p:nvPicPr>
          <p:cNvPr id="267" name="Прямоугольник 52" descr=""/>
          <p:cNvPicPr/>
          <p:nvPr/>
        </p:nvPicPr>
        <p:blipFill>
          <a:blip r:embed="rId2"/>
          <a:stretch/>
        </p:blipFill>
        <p:spPr>
          <a:xfrm>
            <a:off x="201600" y="5162400"/>
            <a:ext cx="8820000" cy="433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3"/>
          <p:cNvSpPr/>
          <p:nvPr/>
        </p:nvSpPr>
        <p:spPr>
          <a:xfrm>
            <a:off x="3048120" y="4533840"/>
            <a:ext cx="2387520" cy="368280"/>
          </a:xfrm>
          <a:prstGeom prst="rect">
            <a:avLst/>
          </a:prstGeom>
          <a:noFill/>
          <a:ln w="936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55"/>
          <p:cNvCxnSpPr>
            <a:stCxn id="268" idx="2"/>
          </p:cNvCxnSpPr>
          <p:nvPr/>
        </p:nvCxnSpPr>
        <p:spPr>
          <a:xfrm>
            <a:off x="4240800" y="4903920"/>
            <a:ext cx="13320" cy="30384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Коммуникатив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271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5F8-193D-4F65-8DB3-E245EEE031E2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Прямоугольник 4" descr=""/>
          <p:cNvPicPr/>
          <p:nvPr/>
        </p:nvPicPr>
        <p:blipFill>
          <a:blip r:embed="rId1"/>
          <a:stretch/>
        </p:blipFill>
        <p:spPr>
          <a:xfrm>
            <a:off x="1798560" y="811080"/>
            <a:ext cx="5961240" cy="517680"/>
          </a:xfrm>
          <a:prstGeom prst="rect">
            <a:avLst/>
          </a:prstGeom>
          <a:ln w="0">
            <a:noFill/>
          </a:ln>
        </p:spPr>
      </p:pic>
      <p:sp>
        <p:nvSpPr>
          <p:cNvPr id="273" name="Овал 5"/>
          <p:cNvSpPr/>
          <p:nvPr/>
        </p:nvSpPr>
        <p:spPr>
          <a:xfrm>
            <a:off x="2768760" y="3200400"/>
            <a:ext cx="3301920" cy="8510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2819520" y="34164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40a"/>
                </a:solidFill>
                <a:latin typeface="Arial"/>
              </a:rPr>
              <a:t>Англий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7"/>
          <p:cNvSpPr/>
          <p:nvPr/>
        </p:nvSpPr>
        <p:spPr>
          <a:xfrm>
            <a:off x="4584600" y="5207040"/>
            <a:ext cx="3302280" cy="8510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9"/>
          <p:cNvSpPr/>
          <p:nvPr/>
        </p:nvSpPr>
        <p:spPr>
          <a:xfrm>
            <a:off x="1015920" y="5232240"/>
            <a:ext cx="3301920" cy="8510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0"/>
          <p:cNvSpPr/>
          <p:nvPr/>
        </p:nvSpPr>
        <p:spPr>
          <a:xfrm>
            <a:off x="190440" y="3873600"/>
            <a:ext cx="3301920" cy="8506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5676840" y="4000680"/>
            <a:ext cx="3301920" cy="8506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2"/>
          <p:cNvSpPr/>
          <p:nvPr/>
        </p:nvSpPr>
        <p:spPr>
          <a:xfrm>
            <a:off x="5638680" y="2311560"/>
            <a:ext cx="3302280" cy="8506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4"/>
          <p:cNvSpPr/>
          <p:nvPr/>
        </p:nvSpPr>
        <p:spPr>
          <a:xfrm>
            <a:off x="190440" y="2374920"/>
            <a:ext cx="3301920" cy="85104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5"/>
          <p:cNvSpPr/>
          <p:nvPr/>
        </p:nvSpPr>
        <p:spPr>
          <a:xfrm>
            <a:off x="4495680" y="1359000"/>
            <a:ext cx="3302280" cy="8506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16"/>
          <p:cNvSpPr/>
          <p:nvPr/>
        </p:nvSpPr>
        <p:spPr>
          <a:xfrm>
            <a:off x="1079640" y="1397160"/>
            <a:ext cx="3301920" cy="850680"/>
          </a:xfrm>
          <a:prstGeom prst="ellips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7"/>
          <p:cNvSpPr/>
          <p:nvPr/>
        </p:nvSpPr>
        <p:spPr>
          <a:xfrm>
            <a:off x="1231920" y="1625760"/>
            <a:ext cx="29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e6d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8"/>
          <p:cNvSpPr/>
          <p:nvPr/>
        </p:nvSpPr>
        <p:spPr>
          <a:xfrm>
            <a:off x="4622760" y="16002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5753160" y="2552760"/>
            <a:ext cx="30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Биология, 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0"/>
          <p:cNvSpPr/>
          <p:nvPr/>
        </p:nvSpPr>
        <p:spPr>
          <a:xfrm>
            <a:off x="279360" y="2666880"/>
            <a:ext cx="30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изика,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1"/>
          <p:cNvSpPr/>
          <p:nvPr/>
        </p:nvSpPr>
        <p:spPr>
          <a:xfrm>
            <a:off x="228600" y="4132440"/>
            <a:ext cx="30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2"/>
          <p:cNvSpPr/>
          <p:nvPr/>
        </p:nvSpPr>
        <p:spPr>
          <a:xfrm>
            <a:off x="5842080" y="42163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е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3"/>
          <p:cNvSpPr/>
          <p:nvPr/>
        </p:nvSpPr>
        <p:spPr>
          <a:xfrm>
            <a:off x="1257480" y="542304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ХК, 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4"/>
          <p:cNvSpPr/>
          <p:nvPr/>
        </p:nvSpPr>
        <p:spPr>
          <a:xfrm>
            <a:off x="4648320" y="5415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Физическая 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 стрелкой 26"/>
          <p:cNvCxnSpPr>
            <a:stCxn id="273" idx="0"/>
          </p:cNvCxnSpPr>
          <p:nvPr/>
        </p:nvCxnSpPr>
        <p:spPr>
          <a:xfrm flipV="1">
            <a:off x="4418640" y="2209320"/>
            <a:ext cx="1245240" cy="991440"/>
          </a:xfrm>
          <a:prstGeom prst="straightConnector1">
            <a:avLst/>
          </a:prstGeom>
          <a:ln w="19080">
            <a:solidFill>
              <a:srgbClr val="93540a"/>
            </a:solidFill>
            <a:miter/>
            <a:tailEnd len="med" type="triangle" w="med"/>
          </a:ln>
        </p:spPr>
      </p:cxnSp>
      <p:cxnSp>
        <p:nvCxnSpPr>
          <p:cNvPr id="292" name="Прямая со стрелкой 28"/>
          <p:cNvCxnSpPr>
            <a:stCxn id="273" idx="0"/>
          </p:cNvCxnSpPr>
          <p:nvPr/>
        </p:nvCxnSpPr>
        <p:spPr>
          <a:xfrm flipH="1" flipV="1">
            <a:off x="3530160" y="2196720"/>
            <a:ext cx="889920" cy="1003680"/>
          </a:xfrm>
          <a:prstGeom prst="straightConnector1">
            <a:avLst/>
          </a:prstGeom>
          <a:ln w="19080">
            <a:solidFill>
              <a:srgbClr val="93540a"/>
            </a:solidFill>
            <a:miter/>
            <a:tailEnd len="med" type="triangle" w="med"/>
          </a:ln>
        </p:spPr>
      </p:cxnSp>
      <p:cxnSp>
        <p:nvCxnSpPr>
          <p:cNvPr id="293" name="Прямая со стрелкой 30"/>
          <p:cNvCxnSpPr>
            <a:stCxn id="273" idx="4"/>
          </p:cNvCxnSpPr>
          <p:nvPr/>
        </p:nvCxnSpPr>
        <p:spPr>
          <a:xfrm flipH="1">
            <a:off x="3187800" y="4051440"/>
            <a:ext cx="1232280" cy="115632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294" name="Прямая со стрелкой 33"/>
          <p:cNvCxnSpPr>
            <a:stCxn id="273" idx="4"/>
          </p:cNvCxnSpPr>
          <p:nvPr/>
        </p:nvCxnSpPr>
        <p:spPr>
          <a:xfrm>
            <a:off x="4419720" y="4051080"/>
            <a:ext cx="1296000" cy="114372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295" name="Прямая со стрелкой 35"/>
          <p:cNvCxnSpPr>
            <a:stCxn id="274" idx="3"/>
            <a:endCxn id="279" idx="4"/>
          </p:cNvCxnSpPr>
          <p:nvPr/>
        </p:nvCxnSpPr>
        <p:spPr>
          <a:xfrm flipV="1">
            <a:off x="6057720" y="3161520"/>
            <a:ext cx="1231920" cy="48492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296" name="Прямая со стрелкой 40"/>
          <p:cNvCxnSpPr>
            <a:stCxn id="274" idx="3"/>
            <a:endCxn id="278" idx="0"/>
          </p:cNvCxnSpPr>
          <p:nvPr/>
        </p:nvCxnSpPr>
        <p:spPr>
          <a:xfrm>
            <a:off x="6057720" y="3647880"/>
            <a:ext cx="1270440" cy="35316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297" name="Прямая со стрелкой 42"/>
          <p:cNvCxnSpPr>
            <a:stCxn id="273" idx="2"/>
            <a:endCxn id="280" idx="4"/>
          </p:cNvCxnSpPr>
          <p:nvPr/>
        </p:nvCxnSpPr>
        <p:spPr>
          <a:xfrm flipH="1" flipV="1">
            <a:off x="1841040" y="3225240"/>
            <a:ext cx="928080" cy="40068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cxnSp>
        <p:nvCxnSpPr>
          <p:cNvPr id="298" name="Прямая со стрелкой 44"/>
          <p:cNvCxnSpPr>
            <a:stCxn id="273" idx="2"/>
          </p:cNvCxnSpPr>
          <p:nvPr/>
        </p:nvCxnSpPr>
        <p:spPr>
          <a:xfrm flipH="1">
            <a:off x="1751760" y="3624840"/>
            <a:ext cx="1017000" cy="197640"/>
          </a:xfrm>
          <a:prstGeom prst="straightConnector1">
            <a:avLst/>
          </a:prstGeom>
          <a:ln w="28440">
            <a:solidFill>
              <a:srgbClr val="93540a"/>
            </a:solidFill>
            <a:miter/>
            <a:tailEnd len="med" type="arrow" w="med"/>
          </a:ln>
        </p:spPr>
      </p:cxnSp>
      <p:pic>
        <p:nvPicPr>
          <p:cNvPr id="299" name="Прямоугольник 46" descr=""/>
          <p:cNvPicPr/>
          <p:nvPr/>
        </p:nvPicPr>
        <p:blipFill>
          <a:blip r:embed="rId2"/>
          <a:stretch/>
        </p:blipFill>
        <p:spPr>
          <a:xfrm>
            <a:off x="1736640" y="6205680"/>
            <a:ext cx="7158240" cy="43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Коммуникатив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01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E94-E7A1-4E7B-9398-0193D4BDC2EF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3" descr=""/>
          <p:cNvPicPr/>
          <p:nvPr/>
        </p:nvPicPr>
        <p:blipFill>
          <a:blip r:embed="rId1"/>
          <a:stretch/>
        </p:blipFill>
        <p:spPr>
          <a:xfrm>
            <a:off x="1901880" y="933480"/>
            <a:ext cx="5089320" cy="6825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55680" y="1389240"/>
            <a:ext cx="8470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усский язы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с русского языка на английский и наоборот, наблюдают особенности строения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Мой любимый писатель», «Любимый английский литературный персонаж», «Гордость британцев и россия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Влияние географического положения на жизнедеятельность и характер люд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Адмирал Нельсон – британский гер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ХК, 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Как влияет классическая музыка (рок музыка) на здоровье человека?», «Мое любимое классическое произведение / любимый композитор / певец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иология, 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Твоё здоровье в твоих руках. Так ли это?», «Животный и растительный мир Ханты-Мансийского автономного округа», «Здоровый образ жизни»), «Как ты относишься к Зем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Физика , 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Русские и британские ученые – Нобелевские лауреаты»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изическая  куль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Спорт: За и Против», «Олимпийские игры в Сочи / Лондо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013600" y="6362640"/>
            <a:ext cx="736560" cy="343080"/>
          </a:xfrm>
          <a:custGeom>
            <a:avLst/>
            <a:gdLst>
              <a:gd name="textAreaLeft" fmla="*/ 21960 w 736560"/>
              <a:gd name="textAreaRight" fmla="*/ 714600 w 7365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46347" h="21600">
                <a:moveTo>
                  <a:pt x="0" y="0"/>
                </a:moveTo>
                <a:lnTo>
                  <a:pt x="46347" y="0"/>
                </a:lnTo>
                <a:lnTo>
                  <a:pt x="46347" y="21600"/>
                </a:lnTo>
                <a:lnTo>
                  <a:pt x="0" y="21600"/>
                </a:lnTo>
                <a:close/>
              </a:path>
              <a:path fill="lightenLess" w="46347" h="21600">
                <a:moveTo>
                  <a:pt x="0" y="0"/>
                </a:moveTo>
                <a:lnTo>
                  <a:pt x="46347" y="0"/>
                </a:lnTo>
                <a:lnTo>
                  <a:pt x="44947" y="1400"/>
                </a:lnTo>
                <a:lnTo>
                  <a:pt x="1400" y="1400"/>
                </a:lnTo>
                <a:close/>
              </a:path>
              <a:path fill="darken" w="46347" h="21600">
                <a:moveTo>
                  <a:pt x="46347" y="0"/>
                </a:moveTo>
                <a:lnTo>
                  <a:pt x="46347" y="21600"/>
                </a:lnTo>
                <a:lnTo>
                  <a:pt x="44947" y="20200"/>
                </a:lnTo>
                <a:lnTo>
                  <a:pt x="44947" y="1400"/>
                </a:lnTo>
                <a:close/>
              </a:path>
              <a:path fill="darkenLess" w="46347" h="21600">
                <a:moveTo>
                  <a:pt x="46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7" y="20200"/>
                </a:lnTo>
                <a:close/>
              </a:path>
              <a:path fill="lighten" w="46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7" h="21600">
                <a:moveTo>
                  <a:pt x="16167" y="3794"/>
                </a:moveTo>
                <a:lnTo>
                  <a:pt x="30180" y="10800"/>
                </a:lnTo>
                <a:lnTo>
                  <a:pt x="16167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1552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d7e0e"/>
                </a:solidFill>
                <a:latin typeface="Arial"/>
              </a:rPr>
              <a:t>Коммуникативные компетенции</a:t>
            </a:r>
            <a:endParaRPr b="1" lang="en-US" sz="32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11C-F8B1-4C6E-9087-175706F13F87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1054080" y="2171880"/>
            <a:ext cx="7302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9354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40a"/>
                </a:solidFill>
                <a:latin typeface="Arial"/>
              </a:rPr>
              <a:t>Ролевая игра,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8e58b6"/>
                </a:solidFill>
                <a:uFillTx/>
                <a:latin typeface="Arial"/>
                <a:hlinkClick r:id="rId1" action="ppaction://hlinksldjump"/>
              </a:rPr>
              <a:t>эвристический метод эмпатии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 «вживания в образ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354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e58b6"/>
                </a:solidFill>
                <a:uFillTx/>
                <a:latin typeface="Arial"/>
                <a:hlinkClick r:id="rId2" action="ppaction://hlinksldjump"/>
              </a:rPr>
              <a:t>Cluster </a:t>
            </a:r>
            <a:r>
              <a:rPr b="1" lang="en-US" sz="2800" spc="-1" strike="noStrike">
                <a:solidFill>
                  <a:srgbClr val="4c376b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«виноградная гроздь»</a:t>
            </a:r>
            <a:r>
              <a:rPr b="1" lang="en-US" sz="2800" spc="-1" strike="noStrike">
                <a:solidFill>
                  <a:srgbClr val="4c376b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354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Word – Web 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(«словесная паутинк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354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Know – Want to know – Have lear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376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c376b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«Знаю – Хочу узнать - Узнал»</a:t>
            </a:r>
            <a:r>
              <a:rPr b="1" lang="en-US" sz="2800" spc="-1" strike="noStrike">
                <a:solidFill>
                  <a:srgbClr val="4c376b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4c376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40a"/>
                </a:solidFill>
                <a:latin typeface="Arial"/>
              </a:rPr>
              <a:t>5. </a:t>
            </a:r>
            <a:r>
              <a:rPr b="0" lang="ru-RU" sz="2800" spc="-1" strike="noStrike" u="sng">
                <a:solidFill>
                  <a:srgbClr val="8e58b6"/>
                </a:solidFill>
                <a:uFillTx/>
                <a:latin typeface="Arial"/>
                <a:hlinkClick r:id="rId5" action="ppaction://hlinksldjump"/>
              </a:rPr>
              <a:t>Синквейн</a:t>
            </a:r>
            <a:r>
              <a:rPr b="0" lang="ru-RU" sz="2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Прямоугольник 5" descr=""/>
          <p:cNvPicPr/>
          <p:nvPr/>
        </p:nvPicPr>
        <p:blipFill>
          <a:blip r:embed="rId7"/>
          <a:stretch/>
        </p:blipFill>
        <p:spPr>
          <a:xfrm>
            <a:off x="2664000" y="1511280"/>
            <a:ext cx="563868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Коммуникативные компетенции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32A-C9C5-4420-9C5A-345A68DEE627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698400" y="1117440"/>
            <a:ext cx="7696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Ролевая игра 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– эвристический метод эмп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(метод «вживания в образ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540a"/>
                </a:solidFill>
                <a:latin typeface="Arial"/>
              </a:rPr>
              <a:t>2 класс. Тема «Живот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540a"/>
                </a:solidFill>
                <a:latin typeface="Arial"/>
              </a:rPr>
              <a:t>Задание</a:t>
            </a:r>
            <a:r>
              <a:rPr b="1" lang="ru-RU" sz="1800" spc="-1" strike="noStrike">
                <a:solidFill>
                  <a:srgbClr val="4c376b"/>
                </a:solidFill>
                <a:latin typeface="Arial"/>
              </a:rPr>
              <a:t>: Представь себя твоим любимым питомцем. Расскажи о себе от имени питомца, используя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1015920" y="2921040"/>
            <a:ext cx="723960" cy="62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Равнобедренный треугольник 6"/>
          <p:cNvSpPr/>
          <p:nvPr/>
        </p:nvSpPr>
        <p:spPr>
          <a:xfrm>
            <a:off x="1917720" y="2971800"/>
            <a:ext cx="914400" cy="584280"/>
          </a:xfrm>
          <a:prstGeom prst="triangle">
            <a:avLst>
              <a:gd name="adj" fmla="val 50644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3009960" y="2946240"/>
            <a:ext cx="723960" cy="622440"/>
          </a:xfrm>
          <a:prstGeom prst="rect">
            <a:avLst/>
          </a:prstGeom>
          <a:solidFill>
            <a:srgbClr val="7153a1"/>
          </a:solidFill>
          <a:ln w="25560">
            <a:solidFill>
              <a:srgbClr val="34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Прямая со стрелкой 9"/>
          <p:cNvCxnSpPr>
            <a:stCxn id="313" idx="1"/>
            <a:endCxn id="313" idx="5"/>
          </p:cNvCxnSpPr>
          <p:nvPr/>
        </p:nvCxnSpPr>
        <p:spPr>
          <a:xfrm flipV="1">
            <a:off x="2149560" y="3263040"/>
            <a:ext cx="457920" cy="2520"/>
          </a:xfrm>
          <a:prstGeom prst="straightConnector1">
            <a:avLst/>
          </a:prstGeom>
          <a:ln w="19080">
            <a:solidFill>
              <a:srgbClr val="0d0d0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" name="TextBox 10"/>
          <p:cNvSpPr/>
          <p:nvPr/>
        </p:nvSpPr>
        <p:spPr>
          <a:xfrm>
            <a:off x="4064040" y="280656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4889520" y="3174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4089240" y="3416400"/>
            <a:ext cx="13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5549760" y="28828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5575320" y="36115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Прямая со стрелкой 16"/>
          <p:cNvCxnSpPr>
            <a:stCxn id="314" idx="3"/>
          </p:cNvCxnSpPr>
          <p:nvPr/>
        </p:nvCxnSpPr>
        <p:spPr>
          <a:xfrm flipV="1">
            <a:off x="3733560" y="3034800"/>
            <a:ext cx="470520" cy="22320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triangle" w="med"/>
          </a:ln>
        </p:spPr>
      </p:cxnSp>
      <p:cxnSp>
        <p:nvCxnSpPr>
          <p:cNvPr id="322" name="Прямая со стрелкой 20"/>
          <p:cNvCxnSpPr>
            <a:stCxn id="314" idx="3"/>
            <a:endCxn id="318" idx="1"/>
          </p:cNvCxnSpPr>
          <p:nvPr/>
        </p:nvCxnSpPr>
        <p:spPr>
          <a:xfrm>
            <a:off x="3733560" y="3257280"/>
            <a:ext cx="356040" cy="32904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triangle" w="med"/>
          </a:ln>
        </p:spPr>
      </p:cxnSp>
      <p:cxnSp>
        <p:nvCxnSpPr>
          <p:cNvPr id="323" name="Прямая со стрелкой 22"/>
          <p:cNvCxnSpPr/>
          <p:nvPr/>
        </p:nvCxnSpPr>
        <p:spPr>
          <a:xfrm flipV="1">
            <a:off x="3784320" y="3073320"/>
            <a:ext cx="1803960" cy="17820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triangle" w="med"/>
          </a:ln>
        </p:spPr>
      </p:cxnSp>
      <p:cxnSp>
        <p:nvCxnSpPr>
          <p:cNvPr id="324" name="Прямая со стрелкой 24"/>
          <p:cNvCxnSpPr/>
          <p:nvPr/>
        </p:nvCxnSpPr>
        <p:spPr>
          <a:xfrm>
            <a:off x="3822480" y="3288960"/>
            <a:ext cx="1765800" cy="44532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triangle" w="med"/>
          </a:ln>
        </p:spPr>
      </p:cxnSp>
      <p:cxnSp>
        <p:nvCxnSpPr>
          <p:cNvPr id="325" name="Прямая со стрелкой 26"/>
          <p:cNvCxnSpPr>
            <a:endCxn id="317" idx="1"/>
          </p:cNvCxnSpPr>
          <p:nvPr/>
        </p:nvCxnSpPr>
        <p:spPr>
          <a:xfrm>
            <a:off x="3797280" y="3289320"/>
            <a:ext cx="1092960" cy="56160"/>
          </a:xfrm>
          <a:prstGeom prst="straightConnector1">
            <a:avLst/>
          </a:prstGeom>
          <a:ln w="9360">
            <a:solidFill>
              <a:srgbClr val="a1b28e"/>
            </a:solidFill>
            <a:miter/>
            <a:tailEnd len="med" type="triangle" w="med"/>
          </a:ln>
        </p:spPr>
      </p:cxnSp>
      <p:sp>
        <p:nvSpPr>
          <p:cNvPr id="326" name="Прямоугольник 27"/>
          <p:cNvSpPr/>
          <p:nvPr/>
        </p:nvSpPr>
        <p:spPr>
          <a:xfrm>
            <a:off x="1015920" y="3873600"/>
            <a:ext cx="72396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8"/>
          <p:cNvSpPr/>
          <p:nvPr/>
        </p:nvSpPr>
        <p:spPr>
          <a:xfrm>
            <a:off x="1041480" y="4915080"/>
            <a:ext cx="72396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авнобедренный треугольник 30"/>
          <p:cNvSpPr/>
          <p:nvPr/>
        </p:nvSpPr>
        <p:spPr>
          <a:xfrm>
            <a:off x="2031840" y="3911760"/>
            <a:ext cx="914400" cy="583920"/>
          </a:xfrm>
          <a:prstGeom prst="triangle">
            <a:avLst>
              <a:gd name="adj" fmla="val 50644"/>
            </a:avLst>
          </a:prstGeom>
          <a:solidFill>
            <a:srgbClr val="7153a1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Равнобедренный треугольник 31"/>
          <p:cNvSpPr/>
          <p:nvPr/>
        </p:nvSpPr>
        <p:spPr>
          <a:xfrm>
            <a:off x="2108160" y="4952880"/>
            <a:ext cx="914400" cy="584280"/>
          </a:xfrm>
          <a:prstGeom prst="triangle">
            <a:avLst>
              <a:gd name="adj" fmla="val 50644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4"/>
          <p:cNvSpPr/>
          <p:nvPr/>
        </p:nvSpPr>
        <p:spPr>
          <a:xfrm>
            <a:off x="3200400" y="4915080"/>
            <a:ext cx="723960" cy="622080"/>
          </a:xfrm>
          <a:prstGeom prst="rect">
            <a:avLst/>
          </a:prstGeom>
          <a:solidFill>
            <a:srgbClr val="7153a1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Равнобедренный треугольник 35"/>
          <p:cNvSpPr/>
          <p:nvPr/>
        </p:nvSpPr>
        <p:spPr>
          <a:xfrm>
            <a:off x="4000680" y="3911760"/>
            <a:ext cx="914400" cy="583920"/>
          </a:xfrm>
          <a:prstGeom prst="triangle">
            <a:avLst>
              <a:gd name="adj" fmla="val 50644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37"/>
          <p:cNvSpPr/>
          <p:nvPr/>
        </p:nvSpPr>
        <p:spPr>
          <a:xfrm>
            <a:off x="2569320" y="4954680"/>
            <a:ext cx="1800" cy="58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9"/>
          <p:cNvSpPr/>
          <p:nvPr/>
        </p:nvSpPr>
        <p:spPr>
          <a:xfrm>
            <a:off x="3137040" y="41022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1" descr="киска.jpg"/>
          <p:cNvPicPr/>
          <p:nvPr/>
        </p:nvPicPr>
        <p:blipFill>
          <a:blip r:embed="rId1"/>
          <a:stretch/>
        </p:blipFill>
        <p:spPr>
          <a:xfrm>
            <a:off x="5727600" y="4340160"/>
            <a:ext cx="2540160" cy="1997280"/>
          </a:xfrm>
          <a:prstGeom prst="rect">
            <a:avLst/>
          </a:prstGeom>
          <a:ln w="0">
            <a:noFill/>
          </a:ln>
        </p:spPr>
      </p:pic>
      <p:sp>
        <p:nvSpPr>
          <p:cNvPr id="335" name="Управляющая кнопка: назад 33">
            <a:hlinkClick r:id="" action="ppaction://hlinkshowjump?jump=previousslide"/>
          </p:cNvPr>
          <p:cNvSpPr/>
          <p:nvPr/>
        </p:nvSpPr>
        <p:spPr>
          <a:xfrm>
            <a:off x="8280360" y="5816520"/>
            <a:ext cx="711360" cy="419040"/>
          </a:xfrm>
          <a:custGeom>
            <a:avLst/>
            <a:gdLst>
              <a:gd name="textAreaLeft" fmla="*/ 27000 w 711360"/>
              <a:gd name="textAreaRight" fmla="*/ 684360 w 71136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36655" h="21600">
                <a:moveTo>
                  <a:pt x="0" y="0"/>
                </a:moveTo>
                <a:lnTo>
                  <a:pt x="36655" y="0"/>
                </a:lnTo>
                <a:lnTo>
                  <a:pt x="36655" y="21600"/>
                </a:lnTo>
                <a:lnTo>
                  <a:pt x="0" y="21600"/>
                </a:lnTo>
                <a:close/>
              </a:path>
              <a:path fill="lightenLess" w="36655" h="21600">
                <a:moveTo>
                  <a:pt x="0" y="0"/>
                </a:moveTo>
                <a:lnTo>
                  <a:pt x="36655" y="0"/>
                </a:lnTo>
                <a:lnTo>
                  <a:pt x="35255" y="1400"/>
                </a:lnTo>
                <a:lnTo>
                  <a:pt x="1400" y="1400"/>
                </a:lnTo>
                <a:close/>
              </a:path>
              <a:path fill="darken" w="36655" h="21600">
                <a:moveTo>
                  <a:pt x="36655" y="0"/>
                </a:moveTo>
                <a:lnTo>
                  <a:pt x="36655" y="21600"/>
                </a:lnTo>
                <a:lnTo>
                  <a:pt x="35255" y="20200"/>
                </a:lnTo>
                <a:lnTo>
                  <a:pt x="35255" y="1400"/>
                </a:lnTo>
                <a:close/>
              </a:path>
              <a:path fill="darkenLess" w="36655" h="21600">
                <a:moveTo>
                  <a:pt x="36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55" y="20200"/>
                </a:lnTo>
                <a:close/>
              </a:path>
              <a:path fill="lighten" w="36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55" h="21600">
                <a:moveTo>
                  <a:pt x="11321" y="10800"/>
                </a:moveTo>
                <a:lnTo>
                  <a:pt x="25334" y="3794"/>
                </a:lnTo>
                <a:lnTo>
                  <a:pt x="25334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АКТУАЛЬНОСТЬ 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76040"/>
            <a:ext cx="84582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58b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Актуальность заявленной темы обусловлена современной стратегией обновления образования, которое ориентировано на </a:t>
            </a:r>
            <a:r>
              <a:rPr b="0" lang="ru-RU" sz="2000" spc="-1" strike="noStrike">
                <a:solidFill>
                  <a:srgbClr val="93540a"/>
                </a:solidFill>
                <a:latin typeface="Arial"/>
              </a:rPr>
              <a:t>свободное развитие человека, его продуктивной адаптации в меняющемся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Обучение иностранным языкам рассматривается как одно из приоритетных направлений модернизации школьного образования. </a:t>
            </a:r>
            <a:r>
              <a:rPr b="0" lang="ru-RU" sz="2000" spc="-1" strike="noStrike">
                <a:solidFill>
                  <a:srgbClr val="93540a"/>
                </a:solidFill>
                <a:latin typeface="Arial"/>
              </a:rPr>
              <a:t>Иностранный язык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выступает не только как средство межкультурного общения, но и как </a:t>
            </a:r>
            <a:r>
              <a:rPr b="0" lang="ru-RU" sz="2000" spc="-1" strike="noStrike">
                <a:solidFill>
                  <a:srgbClr val="93540a"/>
                </a:solidFill>
                <a:latin typeface="Arial"/>
              </a:rPr>
              <a:t>инструмент общекультурного развит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Все формы работы, все способы организации учебного процесса, каждый вид деятельности на уроке должны быть направлены </a:t>
            </a:r>
            <a:r>
              <a:rPr b="0" lang="ru-RU" sz="2000" spc="-1" strike="noStrike">
                <a:solidFill>
                  <a:srgbClr val="93540a"/>
                </a:solidFill>
                <a:latin typeface="Arial"/>
              </a:rPr>
              <a:t>на формирование компетенций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, которые ученики могли бы перенести в другие сферы своей жизни и деятельности и которые могли бы способствовать их дальнейшему саморазвитию и реализации как успешной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Решить эту проблему поможет </a:t>
            </a:r>
            <a:r>
              <a:rPr b="0" lang="ru-RU" sz="2000" spc="-1" strike="noStrike">
                <a:solidFill>
                  <a:srgbClr val="93540a"/>
                </a:solidFill>
                <a:latin typeface="Arial"/>
              </a:rPr>
              <a:t>использование современных развивающих технологий в образовательном процессе</a:t>
            </a:r>
            <a:r>
              <a:rPr b="0" lang="ru-RU" sz="2000" spc="-1" strike="noStrike">
                <a:solidFill>
                  <a:srgbClr val="7153a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627-027E-4647-9044-20D43EFB425E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838080" y="271440"/>
            <a:ext cx="78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ём: С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luster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«Виноградная гроздь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ема «Времена года. Погода» в 4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ject 3" descr=""/>
          <p:cNvPicPr/>
          <p:nvPr/>
        </p:nvPicPr>
        <p:blipFill>
          <a:blip r:embed="rId1"/>
          <a:stretch/>
        </p:blipFill>
        <p:spPr>
          <a:xfrm>
            <a:off x="1257480" y="1015920"/>
            <a:ext cx="6840360" cy="5130720"/>
          </a:xfrm>
          <a:prstGeom prst="rect">
            <a:avLst/>
          </a:prstGeom>
          <a:ln w="0">
            <a:noFill/>
          </a:ln>
        </p:spPr>
      </p:pic>
      <p:sp>
        <p:nvSpPr>
          <p:cNvPr id="340" name="Управляющая кнопка: домой 6">
            <a:hlinkClick r:id="rId2" action="ppaction://hlinksldjump"/>
          </p:cNvPr>
          <p:cNvSpPr/>
          <p:nvPr/>
        </p:nvSpPr>
        <p:spPr>
          <a:xfrm>
            <a:off x="8432640" y="5816520"/>
            <a:ext cx="317520" cy="482760"/>
          </a:xfrm>
          <a:custGeom>
            <a:avLst/>
            <a:gdLst>
              <a:gd name="textAreaLeft" fmla="*/ 20520 w 317520"/>
              <a:gd name="textAreaRight" fmla="*/ 297000 w 317520"/>
              <a:gd name="textAreaTop" fmla="*/ 20520 h 482760"/>
              <a:gd name="textAreaBottom" fmla="*/ 462240 h 482760"/>
            </a:gdLst>
            <a:ahLst/>
            <a:rect l="textAreaLeft" t="textAreaTop" r="textAreaRight" b="textAreaBottom"/>
            <a:pathLst>
              <a:path w="21600" h="32828">
                <a:moveTo>
                  <a:pt x="0" y="0"/>
                </a:moveTo>
                <a:lnTo>
                  <a:pt x="21600" y="0"/>
                </a:lnTo>
                <a:lnTo>
                  <a:pt x="21600" y="32828"/>
                </a:lnTo>
                <a:lnTo>
                  <a:pt x="0" y="32828"/>
                </a:lnTo>
                <a:close/>
              </a:path>
              <a:path fill="lightenLess" w="21600" h="328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8">
                <a:moveTo>
                  <a:pt x="21600" y="0"/>
                </a:moveTo>
                <a:lnTo>
                  <a:pt x="21600" y="32828"/>
                </a:lnTo>
                <a:lnTo>
                  <a:pt x="20200" y="31428"/>
                </a:lnTo>
                <a:lnTo>
                  <a:pt x="20200" y="1400"/>
                </a:lnTo>
                <a:close/>
              </a:path>
              <a:path fill="darkenLess" w="21600" h="32828">
                <a:moveTo>
                  <a:pt x="21600" y="32828"/>
                </a:moveTo>
                <a:lnTo>
                  <a:pt x="0" y="32828"/>
                </a:lnTo>
                <a:lnTo>
                  <a:pt x="1400" y="31428"/>
                </a:lnTo>
                <a:lnTo>
                  <a:pt x="20200" y="31428"/>
                </a:lnTo>
                <a:close/>
              </a:path>
              <a:path fill="lighten" w="21600" h="32828">
                <a:moveTo>
                  <a:pt x="0" y="3282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8"/>
                </a:lnTo>
                <a:close/>
              </a:path>
              <a:path fill="darken" w="21600" h="32828">
                <a:moveTo>
                  <a:pt x="10800" y="9451"/>
                </a:moveTo>
                <a:lnTo>
                  <a:pt x="13376" y="12062"/>
                </a:lnTo>
                <a:lnTo>
                  <a:pt x="13376" y="10321"/>
                </a:lnTo>
                <a:lnTo>
                  <a:pt x="15152" y="10321"/>
                </a:lnTo>
                <a:lnTo>
                  <a:pt x="15152" y="13838"/>
                </a:lnTo>
                <a:lnTo>
                  <a:pt x="17763" y="16414"/>
                </a:lnTo>
                <a:lnTo>
                  <a:pt x="16109" y="16414"/>
                </a:lnTo>
                <a:lnTo>
                  <a:pt x="16109" y="23603"/>
                </a:lnTo>
                <a:lnTo>
                  <a:pt x="5491" y="23603"/>
                </a:lnTo>
                <a:lnTo>
                  <a:pt x="5491" y="16414"/>
                </a:lnTo>
                <a:lnTo>
                  <a:pt x="3837" y="16414"/>
                </a:lnTo>
                <a:close/>
              </a:path>
              <a:path fill="darkenLess" w="21600" h="32828">
                <a:moveTo>
                  <a:pt x="13376" y="12062"/>
                </a:moveTo>
                <a:lnTo>
                  <a:pt x="13376" y="10321"/>
                </a:lnTo>
                <a:lnTo>
                  <a:pt x="15152" y="10321"/>
                </a:lnTo>
                <a:lnTo>
                  <a:pt x="15152" y="13838"/>
                </a:lnTo>
                <a:close/>
              </a:path>
              <a:path fill="darkenLess" w="21600" h="32828">
                <a:moveTo>
                  <a:pt x="9877" y="19913"/>
                </a:moveTo>
                <a:lnTo>
                  <a:pt x="11723" y="19913"/>
                </a:lnTo>
                <a:lnTo>
                  <a:pt x="11723" y="23603"/>
                </a:lnTo>
                <a:lnTo>
                  <a:pt x="16109" y="23603"/>
                </a:lnTo>
                <a:lnTo>
                  <a:pt x="16109" y="16414"/>
                </a:lnTo>
                <a:lnTo>
                  <a:pt x="5491" y="16414"/>
                </a:lnTo>
                <a:lnTo>
                  <a:pt x="5491" y="23603"/>
                </a:lnTo>
                <a:lnTo>
                  <a:pt x="9877" y="23603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1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511-5465-4091-B7FE-06F7C04F2D56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003320" y="343080"/>
            <a:ext cx="7391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c354d"/>
                </a:solidFill>
                <a:latin typeface="Arial"/>
                <a:ea typeface="Arial"/>
              </a:rPr>
              <a:t>Приём «</a:t>
            </a:r>
            <a:r>
              <a:rPr b="1" lang="en-US" sz="2000" spc="-1" strike="noStrike">
                <a:solidFill>
                  <a:srgbClr val="7c354d"/>
                </a:solidFill>
                <a:latin typeface="Arial"/>
                <a:ea typeface="Arial"/>
              </a:rPr>
              <a:t>Word Web</a:t>
            </a:r>
            <a:r>
              <a:rPr b="1" lang="ru-RU" sz="2000" spc="-1" strike="noStrike">
                <a:solidFill>
                  <a:srgbClr val="7c354d"/>
                </a:solidFill>
                <a:latin typeface="Arial"/>
                <a:ea typeface="Arial"/>
              </a:rPr>
              <a:t>» </a:t>
            </a:r>
            <a:r>
              <a:rPr b="1" lang="ru-RU" sz="1800" spc="-1" strike="noStrike">
                <a:solidFill>
                  <a:srgbClr val="7c354d"/>
                </a:solidFill>
                <a:latin typeface="Arial"/>
                <a:ea typeface="Arial"/>
              </a:rPr>
              <a:t>(Словесная паути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c354d"/>
                </a:solidFill>
                <a:latin typeface="Arial"/>
              </a:rPr>
              <a:t>Тема «Праздники», 8 кла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спользуется на этапе </a:t>
            </a:r>
            <a:r>
              <a:rPr b="0" lang="ru-RU" sz="1800" spc="-1" strike="noStrike">
                <a:solidFill>
                  <a:srgbClr val="7c354d"/>
                </a:solidFill>
                <a:latin typeface="Arial"/>
              </a:rPr>
              <a:t>целеполагания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, а затем - в качестве </a:t>
            </a:r>
            <a:r>
              <a:rPr b="0" lang="ru-RU" sz="1800" spc="-1" strike="noStrike">
                <a:solidFill>
                  <a:srgbClr val="7c354d"/>
                </a:solidFill>
                <a:latin typeface="Arial"/>
              </a:rPr>
              <a:t>плана работы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над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1" descr=""/>
          <p:cNvPicPr/>
          <p:nvPr/>
        </p:nvPicPr>
        <p:blipFill>
          <a:blip r:embed="rId1"/>
          <a:stretch/>
        </p:blipFill>
        <p:spPr>
          <a:xfrm>
            <a:off x="1574640" y="1733400"/>
            <a:ext cx="6167520" cy="4629240"/>
          </a:xfrm>
          <a:prstGeom prst="rect">
            <a:avLst/>
          </a:prstGeom>
          <a:ln w="0">
            <a:noFill/>
          </a:ln>
        </p:spPr>
      </p:pic>
      <p:sp>
        <p:nvSpPr>
          <p:cNvPr id="345" name="Управляющая кнопка: домой 6">
            <a:hlinkClick r:id="rId2" action="ppaction://hlinksldjump"/>
          </p:cNvPr>
          <p:cNvSpPr/>
          <p:nvPr/>
        </p:nvSpPr>
        <p:spPr>
          <a:xfrm>
            <a:off x="8445600" y="5816520"/>
            <a:ext cx="330120" cy="533520"/>
          </a:xfrm>
          <a:custGeom>
            <a:avLst/>
            <a:gdLst>
              <a:gd name="textAreaLeft" fmla="*/ 21240 w 330120"/>
              <a:gd name="textAreaRight" fmla="*/ 308880 w 330120"/>
              <a:gd name="textAreaTop" fmla="*/ 21240 h 533520"/>
              <a:gd name="textAreaBottom" fmla="*/ 512280 h 533520"/>
            </a:gdLst>
            <a:ahLst/>
            <a:rect l="textAreaLeft" t="textAreaTop" r="textAreaRight" b="textAreaBottom"/>
            <a:pathLst>
              <a:path w="21600" h="34894">
                <a:moveTo>
                  <a:pt x="0" y="0"/>
                </a:moveTo>
                <a:lnTo>
                  <a:pt x="21600" y="0"/>
                </a:lnTo>
                <a:lnTo>
                  <a:pt x="21600" y="34894"/>
                </a:lnTo>
                <a:lnTo>
                  <a:pt x="0" y="34894"/>
                </a:lnTo>
                <a:close/>
              </a:path>
              <a:path fill="lightenLess" w="21600" h="34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894">
                <a:moveTo>
                  <a:pt x="21600" y="0"/>
                </a:moveTo>
                <a:lnTo>
                  <a:pt x="21600" y="34894"/>
                </a:lnTo>
                <a:lnTo>
                  <a:pt x="20200" y="33494"/>
                </a:lnTo>
                <a:lnTo>
                  <a:pt x="20200" y="1400"/>
                </a:lnTo>
                <a:close/>
              </a:path>
              <a:path fill="darkenLess" w="21600" h="34894">
                <a:moveTo>
                  <a:pt x="21600" y="34894"/>
                </a:moveTo>
                <a:lnTo>
                  <a:pt x="0" y="34894"/>
                </a:lnTo>
                <a:lnTo>
                  <a:pt x="1400" y="33494"/>
                </a:lnTo>
                <a:lnTo>
                  <a:pt x="20200" y="33494"/>
                </a:lnTo>
                <a:close/>
              </a:path>
              <a:path fill="lighten" w="21600" h="34894">
                <a:moveTo>
                  <a:pt x="0" y="34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3494"/>
                </a:lnTo>
                <a:close/>
              </a:path>
              <a:path fill="darken" w="21600" h="34894">
                <a:moveTo>
                  <a:pt x="10800" y="10484"/>
                </a:moveTo>
                <a:lnTo>
                  <a:pt x="13376" y="13095"/>
                </a:lnTo>
                <a:lnTo>
                  <a:pt x="13376" y="11354"/>
                </a:lnTo>
                <a:lnTo>
                  <a:pt x="15152" y="11354"/>
                </a:lnTo>
                <a:lnTo>
                  <a:pt x="15152" y="14871"/>
                </a:lnTo>
                <a:lnTo>
                  <a:pt x="17763" y="17447"/>
                </a:lnTo>
                <a:lnTo>
                  <a:pt x="16109" y="17447"/>
                </a:lnTo>
                <a:lnTo>
                  <a:pt x="16109" y="24636"/>
                </a:lnTo>
                <a:lnTo>
                  <a:pt x="5491" y="24636"/>
                </a:lnTo>
                <a:lnTo>
                  <a:pt x="5491" y="17447"/>
                </a:lnTo>
                <a:lnTo>
                  <a:pt x="3837" y="17447"/>
                </a:lnTo>
                <a:close/>
              </a:path>
              <a:path fill="darkenLess" w="21600" h="34894">
                <a:moveTo>
                  <a:pt x="13376" y="13095"/>
                </a:moveTo>
                <a:lnTo>
                  <a:pt x="13376" y="11354"/>
                </a:lnTo>
                <a:lnTo>
                  <a:pt x="15152" y="11354"/>
                </a:lnTo>
                <a:lnTo>
                  <a:pt x="15152" y="14871"/>
                </a:lnTo>
                <a:close/>
              </a:path>
              <a:path fill="darkenLess" w="21600" h="34894">
                <a:moveTo>
                  <a:pt x="9877" y="20946"/>
                </a:moveTo>
                <a:lnTo>
                  <a:pt x="11723" y="20946"/>
                </a:lnTo>
                <a:lnTo>
                  <a:pt x="11723" y="24636"/>
                </a:lnTo>
                <a:lnTo>
                  <a:pt x="16109" y="24636"/>
                </a:lnTo>
                <a:lnTo>
                  <a:pt x="16109" y="17447"/>
                </a:lnTo>
                <a:lnTo>
                  <a:pt x="5491" y="17447"/>
                </a:lnTo>
                <a:lnTo>
                  <a:pt x="5491" y="24636"/>
                </a:lnTo>
                <a:lnTo>
                  <a:pt x="9877" y="2463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1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7B3F-D63C-41FD-BD3A-94525660D560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228600" y="368280"/>
            <a:ext cx="848376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Приём: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«Know – Want to know – Have learnt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(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Знаю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–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Хочу узнать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-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Узнал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ма «Праздники» в 8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определения общей зоны цели, задание заполнить таблицу, третья колонка заполняется в течение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Этап организации поисков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прочитайте текст о том, как называются персонажи, которые дарят подарки и их помощниках в разных странах и заполните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816200" y="2244600"/>
          <a:ext cx="6108480" cy="731880"/>
        </p:xfrm>
        <a:graphic>
          <a:graphicData uri="http://schemas.openxmlformats.org/drawingml/2006/table">
            <a:tbl>
              <a:tblPr/>
              <a:tblGrid>
                <a:gridCol w="2036520"/>
                <a:gridCol w="2035440"/>
                <a:gridCol w="20365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hristm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 want to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 have lear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765440" y="4416480"/>
          <a:ext cx="6108480" cy="1736640"/>
        </p:xfrm>
        <a:graphic>
          <a:graphicData uri="http://schemas.openxmlformats.org/drawingml/2006/table">
            <a:tbl>
              <a:tblPr/>
              <a:tblGrid>
                <a:gridCol w="2036520"/>
                <a:gridCol w="2035440"/>
                <a:gridCol w="203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nta Cla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Snow Mai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Sneguroch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Babbo Na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350" name="Управляющая кнопка: домой 6">
            <a:hlinkClick r:id="rId1" action="ppaction://hlinksldjump"/>
          </p:cNvPr>
          <p:cNvSpPr/>
          <p:nvPr/>
        </p:nvSpPr>
        <p:spPr>
          <a:xfrm>
            <a:off x="8559720" y="5943600"/>
            <a:ext cx="343080" cy="48276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482760"/>
              <a:gd name="textAreaBottom" fmla="*/ 460800 h 482760"/>
            </a:gdLst>
            <a:ahLst/>
            <a:rect l="textAreaLeft" t="textAreaTop" r="textAreaRight" b="textAreaBottom"/>
            <a:pathLst>
              <a:path w="21600" h="30385">
                <a:moveTo>
                  <a:pt x="0" y="0"/>
                </a:moveTo>
                <a:lnTo>
                  <a:pt x="21600" y="0"/>
                </a:lnTo>
                <a:lnTo>
                  <a:pt x="21600" y="30385"/>
                </a:lnTo>
                <a:lnTo>
                  <a:pt x="0" y="30385"/>
                </a:lnTo>
                <a:close/>
              </a:path>
              <a:path fill="lightenLess" w="21600" h="303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385">
                <a:moveTo>
                  <a:pt x="21600" y="0"/>
                </a:moveTo>
                <a:lnTo>
                  <a:pt x="21600" y="30385"/>
                </a:lnTo>
                <a:lnTo>
                  <a:pt x="20200" y="28985"/>
                </a:lnTo>
                <a:lnTo>
                  <a:pt x="20200" y="1400"/>
                </a:lnTo>
                <a:close/>
              </a:path>
              <a:path fill="darkenLess" w="21600" h="30385">
                <a:moveTo>
                  <a:pt x="21600" y="30385"/>
                </a:moveTo>
                <a:lnTo>
                  <a:pt x="0" y="30385"/>
                </a:lnTo>
                <a:lnTo>
                  <a:pt x="1400" y="28985"/>
                </a:lnTo>
                <a:lnTo>
                  <a:pt x="20200" y="28985"/>
                </a:lnTo>
                <a:close/>
              </a:path>
              <a:path fill="lighten" w="21600" h="30385">
                <a:moveTo>
                  <a:pt x="0" y="303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985"/>
                </a:lnTo>
                <a:close/>
              </a:path>
              <a:path fill="darken" w="21600" h="30385">
                <a:moveTo>
                  <a:pt x="10800" y="8229"/>
                </a:moveTo>
                <a:lnTo>
                  <a:pt x="13376" y="10841"/>
                </a:lnTo>
                <a:lnTo>
                  <a:pt x="13376" y="9100"/>
                </a:lnTo>
                <a:lnTo>
                  <a:pt x="15152" y="9100"/>
                </a:lnTo>
                <a:lnTo>
                  <a:pt x="15152" y="12616"/>
                </a:lnTo>
                <a:lnTo>
                  <a:pt x="17763" y="15192"/>
                </a:lnTo>
                <a:lnTo>
                  <a:pt x="16109" y="15192"/>
                </a:lnTo>
                <a:lnTo>
                  <a:pt x="16109" y="22382"/>
                </a:lnTo>
                <a:lnTo>
                  <a:pt x="5491" y="22382"/>
                </a:lnTo>
                <a:lnTo>
                  <a:pt x="5491" y="15192"/>
                </a:lnTo>
                <a:lnTo>
                  <a:pt x="3837" y="15192"/>
                </a:lnTo>
                <a:close/>
              </a:path>
              <a:path fill="darkenLess" w="21600" h="30385">
                <a:moveTo>
                  <a:pt x="13376" y="10841"/>
                </a:moveTo>
                <a:lnTo>
                  <a:pt x="13376" y="9100"/>
                </a:lnTo>
                <a:lnTo>
                  <a:pt x="15152" y="9100"/>
                </a:lnTo>
                <a:lnTo>
                  <a:pt x="15152" y="12616"/>
                </a:lnTo>
                <a:close/>
              </a:path>
              <a:path fill="darkenLess" w="21600" h="30385">
                <a:moveTo>
                  <a:pt x="9877" y="18691"/>
                </a:moveTo>
                <a:lnTo>
                  <a:pt x="11723" y="18691"/>
                </a:lnTo>
                <a:lnTo>
                  <a:pt x="11723" y="22382"/>
                </a:lnTo>
                <a:lnTo>
                  <a:pt x="16109" y="22382"/>
                </a:lnTo>
                <a:lnTo>
                  <a:pt x="16109" y="15192"/>
                </a:lnTo>
                <a:lnTo>
                  <a:pt x="5491" y="15192"/>
                </a:lnTo>
                <a:lnTo>
                  <a:pt x="5491" y="22382"/>
                </a:lnTo>
                <a:lnTo>
                  <a:pt x="9877" y="22382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3"/>
          <p:cNvSpPr/>
          <p:nvPr/>
        </p:nvSpPr>
        <p:spPr>
          <a:xfrm>
            <a:off x="0" y="0"/>
            <a:ext cx="9144000" cy="7225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Метод «Синквей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ема «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 Like English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!» - урок-праздник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ап: организация рефлексивного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 напишите синквейн на слов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это 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Engl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(3 прилагательных для описания урока-празд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я (глаголы: что делали на уро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вство (ф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ение сути (предло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-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шите ваши ощущения на английском языке, каждое слово начинайте с букв слов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7988400" y="5105520"/>
            <a:ext cx="596880" cy="291960"/>
          </a:xfrm>
          <a:custGeom>
            <a:avLst/>
            <a:gdLst>
              <a:gd name="textAreaLeft" fmla="*/ 18720 w 596880"/>
              <a:gd name="textAreaRight" fmla="*/ 578160 w 59688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44131" h="21600">
                <a:moveTo>
                  <a:pt x="0" y="0"/>
                </a:moveTo>
                <a:lnTo>
                  <a:pt x="44131" y="0"/>
                </a:lnTo>
                <a:lnTo>
                  <a:pt x="44131" y="21600"/>
                </a:lnTo>
                <a:lnTo>
                  <a:pt x="0" y="21600"/>
                </a:lnTo>
                <a:close/>
              </a:path>
              <a:path fill="lightenLess" w="44131" h="21600">
                <a:moveTo>
                  <a:pt x="0" y="0"/>
                </a:moveTo>
                <a:lnTo>
                  <a:pt x="44131" y="0"/>
                </a:lnTo>
                <a:lnTo>
                  <a:pt x="42731" y="1400"/>
                </a:lnTo>
                <a:lnTo>
                  <a:pt x="1400" y="1400"/>
                </a:lnTo>
                <a:close/>
              </a:path>
              <a:path fill="darken" w="44131" h="21600">
                <a:moveTo>
                  <a:pt x="44131" y="0"/>
                </a:moveTo>
                <a:lnTo>
                  <a:pt x="44131" y="21600"/>
                </a:lnTo>
                <a:lnTo>
                  <a:pt x="42731" y="20200"/>
                </a:lnTo>
                <a:lnTo>
                  <a:pt x="42731" y="1400"/>
                </a:lnTo>
                <a:close/>
              </a:path>
              <a:path fill="darkenLess" w="44131" h="21600">
                <a:moveTo>
                  <a:pt x="4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31" y="20200"/>
                </a:lnTo>
                <a:close/>
              </a:path>
              <a:path fill="lighten" w="4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31" h="21600">
                <a:moveTo>
                  <a:pt x="15059" y="3794"/>
                </a:moveTo>
                <a:lnTo>
                  <a:pt x="29072" y="10800"/>
                </a:lnTo>
                <a:lnTo>
                  <a:pt x="15059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15480" y="6197760"/>
            <a:ext cx="571320" cy="457200"/>
          </a:xfrm>
          <a:custGeom>
            <a:avLst/>
            <a:gdLst>
              <a:gd name="textAreaLeft" fmla="*/ 29520 w 571320"/>
              <a:gd name="textAreaRight" fmla="*/ 541800 w 571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987" h="21600">
                <a:moveTo>
                  <a:pt x="0" y="0"/>
                </a:moveTo>
                <a:lnTo>
                  <a:pt x="26987" y="0"/>
                </a:lnTo>
                <a:lnTo>
                  <a:pt x="26987" y="21600"/>
                </a:lnTo>
                <a:lnTo>
                  <a:pt x="0" y="21600"/>
                </a:lnTo>
                <a:close/>
              </a:path>
              <a:path fill="lightenLess" w="26987" h="21600">
                <a:moveTo>
                  <a:pt x="0" y="0"/>
                </a:moveTo>
                <a:lnTo>
                  <a:pt x="26987" y="0"/>
                </a:lnTo>
                <a:lnTo>
                  <a:pt x="25587" y="1400"/>
                </a:lnTo>
                <a:lnTo>
                  <a:pt x="1400" y="1400"/>
                </a:lnTo>
                <a:close/>
              </a:path>
              <a:path fill="darken" w="26987" h="21600">
                <a:moveTo>
                  <a:pt x="26987" y="0"/>
                </a:moveTo>
                <a:lnTo>
                  <a:pt x="26987" y="21600"/>
                </a:lnTo>
                <a:lnTo>
                  <a:pt x="25587" y="20200"/>
                </a:lnTo>
                <a:lnTo>
                  <a:pt x="25587" y="1400"/>
                </a:lnTo>
                <a:close/>
              </a:path>
              <a:path fill="darkenLess" w="26987" h="21600">
                <a:moveTo>
                  <a:pt x="26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7" y="20200"/>
                </a:lnTo>
                <a:close/>
              </a:path>
              <a:path fill="lighten" w="26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7" h="21600">
                <a:moveTo>
                  <a:pt x="6487" y="3794"/>
                </a:moveTo>
                <a:lnTo>
                  <a:pt x="20500" y="10800"/>
                </a:lnTo>
                <a:lnTo>
                  <a:pt x="6487" y="17806"/>
                </a:lnTo>
                <a:close/>
              </a:path>
            </a:pathLst>
          </a:cu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Социально-трудовые компетенции 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57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E3C4-C78C-47EC-9FBD-A0D0F9E16286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254160" y="10159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социально-трудовой  компетенцией означает </a:t>
            </a:r>
            <a:r>
              <a:rPr b="1" lang="ru-RU" sz="2400" spc="-1" strike="noStrike">
                <a:solidFill>
                  <a:srgbClr val="4c376b"/>
                </a:solidFill>
                <a:latin typeface="Arial"/>
              </a:rPr>
              <a:t>владение различными социальными ролям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трудовая компетенция направляет это умение </a:t>
            </a:r>
            <a:r>
              <a:rPr b="1" lang="ru-RU" sz="2400" spc="-1" strike="noStrike">
                <a:solidFill>
                  <a:srgbClr val="4c376b"/>
                </a:solidFill>
                <a:latin typeface="Arial"/>
              </a:rPr>
              <a:t>в сферу гражданско-общественной и социально-трудов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    Основной способ – </a:t>
            </a:r>
            <a:r>
              <a:rPr b="1" lang="ru-RU" sz="2400" spc="-1" strike="noStrike">
                <a:solidFill>
                  <a:srgbClr val="93540a"/>
                </a:solidFill>
                <a:latin typeface="Arial"/>
              </a:rPr>
              <a:t>ролевая иг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40a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93540a"/>
                </a:solidFill>
                <a:latin typeface="Arial"/>
              </a:rPr>
              <a:t>7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40a"/>
                </a:solidFill>
                <a:latin typeface="Arial"/>
              </a:rPr>
              <a:t>Тема «Узнаем больше о Лондо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376b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4c376b"/>
                </a:solidFill>
                <a:latin typeface="Arial"/>
              </a:rPr>
              <a:t>Обучение диалог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ающиеся играют роли полицейского, экскурсовода, жителя Лондона, русского туриста, прохожего – сверс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6868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Компетенции личностного самосовершенствования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7284-C6FD-4472-AC5A-33553294DDAB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216000" y="1422360"/>
            <a:ext cx="8775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ь обучающегося, его </a:t>
            </a:r>
            <a:r>
              <a:rPr b="1" lang="ru-RU" sz="2000" spc="-1" strike="noStrike">
                <a:solidFill>
                  <a:srgbClr val="4c376b"/>
                </a:solidFill>
                <a:latin typeface="Arial"/>
              </a:rPr>
              <a:t>нравственные качества, стремление к самопознан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то, что является объектом данной компетенции. Создавая тот или иной урок важно продумывать такие ситуации, которые давали бы возможность </a:t>
            </a:r>
            <a:r>
              <a:rPr b="1" lang="ru-RU" sz="2000" spc="-1" strike="noStrike">
                <a:solidFill>
                  <a:srgbClr val="4c376b"/>
                </a:solidFill>
                <a:latin typeface="Arial"/>
              </a:rPr>
              <a:t>развивать внутреннюю культуру ребёнка, его правильное мировозз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540a"/>
                </a:solidFill>
                <a:latin typeface="Arial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3540a"/>
                </a:solidFill>
                <a:latin typeface="Arial"/>
              </a:rPr>
              <a:t>Тема «Внеш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Послушайте песню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Goo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скажите, какая проблема у героя песни, нарисуйте главного персонажа этой пес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ьте на вопрос: Нужно ли выглядеть привлекательным и для ч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3540a"/>
                </a:solidFill>
                <a:latin typeface="Arial"/>
              </a:rPr>
              <a:t>Тема «Одеж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Создай коллаж своей любимой одежды, расскажи о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 таблицу «Школьная форма: За и Проти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C96-3826-459D-9F8D-4D9A50A9BF93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987480"/>
            <a:ext cx="5962680" cy="4145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C:\Documents and Settings\Admin\Рабочий стол\колокольчик.gif"/>
          <p:cNvPicPr/>
          <p:nvPr/>
        </p:nvPicPr>
        <p:blipFill>
          <a:blip r:embed="rId2"/>
          <a:stretch/>
        </p:blipFill>
        <p:spPr>
          <a:xfrm>
            <a:off x="5815080" y="3417840"/>
            <a:ext cx="209700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1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C91-CDA0-4E99-BB86-5946E02F7687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291960" y="457200"/>
            <a:ext cx="86616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язык: сб. материалов  по реализации федерального компонента государственного стандарта общего образования в общеобразовательных учреждениях Волгоградской области / авт.-сост. Е.И. Колусева, Л.И. Леонтьева. – Волгоград: Учитель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язык: компетентностный подход в преподавании: технологии, разработки уроков/ авт.-сост. А.Г. Штарина. – Волгоград: Учитель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олетова М.З. Программа курса английского языка к УМК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Engli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” для учащихся 2 – 9 классов общеобразовательного учреждения / М.З. Биболетова, Н.Н. Трубанева. – Обнинск: Титул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е компетенции и образовательные стандарты: доклад А.В. Хуторского на Отделении философии образования и теоретической педагогики РАО 23 апреля 2002 г. – М.: Центр «Эйдос».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eidos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 "Наша новая школа" 04 февраля 2010 г. Приказ – 271. http://old.mon.gov.ru/dok/akt/6591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АКТУАЛЬНОСТЬ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D73-EF45-4FAB-A8C1-51EE6F8E1A62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19040" y="96516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перспективных подходов, позволяющих решить поставленные перед современной системой образования задачи, признается компетентностный под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сновы идей компетентностного подхода изложены в работах Селевко Г.К., Чередова И.М., Якиманской И.С., Хуторского А.В., а также в трудах американских учёных Стила, Мередита, Уол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они сходятся во мнении, что </a:t>
            </a:r>
            <a:r>
              <a:rPr b="1" lang="ru-RU" sz="2400" spc="-1" strike="noStrike">
                <a:solidFill>
                  <a:srgbClr val="4c376b"/>
                </a:solidFill>
                <a:latin typeface="Arial"/>
              </a:rPr>
              <a:t>компетентностный подход предполагает не усвоение учеником отдельных друг от друга знаний и умений, а овладение ими в комплек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C65-EBC7-4B46-A6E4-D6F5689AB762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1" lang="en-US" sz="25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723960"/>
            <a:ext cx="810252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spcBef>
                <a:spcPts val="40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4c376b"/>
                </a:solidFill>
                <a:latin typeface="Arial"/>
              </a:rPr>
              <a:t>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ключает совокупность взаимосвязанных качеств личности (знаний, умений, навыков, способов деятельности), задаваемых по отношению к определённому кругу предметов и процессов и необходимых для качественной продуктивной деятельности по отношению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4c376b"/>
                </a:solidFill>
                <a:latin typeface="Arial"/>
              </a:rPr>
              <a:t>Компетент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владение, обладание человека соответствующей компетенцией, включающей его личностное отношение к ней и предмету деятельности (то есть личностное качество, характеристи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4c376b"/>
                </a:solidFill>
                <a:latin typeface="Arial"/>
              </a:rPr>
              <a:t>Образовательная компетенц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вокупность смысловых ориентаций, знаний, умений, навыков и опыта деятельности ученика по отношению к определенному кругу объектов реальной действительности, необходимых для осуществления личностно и социально значимой продуктив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e58b6"/>
                </a:solidFill>
                <a:latin typeface="Arial"/>
              </a:rPr>
              <a:t>Компетенция – сфера деятельности (область знаний, круг вопросов, в к-х к-л хорошо осведомлен)(Толковый словарь рус.яз) – абстрактное 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e58b6"/>
                </a:solidFill>
                <a:latin typeface="Arial"/>
              </a:rPr>
              <a:t>Компетентность – обладание компеттенцией, т.е. способность к деятельности в той или иной сфере – св-ва конкр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dd7e0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2E8-38B4-4D79-881A-63AF5112BC5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01640" y="739800"/>
            <a:ext cx="781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Образовательные компетен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словлены личностно - деятельностным подходом к образованию, поскольку относятся исключительно к личности ученика и проявляются, а также проверяются только в процессе выполнения им определённым образом составленного комплекса действий.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окупность смысловых ориентаций, зун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ыт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-ти ученика по отношению к опр кругу объектов реальной действительности, необходимых для осуществления личностно и социально значимой продуктивной д-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Ключев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компетенции, которые являются универсальными, применимыми в различ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полно </a:t>
            </a: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компетентностный подхо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разработан </a:t>
            </a:r>
            <a:r>
              <a:rPr b="1" lang="ru-RU" sz="1800" spc="-1" strike="noStrike">
                <a:solidFill>
                  <a:srgbClr val="7c354d"/>
                </a:solidFill>
                <a:latin typeface="Arial"/>
              </a:rPr>
              <a:t>в школе А.В. Хутор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ктора педагогических нау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иралась на клас-ю Хуторс., составлены на основе гл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го обр-я, структурного представления соц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ыт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 опыта личности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. Видов деятельн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646200"/>
            <a:ext cx="8444160" cy="6890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6" descr=""/>
          <p:cNvPicPr/>
          <p:nvPr/>
        </p:nvPicPr>
        <p:blipFill>
          <a:blip r:embed="rId2"/>
          <a:stretch/>
        </p:blipFill>
        <p:spPr>
          <a:xfrm>
            <a:off x="85680" y="2146320"/>
            <a:ext cx="8912160" cy="4413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7" descr=""/>
          <p:cNvPicPr/>
          <p:nvPr/>
        </p:nvPicPr>
        <p:blipFill>
          <a:blip r:embed="rId3"/>
          <a:stretch/>
        </p:blipFill>
        <p:spPr>
          <a:xfrm>
            <a:off x="85680" y="291960"/>
            <a:ext cx="8972640" cy="22496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5" descr=""/>
          <p:cNvPicPr/>
          <p:nvPr/>
        </p:nvPicPr>
        <p:blipFill>
          <a:blip r:embed="rId4"/>
          <a:stretch/>
        </p:blipFill>
        <p:spPr>
          <a:xfrm>
            <a:off x="146160" y="4614840"/>
            <a:ext cx="867384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809-D28B-4AE8-99D7-B241BC19A686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3402000" y="2438280"/>
            <a:ext cx="2376360" cy="1096920"/>
          </a:xfrm>
          <a:prstGeom prst="roundRect">
            <a:avLst>
              <a:gd name="adj" fmla="val 16667"/>
            </a:avLst>
          </a:prstGeom>
          <a:solidFill>
            <a:srgbClr val="c4b6d9"/>
          </a:solidFill>
          <a:ln w="7632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3413160" y="2548080"/>
            <a:ext cx="24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9"/>
          <p:cNvSpPr/>
          <p:nvPr/>
        </p:nvSpPr>
        <p:spPr>
          <a:xfrm>
            <a:off x="3328920" y="231840"/>
            <a:ext cx="2644920" cy="12556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0"/>
          <p:cNvSpPr/>
          <p:nvPr/>
        </p:nvSpPr>
        <p:spPr>
          <a:xfrm>
            <a:off x="6229440" y="2590920"/>
            <a:ext cx="2732040" cy="111600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6291360" y="853920"/>
            <a:ext cx="2644560" cy="118296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165240" y="2614680"/>
            <a:ext cx="2644560" cy="10792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4"/>
          <p:cNvSpPr/>
          <p:nvPr/>
        </p:nvSpPr>
        <p:spPr>
          <a:xfrm>
            <a:off x="304920" y="828720"/>
            <a:ext cx="2687400" cy="11224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5"/>
          <p:cNvSpPr/>
          <p:nvPr/>
        </p:nvSpPr>
        <p:spPr>
          <a:xfrm>
            <a:off x="1122480" y="4327560"/>
            <a:ext cx="2674800" cy="109836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6"/>
          <p:cNvSpPr/>
          <p:nvPr/>
        </p:nvSpPr>
        <p:spPr>
          <a:xfrm>
            <a:off x="5181480" y="4303800"/>
            <a:ext cx="2676600" cy="118260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3389400" y="219240"/>
            <a:ext cx="253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остно-смыс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546960" y="99072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куль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6119640" y="2803680"/>
            <a:ext cx="28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5254560" y="4730760"/>
            <a:ext cx="26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1292400" y="466884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365040" y="284004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труд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0" y="9874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ого самосовершен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25"/>
          <p:cNvCxnSpPr>
            <a:stCxn id="105" idx="0"/>
          </p:cNvCxnSpPr>
          <p:nvPr/>
        </p:nvCxnSpPr>
        <p:spPr>
          <a:xfrm flipV="1">
            <a:off x="4591080" y="1560240"/>
            <a:ext cx="18000" cy="878400"/>
          </a:xfrm>
          <a:prstGeom prst="straightConnector1">
            <a:avLst/>
          </a:prstGeom>
          <a:ln w="38160">
            <a:solidFill>
              <a:srgbClr val="a5b592"/>
            </a:solidFill>
            <a:miter/>
            <a:tailEnd len="med" type="arrow" w="med"/>
          </a:ln>
        </p:spPr>
      </p:cxnSp>
      <p:cxnSp>
        <p:nvCxnSpPr>
          <p:cNvPr id="122" name="Прямая со стрелкой 27"/>
          <p:cNvCxnSpPr/>
          <p:nvPr/>
        </p:nvCxnSpPr>
        <p:spPr>
          <a:xfrm flipV="1">
            <a:off x="5657760" y="1851840"/>
            <a:ext cx="866160" cy="53748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123" name="Прямая со стрелкой 29"/>
          <p:cNvCxnSpPr/>
          <p:nvPr/>
        </p:nvCxnSpPr>
        <p:spPr>
          <a:xfrm flipH="1" flipV="1">
            <a:off x="2828160" y="1731600"/>
            <a:ext cx="732600" cy="73080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124" name="Прямая со стрелкой 36"/>
          <p:cNvCxnSpPr/>
          <p:nvPr/>
        </p:nvCxnSpPr>
        <p:spPr>
          <a:xfrm flipH="1">
            <a:off x="3060360" y="3583440"/>
            <a:ext cx="1340640" cy="73260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125" name="Прямая со стрелкой 38"/>
          <p:cNvCxnSpPr/>
          <p:nvPr/>
        </p:nvCxnSpPr>
        <p:spPr>
          <a:xfrm>
            <a:off x="4852800" y="3560760"/>
            <a:ext cx="1425600" cy="70704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126" name="Прямая со стрелкой 42"/>
          <p:cNvCxnSpPr>
            <a:stCxn id="106" idx="3"/>
          </p:cNvCxnSpPr>
          <p:nvPr/>
        </p:nvCxnSpPr>
        <p:spPr>
          <a:xfrm flipV="1">
            <a:off x="5827320" y="2950560"/>
            <a:ext cx="477000" cy="1332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cxnSp>
        <p:nvCxnSpPr>
          <p:cNvPr id="127" name="Прямая со стрелкой 44"/>
          <p:cNvCxnSpPr>
            <a:stCxn id="105" idx="1"/>
          </p:cNvCxnSpPr>
          <p:nvPr/>
        </p:nvCxnSpPr>
        <p:spPr>
          <a:xfrm flipH="1">
            <a:off x="2828520" y="2986560"/>
            <a:ext cx="573840" cy="11880"/>
          </a:xfrm>
          <a:prstGeom prst="straightConnector1">
            <a:avLst/>
          </a:prstGeom>
          <a:ln w="38160">
            <a:solidFill>
              <a:srgbClr val="a1b28e"/>
            </a:solidFill>
            <a:miter/>
            <a:tailEnd len="med" type="arrow" w="med"/>
          </a:ln>
        </p:spPr>
      </p:cxnSp>
      <p:sp>
        <p:nvSpPr>
          <p:cNvPr id="128" name="TextBox 28"/>
          <p:cNvSpPr/>
          <p:nvPr/>
        </p:nvSpPr>
        <p:spPr>
          <a:xfrm>
            <a:off x="380880" y="5765760"/>
            <a:ext cx="8597880" cy="368280"/>
          </a:xfrm>
          <a:prstGeom prst="rect">
            <a:avLst/>
          </a:prstGeom>
          <a:solidFill>
            <a:srgbClr val="c4b6d9"/>
          </a:solidFill>
          <a:ln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лассификация ключевых компетенций, предложенная Хуторским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-360"/>
            <a:ext cx="8458200" cy="887400"/>
          </a:xfrm>
          <a:prstGeom prst="rect">
            <a:avLst/>
          </a:prstGeom>
          <a:noFill/>
          <a:ln w="0">
            <a:noFill/>
          </a:ln>
          <a:effectLst>
            <a:outerShdw dist="25305" dir="2388334" blurRad="0" rotWithShape="0">
              <a:srgbClr val="595959">
                <a:alpha val="71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</a:rPr>
              <a:t>Ценностно-смысловые компетенции</a:t>
            </a:r>
            <a:br>
              <a:rPr sz="2800"/>
            </a:b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Список проблемных ситуаций </a:t>
            </a:r>
            <a:endParaRPr b="1" lang="en-US" sz="2200" spc="-1" strike="noStrike">
              <a:solidFill>
                <a:srgbClr val="dd7e0e"/>
              </a:solidFill>
              <a:latin typeface="Arial"/>
            </a:endParaRPr>
          </a:p>
        </p:txBody>
      </p:sp>
      <p:sp>
        <p:nvSpPr>
          <p:cNvPr id="130" name="Номер слайда 1"/>
          <p:cNvSpPr/>
          <p:nvPr/>
        </p:nvSpPr>
        <p:spPr>
          <a:xfrm>
            <a:off x="8643960" y="6446880"/>
            <a:ext cx="46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369-86D1-4DF0-BF0E-2B52F7C6D71A}" type="slidenum">
              <a:rPr b="0" lang="ru-RU" sz="10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965160"/>
          <a:ext cx="8610480" cy="5726160"/>
        </p:xfrm>
        <a:graphic>
          <a:graphicData uri="http://schemas.openxmlformats.org/drawingml/2006/table">
            <a:tbl>
              <a:tblPr/>
              <a:tblGrid>
                <a:gridCol w="1247760"/>
                <a:gridCol w="1752480"/>
                <a:gridCol w="5610240"/>
              </a:tblGrid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3540a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3540a"/>
                          </a:solidFill>
                          <a:latin typeface="Arial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3540a"/>
                          </a:solidFill>
                          <a:latin typeface="Arial"/>
                        </a:rPr>
                        <a:t>Проблемная ситу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е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особенного в моей семье? Ты счастлив в семь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начит счастливая семья? О чем рассказал мне семейный альбо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его нужна семья? Проблема «отцов и детей». Она актуальна в наши дни? Что для тебя есть семейное счастье? Проблема разводов. Нужен ли брачный контракт? Составь вопросы для брачного контракта. В каком возрасте лучше выходить замуж/жениться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ко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й рекламу своей шко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 – место для учебы. А для чего ещ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сти приезжают бабушка с дедушкой. Чем ты их будешь угощать? Составь меню «здоровой пищи» для профилактики грипп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9:27:04Z</dcterms:created>
  <dc:creator>Wolf</dc:creator>
  <dc:description/>
  <dc:language>en-US</dc:language>
  <cp:lastModifiedBy>media01</cp:lastModifiedBy>
  <dcterms:modified xsi:type="dcterms:W3CDTF">2014-01-27T05:52:36Z</dcterms:modified>
  <cp:revision>249</cp:revision>
  <dc:subject/>
  <dc:title>Слайд 1</dc:title>
</cp:coreProperties>
</file>