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105-9A76-44A7-9437-2B48A855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38C-03DD-4911-A1BD-862569FA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0A6-3608-4519-947C-D49A1B9B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797-673C-4DBD-BBA6-AB4CD281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1C9-0F86-4E45-A6FA-560540A9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5C7-2D93-462B-949C-908BEA8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998-2CEA-4393-9388-FDC67100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3AF-F5E2-4C50-B3D2-9E98F69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76A-92DB-4B86-9E47-128FC56F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3BA-3F74-4C1E-A015-B669844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B52-4D02-4B44-9196-8554358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15B-13DF-4BF9-A564-7712237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3887-C82C-4B86-B04E-E913DB9D0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79280" y="274680"/>
            <a:ext cx="882036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3300"/>
                </a:solidFill>
                <a:latin typeface="Monotype Corsiva"/>
              </a:rPr>
              <a:t>Дмитрий Дмитриевич Шостакович   Симфония №7</a:t>
            </a:r>
            <a:br>
              <a:rPr sz="7200"/>
            </a:br>
            <a:r>
              <a:rPr b="0" lang="ru-RU" sz="7200" spc="-1" strike="noStrike">
                <a:solidFill>
                  <a:srgbClr val="663300"/>
                </a:solidFill>
                <a:latin typeface="Monotype Corsiva"/>
              </a:rPr>
              <a:t>«Ленинградская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822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Дом Ради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Итальянская улица, дом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rcRect l="0" t="6966" r="0" b="7559"/>
          <a:stretch/>
        </p:blipFill>
        <p:spPr>
          <a:xfrm>
            <a:off x="914400" y="1600200"/>
            <a:ext cx="7365960" cy="4721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9144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2d00"/>
                </a:solidFill>
                <a:latin typeface="Monotype Corsiva"/>
              </a:rPr>
              <a:t>Карл Ильич Элиас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2d00"/>
                </a:solidFill>
                <a:latin typeface="Monotype Corsiva"/>
              </a:rPr>
              <a:t>(1907-1977)</a:t>
            </a:r>
            <a:br>
              <a:rPr sz="2400"/>
            </a:br>
            <a:r>
              <a:rPr b="1" lang="ru-RU" sz="2000" spc="-1" strike="noStrike">
                <a:solidFill>
                  <a:srgbClr val="5a2d00"/>
                </a:solidFill>
                <a:latin typeface="Times New Roman"/>
              </a:rPr>
              <a:t>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rcRect l="0" t="0" r="6085" b="0"/>
          <a:stretch/>
        </p:blipFill>
        <p:spPr>
          <a:xfrm>
            <a:off x="2651040" y="2209680"/>
            <a:ext cx="3971880" cy="4191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83" name="Управляющая кнопка: возврат 10"/>
          <p:cNvSpPr/>
          <p:nvPr/>
        </p:nvSpPr>
        <p:spPr>
          <a:xfrm>
            <a:off x="8712360" y="64198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0" y="990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Times New Roman"/>
              </a:rPr>
              <a:t>Большой зал Филармо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Times New Roman"/>
              </a:rPr>
              <a:t>Михайловская улица, дом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1-t_13_1"/>
          <p:cNvPicPr/>
          <p:nvPr/>
        </p:nvPicPr>
        <p:blipFill>
          <a:blip r:embed="rId2"/>
          <a:srcRect l="0" t="6008" r="0" b="5658"/>
          <a:stretch/>
        </p:blipFill>
        <p:spPr>
          <a:xfrm>
            <a:off x="1139760" y="1727280"/>
            <a:ext cx="6937560" cy="4597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990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Афиша в блокадном Ленинград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1mage"/>
          <p:cNvPicPr/>
          <p:nvPr/>
        </p:nvPicPr>
        <p:blipFill>
          <a:blip r:embed="rId2"/>
          <a:stretch/>
        </p:blipFill>
        <p:spPr>
          <a:xfrm>
            <a:off x="914400" y="1525680"/>
            <a:ext cx="7416720" cy="46465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1050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Программа конц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rcRect l="4271" t="988" r="6523" b="5443"/>
          <a:stretch/>
        </p:blipFill>
        <p:spPr>
          <a:xfrm>
            <a:off x="1143000" y="1447920"/>
            <a:ext cx="7129440" cy="4897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1050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Программа конц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2"/>
          <a:srcRect l="4475" t="2067" r="7107" b="7450"/>
          <a:stretch/>
        </p:blipFill>
        <p:spPr>
          <a:xfrm>
            <a:off x="1066680" y="1471680"/>
            <a:ext cx="7086600" cy="48798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6b9a9778b99e7c95d90e60cbdef"/>
          <p:cNvPicPr/>
          <p:nvPr/>
        </p:nvPicPr>
        <p:blipFill>
          <a:blip r:embed="rId2"/>
          <a:srcRect l="43484" t="0" r="-658" b="0"/>
          <a:stretch/>
        </p:blipFill>
        <p:spPr>
          <a:xfrm>
            <a:off x="990720" y="1119240"/>
            <a:ext cx="3714480" cy="5052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98" name="Rectangle 7"/>
          <p:cNvSpPr/>
          <p:nvPr/>
        </p:nvSpPr>
        <p:spPr>
          <a:xfrm>
            <a:off x="5003640" y="990720"/>
            <a:ext cx="3313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«Нашей борьбе с фашизмом, нашей грядущей победе над врагом, моему родному городу - Ленинграду  я посвящаю свою 7-ю симфо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Д.Шостак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974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Times New Roman"/>
              </a:rPr>
              <a:t>Генеральная репетиция Седьмой симф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Times New Roman"/>
              </a:rPr>
              <a:t>Дирижер – К.Элиасберг. Ленинград. Август 194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rcRect l="3584" t="0" r="2601" b="20634"/>
          <a:stretch/>
        </p:blipFill>
        <p:spPr>
          <a:xfrm>
            <a:off x="838080" y="1793880"/>
            <a:ext cx="7534440" cy="4226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Горизонтальный свиток 6"/>
          <p:cNvSpPr/>
          <p:nvPr/>
        </p:nvSpPr>
        <p:spPr>
          <a:xfrm>
            <a:off x="2209680" y="1062000"/>
            <a:ext cx="4824360" cy="122400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9 августа 1942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9640" y="2637000"/>
            <a:ext cx="7993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В Большом зале Ленинградской филармонии состоялась премьера Седьмой симфонии Д.Д. Шостакович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возврат 4"/>
          <p:cNvSpPr/>
          <p:nvPr/>
        </p:nvSpPr>
        <p:spPr>
          <a:xfrm>
            <a:off x="8712360" y="64198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2066760" y="1050840"/>
            <a:ext cx="496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Академическая капелла им. М.И.Гл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набережная реки Мойки, дом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apella_big_2"/>
          <p:cNvPicPr/>
          <p:nvPr/>
        </p:nvPicPr>
        <p:blipFill>
          <a:blip r:embed="rId2"/>
          <a:stretch/>
        </p:blipFill>
        <p:spPr>
          <a:xfrm>
            <a:off x="1219320" y="1752480"/>
            <a:ext cx="6858000" cy="4579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9" name="Picture 7" descr="movie-projector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458200" y="5638680"/>
            <a:ext cx="395280" cy="371520"/>
          </a:xfrm>
          <a:prstGeom prst="rect">
            <a:avLst/>
          </a:prstGeom>
          <a:ln w="0">
            <a:noFill/>
          </a:ln>
        </p:spPr>
      </p:pic>
      <p:sp>
        <p:nvSpPr>
          <p:cNvPr id="110" name="Управляющая кнопка: возврат 4"/>
          <p:cNvSpPr/>
          <p:nvPr/>
        </p:nvSpPr>
        <p:spPr>
          <a:xfrm>
            <a:off x="8712360" y="64198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00"/>
                </a:solidFill>
                <a:latin typeface="Monotype Corsiva"/>
              </a:rPr>
              <a:t>Дмитрий Дмитриевич Шостакович</a:t>
            </a:r>
            <a:br>
              <a:rPr sz="3200"/>
            </a:br>
            <a:r>
              <a:rPr b="0" lang="en-US" sz="2400" spc="-1" strike="noStrike">
                <a:solidFill>
                  <a:srgbClr val="5a2d00"/>
                </a:solidFill>
                <a:latin typeface="Monotype Corsiva"/>
              </a:rPr>
              <a:t>(1906-197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6b9a9778b99e7c95d90e60cbdef"/>
          <p:cNvPicPr/>
          <p:nvPr/>
        </p:nvPicPr>
        <p:blipFill>
          <a:blip r:embed="rId2"/>
          <a:srcRect l="259" t="0" r="-658" b="0"/>
          <a:stretch/>
        </p:blipFill>
        <p:spPr>
          <a:xfrm>
            <a:off x="1752480" y="1854360"/>
            <a:ext cx="5867640" cy="4546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46" name="Picture 7" descr="movie-projector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932600" y="6058080"/>
            <a:ext cx="395280" cy="371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2893320" y="974880"/>
            <a:ext cx="37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атральная площадь, дом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2"/>
          <a:stretch/>
        </p:blipFill>
        <p:spPr>
          <a:xfrm>
            <a:off x="990720" y="1704960"/>
            <a:ext cx="7162560" cy="46195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116000" y="944640"/>
            <a:ext cx="68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Валерий Гергиев</a:t>
            </a:r>
            <a:br>
              <a:rPr sz="2400"/>
            </a:br>
            <a:r>
              <a:rPr b="1" lang="ru-RU" sz="2000" spc="-1" strike="noStrike">
                <a:solidFill>
                  <a:srgbClr val="6a3a1c"/>
                </a:solidFill>
                <a:latin typeface="Times New Roman"/>
              </a:rPr>
              <a:t>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6629400" cy="4417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Горизонтальный свиток 6"/>
          <p:cNvSpPr/>
          <p:nvPr/>
        </p:nvSpPr>
        <p:spPr>
          <a:xfrm>
            <a:off x="2057400" y="1062000"/>
            <a:ext cx="5257800" cy="122400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 августа 2008 г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62120" y="2835360"/>
            <a:ext cx="7765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Фрагмент первой части симфонии был исполнен в разрушенном грузинскими войсками южноосетинском городе Цхинвале оркестром Мариинского театра под управлением Валерия Гергие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movie-projector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910640" y="6019920"/>
            <a:ext cx="39528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55080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тор проекта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ей категории Президент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амятник%20Шостаковичу" descr=""/>
          <p:cNvPicPr/>
          <p:nvPr/>
        </p:nvPicPr>
        <p:blipFill>
          <a:blip r:embed="rId2"/>
          <a:stretch/>
        </p:blipFill>
        <p:spPr>
          <a:xfrm>
            <a:off x="3048120" y="2465280"/>
            <a:ext cx="2950920" cy="3935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68580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a2d00"/>
                </a:solidFill>
                <a:latin typeface="Monotype Corsiva"/>
              </a:rPr>
              <a:t>СИМФО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66680" y="266688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a2d00"/>
                </a:solidFill>
                <a:latin typeface="Times New Roman"/>
              </a:rPr>
              <a:t>-   (греческое symphōnía - созвучие), музыкальное   произведение      для симфонического оркестра.  Обычно состоит из 4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82720" y="1069920"/>
            <a:ext cx="85662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Times New Roman"/>
              </a:rPr>
              <a:t>1 часть «Нашествие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Times New Roman"/>
              </a:rPr>
              <a:t>2 часть «Человек и война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Times New Roman"/>
              </a:rPr>
              <a:t>3 часть «Родина в годину испытаний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Times New Roman"/>
              </a:rPr>
              <a:t>4 часть  «Через борьбу – к победе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558120" cy="534672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20"/>
          <p:cNvCxnSpPr/>
          <p:nvPr/>
        </p:nvCxnSpPr>
        <p:spPr>
          <a:xfrm flipV="1">
            <a:off x="3048120" y="1371240"/>
            <a:ext cx="1273680" cy="28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TextBox 11"/>
          <p:cNvSpPr/>
          <p:nvPr/>
        </p:nvSpPr>
        <p:spPr>
          <a:xfrm>
            <a:off x="762120" y="1219320"/>
            <a:ext cx="2327040" cy="916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Дом Бенуа, Большая Пушкарская ули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дом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Прямая со стрелкой 24"/>
          <p:cNvCxnSpPr/>
          <p:nvPr/>
        </p:nvCxnSpPr>
        <p:spPr>
          <a:xfrm>
            <a:off x="3047760" y="3657240"/>
            <a:ext cx="1921320" cy="33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10"/>
          <p:cNvCxnSpPr/>
          <p:nvPr/>
        </p:nvCxnSpPr>
        <p:spPr>
          <a:xfrm flipH="1">
            <a:off x="5790600" y="3657240"/>
            <a:ext cx="1369080" cy="600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6"/>
          <p:cNvCxnSpPr/>
          <p:nvPr/>
        </p:nvCxnSpPr>
        <p:spPr>
          <a:xfrm flipH="1" flipV="1">
            <a:off x="6095520" y="4495320"/>
            <a:ext cx="1391040" cy="426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6"/>
          <p:cNvCxnSpPr/>
          <p:nvPr/>
        </p:nvCxnSpPr>
        <p:spPr>
          <a:xfrm>
            <a:off x="3048120" y="5410080"/>
            <a:ext cx="52920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1"/>
          <p:cNvSpPr/>
          <p:nvPr/>
        </p:nvSpPr>
        <p:spPr>
          <a:xfrm>
            <a:off x="762120" y="3200400"/>
            <a:ext cx="2327040" cy="916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Капелла им. М.И.Глинки наб.Фонтанки дом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762120" y="4952880"/>
            <a:ext cx="2327040" cy="916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Мариинский театр Театральная площадь, до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6121440" y="2421000"/>
            <a:ext cx="233820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Times New Roman"/>
              </a:rPr>
              <a:t>Большой зал Филармонии, Михайловская улица, до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95880" y="4952880"/>
            <a:ext cx="2325960" cy="916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</a:rPr>
              <a:t>Дом Радио, Итальянская улица, дом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46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Дом Бену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a2d00"/>
                </a:solidFill>
                <a:latin typeface="Times New Roman"/>
              </a:rPr>
              <a:t>Большая Пушкарская улица, дом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"/>
          <p:cNvPicPr/>
          <p:nvPr/>
        </p:nvPicPr>
        <p:blipFill>
          <a:blip r:embed="rId2"/>
          <a:stretch/>
        </p:blipFill>
        <p:spPr>
          <a:xfrm>
            <a:off x="990720" y="1460520"/>
            <a:ext cx="7200720" cy="478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-520560" y="762120"/>
            <a:ext cx="905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емориальная до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 горельефом Д. Д. Шостаковича, установленная со стор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ольшой Пушкарской у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2"/>
          <a:srcRect l="0" t="7283" r="0" b="8976"/>
          <a:stretch/>
        </p:blipFill>
        <p:spPr>
          <a:xfrm>
            <a:off x="2590920" y="1752480"/>
            <a:ext cx="4162320" cy="464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762120" y="762120"/>
            <a:ext cx="78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Times New Roman"/>
              </a:rPr>
              <a:t>Бюст Д.Д.Шостакови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Times New Roman"/>
              </a:rPr>
              <a:t>в курдонёре, открывающемся на Кронверкскую у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rcRect l="0" t="10079" r="0" b="0"/>
          <a:stretch/>
        </p:blipFill>
        <p:spPr>
          <a:xfrm>
            <a:off x="2597040" y="1447920"/>
            <a:ext cx="4151520" cy="4978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Горизонтальный свиток 6"/>
          <p:cNvSpPr/>
          <p:nvPr/>
        </p:nvSpPr>
        <p:spPr>
          <a:xfrm>
            <a:off x="2362320" y="1062000"/>
            <a:ext cx="4535280" cy="122400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 марта 1942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09480" y="2209680"/>
            <a:ext cx="7848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542a00"/>
                </a:solidFill>
                <a:latin typeface="Times New Roman"/>
              </a:rPr>
              <a:t>В Куйбышеве, на сцене Театра оперы и балета, Симфония №7 Д.Д.Шостаковича была впервые исполнена</a:t>
            </a:r>
            <a:r>
              <a:rPr b="0" lang="en-US" sz="3600" spc="-1" strike="noStrike">
                <a:solidFill>
                  <a:srgbClr val="542a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542a00"/>
                </a:solidFill>
                <a:latin typeface="Times New Roman"/>
              </a:rPr>
              <a:t>оркестром Большого театра Союза СССР под управлением С. А. Самосуда.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возврат 4"/>
          <p:cNvSpPr/>
          <p:nvPr/>
        </p:nvSpPr>
        <p:spPr>
          <a:xfrm>
            <a:off x="8610480" y="6324480"/>
            <a:ext cx="493920" cy="457200"/>
          </a:xfrm>
          <a:custGeom>
            <a:avLst/>
            <a:gdLst>
              <a:gd name="textAreaLeft" fmla="*/ 29520 w 493920"/>
              <a:gd name="textAreaRight" fmla="*/ 464400 w 493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333" h="21600">
                <a:moveTo>
                  <a:pt x="0" y="0"/>
                </a:moveTo>
                <a:lnTo>
                  <a:pt x="23333" y="0"/>
                </a:lnTo>
                <a:lnTo>
                  <a:pt x="23333" y="21600"/>
                </a:lnTo>
                <a:lnTo>
                  <a:pt x="0" y="21600"/>
                </a:lnTo>
                <a:close/>
              </a:path>
              <a:path fill="lightenLess" w="23333" h="21600">
                <a:moveTo>
                  <a:pt x="0" y="0"/>
                </a:moveTo>
                <a:lnTo>
                  <a:pt x="23333" y="0"/>
                </a:lnTo>
                <a:lnTo>
                  <a:pt x="21933" y="1400"/>
                </a:lnTo>
                <a:lnTo>
                  <a:pt x="1400" y="1400"/>
                </a:lnTo>
                <a:close/>
              </a:path>
              <a:path fill="darken" w="23333" h="21600">
                <a:moveTo>
                  <a:pt x="23333" y="0"/>
                </a:moveTo>
                <a:lnTo>
                  <a:pt x="23333" y="21600"/>
                </a:lnTo>
                <a:lnTo>
                  <a:pt x="21933" y="20200"/>
                </a:lnTo>
                <a:lnTo>
                  <a:pt x="21933" y="1400"/>
                </a:lnTo>
                <a:close/>
              </a:path>
              <a:path fill="darkenLess" w="23333" h="21600">
                <a:moveTo>
                  <a:pt x="23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33" y="20200"/>
                </a:lnTo>
                <a:close/>
              </a:path>
              <a:path fill="lighten" w="23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33" h="21600">
                <a:moveTo>
                  <a:pt x="4660" y="7493"/>
                </a:moveTo>
                <a:lnTo>
                  <a:pt x="8168" y="7493"/>
                </a:lnTo>
                <a:lnTo>
                  <a:pt x="8168" y="12828"/>
                </a:lnTo>
                <a:cubicBezTo>
                  <a:pt x="8168" y="13751"/>
                  <a:pt x="8969" y="14482"/>
                  <a:pt x="10004" y="14482"/>
                </a:cubicBezTo>
                <a:lnTo>
                  <a:pt x="11667" y="14482"/>
                </a:lnTo>
                <a:cubicBezTo>
                  <a:pt x="12702" y="14482"/>
                  <a:pt x="13503" y="13751"/>
                  <a:pt x="13503" y="12828"/>
                </a:cubicBezTo>
                <a:lnTo>
                  <a:pt x="13503" y="7493"/>
                </a:lnTo>
                <a:lnTo>
                  <a:pt x="11667" y="7493"/>
                </a:lnTo>
                <a:lnTo>
                  <a:pt x="15174" y="3985"/>
                </a:lnTo>
                <a:lnTo>
                  <a:pt x="18847" y="7493"/>
                </a:lnTo>
                <a:lnTo>
                  <a:pt x="17011" y="7493"/>
                </a:lnTo>
                <a:lnTo>
                  <a:pt x="17011" y="12828"/>
                </a:lnTo>
                <a:cubicBezTo>
                  <a:pt x="17011" y="15596"/>
                  <a:pt x="14434" y="18155"/>
                  <a:pt x="11667" y="18155"/>
                </a:cubicBezTo>
                <a:lnTo>
                  <a:pt x="10004" y="18155"/>
                </a:lnTo>
                <a:cubicBezTo>
                  <a:pt x="7237" y="18155"/>
                  <a:pt x="4660" y="15596"/>
                  <a:pt x="4660" y="12828"/>
                </a:cubicBezTo>
                <a:close/>
              </a:path>
            </a:pathLst>
          </a:custGeom>
          <a:solidFill>
            <a:srgbClr val="ff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8:36:42Z</dcterms:created>
  <dc:creator>Татьяна Федоровна</dc:creator>
  <dc:description/>
  <dc:language>en-US</dc:language>
  <cp:lastModifiedBy>Наташа</cp:lastModifiedBy>
  <dcterms:modified xsi:type="dcterms:W3CDTF">2014-01-18T19:34:53Z</dcterms:modified>
  <cp:revision>88</cp:revision>
  <dc:subject/>
  <dc:title>Государственная филармония им. Д.Д.Шостаковича</dc:title>
</cp:coreProperties>
</file>