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1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6.gif" ContentType="image/gif"/>
  <Override PartName="/ppt/media/image15.png" ContentType="image/png"/>
  <Override PartName="/ppt/media/image24.png" ContentType="image/png"/>
  <Override PartName="/ppt/media/image19.gif" ContentType="image/gif"/>
  <Override PartName="/ppt/media/image1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F57-4027-4530-90E8-0A7281B7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96B-A369-4E1F-B00F-CF695BC9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D84-C318-4D01-AC17-EB483D44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B0C-607C-4BE5-B482-4F3C111B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71F-0E12-4944-B467-7946B6DD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790-D2EF-4D23-B52A-97C367A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7DA-DB8D-4779-A277-5047AF0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372-5B71-4DF5-A2E9-7BE927B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337-9507-4DA3-AF80-5C55AFB6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F70-CD70-46C0-94A5-6DA1095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DB8-3180-43B9-B63F-497807B4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B5A-0F0B-45CE-A82A-3A476C1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60C9-3B0E-4814-8BBB-59071F76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" Target="slide3.xm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otodes.ru/download/4612" TargetMode="External"/><Relationship Id="rId2" Type="http://schemas.openxmlformats.org/officeDocument/2006/relationships/hyperlink" Target="http://ped-kopilka.ru/poslovicy-i-pogovorki/poslovicy-i-pogovorki-o-mame.html" TargetMode="External"/><Relationship Id="rId3" Type="http://schemas.openxmlformats.org/officeDocument/2006/relationships/hyperlink" Target="http://ped-kopilka.ru/poslovicy-i-pogovorki/poslovicy-i-pogovorki-o-mame.html" TargetMode="External"/><Relationship Id="rId4" Type="http://schemas.openxmlformats.org/officeDocument/2006/relationships/hyperlink" Target="http://ped-kopilka.ru/poslovicy-i-pogovorki/poslovicy-i-pogovorki-o-mame.html" TargetMode="External"/><Relationship Id="rId5" Type="http://schemas.openxmlformats.org/officeDocument/2006/relationships/hyperlink" Target="http://ped-kopilka.ru/poslovicy-i-pogovorki/poslovicy-i-pogovorki-o-mame.html" TargetMode="External"/><Relationship Id="rId6" Type="http://schemas.openxmlformats.org/officeDocument/2006/relationships/hyperlink" Target="http://ped-kopilka.ru/poslovicy-i-pogovorki/poslovicy-i-pogovorki-o-mame.html" TargetMode="External"/><Relationship Id="rId7" Type="http://schemas.openxmlformats.org/officeDocument/2006/relationships/hyperlink" Target="http://ped-kopilka.ru/poslovicy-i-pogovorki/poslovicy-i-pogovorki-o-mame.html" TargetMode="External"/><Relationship Id="rId8" Type="http://schemas.openxmlformats.org/officeDocument/2006/relationships/hyperlink" Target="http://ped-kopilka.ru/poslovicy-i-pogovorki/poslovicy-i-pogovorki-o-mame.html" TargetMode="External"/><Relationship Id="rId9" Type="http://schemas.openxmlformats.org/officeDocument/2006/relationships/hyperlink" Target="http://www.chitaikin.ru/dyuymovochka1.htm" TargetMode="External"/><Relationship Id="rId10" Type="http://schemas.openxmlformats.org/officeDocument/2006/relationships/hyperlink" Target="http://www.chitaikin.ru/dyuymovochka1.htm" TargetMode="External"/><Relationship Id="rId11" Type="http://schemas.openxmlformats.org/officeDocument/2006/relationships/hyperlink" Target="http://www.web-resurs.ru/study/links7237.html" TargetMode="External"/><Relationship Id="rId12" Type="http://schemas.openxmlformats.org/officeDocument/2006/relationships/hyperlink" Target="http://ayat-canto.ru/music_pictures.html" TargetMode="External"/><Relationship Id="rId13" Type="http://schemas.openxmlformats.org/officeDocument/2006/relationships/hyperlink" Target="http://ayat-canto.ru/music_pictures.html" TargetMode="External"/><Relationship Id="rId14" Type="http://schemas.openxmlformats.org/officeDocument/2006/relationships/hyperlink" Target="http://ayat-canto.ru/music_pictures.html" TargetMode="External"/><Relationship Id="rId15" Type="http://schemas.openxmlformats.org/officeDocument/2006/relationships/hyperlink" Target="http://ayat-canto.ru/music_pictures.html" TargetMode="External"/><Relationship Id="rId16" Type="http://schemas.openxmlformats.org/officeDocument/2006/relationships/hyperlink" Target="http://ayat-canto.ru/music_pictures.html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4.xml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gi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3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image" Target="../media/image10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15920"/>
            <a:ext cx="5257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бюджет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«Поярков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981000"/>
            <a:ext cx="65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Игровая программ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2492280"/>
            <a:ext cx="748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Мамы всякие важны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300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Бакума Светла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. Поярково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050920" y="18900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790880" cy="66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195640" y="26028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8000" y="1628640"/>
            <a:ext cx="5362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Родных много, а мать..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03640" y="3141720"/>
            <a:ext cx="28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однее всего.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2565360"/>
            <a:ext cx="273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илее всего.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03640" y="371628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веселее всех.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195640" y="26028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92360" y="2276640"/>
            <a:ext cx="59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Сердце матери лучше солнца..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76720" y="3357720"/>
            <a:ext cx="15829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грее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050920" y="3357720"/>
            <a:ext cx="194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жале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124000" y="18900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63640" y="378936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835280" y="1484280"/>
            <a:ext cx="6696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С матерью жить -    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                           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не знать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195640" y="2349360"/>
            <a:ext cx="395280" cy="43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195640" y="3068640"/>
            <a:ext cx="395280" cy="43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4328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2997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и горя,  ни ск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195640" y="26028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5445000"/>
            <a:ext cx="1081080" cy="64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692280"/>
            <a:ext cx="1224000" cy="647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и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4508640"/>
            <a:ext cx="1440000" cy="647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руж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2565360"/>
            <a:ext cx="1008000" cy="647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628640"/>
            <a:ext cx="1368360" cy="64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500280"/>
            <a:ext cx="1440000" cy="64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т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12205800">
            <a:off x="6156000" y="126756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33 L 0.18507 -0.50926 E">
                                      <p:cBhvr>
                                        <p:cTn id="15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0.33472 0.18379 E">
                                      <p:cBhvr>
                                        <p:cTn id="16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1574 L 0.48855 -0.37269 E">
                                      <p:cBhvr>
                                        <p:cTn id="16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28351 0.08403 E">
                                      <p:cBhvr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40955 0.2206 E">
                                      <p:cBhvr>
                                        <p:cTn id="17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0.59062 -0.05255 E">
                                      <p:cBhvr>
                                        <p:cTn id="18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968640" cy="472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59280" y="1125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341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Мама, Чук и Гек собирались в гости к папе. Вещи были собраны, все дела закончены. Мать уехала на вокзал покупать билеты на завтрашний поез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63640" y="11592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итературная гостиная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429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Аркадий Гай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«Чук и Г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968640" cy="4724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564000" y="1268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чего я не девчо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1628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Я бы маме так помо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989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сразу бы сказ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3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Молодчина ты, сыно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35772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Эдуард Усп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«Если был бы я девчон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35280" y="115920"/>
            <a:ext cx="56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итературная гостиная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4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24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96864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763640" y="11592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итературная гостиная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1197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приходит с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снимает 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1916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проходит в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2276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глядит к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21300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Эдуард Усп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«Разг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24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968640" cy="4724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1763640" y="11592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итературная гостиная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105264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 рыбу мать на реке сама ловила. Тяжело ей было, а дети ей не помогали. От жизни такой тяжело заболела мать. Лежит она в чуме, детей зовёт, просит: «Детки, пересохло у меня в горле, принесите мне водички!» Не один, не два раза просила мать. Не идут дети за водой. Наконец захотел старший есть, заглянул в чум, а мать посреди чума стоит, малицу надевает. И вдруг малица перьями покрыла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933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енецкая сказка   «Кук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851280" cy="472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763640" y="11592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итературная гостиная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981000"/>
            <a:ext cx="52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а-была женщина; очень ей хотелось иметь ребенка, да где его взять? И вот она отправи-лась к одной старой колдунье и сказала 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Мне так хочется иметь ребеночка; не ска-жешь ли ты, где мне его дост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Отчего же! - сказала колдунья. - Вот тебе ячменное зерно; это не простое зерно, не из тех, что крестьяне сеют в поле или бросают курам; посади-ка его в цветочный горшок - увидишь, что буд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378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Ханс-Кристиан Андерсен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51664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558972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Чья это мама?                                         Из какого мультфиль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1989" r="5697" b="0"/>
          <a:stretch/>
        </p:blipFill>
        <p:spPr>
          <a:xfrm>
            <a:off x="2268360" y="1052640"/>
            <a:ext cx="4824720" cy="3531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63640" y="692280"/>
            <a:ext cx="5688000" cy="4176720"/>
          </a:xfrm>
          <a:custGeom>
            <a:avLst/>
            <a:gdLst>
              <a:gd name="textAreaLeft" fmla="*/ 281880 w 5688000"/>
              <a:gd name="textAreaRight" fmla="*/ 5406120 w 5688000"/>
              <a:gd name="textAreaTop" fmla="*/ 281880 h 4176720"/>
              <a:gd name="textAreaBottom" fmla="*/ 3894840 h 4176720"/>
            </a:gdLst>
            <a:ahLst/>
            <a:rect l="textAreaLeft" t="textAreaTop" r="textAreaRight" b="textAreaBottom"/>
            <a:pathLst>
              <a:path w="29415" h="21600">
                <a:moveTo>
                  <a:pt x="0" y="0"/>
                </a:moveTo>
                <a:lnTo>
                  <a:pt x="0" y="21600"/>
                </a:lnTo>
                <a:lnTo>
                  <a:pt x="29415" y="21600"/>
                </a:lnTo>
                <a:lnTo>
                  <a:pt x="29415" y="0"/>
                </a:lnTo>
                <a:close/>
                <a:moveTo>
                  <a:pt x="1458" y="1458"/>
                </a:moveTo>
                <a:lnTo>
                  <a:pt x="1458" y="20142"/>
                </a:lnTo>
                <a:lnTo>
                  <a:pt x="27957" y="20142"/>
                </a:lnTo>
                <a:lnTo>
                  <a:pt x="27957" y="1458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Наш вернис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51664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5589720"/>
            <a:ext cx="5329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Медвед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мультфильм    «У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8532720" y="5877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67330" t="60512" r="15349" b="22709"/>
          <a:stretch/>
        </p:blipFill>
        <p:spPr>
          <a:xfrm>
            <a:off x="7559640" y="570708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430360"/>
            <a:ext cx="4427640" cy="442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 action="ppaction://hlinksldjump"/>
          </p:cNvPr>
          <p:cNvPicPr/>
          <p:nvPr/>
        </p:nvPicPr>
        <p:blipFill>
          <a:blip r:embed="rId6"/>
          <a:srcRect l="30784" t="6128" r="19936" b="18162"/>
          <a:stretch/>
        </p:blipFill>
        <p:spPr>
          <a:xfrm>
            <a:off x="6156360" y="2708280"/>
            <a:ext cx="172872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80000" y="177336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72360" y="333360"/>
            <a:ext cx="259236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95280" y="476280"/>
            <a:ext cx="17272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896000" cy="356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4292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Наш вернис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836640"/>
            <a:ext cx="5832360" cy="4464000"/>
          </a:xfrm>
          <a:custGeom>
            <a:avLst/>
            <a:gdLst>
              <a:gd name="textAreaLeft" fmla="*/ 301320 w 5832360"/>
              <a:gd name="textAreaRight" fmla="*/ 5531040 w 5832360"/>
              <a:gd name="textAreaTop" fmla="*/ 301320 h 4464000"/>
              <a:gd name="textAreaBottom" fmla="*/ 4162680 h 4464000"/>
            </a:gdLst>
            <a:ahLst/>
            <a:rect l="textAreaLeft" t="textAreaTop" r="textAreaRight" b="textAreaBottom"/>
            <a:pathLst>
              <a:path w="28221" h="21600">
                <a:moveTo>
                  <a:pt x="0" y="0"/>
                </a:moveTo>
                <a:lnTo>
                  <a:pt x="0" y="21600"/>
                </a:lnTo>
                <a:lnTo>
                  <a:pt x="28221" y="21600"/>
                </a:lnTo>
                <a:lnTo>
                  <a:pt x="28221" y="0"/>
                </a:lnTo>
                <a:close/>
                <a:moveTo>
                  <a:pt x="1458" y="1458"/>
                </a:moveTo>
                <a:lnTo>
                  <a:pt x="1458" y="20142"/>
                </a:lnTo>
                <a:lnTo>
                  <a:pt x="26763" y="20142"/>
                </a:lnTo>
                <a:lnTo>
                  <a:pt x="26763" y="1458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566100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Чья это мама?                                         Из какого мультфиль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5661000"/>
            <a:ext cx="5329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ма Мал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ультфильм    «Малыш и Карлс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8532720" y="5877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Наш вернис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5280" y="558972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Чья это мама?                                         Из какого мультфиль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5661000"/>
            <a:ext cx="5329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Обезь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мультфильм    «Осторожно, обезьян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896000" cy="3570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35280" y="836640"/>
            <a:ext cx="5832360" cy="4464000"/>
          </a:xfrm>
          <a:custGeom>
            <a:avLst/>
            <a:gdLst>
              <a:gd name="textAreaLeft" fmla="*/ 301320 w 5832360"/>
              <a:gd name="textAreaRight" fmla="*/ 5531040 w 5832360"/>
              <a:gd name="textAreaTop" fmla="*/ 301320 h 4464000"/>
              <a:gd name="textAreaBottom" fmla="*/ 4162680 h 4464000"/>
            </a:gdLst>
            <a:ahLst/>
            <a:rect l="textAreaLeft" t="textAreaTop" r="textAreaRight" b="textAreaBottom"/>
            <a:pathLst>
              <a:path w="28221" h="21600">
                <a:moveTo>
                  <a:pt x="0" y="0"/>
                </a:moveTo>
                <a:lnTo>
                  <a:pt x="0" y="21600"/>
                </a:lnTo>
                <a:lnTo>
                  <a:pt x="28221" y="21600"/>
                </a:lnTo>
                <a:lnTo>
                  <a:pt x="28221" y="0"/>
                </a:lnTo>
                <a:close/>
                <a:moveTo>
                  <a:pt x="1458" y="1458"/>
                </a:moveTo>
                <a:lnTo>
                  <a:pt x="1458" y="20142"/>
                </a:lnTo>
                <a:lnTo>
                  <a:pt x="26763" y="20142"/>
                </a:lnTo>
                <a:lnTo>
                  <a:pt x="26763" y="1458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8532720" y="5877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5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Наш вернис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5280" y="558972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Чья это мама?                                         Из какого мультфиль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558972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5661000"/>
            <a:ext cx="5329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ма крошки Е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мультфильм    «Крошка Ен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896000" cy="3801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835280" y="836640"/>
            <a:ext cx="5832360" cy="4464000"/>
          </a:xfrm>
          <a:custGeom>
            <a:avLst/>
            <a:gdLst>
              <a:gd name="textAreaLeft" fmla="*/ 301320 w 5832360"/>
              <a:gd name="textAreaRight" fmla="*/ 5531040 w 5832360"/>
              <a:gd name="textAreaTop" fmla="*/ 301320 h 4464000"/>
              <a:gd name="textAreaBottom" fmla="*/ 4162680 h 4464000"/>
            </a:gdLst>
            <a:ahLst/>
            <a:rect l="textAreaLeft" t="textAreaTop" r="textAreaRight" b="textAreaBottom"/>
            <a:pathLst>
              <a:path w="28221" h="21600">
                <a:moveTo>
                  <a:pt x="0" y="0"/>
                </a:moveTo>
                <a:lnTo>
                  <a:pt x="0" y="21600"/>
                </a:lnTo>
                <a:lnTo>
                  <a:pt x="28221" y="21600"/>
                </a:lnTo>
                <a:lnTo>
                  <a:pt x="28221" y="0"/>
                </a:lnTo>
                <a:close/>
                <a:moveTo>
                  <a:pt x="1458" y="1458"/>
                </a:moveTo>
                <a:lnTo>
                  <a:pt x="1458" y="20142"/>
                </a:lnTo>
                <a:lnTo>
                  <a:pt x="26763" y="20142"/>
                </a:lnTo>
                <a:lnTo>
                  <a:pt x="26763" y="1458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8532720" y="5877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551664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558972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Чья это мама?                                         Из какого мультфиль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836640"/>
            <a:ext cx="5832360" cy="4464000"/>
          </a:xfrm>
          <a:custGeom>
            <a:avLst/>
            <a:gdLst>
              <a:gd name="textAreaLeft" fmla="*/ 301320 w 5832360"/>
              <a:gd name="textAreaRight" fmla="*/ 5531040 w 5832360"/>
              <a:gd name="textAreaTop" fmla="*/ 301320 h 4464000"/>
              <a:gd name="textAreaBottom" fmla="*/ 4162680 h 4464000"/>
            </a:gdLst>
            <a:ahLst/>
            <a:rect l="textAreaLeft" t="textAreaTop" r="textAreaRight" b="textAreaBottom"/>
            <a:pathLst>
              <a:path w="28221" h="21600">
                <a:moveTo>
                  <a:pt x="0" y="0"/>
                </a:moveTo>
                <a:lnTo>
                  <a:pt x="0" y="21600"/>
                </a:lnTo>
                <a:lnTo>
                  <a:pt x="28221" y="21600"/>
                </a:lnTo>
                <a:lnTo>
                  <a:pt x="28221" y="0"/>
                </a:lnTo>
                <a:close/>
                <a:moveTo>
                  <a:pt x="1458" y="1458"/>
                </a:moveTo>
                <a:lnTo>
                  <a:pt x="1458" y="20142"/>
                </a:lnTo>
                <a:lnTo>
                  <a:pt x="26763" y="20142"/>
                </a:lnTo>
                <a:lnTo>
                  <a:pt x="26763" y="1458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Наш вернис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5516640"/>
            <a:ext cx="8642160" cy="1079280"/>
          </a:xfrm>
          <a:custGeom>
            <a:avLst/>
            <a:gdLst>
              <a:gd name="textAreaLeft" fmla="*/ 1324440 w 8642160"/>
              <a:gd name="textAreaRight" fmla="*/ 7317720 w 8642160"/>
              <a:gd name="textAreaTop" fmla="*/ 0 h 1079280"/>
              <a:gd name="textAreaBottom" fmla="*/ 943560 h 1079280"/>
            </a:gdLst>
            <a:ahLst/>
            <a:rect l="textAreaLeft" t="textAreaTop" r="textAreaRight" b="textAreaBottom"/>
            <a:pathLst>
              <a:path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1260"/>
                  <a:pt x="5591" y="21600"/>
                  <a:pt x="5171" y="21600"/>
                </a:cubicBezTo>
                <a:lnTo>
                  <a:pt x="0" y="21600"/>
                </a:lnTo>
                <a:lnTo>
                  <a:pt x="2750" y="12159"/>
                </a:lnTo>
                <a:lnTo>
                  <a:pt x="0" y="2718"/>
                </a:lnTo>
                <a:lnTo>
                  <a:pt x="3311" y="2718"/>
                </a:lnTo>
                <a:lnTo>
                  <a:pt x="3311" y="680"/>
                </a:lnTo>
                <a:cubicBezTo>
                  <a:pt x="3311" y="340"/>
                  <a:pt x="3731" y="0"/>
                  <a:pt x="4151" y="0"/>
                </a:cubicBezTo>
                <a:lnTo>
                  <a:pt x="17449" y="0"/>
                </a:lnTo>
                <a:cubicBezTo>
                  <a:pt x="17869" y="0"/>
                  <a:pt x="18289" y="340"/>
                  <a:pt x="18289" y="680"/>
                </a:cubicBezTo>
                <a:lnTo>
                  <a:pt x="18289" y="2718"/>
                </a:lnTo>
                <a:lnTo>
                  <a:pt x="21600" y="2718"/>
                </a:lnTo>
                <a:lnTo>
                  <a:pt x="18850" y="12159"/>
                </a:lnTo>
                <a:lnTo>
                  <a:pt x="21600" y="21600"/>
                </a:lnTo>
                <a:lnTo>
                  <a:pt x="16429" y="21600"/>
                </a:lnTo>
                <a:cubicBezTo>
                  <a:pt x="16009" y="21600"/>
                  <a:pt x="15589" y="21260"/>
                  <a:pt x="15589" y="20921"/>
                </a:cubicBezTo>
                <a:lnTo>
                  <a:pt x="15589" y="18882"/>
                </a:lnTo>
                <a:close/>
              </a:path>
              <a:path fill="darkenLess" w="21600" h="21600">
                <a:moveTo>
                  <a:pt x="6011" y="18882"/>
                </a:moveTo>
                <a:lnTo>
                  <a:pt x="6011" y="20921"/>
                </a:lnTo>
                <a:cubicBezTo>
                  <a:pt x="6011" y="20581"/>
                  <a:pt x="5591" y="20241"/>
                  <a:pt x="5171" y="20241"/>
                </a:cubicBezTo>
                <a:lnTo>
                  <a:pt x="4151" y="20241"/>
                </a:lnTo>
                <a:cubicBezTo>
                  <a:pt x="3731" y="20241"/>
                  <a:pt x="3311" y="19901"/>
                  <a:pt x="3311" y="19562"/>
                </a:cubicBezTo>
                <a:cubicBezTo>
                  <a:pt x="3311" y="19222"/>
                  <a:pt x="3731" y="18882"/>
                  <a:pt x="4151" y="18882"/>
                </a:cubicBezTo>
                <a:close/>
              </a:path>
              <a:path fill="darkenLess" w="21600" h="21600">
                <a:moveTo>
                  <a:pt x="15589" y="18882"/>
                </a:moveTo>
                <a:lnTo>
                  <a:pt x="15589" y="20921"/>
                </a:lnTo>
                <a:cubicBezTo>
                  <a:pt x="15589" y="20581"/>
                  <a:pt x="16009" y="20241"/>
                  <a:pt x="16429" y="20241"/>
                </a:cubicBezTo>
                <a:lnTo>
                  <a:pt x="17449" y="20241"/>
                </a:lnTo>
                <a:cubicBezTo>
                  <a:pt x="17869" y="20241"/>
                  <a:pt x="18289" y="19901"/>
                  <a:pt x="18289" y="19562"/>
                </a:cubicBezTo>
                <a:cubicBezTo>
                  <a:pt x="18289" y="19222"/>
                  <a:pt x="17869" y="18882"/>
                  <a:pt x="17449" y="18882"/>
                </a:cubicBezTo>
                <a:close/>
              </a:path>
              <a:path fill="darkenLess" w="21600" h="21600">
                <a:moveTo>
                  <a:pt x="3311" y="19562"/>
                </a:moveTo>
                <a:lnTo>
                  <a:pt x="3311" y="2718"/>
                </a:lnTo>
              </a:path>
              <a:path fill="darkenLess" w="21600" h="21600">
                <a:moveTo>
                  <a:pt x="18289" y="19562"/>
                </a:moveTo>
                <a:lnTo>
                  <a:pt x="18289" y="2718"/>
                </a:lnTo>
              </a:path>
            </a:pathLst>
          </a:cu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5589720"/>
            <a:ext cx="5329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ма дяди Фёд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ультфильм    «Трое из Простокваш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799160" cy="360072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8532720" y="5877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3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249800" cy="4078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692360" y="33336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 праздником,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19280" y="5084640"/>
            <a:ext cx="626436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орогие мамы и девочки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1708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12986" y="3837"/>
                </a:moveTo>
                <a:lnTo>
                  <a:pt x="15562" y="6448"/>
                </a:ln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lnTo>
                  <a:pt x="19949" y="10800"/>
                </a:lnTo>
                <a:lnTo>
                  <a:pt x="18295" y="10800"/>
                </a:lnTo>
                <a:lnTo>
                  <a:pt x="18295" y="17989"/>
                </a:lnTo>
                <a:lnTo>
                  <a:pt x="7677" y="17989"/>
                </a:lnTo>
                <a:lnTo>
                  <a:pt x="7677" y="10800"/>
                </a:lnTo>
                <a:lnTo>
                  <a:pt x="6023" y="10800"/>
                </a:lnTo>
                <a:close/>
              </a:path>
              <a:path fill="darkenLess" w="25972" h="21600">
                <a:moveTo>
                  <a:pt x="15562" y="6448"/>
                </a:move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close/>
              </a:path>
              <a:path fill="darkenLess" w="25972" h="21600">
                <a:moveTo>
                  <a:pt x="12063" y="14299"/>
                </a:moveTo>
                <a:lnTo>
                  <a:pt x="13909" y="14299"/>
                </a:lnTo>
                <a:lnTo>
                  <a:pt x="13909" y="17989"/>
                </a:lnTo>
                <a:lnTo>
                  <a:pt x="18295" y="17989"/>
                </a:lnTo>
                <a:lnTo>
                  <a:pt x="18295" y="10800"/>
                </a:lnTo>
                <a:lnTo>
                  <a:pt x="7677" y="10800"/>
                </a:lnTo>
                <a:lnTo>
                  <a:pt x="7677" y="17989"/>
                </a:lnTo>
                <a:lnTo>
                  <a:pt x="12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765000"/>
            <a:ext cx="828036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otodes.ru/download/46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чная пол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d-kopilk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oslovicy-i-pogovor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oslovicy-i-pogovorki-o-mame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бно-методический кабинет пословицы о м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www.chitaikin.ru/dyuymovochk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Читаем Детям». Сказки Х.К. Андерс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web-resurs.ru/study/links7237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и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forchildr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g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айт «Всё для детей» песенки про м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chudesenka.ru/load/15-1-0-267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ни о ма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k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jl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oshk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o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фильмы Мультики by ArjL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yat-cant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music_pictures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тинки с нот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sladko6/tags/%D1%81%D0%BA%D1%80%D0%B8%D0%BF%D0%B8%D1%87%D0%BD%D1%8B%D0%B9%20%D0%BA%D0%BB%D1%8E%D1%87/   скрипичный ключ 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анова Л.Ф., Виноградская Л.А. «Литературное чтение, 2 класс. Учебник для общеобразоват. Учреждений. В 2 частях.- М.: Просвещение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8360" y="260280"/>
            <a:ext cx="48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197000"/>
            <a:ext cx="3960720" cy="107964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276640"/>
            <a:ext cx="3889080" cy="10810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429000"/>
            <a:ext cx="3960720" cy="1150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653000"/>
            <a:ext cx="3960720" cy="10810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1557360"/>
            <a:ext cx="792000" cy="79200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1557360"/>
            <a:ext cx="792360" cy="79380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284720" y="2565360"/>
            <a:ext cx="865080" cy="79236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148360" y="2565360"/>
            <a:ext cx="863640" cy="79236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012000" y="2565360"/>
            <a:ext cx="863640" cy="79236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6877080" y="2565360"/>
            <a:ext cx="863640" cy="79236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7740720" y="2565360"/>
            <a:ext cx="863640" cy="79236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1557360"/>
            <a:ext cx="792360" cy="79380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557360"/>
            <a:ext cx="863640" cy="79380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1557360"/>
            <a:ext cx="863280" cy="79380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7" action="ppaction://hlinksldjump"/>
          </p:cNvPr>
          <p:cNvSpPr/>
          <p:nvPr/>
        </p:nvSpPr>
        <p:spPr>
          <a:xfrm>
            <a:off x="4284720" y="3573360"/>
            <a:ext cx="86508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8" action="ppaction://hlinksldjump"/>
          </p:cNvPr>
          <p:cNvSpPr/>
          <p:nvPr/>
        </p:nvSpPr>
        <p:spPr>
          <a:xfrm>
            <a:off x="5148360" y="3573360"/>
            <a:ext cx="86508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9" action="ppaction://hlinksldjump"/>
          </p:cNvPr>
          <p:cNvSpPr/>
          <p:nvPr/>
        </p:nvSpPr>
        <p:spPr>
          <a:xfrm>
            <a:off x="6012000" y="3573360"/>
            <a:ext cx="86508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0" action="ppaction://hlinksldjump"/>
          </p:cNvPr>
          <p:cNvSpPr/>
          <p:nvPr/>
        </p:nvSpPr>
        <p:spPr>
          <a:xfrm>
            <a:off x="6877080" y="3573360"/>
            <a:ext cx="86508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1" action="ppaction://hlinksldjump"/>
          </p:cNvPr>
          <p:cNvSpPr/>
          <p:nvPr/>
        </p:nvSpPr>
        <p:spPr>
          <a:xfrm>
            <a:off x="7740720" y="3573360"/>
            <a:ext cx="86508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2" action="ppaction://hlinksldjump"/>
          </p:cNvPr>
          <p:cNvSpPr/>
          <p:nvPr/>
        </p:nvSpPr>
        <p:spPr>
          <a:xfrm>
            <a:off x="4356000" y="4653000"/>
            <a:ext cx="863640" cy="7920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3" action="ppaction://hlinksldjump"/>
          </p:cNvPr>
          <p:cNvSpPr/>
          <p:nvPr/>
        </p:nvSpPr>
        <p:spPr>
          <a:xfrm>
            <a:off x="5148360" y="4653000"/>
            <a:ext cx="865080" cy="7920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4" action="ppaction://hlinksldjump"/>
          </p:cNvPr>
          <p:cNvSpPr/>
          <p:nvPr/>
        </p:nvSpPr>
        <p:spPr>
          <a:xfrm>
            <a:off x="6012000" y="4653000"/>
            <a:ext cx="865080" cy="7920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5" action="ppaction://hlinksldjump"/>
          </p:cNvPr>
          <p:cNvSpPr/>
          <p:nvPr/>
        </p:nvSpPr>
        <p:spPr>
          <a:xfrm>
            <a:off x="6877080" y="4653000"/>
            <a:ext cx="863640" cy="7920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0720" y="4653000"/>
            <a:ext cx="792000" cy="7920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1413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Угадай            мело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6" action="ppaction://hlinksldjump"/>
          </p:cNvPr>
          <p:cNvSpPr/>
          <p:nvPr/>
        </p:nvSpPr>
        <p:spPr>
          <a:xfrm>
            <a:off x="4643280" y="17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08720" y="17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17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7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17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20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42100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словицы                           о м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6450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итературная гости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5084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ернис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95280" y="2467080"/>
            <a:ext cx="1152360" cy="90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250920" y="339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rcRect l="30784" t="6128" r="19936" b="18162"/>
          <a:stretch/>
        </p:blipFill>
        <p:spPr>
          <a:xfrm>
            <a:off x="539640" y="1125360"/>
            <a:ext cx="746280" cy="1151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0"/>
          <a:stretch/>
        </p:blipFill>
        <p:spPr>
          <a:xfrm>
            <a:off x="0" y="450864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rcRect l="67330" t="60512" r="15349" b="22709"/>
          <a:stretch/>
        </p:blipFill>
        <p:spPr>
          <a:xfrm>
            <a:off x="7559640" y="5707080"/>
            <a:ext cx="158436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835280" y="189000"/>
            <a:ext cx="59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гадай мелодию - 1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48360" y="5773680"/>
            <a:ext cx="2195640" cy="108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170352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55640" y="602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700360" y="357336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27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16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835280" y="189000"/>
            <a:ext cx="59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гадай мелодию-2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2117880" cy="35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128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700360" y="350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948360" y="5773680"/>
            <a:ext cx="2195640" cy="1084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329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467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5773680"/>
            <a:ext cx="2195640" cy="108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1703520" cy="38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27280" y="3500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84360" y="6021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692360" y="189000"/>
            <a:ext cx="61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гадай мелодию-3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802800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10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850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948360" y="5773680"/>
            <a:ext cx="2195640" cy="108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2117880" cy="352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692360" y="189000"/>
            <a:ext cx="61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гадай мелодию-4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700360" y="3500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39640" y="580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363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648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692360" y="189000"/>
            <a:ext cx="61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гадай мелодию-5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1703520" cy="381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948360" y="5773680"/>
            <a:ext cx="2195640" cy="108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771640" y="3645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84360" y="60213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897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883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050920" y="189000"/>
            <a:ext cx="56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овицы о маме</a:t>
            </a:r>
            <a:endParaRPr b="1" i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79640" y="162864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Unicode MS"/>
              </a:rPr>
              <a:t>При солнышке тепло, 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Unicode MS"/>
              </a:rPr>
              <a:t>при матушк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348000" y="306864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бро.</a:t>
            </a:r>
            <a:endParaRPr b="0" lang="en-US" sz="1800" spc="1" strike="noStrike">
              <a:ln w="2232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843280" y="2852640"/>
            <a:ext cx="367344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1:22:33Z</dcterms:created>
  <dc:creator>Sveta</dc:creator>
  <dc:description/>
  <dc:language>en-US</dc:language>
  <cp:lastModifiedBy>Sveta</cp:lastModifiedBy>
  <dcterms:modified xsi:type="dcterms:W3CDTF">2014-01-26T08:01:34Z</dcterms:modified>
  <cp:revision>18</cp:revision>
  <dc:subject/>
  <dc:title>Слайд 1</dc:title>
</cp:coreProperties>
</file>