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8.gif" ContentType="image/gif"/>
  <Override PartName="/ppt/media/image20.gif" ContentType="image/gif"/>
  <Override PartName="/ppt/media/image2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27.gif" ContentType="image/gif"/>
  <Override PartName="/ppt/media/image11.png" ContentType="image/png"/>
  <Override PartName="/ppt/media/image6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10.png" ContentType="image/png"/>
  <Override PartName="/ppt/media/image24.png" ContentType="image/png"/>
  <Override PartName="/ppt/media/image21.gif" ContentType="image/gif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F30-698A-4C0D-AF30-2F9FBEA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AC6-F3BF-4E72-B924-F61F1891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6E9-230F-43A3-9917-EE519E00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CCE-18DF-420B-8980-9D2C69B37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7E8E-5113-4169-96ED-101E4E5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7E4-F85A-4167-80A5-06B315F1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578-3822-47D0-9C55-03E61911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FB78-4B88-4B6E-96A8-0F10077E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E58-4B3E-4B11-9B04-B4438324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E2F-7764-4752-8EAC-81EAFFE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C1E3-896A-42CB-9574-0CAC3D45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DDE-098C-4B49-90FD-5C078AC5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E21B-9799-434C-8100-932D105F9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gif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20.gif"/><Relationship Id="rId11" Type="http://schemas.openxmlformats.org/officeDocument/2006/relationships/image" Target="../media/image21.gif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2614680" cy="3421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6012000" y="3213000"/>
            <a:ext cx="2303280" cy="299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907560"/>
            <a:ext cx="35290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Литературное слушание </a:t>
            </a:r>
            <a:br>
              <a:rPr sz="3600"/>
            </a:b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1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050920" y="4436640"/>
            <a:ext cx="38498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еговатова Надежда Пет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БОУ СОШ № 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 Камыш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013 – 2014 учебный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2"/>
          <p:cNvSpPr/>
          <p:nvPr/>
        </p:nvSpPr>
        <p:spPr>
          <a:xfrm rot="21473400">
            <a:off x="-393480" y="5222520"/>
            <a:ext cx="9864720" cy="2884320"/>
          </a:xfrm>
          <a:custGeom>
            <a:avLst/>
            <a:gdLst>
              <a:gd name="textAreaLeft" fmla="*/ 0 w 9864720"/>
              <a:gd name="textAreaRight" fmla="*/ 9865080 w 9864720"/>
              <a:gd name="textAreaTop" fmla="*/ 0 h 2884320"/>
              <a:gd name="textAreaBottom" fmla="*/ 2884680 h 2884320"/>
            </a:gdLst>
            <a:ahLst/>
            <a:rect l="textAreaLeft" t="textAreaTop" r="textAreaRight" b="textAreaBottom"/>
            <a:pathLst>
              <a:path w="6102" h="1632">
                <a:moveTo>
                  <a:pt x="268" y="735"/>
                </a:moveTo>
                <a:cubicBezTo>
                  <a:pt x="318" y="703"/>
                  <a:pt x="294" y="669"/>
                  <a:pt x="318" y="620"/>
                </a:cubicBezTo>
                <a:cubicBezTo>
                  <a:pt x="335" y="585"/>
                  <a:pt x="365" y="567"/>
                  <a:pt x="400" y="554"/>
                </a:cubicBezTo>
                <a:cubicBezTo>
                  <a:pt x="421" y="534"/>
                  <a:pt x="430" y="522"/>
                  <a:pt x="458" y="513"/>
                </a:cubicBezTo>
                <a:cubicBezTo>
                  <a:pt x="493" y="460"/>
                  <a:pt x="547" y="453"/>
                  <a:pt x="606" y="439"/>
                </a:cubicBezTo>
                <a:cubicBezTo>
                  <a:pt x="614" y="431"/>
                  <a:pt x="624" y="424"/>
                  <a:pt x="631" y="415"/>
                </a:cubicBezTo>
                <a:cubicBezTo>
                  <a:pt x="637" y="407"/>
                  <a:pt x="640" y="397"/>
                  <a:pt x="647" y="390"/>
                </a:cubicBezTo>
                <a:cubicBezTo>
                  <a:pt x="664" y="373"/>
                  <a:pt x="736" y="340"/>
                  <a:pt x="762" y="332"/>
                </a:cubicBezTo>
                <a:cubicBezTo>
                  <a:pt x="798" y="298"/>
                  <a:pt x="756" y="333"/>
                  <a:pt x="812" y="308"/>
                </a:cubicBezTo>
                <a:cubicBezTo>
                  <a:pt x="821" y="304"/>
                  <a:pt x="827" y="295"/>
                  <a:pt x="836" y="291"/>
                </a:cubicBezTo>
                <a:cubicBezTo>
                  <a:pt x="854" y="283"/>
                  <a:pt x="875" y="281"/>
                  <a:pt x="894" y="275"/>
                </a:cubicBezTo>
                <a:cubicBezTo>
                  <a:pt x="996" y="166"/>
                  <a:pt x="1141" y="167"/>
                  <a:pt x="1272" y="118"/>
                </a:cubicBezTo>
                <a:cubicBezTo>
                  <a:pt x="1288" y="95"/>
                  <a:pt x="1308" y="78"/>
                  <a:pt x="1338" y="77"/>
                </a:cubicBezTo>
                <a:cubicBezTo>
                  <a:pt x="1487" y="70"/>
                  <a:pt x="2073" y="62"/>
                  <a:pt x="2145" y="61"/>
                </a:cubicBezTo>
                <a:cubicBezTo>
                  <a:pt x="2306" y="1"/>
                  <a:pt x="2333" y="47"/>
                  <a:pt x="2614" y="52"/>
                </a:cubicBezTo>
                <a:cubicBezTo>
                  <a:pt x="2714" y="79"/>
                  <a:pt x="2599" y="58"/>
                  <a:pt x="2663" y="44"/>
                </a:cubicBezTo>
                <a:cubicBezTo>
                  <a:pt x="2735" y="28"/>
                  <a:pt x="2819" y="25"/>
                  <a:pt x="2893" y="11"/>
                </a:cubicBezTo>
                <a:cubicBezTo>
                  <a:pt x="3737" y="26"/>
                  <a:pt x="3203" y="0"/>
                  <a:pt x="3478" y="44"/>
                </a:cubicBezTo>
                <a:cubicBezTo>
                  <a:pt x="3531" y="82"/>
                  <a:pt x="3529" y="83"/>
                  <a:pt x="3601" y="94"/>
                </a:cubicBezTo>
                <a:cubicBezTo>
                  <a:pt x="3697" y="186"/>
                  <a:pt x="3759" y="164"/>
                  <a:pt x="3905" y="168"/>
                </a:cubicBezTo>
                <a:cubicBezTo>
                  <a:pt x="4067" y="172"/>
                  <a:pt x="4229" y="173"/>
                  <a:pt x="4391" y="176"/>
                </a:cubicBezTo>
                <a:cubicBezTo>
                  <a:pt x="4424" y="187"/>
                  <a:pt x="4435" y="211"/>
                  <a:pt x="4473" y="217"/>
                </a:cubicBezTo>
                <a:cubicBezTo>
                  <a:pt x="4508" y="223"/>
                  <a:pt x="4544" y="222"/>
                  <a:pt x="4580" y="225"/>
                </a:cubicBezTo>
                <a:cubicBezTo>
                  <a:pt x="4597" y="236"/>
                  <a:pt x="4619" y="241"/>
                  <a:pt x="4630" y="258"/>
                </a:cubicBezTo>
                <a:cubicBezTo>
                  <a:pt x="4647" y="284"/>
                  <a:pt x="4673" y="329"/>
                  <a:pt x="4704" y="340"/>
                </a:cubicBezTo>
                <a:cubicBezTo>
                  <a:pt x="4770" y="364"/>
                  <a:pt x="4844" y="372"/>
                  <a:pt x="4909" y="398"/>
                </a:cubicBezTo>
                <a:cubicBezTo>
                  <a:pt x="4923" y="404"/>
                  <a:pt x="4936" y="412"/>
                  <a:pt x="4951" y="415"/>
                </a:cubicBezTo>
                <a:cubicBezTo>
                  <a:pt x="4993" y="423"/>
                  <a:pt x="5200" y="431"/>
                  <a:pt x="5206" y="431"/>
                </a:cubicBezTo>
                <a:cubicBezTo>
                  <a:pt x="5248" y="445"/>
                  <a:pt x="5224" y="433"/>
                  <a:pt x="5271" y="480"/>
                </a:cubicBezTo>
                <a:cubicBezTo>
                  <a:pt x="5277" y="486"/>
                  <a:pt x="5288" y="497"/>
                  <a:pt x="5288" y="497"/>
                </a:cubicBezTo>
                <a:cubicBezTo>
                  <a:pt x="5303" y="558"/>
                  <a:pt x="5282" y="507"/>
                  <a:pt x="5321" y="546"/>
                </a:cubicBezTo>
                <a:cubicBezTo>
                  <a:pt x="5367" y="592"/>
                  <a:pt x="5319" y="573"/>
                  <a:pt x="5378" y="587"/>
                </a:cubicBezTo>
                <a:cubicBezTo>
                  <a:pt x="5404" y="613"/>
                  <a:pt x="5442" y="616"/>
                  <a:pt x="5477" y="628"/>
                </a:cubicBezTo>
                <a:cubicBezTo>
                  <a:pt x="5494" y="634"/>
                  <a:pt x="5527" y="645"/>
                  <a:pt x="5527" y="645"/>
                </a:cubicBezTo>
                <a:cubicBezTo>
                  <a:pt x="5563" y="683"/>
                  <a:pt x="5613" y="694"/>
                  <a:pt x="5658" y="719"/>
                </a:cubicBezTo>
                <a:cubicBezTo>
                  <a:pt x="5696" y="740"/>
                  <a:pt x="5722" y="770"/>
                  <a:pt x="5757" y="793"/>
                </a:cubicBezTo>
                <a:cubicBezTo>
                  <a:pt x="5814" y="829"/>
                  <a:pt x="5881" y="829"/>
                  <a:pt x="5946" y="834"/>
                </a:cubicBezTo>
                <a:cubicBezTo>
                  <a:pt x="6102" y="1632"/>
                  <a:pt x="4384" y="909"/>
                  <a:pt x="3214" y="916"/>
                </a:cubicBezTo>
                <a:cubicBezTo>
                  <a:pt x="2749" y="911"/>
                  <a:pt x="2303" y="899"/>
                  <a:pt x="1840" y="892"/>
                </a:cubicBezTo>
                <a:cubicBezTo>
                  <a:pt x="1531" y="858"/>
                  <a:pt x="1736" y="874"/>
                  <a:pt x="1223" y="884"/>
                </a:cubicBezTo>
                <a:cubicBezTo>
                  <a:pt x="0" y="872"/>
                  <a:pt x="277" y="1193"/>
                  <a:pt x="277" y="744"/>
                </a:cubicBezTo>
                <a:cubicBezTo>
                  <a:pt x="277" y="735"/>
                  <a:pt x="271" y="727"/>
                  <a:pt x="268" y="719"/>
                </a:cubicBezTo>
                <a:cubicBezTo>
                  <a:pt x="304" y="707"/>
                  <a:pt x="299" y="705"/>
                  <a:pt x="268" y="73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718217"/>
          <p:cNvPicPr/>
          <p:nvPr/>
        </p:nvPicPr>
        <p:blipFill>
          <a:blip r:embed="rId3">
            <a:lum bright="12000"/>
          </a:blip>
          <a:srcRect l="0" t="0" r="0" b="25625"/>
          <a:stretch/>
        </p:blipFill>
        <p:spPr>
          <a:xfrm>
            <a:off x="900000" y="836640"/>
            <a:ext cx="7129440" cy="33256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4"/>
          <p:cNvSpPr/>
          <p:nvPr/>
        </p:nvSpPr>
        <p:spPr>
          <a:xfrm rot="280200">
            <a:off x="1692360" y="189000"/>
            <a:ext cx="5761080" cy="2016000"/>
          </a:xfrm>
          <a:prstGeom prst="cloudCallout">
            <a:avLst>
              <a:gd name="adj1" fmla="val -22134"/>
              <a:gd name="adj2" fmla="val 31115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39"/>
          <p:cNvPicPr/>
          <p:nvPr/>
        </p:nvPicPr>
        <p:blipFill>
          <a:blip r:embed="rId5"/>
          <a:stretch/>
        </p:blipFill>
        <p:spPr>
          <a:xfrm>
            <a:off x="1403280" y="566100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klever"/>
          <p:cNvPicPr/>
          <p:nvPr/>
        </p:nvPicPr>
        <p:blipFill>
          <a:blip r:embed="rId6"/>
          <a:stretch/>
        </p:blipFill>
        <p:spPr>
          <a:xfrm>
            <a:off x="2411280" y="4724280"/>
            <a:ext cx="1522440" cy="19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lever"/>
          <p:cNvPicPr/>
          <p:nvPr/>
        </p:nvPicPr>
        <p:blipFill>
          <a:blip r:embed="rId7"/>
          <a:stretch/>
        </p:blipFill>
        <p:spPr>
          <a:xfrm flipH="1" rot="57600">
            <a:off x="5363280" y="4723920"/>
            <a:ext cx="1371600" cy="1976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b39"/>
          <p:cNvPicPr/>
          <p:nvPr/>
        </p:nvPicPr>
        <p:blipFill>
          <a:blip r:embed="rId8"/>
          <a:stretch/>
        </p:blipFill>
        <p:spPr>
          <a:xfrm>
            <a:off x="4067280" y="5300640"/>
            <a:ext cx="1292040" cy="130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b39"/>
          <p:cNvPicPr/>
          <p:nvPr/>
        </p:nvPicPr>
        <p:blipFill>
          <a:blip r:embed="rId9"/>
          <a:stretch/>
        </p:blipFill>
        <p:spPr>
          <a:xfrm>
            <a:off x="6948360" y="5661000"/>
            <a:ext cx="865440" cy="87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Ins02"/>
          <p:cNvPicPr/>
          <p:nvPr/>
        </p:nvPicPr>
        <p:blipFill>
          <a:blip r:embed="rId10"/>
          <a:stretch/>
        </p:blipFill>
        <p:spPr>
          <a:xfrm flipH="1">
            <a:off x="-1297440" y="2565360"/>
            <a:ext cx="1297080" cy="79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Ins31"/>
          <p:cNvPicPr/>
          <p:nvPr/>
        </p:nvPicPr>
        <p:blipFill>
          <a:blip r:embed="rId11">
            <a:lum bright="-12000"/>
          </a:blip>
          <a:stretch/>
        </p:blipFill>
        <p:spPr>
          <a:xfrm rot="20881200">
            <a:off x="5292720" y="2349000"/>
            <a:ext cx="961920" cy="9622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 rot="289800">
            <a:off x="971640" y="371592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 rot="289800">
            <a:off x="5651640" y="3644640"/>
            <a:ext cx="2376360" cy="863640"/>
          </a:xfrm>
          <a:prstGeom prst="cloudCallout">
            <a:avLst>
              <a:gd name="adj1" fmla="val -30495"/>
              <a:gd name="adj2" fmla="val 38421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 rot="197400">
            <a:off x="1763280" y="333360"/>
            <a:ext cx="2448000" cy="1152720"/>
          </a:xfrm>
          <a:prstGeom prst="cloudCallout">
            <a:avLst>
              <a:gd name="adj1" fmla="val -29509"/>
              <a:gd name="adj2" fmla="val 38157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6516720" y="115920"/>
            <a:ext cx="2303280" cy="2374920"/>
          </a:xfrm>
          <a:prstGeom prst="sun">
            <a:avLst>
              <a:gd name="adj" fmla="val 25000"/>
            </a:avLst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 flipH="1">
            <a:off x="2410920" y="1989000"/>
            <a:ext cx="1081080" cy="345600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 flipH="1">
            <a:off x="3850920" y="2060640"/>
            <a:ext cx="289080" cy="2808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4789440" y="2205000"/>
            <a:ext cx="69840" cy="302436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5867280" y="1989000"/>
            <a:ext cx="1150920" cy="3168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6516720" y="1844640"/>
            <a:ext cx="1511280" cy="3097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 flipH="1">
            <a:off x="1402920" y="1916280"/>
            <a:ext cx="1513080" cy="33130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" descr=""/>
          <p:cNvPicPr/>
          <p:nvPr/>
        </p:nvPicPr>
        <p:blipFill>
          <a:blip r:embed="rId16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b39"/>
          <p:cNvPicPr/>
          <p:nvPr/>
        </p:nvPicPr>
        <p:blipFill>
          <a:blip r:embed="rId17"/>
          <a:stretch/>
        </p:blipFill>
        <p:spPr>
          <a:xfrm>
            <a:off x="324000" y="6021360"/>
            <a:ext cx="865080" cy="87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4" descr="b39"/>
          <p:cNvPicPr/>
          <p:nvPr/>
        </p:nvPicPr>
        <p:blipFill>
          <a:blip r:embed="rId18"/>
          <a:stretch/>
        </p:blipFill>
        <p:spPr>
          <a:xfrm>
            <a:off x="305928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5" descr="b39"/>
          <p:cNvPicPr/>
          <p:nvPr/>
        </p:nvPicPr>
        <p:blipFill>
          <a:blip r:embed="rId19"/>
          <a:stretch/>
        </p:blipFill>
        <p:spPr>
          <a:xfrm>
            <a:off x="5508720" y="5950080"/>
            <a:ext cx="865080" cy="87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b39"/>
          <p:cNvPicPr/>
          <p:nvPr/>
        </p:nvPicPr>
        <p:blipFill>
          <a:blip r:embed="rId20"/>
          <a:stretch/>
        </p:blipFill>
        <p:spPr>
          <a:xfrm>
            <a:off x="7812000" y="6165720"/>
            <a:ext cx="865440" cy="8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0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787 L 0.41336 0.25718 E">
                                      <p:cBhvr>
                                        <p:cTn id="16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7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6366 C 0.04115 -0.08912 0.11059 -0.03796 0.12969 0.05046 C 0.14844 0.13866 0.11007 0.23125 0.0441 0.25671 C -0.02204 0.28264 -0.09166 0.23148 -0.11059 0.14259 C -0.12951 0.05486 -0.09132 -0.03819 -0.025 -0.06366 Z">
                                      <p:cBhvr>
                                        <p:cTn id="168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0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2" nodeType="afterEffect" fill="hold" presetClass="entr" presetID="3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9500"/>
                            </p:stCondLst>
                            <p:childTnLst>
                              <p:par>
                                <p:cTn id="214" nodeType="afterEffect" fill="hold" presetClass="path" presetID="3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45 0.0419 L -0.00174 0.14259 C 0.0177 0.16551 0.04687 0.17847 0.07725 0.17847 C 0.11198 0.17847 0.13958 0.16551 0.15902 0.14259 L 0.25208 0.0419 E">
                                      <p:cBhvr>
                                        <p:cTn id="21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55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60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6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7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75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8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8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e5979f814596 1.mp3" descr=""/>
          <p:cNvPicPr/>
          <p:nvPr/>
        </p:nvPicPr>
        <p:blipFill>
          <a:blip r:embed="rId2"/>
          <a:stretch/>
        </p:blipFill>
        <p:spPr>
          <a:xfrm>
            <a:off x="8550360" y="626436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539640" y="762120"/>
            <a:ext cx="81360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282809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6600"/>
                </a:solidFill>
                <a:uFillTx/>
                <a:latin typeface="Arial"/>
              </a:rPr>
              <a:t>ЖАН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3"/>
          <p:cNvSpPr/>
          <p:nvPr/>
        </p:nvSpPr>
        <p:spPr>
          <a:xfrm>
            <a:off x="2268360" y="3068640"/>
            <a:ext cx="1351080" cy="1353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2124000" y="4724280"/>
            <a:ext cx="1656000" cy="136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 flipV="1">
            <a:off x="2195640" y="1484280"/>
            <a:ext cx="1439640" cy="122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00720" y="342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4502880" y="50133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Стихотвор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572720" y="191628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Рас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6600"/>
                </a:solidFill>
                <a:uFillTx/>
                <a:latin typeface="Arial"/>
              </a:rPr>
              <a:t>ТЕ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val 4"/>
          <p:cNvSpPr/>
          <p:nvPr/>
        </p:nvSpPr>
        <p:spPr>
          <a:xfrm>
            <a:off x="5940360" y="1628640"/>
            <a:ext cx="2111400" cy="606600"/>
          </a:xfrm>
          <a:prstGeom prst="ellipse">
            <a:avLst/>
          </a:prstGeom>
          <a:solidFill>
            <a:srgbClr val="dc2300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5940360" y="2492280"/>
            <a:ext cx="2185920" cy="604800"/>
          </a:xfrm>
          <a:prstGeom prst="ellipse">
            <a:avLst/>
          </a:prstGeom>
          <a:solidFill>
            <a:srgbClr val="5c8526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6012000" y="3429000"/>
            <a:ext cx="2036520" cy="604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6012000" y="4437000"/>
            <a:ext cx="2114280" cy="660600"/>
          </a:xfrm>
          <a:prstGeom prst="ellipse">
            <a:avLst/>
          </a:prstGeom>
          <a:solidFill>
            <a:srgbClr val="804c19"/>
          </a:solidFill>
          <a:ln w="93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6012000" y="5373720"/>
            <a:ext cx="2114280" cy="606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979640" y="1484280"/>
            <a:ext cx="417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 де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о приключе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2700360" y="765000"/>
            <a:ext cx="4176720" cy="547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276720" y="112536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. 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917080" y="4869000"/>
            <a:ext cx="37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ТИХАЯ СКАЗ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8"/>
          <p:cNvSpPr/>
          <p:nvPr/>
        </p:nvSpPr>
        <p:spPr>
          <a:xfrm>
            <a:off x="3780000" y="2276640"/>
            <a:ext cx="2016000" cy="2016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"/>
          <p:cNvSpPr/>
          <p:nvPr/>
        </p:nvSpPr>
        <p:spPr>
          <a:xfrm>
            <a:off x="3780000" y="2276640"/>
            <a:ext cx="2016000" cy="20001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http://priroda.inc.ru/animation/ejik/31.gif"/>
          <p:cNvPicPr/>
          <p:nvPr/>
        </p:nvPicPr>
        <p:blipFill>
          <a:blip r:embed="rId2"/>
          <a:stretch/>
        </p:blipFill>
        <p:spPr>
          <a:xfrm>
            <a:off x="4788000" y="4365720"/>
            <a:ext cx="1116000" cy="172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priroda.inc.ru/animation/ejik/31.gif"/>
          <p:cNvPicPr/>
          <p:nvPr/>
        </p:nvPicPr>
        <p:blipFill>
          <a:blip r:embed="rId3"/>
          <a:stretch/>
        </p:blipFill>
        <p:spPr>
          <a:xfrm>
            <a:off x="2124000" y="3468600"/>
            <a:ext cx="1800360" cy="2787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http://priroda.inc.ru/animation/ejik/31.gif"/>
          <p:cNvPicPr/>
          <p:nvPr/>
        </p:nvPicPr>
        <p:blipFill>
          <a:blip r:embed="rId4"/>
          <a:stretch/>
        </p:blipFill>
        <p:spPr>
          <a:xfrm>
            <a:off x="6300720" y="2978280"/>
            <a:ext cx="2158920" cy="334476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4" descr=""/>
          <p:cNvPicPr/>
          <p:nvPr/>
        </p:nvPicPr>
        <p:blipFill>
          <a:blip r:embed="rId5"/>
          <a:stretch/>
        </p:blipFill>
        <p:spPr>
          <a:xfrm>
            <a:off x="755640" y="620640"/>
            <a:ext cx="5931000" cy="26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564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lib2.podelise.ru/docs/2730/index-11853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litrus.net/book/description/1471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audioskazki.net/page/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www.papmambook.ru/sections/mne_nuzhna_kniga_na_temu/29/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900igr.net/kartinki/russkij-jazyk/Bezudarnye-glasnye-v-korne/008-Portret-S.JA.-Marshaka-raboty-A.G.-Kruchiny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chtoby-pomnili.livejournal.com/317947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http://www.ndbmarshak.ru/page/levoe_menju.sya_marshak.biografiya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Шаблон презентации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Ariston"/>
              </a:rPr>
              <a:t>Баева Наталья Владимиров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Ariston"/>
              </a:rPr>
              <a:t>Автор отрисовок и фона,</a:t>
            </a: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i="1" lang="ru-RU" sz="1600" spc="-1" strike="noStrike" u="sng">
                <a:solidFill>
                  <a:srgbClr val="0000ff"/>
                </a:solidFill>
                <a:uFillTx/>
                <a:latin typeface="Ariston"/>
              </a:rPr>
              <a:t>использованных для создания шаблонаУверская Е.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Вертикальный свиток 1"/>
          <p:cNvSpPr/>
          <p:nvPr/>
        </p:nvSpPr>
        <p:spPr>
          <a:xfrm>
            <a:off x="3635280" y="1916280"/>
            <a:ext cx="4897440" cy="4033800"/>
          </a:xfrm>
          <a:prstGeom prst="verticalScroll">
            <a:avLst>
              <a:gd name="adj" fmla="val 12500"/>
            </a:avLst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ел он утром на кр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тал рубашку надева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В рукава просунул руки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казалось, это брюки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Вместо шляпы на 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Он надел сковор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6" descr=""/>
          <p:cNvPicPr/>
          <p:nvPr/>
        </p:nvPicPr>
        <p:blipFill>
          <a:blip r:embed="rId2"/>
          <a:stretch/>
        </p:blipFill>
        <p:spPr>
          <a:xfrm rot="21132000">
            <a:off x="1116000" y="-171360"/>
            <a:ext cx="2305080" cy="19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3926880" y="90792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На книжной п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1"/>
          <p:cNvGrpSpPr/>
          <p:nvPr/>
        </p:nvGrpSpPr>
        <p:grpSpPr>
          <a:xfrm>
            <a:off x="1187280" y="1916280"/>
            <a:ext cx="2765520" cy="3313080"/>
            <a:chOff x="1187280" y="1916280"/>
            <a:chExt cx="2765520" cy="3313080"/>
          </a:xfrm>
        </p:grpSpPr>
        <p:pic>
          <p:nvPicPr>
            <p:cNvPr id="49" name="Picture 9" descr=""/>
            <p:cNvPicPr/>
            <p:nvPr/>
          </p:nvPicPr>
          <p:blipFill>
            <a:blip r:embed="rId3"/>
            <a:stretch/>
          </p:blipFill>
          <p:spPr>
            <a:xfrm>
              <a:off x="1187280" y="1916280"/>
              <a:ext cx="276552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10"/>
            <p:cNvSpPr/>
            <p:nvPr/>
          </p:nvSpPr>
          <p:spPr>
            <a:xfrm>
              <a:off x="1547640" y="2205000"/>
              <a:ext cx="1872000" cy="1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Вертикальный свиток 1"/>
          <p:cNvSpPr/>
          <p:nvPr/>
        </p:nvSpPr>
        <p:spPr>
          <a:xfrm>
            <a:off x="3780000" y="1700280"/>
            <a:ext cx="4897440" cy="4249800"/>
          </a:xfrm>
          <a:prstGeom prst="verticalScroll">
            <a:avLst>
              <a:gd name="adj" fmla="val 12500"/>
            </a:avLst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Дама сдавала в багаж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Див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емодан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аквояж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арти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орзину, карто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И маленькую собачон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998520" y="7650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На книжной п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 rot="21132000">
            <a:off x="1476000" y="0"/>
            <a:ext cx="19447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12"/>
          <p:cNvGrpSpPr/>
          <p:nvPr/>
        </p:nvGrpSpPr>
        <p:grpSpPr>
          <a:xfrm>
            <a:off x="1332000" y="1557360"/>
            <a:ext cx="2847960" cy="3743280"/>
            <a:chOff x="1332000" y="1557360"/>
            <a:chExt cx="2847960" cy="3743280"/>
          </a:xfrm>
        </p:grpSpPr>
        <p:pic>
          <p:nvPicPr>
            <p:cNvPr id="55" name="Picture 10" descr=""/>
            <p:cNvPicPr/>
            <p:nvPr/>
          </p:nvPicPr>
          <p:blipFill>
            <a:blip r:embed="rId3"/>
            <a:stretch/>
          </p:blipFill>
          <p:spPr>
            <a:xfrm>
              <a:off x="1332000" y="1557360"/>
              <a:ext cx="2847960" cy="37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1"/>
            <p:cNvSpPr/>
            <p:nvPr/>
          </p:nvSpPr>
          <p:spPr>
            <a:xfrm>
              <a:off x="1619280" y="1773360"/>
              <a:ext cx="2305080" cy="576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2776320" cy="3522600"/>
          </a:xfrm>
          <a:prstGeom prst="rect">
            <a:avLst/>
          </a:prstGeom>
          <a:ln w="0">
            <a:noFill/>
          </a:ln>
        </p:spPr>
      </p:pic>
      <p:sp>
        <p:nvSpPr>
          <p:cNvPr id="58" name="Вертикальный свиток 1"/>
          <p:cNvSpPr/>
          <p:nvPr/>
        </p:nvSpPr>
        <p:spPr>
          <a:xfrm>
            <a:off x="3780000" y="1700280"/>
            <a:ext cx="4897440" cy="4249800"/>
          </a:xfrm>
          <a:prstGeom prst="verticalScroll">
            <a:avLst>
              <a:gd name="adj" fmla="val 12500"/>
            </a:avLst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юди спрашива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- Кто это у ва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 девочка говор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- Это моя д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Люди спрашиваю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- Почему у вашей до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серые щёч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А девочка говори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- Она давно не мы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4069800" y="69228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На книжной п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 rot="21132000">
            <a:off x="1603440" y="333000"/>
            <a:ext cx="19447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2836800" cy="3816360"/>
          </a:xfrm>
          <a:prstGeom prst="rect">
            <a:avLst/>
          </a:prstGeom>
          <a:ln w="0">
            <a:noFill/>
          </a:ln>
        </p:spPr>
      </p:pic>
      <p:sp>
        <p:nvSpPr>
          <p:cNvPr id="62" name="Вертикальный свиток 1"/>
          <p:cNvSpPr/>
          <p:nvPr/>
        </p:nvSpPr>
        <p:spPr>
          <a:xfrm>
            <a:off x="3780000" y="1700280"/>
            <a:ext cx="4897440" cy="4249800"/>
          </a:xfrm>
          <a:prstGeom prst="verticalScroll">
            <a:avLst>
              <a:gd name="adj" fmla="val 12500"/>
            </a:avLst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Под праздник новогод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Издали мы приказ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Пускай цветут сегод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Подснежники у нас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В лесу цветёт подснежн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А не метель мет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И тот из вас мятежн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Кто скажет: не метёт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998520" y="7650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На книжной п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3"/>
          <a:stretch/>
        </p:blipFill>
        <p:spPr>
          <a:xfrm rot="21132000">
            <a:off x="1476000" y="404280"/>
            <a:ext cx="19447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1035000" y="1197000"/>
            <a:ext cx="3060720" cy="3960720"/>
          </a:xfrm>
          <a:prstGeom prst="rect">
            <a:avLst/>
          </a:prstGeom>
          <a:ln w="0">
            <a:noFill/>
          </a:ln>
        </p:spPr>
      </p:pic>
      <p:sp>
        <p:nvSpPr>
          <p:cNvPr id="66" name="Вертикальный свиток 1"/>
          <p:cNvSpPr/>
          <p:nvPr/>
        </p:nvSpPr>
        <p:spPr>
          <a:xfrm>
            <a:off x="3780000" y="1700280"/>
            <a:ext cx="4897440" cy="4249800"/>
          </a:xfrm>
          <a:prstGeom prst="verticalScroll">
            <a:avLst>
              <a:gd name="adj" fmla="val 12500"/>
            </a:avLst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им – бом! Тили – бом!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дворе - высокий дом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тавенки резные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кна расписные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на лестнице ковер –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Шитый золотом узор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 узорному ковру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ходит кошка по утр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998520" y="765000"/>
            <a:ext cx="430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Arial"/>
              </a:rPr>
              <a:t>На книжной п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6" descr=""/>
          <p:cNvPicPr/>
          <p:nvPr/>
        </p:nvPicPr>
        <p:blipFill>
          <a:blip r:embed="rId3"/>
          <a:stretch/>
        </p:blipFill>
        <p:spPr>
          <a:xfrm rot="21132000">
            <a:off x="1476000" y="188640"/>
            <a:ext cx="194472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635280" y="620640"/>
            <a:ext cx="3668760" cy="4680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328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амуил Яковлевич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арш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6" descr=""/>
          <p:cNvPicPr/>
          <p:nvPr/>
        </p:nvPicPr>
        <p:blipFill>
          <a:blip r:embed="rId3"/>
          <a:stretch/>
        </p:blipFill>
        <p:spPr>
          <a:xfrm rot="20957400">
            <a:off x="-396720" y="3129120"/>
            <a:ext cx="365904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192560" cy="575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922320" y="620640"/>
            <a:ext cx="3357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3211560" cy="453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37922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05:18:32Z</dcterms:created>
  <dc:creator>WORK</dc:creator>
  <dc:description/>
  <dc:language>en-US</dc:language>
  <cp:lastModifiedBy>Jatros</cp:lastModifiedBy>
  <dcterms:modified xsi:type="dcterms:W3CDTF">2014-01-31T10:20:48Z</dcterms:modified>
  <cp:revision>16</cp:revision>
  <dc:subject/>
  <dc:title>Презентация PowerPoint</dc:title>
</cp:coreProperties>
</file>