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6.png" ContentType="image/png"/>
  <Override PartName="/ppt/media/image2.gif" ContentType="image/gif"/>
  <Override PartName="/ppt/media/image5.png" ContentType="image/png"/>
  <Override PartName="/ppt/media/image26.jpeg" ContentType="image/jpeg"/>
  <Override PartName="/ppt/media/image19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gif" ContentType="image/gif"/>
  <Override PartName="/ppt/media/image24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F925-5CB5-45CE-9955-287CB1B6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535C-1DF0-42A1-8FCE-F11FA88E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D5BA-7CC8-4803-808B-F577499B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2C14-0A40-4AB2-9D63-ECA9AB30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9A25-568B-4962-82C1-99D7A89B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692C-5336-4C05-829D-D2705006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B86A-2E29-4DAD-B782-23CBAB0C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9D7B-9C69-4AC4-87BE-FE6E320C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FCF-C407-48B8-BDA5-BA4AD0B9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08F8-3DC0-4ACF-88E6-0D060EBE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F496-8502-42AF-9C2F-9AAF8C9E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CF5B-23C7-436A-A664-FD0FE7FA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259B-6B24-44C3-A71F-266CF95F16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1.gif"/><Relationship Id="rId4" Type="http://schemas.openxmlformats.org/officeDocument/2006/relationships/image" Target="../media/image21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3.png"/><Relationship Id="rId9" Type="http://schemas.openxmlformats.org/officeDocument/2006/relationships/image" Target="../media/image24.png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3.png"/><Relationship Id="rId9" Type="http://schemas.openxmlformats.org/officeDocument/2006/relationships/image" Target="../media/image26.jpe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3.png"/><Relationship Id="rId9" Type="http://schemas.openxmlformats.org/officeDocument/2006/relationships/image" Target="../media/image11.gif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1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3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1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1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1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1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3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3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30"/>
          <p:cNvPicPr/>
          <p:nvPr/>
        </p:nvPicPr>
        <p:blipFill>
          <a:blip r:embed="rId2"/>
          <a:stretch/>
        </p:blipFill>
        <p:spPr>
          <a:xfrm>
            <a:off x="1332000" y="2637000"/>
            <a:ext cx="1809720" cy="1047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7" descr="30"/>
          <p:cNvPicPr/>
          <p:nvPr/>
        </p:nvPicPr>
        <p:blipFill>
          <a:blip r:embed="rId3"/>
          <a:stretch/>
        </p:blipFill>
        <p:spPr>
          <a:xfrm>
            <a:off x="2627280" y="1844640"/>
            <a:ext cx="1809720" cy="1047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9" descr="30"/>
          <p:cNvPicPr/>
          <p:nvPr/>
        </p:nvPicPr>
        <p:blipFill>
          <a:blip r:embed="rId4"/>
          <a:stretch/>
        </p:blipFill>
        <p:spPr>
          <a:xfrm>
            <a:off x="539640" y="2492280"/>
            <a:ext cx="1809720" cy="104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1" descr="30"/>
          <p:cNvPicPr/>
          <p:nvPr/>
        </p:nvPicPr>
        <p:blipFill>
          <a:blip r:embed="rId5"/>
          <a:stretch/>
        </p:blipFill>
        <p:spPr>
          <a:xfrm>
            <a:off x="1692360" y="1989000"/>
            <a:ext cx="1809720" cy="1079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1" descr="30"/>
          <p:cNvPicPr/>
          <p:nvPr/>
        </p:nvPicPr>
        <p:blipFill>
          <a:blip r:embed="rId6"/>
          <a:stretch/>
        </p:blipFill>
        <p:spPr>
          <a:xfrm>
            <a:off x="1908000" y="2781360"/>
            <a:ext cx="1810080" cy="1079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30"/>
          <p:cNvPicPr/>
          <p:nvPr/>
        </p:nvPicPr>
        <p:blipFill>
          <a:blip r:embed="rId7"/>
          <a:stretch/>
        </p:blipFill>
        <p:spPr>
          <a:xfrm>
            <a:off x="2411280" y="2205000"/>
            <a:ext cx="1809720" cy="1047960"/>
          </a:xfrm>
          <a:prstGeom prst="rect">
            <a:avLst/>
          </a:prstGeom>
          <a:ln w="0">
            <a:noFill/>
          </a:ln>
        </p:spPr>
      </p:pic>
      <p:pic>
        <p:nvPicPr>
          <p:cNvPr id="48" name="6ocean.wav" descr=""/>
          <p:cNvPicPr/>
          <p:nvPr/>
        </p:nvPicPr>
        <p:blipFill>
          <a:blip r:embed="rId8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14" descr=""/>
          <p:cNvPicPr/>
          <p:nvPr/>
        </p:nvPicPr>
        <p:blipFill>
          <a:blip r:embed="rId9"/>
          <a:stretch/>
        </p:blipFill>
        <p:spPr>
          <a:xfrm>
            <a:off x="-360360" y="-23760"/>
            <a:ext cx="98154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30"/>
          <p:cNvPicPr/>
          <p:nvPr/>
        </p:nvPicPr>
        <p:blipFill>
          <a:blip r:embed="rId2"/>
          <a:stretch/>
        </p:blipFill>
        <p:spPr>
          <a:xfrm rot="21257400">
            <a:off x="4259160" y="2003040"/>
            <a:ext cx="1809720" cy="1047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9"/>
          <p:cNvPicPr/>
          <p:nvPr/>
        </p:nvPicPr>
        <p:blipFill>
          <a:blip r:embed="rId3"/>
          <a:stretch/>
        </p:blipFill>
        <p:spPr>
          <a:xfrm>
            <a:off x="324000" y="0"/>
            <a:ext cx="1217520" cy="1224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5" descr="bird5-4"/>
          <p:cNvPicPr/>
          <p:nvPr/>
        </p:nvPicPr>
        <p:blipFill>
          <a:blip r:embed="rId4"/>
          <a:stretch/>
        </p:blipFill>
        <p:spPr>
          <a:xfrm rot="3957000">
            <a:off x="8281080" y="137160"/>
            <a:ext cx="763560" cy="714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7" descr="30"/>
          <p:cNvPicPr/>
          <p:nvPr/>
        </p:nvPicPr>
        <p:blipFill>
          <a:blip r:embed="rId5"/>
          <a:stretch/>
        </p:blipFill>
        <p:spPr>
          <a:xfrm>
            <a:off x="5435640" y="2133720"/>
            <a:ext cx="1809720" cy="1047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9" descr="30"/>
          <p:cNvPicPr/>
          <p:nvPr/>
        </p:nvPicPr>
        <p:blipFill>
          <a:blip r:embed="rId6"/>
          <a:stretch/>
        </p:blipFill>
        <p:spPr>
          <a:xfrm>
            <a:off x="4643280" y="2565360"/>
            <a:ext cx="1810080" cy="1047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1" descr="30"/>
          <p:cNvPicPr/>
          <p:nvPr/>
        </p:nvPicPr>
        <p:blipFill>
          <a:blip r:embed="rId7"/>
          <a:stretch/>
        </p:blipFill>
        <p:spPr>
          <a:xfrm>
            <a:off x="4859280" y="1413000"/>
            <a:ext cx="1809720" cy="1079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1" descr="30"/>
          <p:cNvPicPr/>
          <p:nvPr/>
        </p:nvPicPr>
        <p:blipFill>
          <a:blip r:embed="rId8"/>
          <a:stretch/>
        </p:blipFill>
        <p:spPr>
          <a:xfrm>
            <a:off x="6227640" y="2492280"/>
            <a:ext cx="1809720" cy="1081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9" descr="30"/>
          <p:cNvPicPr/>
          <p:nvPr/>
        </p:nvPicPr>
        <p:blipFill>
          <a:blip r:embed="rId9"/>
          <a:stretch/>
        </p:blipFill>
        <p:spPr>
          <a:xfrm>
            <a:off x="5508720" y="3068640"/>
            <a:ext cx="1809720" cy="104760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14" descr=""/>
          <p:cNvPicPr/>
          <p:nvPr/>
        </p:nvPicPr>
        <p:blipFill>
          <a:blip r:embed="rId10"/>
          <a:stretch/>
        </p:blipFill>
        <p:spPr>
          <a:xfrm>
            <a:off x="2073240" y="-19080"/>
            <a:ext cx="3035160" cy="11890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6" descr="rebus_18.png"/>
          <p:cNvPicPr/>
          <p:nvPr/>
        </p:nvPicPr>
        <p:blipFill>
          <a:blip r:embed="rId11"/>
          <a:stretch/>
        </p:blipFill>
        <p:spPr>
          <a:xfrm>
            <a:off x="0" y="1484280"/>
            <a:ext cx="42624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30"/>
          <p:cNvPicPr/>
          <p:nvPr/>
        </p:nvPicPr>
        <p:blipFill>
          <a:blip r:embed="rId2"/>
          <a:stretch/>
        </p:blipFill>
        <p:spPr>
          <a:xfrm>
            <a:off x="1692360" y="2205000"/>
            <a:ext cx="1809720" cy="10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30"/>
          <p:cNvPicPr/>
          <p:nvPr/>
        </p:nvPicPr>
        <p:blipFill>
          <a:blip r:embed="rId3"/>
          <a:stretch/>
        </p:blipFill>
        <p:spPr>
          <a:xfrm>
            <a:off x="5508720" y="1341360"/>
            <a:ext cx="1809720" cy="1047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9" descr="30"/>
          <p:cNvPicPr/>
          <p:nvPr/>
        </p:nvPicPr>
        <p:blipFill>
          <a:blip r:embed="rId4"/>
          <a:stretch/>
        </p:blipFill>
        <p:spPr>
          <a:xfrm>
            <a:off x="4932360" y="3213000"/>
            <a:ext cx="1809720" cy="1047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1" descr="30"/>
          <p:cNvPicPr/>
          <p:nvPr/>
        </p:nvPicPr>
        <p:blipFill>
          <a:blip r:embed="rId5"/>
          <a:stretch/>
        </p:blipFill>
        <p:spPr>
          <a:xfrm>
            <a:off x="6227640" y="2133720"/>
            <a:ext cx="1809720" cy="1079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1" descr="30"/>
          <p:cNvPicPr/>
          <p:nvPr/>
        </p:nvPicPr>
        <p:blipFill>
          <a:blip r:embed="rId6"/>
          <a:stretch/>
        </p:blipFill>
        <p:spPr>
          <a:xfrm>
            <a:off x="3276720" y="1628640"/>
            <a:ext cx="1809720" cy="1079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9" descr="30"/>
          <p:cNvPicPr/>
          <p:nvPr/>
        </p:nvPicPr>
        <p:blipFill>
          <a:blip r:embed="rId7"/>
          <a:stretch/>
        </p:blipFill>
        <p:spPr>
          <a:xfrm>
            <a:off x="4067280" y="2421000"/>
            <a:ext cx="1809720" cy="1047600"/>
          </a:xfrm>
          <a:prstGeom prst="rect">
            <a:avLst/>
          </a:prstGeom>
          <a:ln w="0">
            <a:noFill/>
          </a:ln>
        </p:spPr>
      </p:pic>
      <p:pic>
        <p:nvPicPr>
          <p:cNvPr id="219" name="6ocean.wav" descr=""/>
          <p:cNvPicPr/>
          <p:nvPr/>
        </p:nvPicPr>
        <p:blipFill>
          <a:blip r:embed="rId8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14" descr=""/>
          <p:cNvPicPr/>
          <p:nvPr/>
        </p:nvPicPr>
        <p:blipFill>
          <a:blip r:embed="rId9"/>
          <a:stretch/>
        </p:blipFill>
        <p:spPr>
          <a:xfrm>
            <a:off x="-360360" y="407880"/>
            <a:ext cx="9815400" cy="1328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1" descr="9"/>
          <p:cNvPicPr/>
          <p:nvPr/>
        </p:nvPicPr>
        <p:blipFill>
          <a:blip r:embed="rId10"/>
          <a:stretch/>
        </p:blipFill>
        <p:spPr>
          <a:xfrm>
            <a:off x="7926480" y="-171360"/>
            <a:ext cx="12175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30"/>
          <p:cNvPicPr/>
          <p:nvPr/>
        </p:nvPicPr>
        <p:blipFill>
          <a:blip r:embed="rId2"/>
          <a:stretch/>
        </p:blipFill>
        <p:spPr>
          <a:xfrm>
            <a:off x="8238960" y="2349360"/>
            <a:ext cx="1810080" cy="1047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7" descr="30"/>
          <p:cNvPicPr/>
          <p:nvPr/>
        </p:nvPicPr>
        <p:blipFill>
          <a:blip r:embed="rId3"/>
          <a:stretch/>
        </p:blipFill>
        <p:spPr>
          <a:xfrm>
            <a:off x="7020000" y="1700280"/>
            <a:ext cx="1809720" cy="1047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9" descr="30"/>
          <p:cNvPicPr/>
          <p:nvPr/>
        </p:nvPicPr>
        <p:blipFill>
          <a:blip r:embed="rId4"/>
          <a:stretch/>
        </p:blipFill>
        <p:spPr>
          <a:xfrm>
            <a:off x="6732720" y="3213000"/>
            <a:ext cx="1809720" cy="1047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1" descr="30"/>
          <p:cNvPicPr/>
          <p:nvPr/>
        </p:nvPicPr>
        <p:blipFill>
          <a:blip r:embed="rId5"/>
          <a:stretch/>
        </p:blipFill>
        <p:spPr>
          <a:xfrm>
            <a:off x="7667640" y="1989000"/>
            <a:ext cx="1809720" cy="1079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1" descr="30"/>
          <p:cNvPicPr/>
          <p:nvPr/>
        </p:nvPicPr>
        <p:blipFill>
          <a:blip r:embed="rId6"/>
          <a:stretch/>
        </p:blipFill>
        <p:spPr>
          <a:xfrm>
            <a:off x="7524720" y="2852640"/>
            <a:ext cx="1809720" cy="1081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9" descr="30"/>
          <p:cNvPicPr/>
          <p:nvPr/>
        </p:nvPicPr>
        <p:blipFill>
          <a:blip r:embed="rId7"/>
          <a:stretch/>
        </p:blipFill>
        <p:spPr>
          <a:xfrm>
            <a:off x="7020000" y="2349360"/>
            <a:ext cx="1809720" cy="104796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14" descr=""/>
          <p:cNvPicPr/>
          <p:nvPr/>
        </p:nvPicPr>
        <p:blipFill>
          <a:blip r:embed="rId8"/>
          <a:stretch/>
        </p:blipFill>
        <p:spPr>
          <a:xfrm>
            <a:off x="-360360" y="-208080"/>
            <a:ext cx="9815400" cy="13240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"/>
          <p:cNvSpPr/>
          <p:nvPr/>
        </p:nvSpPr>
        <p:spPr>
          <a:xfrm>
            <a:off x="1116000" y="1052640"/>
            <a:ext cx="655164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рок полезен, всё понят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Лишь кое-что чуть-чуть неяс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Ещё придётся потрудить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а, трудно всё-таки учитьс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Прямоугольник 17"/>
          <p:cNvSpPr/>
          <p:nvPr/>
        </p:nvSpPr>
        <p:spPr>
          <a:xfrm>
            <a:off x="1692360" y="53737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omic Sans MS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Овал 24"/>
          <p:cNvSpPr/>
          <p:nvPr/>
        </p:nvSpPr>
        <p:spPr>
          <a:xfrm>
            <a:off x="395280" y="981000"/>
            <a:ext cx="720720" cy="792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Овал 25"/>
          <p:cNvSpPr/>
          <p:nvPr/>
        </p:nvSpPr>
        <p:spPr>
          <a:xfrm>
            <a:off x="395280" y="3645000"/>
            <a:ext cx="720720" cy="792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Овал 26"/>
          <p:cNvSpPr/>
          <p:nvPr/>
        </p:nvSpPr>
        <p:spPr>
          <a:xfrm>
            <a:off x="395280" y="2708280"/>
            <a:ext cx="720720" cy="792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Овал 27"/>
          <p:cNvSpPr/>
          <p:nvPr/>
        </p:nvSpPr>
        <p:spPr>
          <a:xfrm>
            <a:off x="395280" y="1844640"/>
            <a:ext cx="720720" cy="792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30"/>
          <p:cNvPicPr/>
          <p:nvPr/>
        </p:nvPicPr>
        <p:blipFill>
          <a:blip r:embed="rId2"/>
          <a:stretch/>
        </p:blipFill>
        <p:spPr>
          <a:xfrm>
            <a:off x="6372360" y="1844640"/>
            <a:ext cx="1809720" cy="1047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7" descr="30"/>
          <p:cNvPicPr/>
          <p:nvPr/>
        </p:nvPicPr>
        <p:blipFill>
          <a:blip r:embed="rId3"/>
          <a:stretch/>
        </p:blipFill>
        <p:spPr>
          <a:xfrm>
            <a:off x="7596360" y="1916280"/>
            <a:ext cx="1809720" cy="1047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9" descr="30"/>
          <p:cNvPicPr/>
          <p:nvPr/>
        </p:nvPicPr>
        <p:blipFill>
          <a:blip r:embed="rId4"/>
          <a:stretch/>
        </p:blipFill>
        <p:spPr>
          <a:xfrm>
            <a:off x="4716360" y="2276640"/>
            <a:ext cx="1809720" cy="1047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1" descr="30"/>
          <p:cNvPicPr/>
          <p:nvPr/>
        </p:nvPicPr>
        <p:blipFill>
          <a:blip r:embed="rId5"/>
          <a:stretch/>
        </p:blipFill>
        <p:spPr>
          <a:xfrm>
            <a:off x="5364000" y="1413000"/>
            <a:ext cx="1810080" cy="1079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1" descr="30"/>
          <p:cNvPicPr/>
          <p:nvPr/>
        </p:nvPicPr>
        <p:blipFill>
          <a:blip r:embed="rId6"/>
          <a:stretch/>
        </p:blipFill>
        <p:spPr>
          <a:xfrm>
            <a:off x="5508720" y="2924280"/>
            <a:ext cx="1809720" cy="1081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9" descr="30"/>
          <p:cNvPicPr/>
          <p:nvPr/>
        </p:nvPicPr>
        <p:blipFill>
          <a:blip r:embed="rId7"/>
          <a:stretch/>
        </p:blipFill>
        <p:spPr>
          <a:xfrm>
            <a:off x="7093080" y="2924280"/>
            <a:ext cx="1809720" cy="1047600"/>
          </a:xfrm>
          <a:prstGeom prst="rect">
            <a:avLst/>
          </a:prstGeom>
          <a:ln w="0">
            <a:noFill/>
          </a:ln>
        </p:spPr>
      </p:pic>
      <p:pic>
        <p:nvPicPr>
          <p:cNvPr id="243" name="6ocean.wav" descr=""/>
          <p:cNvPicPr/>
          <p:nvPr/>
        </p:nvPicPr>
        <p:blipFill>
          <a:blip r:embed="rId8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12" descr="parusnik-slojenie-i-vichitanie-mnogozn-chisel_m.jpg"/>
          <p:cNvPicPr/>
          <p:nvPr/>
        </p:nvPicPr>
        <p:blipFill>
          <a:blip r:embed="rId9"/>
          <a:stretch/>
        </p:blipFill>
        <p:spPr>
          <a:xfrm>
            <a:off x="684360" y="1209600"/>
            <a:ext cx="3816360" cy="536256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оугольник 14" descr=""/>
          <p:cNvPicPr/>
          <p:nvPr/>
        </p:nvPicPr>
        <p:blipFill>
          <a:blip r:embed="rId10"/>
          <a:stretch/>
        </p:blipFill>
        <p:spPr>
          <a:xfrm>
            <a:off x="-360360" y="-23760"/>
            <a:ext cx="98154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30"/>
          <p:cNvPicPr/>
          <p:nvPr/>
        </p:nvPicPr>
        <p:blipFill>
          <a:blip r:embed="rId2"/>
          <a:stretch/>
        </p:blipFill>
        <p:spPr>
          <a:xfrm>
            <a:off x="1692360" y="2205000"/>
            <a:ext cx="1809720" cy="1047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30"/>
          <p:cNvPicPr/>
          <p:nvPr/>
        </p:nvPicPr>
        <p:blipFill>
          <a:blip r:embed="rId3"/>
          <a:stretch/>
        </p:blipFill>
        <p:spPr>
          <a:xfrm>
            <a:off x="5508720" y="1341360"/>
            <a:ext cx="1809720" cy="10479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9" descr="30"/>
          <p:cNvPicPr/>
          <p:nvPr/>
        </p:nvPicPr>
        <p:blipFill>
          <a:blip r:embed="rId4"/>
          <a:stretch/>
        </p:blipFill>
        <p:spPr>
          <a:xfrm>
            <a:off x="4932360" y="3213000"/>
            <a:ext cx="1809720" cy="1047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1" descr="30"/>
          <p:cNvPicPr/>
          <p:nvPr/>
        </p:nvPicPr>
        <p:blipFill>
          <a:blip r:embed="rId5"/>
          <a:stretch/>
        </p:blipFill>
        <p:spPr>
          <a:xfrm>
            <a:off x="6227640" y="2133720"/>
            <a:ext cx="1809720" cy="1079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1" descr="30"/>
          <p:cNvPicPr/>
          <p:nvPr/>
        </p:nvPicPr>
        <p:blipFill>
          <a:blip r:embed="rId6"/>
          <a:stretch/>
        </p:blipFill>
        <p:spPr>
          <a:xfrm>
            <a:off x="3276720" y="1628640"/>
            <a:ext cx="1809720" cy="1079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9" descr="30"/>
          <p:cNvPicPr/>
          <p:nvPr/>
        </p:nvPicPr>
        <p:blipFill>
          <a:blip r:embed="rId7"/>
          <a:stretch/>
        </p:blipFill>
        <p:spPr>
          <a:xfrm>
            <a:off x="4067280" y="2421000"/>
            <a:ext cx="1809720" cy="1047600"/>
          </a:xfrm>
          <a:prstGeom prst="rect">
            <a:avLst/>
          </a:prstGeom>
          <a:ln w="0">
            <a:noFill/>
          </a:ln>
        </p:spPr>
      </p:pic>
      <p:pic>
        <p:nvPicPr>
          <p:cNvPr id="253" name="6ocean.wav" descr=""/>
          <p:cNvPicPr/>
          <p:nvPr/>
        </p:nvPicPr>
        <p:blipFill>
          <a:blip r:embed="rId8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1" descr="9"/>
          <p:cNvPicPr/>
          <p:nvPr/>
        </p:nvPicPr>
        <p:blipFill>
          <a:blip r:embed="rId9"/>
          <a:stretch/>
        </p:blipFill>
        <p:spPr>
          <a:xfrm>
            <a:off x="7926480" y="0"/>
            <a:ext cx="1217520" cy="122400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14" descr=""/>
          <p:cNvPicPr/>
          <p:nvPr/>
        </p:nvPicPr>
        <p:blipFill>
          <a:blip r:embed="rId10"/>
          <a:stretch/>
        </p:blipFill>
        <p:spPr>
          <a:xfrm>
            <a:off x="-360360" y="268200"/>
            <a:ext cx="981540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3" descr=""/>
          <p:cNvPicPr/>
          <p:nvPr/>
        </p:nvPicPr>
        <p:blipFill>
          <a:blip r:embed="rId2"/>
          <a:stretch/>
        </p:blipFill>
        <p:spPr>
          <a:xfrm>
            <a:off x="4840200" y="1073160"/>
            <a:ext cx="3986280" cy="11523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4" descr=""/>
          <p:cNvPicPr/>
          <p:nvPr/>
        </p:nvPicPr>
        <p:blipFill>
          <a:blip r:embed="rId3"/>
          <a:stretch/>
        </p:blipFill>
        <p:spPr>
          <a:xfrm>
            <a:off x="311040" y="1212840"/>
            <a:ext cx="4469040" cy="11523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5" descr=""/>
          <p:cNvPicPr/>
          <p:nvPr/>
        </p:nvPicPr>
        <p:blipFill>
          <a:blip r:embed="rId4"/>
          <a:stretch/>
        </p:blipFill>
        <p:spPr>
          <a:xfrm>
            <a:off x="1096920" y="2225520"/>
            <a:ext cx="4256280" cy="115092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6" descr=""/>
          <p:cNvPicPr/>
          <p:nvPr/>
        </p:nvPicPr>
        <p:blipFill>
          <a:blip r:embed="rId5"/>
          <a:stretch/>
        </p:blipFill>
        <p:spPr>
          <a:xfrm>
            <a:off x="5059440" y="2152800"/>
            <a:ext cx="3554280" cy="115092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7" descr=""/>
          <p:cNvPicPr/>
          <p:nvPr/>
        </p:nvPicPr>
        <p:blipFill>
          <a:blip r:embed="rId6"/>
          <a:stretch/>
        </p:blipFill>
        <p:spPr>
          <a:xfrm>
            <a:off x="-49320" y="133200"/>
            <a:ext cx="8980560" cy="115272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8" descr=""/>
          <p:cNvPicPr/>
          <p:nvPr/>
        </p:nvPicPr>
        <p:blipFill>
          <a:blip r:embed="rId7"/>
          <a:stretch/>
        </p:blipFill>
        <p:spPr>
          <a:xfrm>
            <a:off x="3035160" y="3084480"/>
            <a:ext cx="4194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30"/>
          <p:cNvPicPr/>
          <p:nvPr/>
        </p:nvPicPr>
        <p:blipFill>
          <a:blip r:embed="rId2"/>
          <a:stretch/>
        </p:blipFill>
        <p:spPr>
          <a:xfrm>
            <a:off x="1332000" y="2637000"/>
            <a:ext cx="1809720" cy="104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9"/>
          <p:cNvPicPr/>
          <p:nvPr/>
        </p:nvPicPr>
        <p:blipFill>
          <a:blip r:embed="rId3"/>
          <a:stretch/>
        </p:blipFill>
        <p:spPr>
          <a:xfrm>
            <a:off x="7740720" y="0"/>
            <a:ext cx="1217520" cy="12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30"/>
          <p:cNvPicPr/>
          <p:nvPr/>
        </p:nvPicPr>
        <p:blipFill>
          <a:blip r:embed="rId4"/>
          <a:stretch/>
        </p:blipFill>
        <p:spPr>
          <a:xfrm>
            <a:off x="2627280" y="1844640"/>
            <a:ext cx="1809720" cy="1047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30"/>
          <p:cNvPicPr/>
          <p:nvPr/>
        </p:nvPicPr>
        <p:blipFill>
          <a:blip r:embed="rId5"/>
          <a:stretch/>
        </p:blipFill>
        <p:spPr>
          <a:xfrm>
            <a:off x="539640" y="2492280"/>
            <a:ext cx="1809720" cy="104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" descr="30"/>
          <p:cNvPicPr/>
          <p:nvPr/>
        </p:nvPicPr>
        <p:blipFill>
          <a:blip r:embed="rId6"/>
          <a:stretch/>
        </p:blipFill>
        <p:spPr>
          <a:xfrm>
            <a:off x="1692360" y="1989000"/>
            <a:ext cx="1809720" cy="1079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" descr="30"/>
          <p:cNvPicPr/>
          <p:nvPr/>
        </p:nvPicPr>
        <p:blipFill>
          <a:blip r:embed="rId7"/>
          <a:stretch/>
        </p:blipFill>
        <p:spPr>
          <a:xfrm>
            <a:off x="1908000" y="2781360"/>
            <a:ext cx="1810080" cy="1079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30"/>
          <p:cNvPicPr/>
          <p:nvPr/>
        </p:nvPicPr>
        <p:blipFill>
          <a:blip r:embed="rId8"/>
          <a:stretch/>
        </p:blipFill>
        <p:spPr>
          <a:xfrm>
            <a:off x="2411280" y="2205000"/>
            <a:ext cx="1809720" cy="1047960"/>
          </a:xfrm>
          <a:prstGeom prst="rect">
            <a:avLst/>
          </a:prstGeom>
          <a:ln w="0">
            <a:noFill/>
          </a:ln>
        </p:spPr>
      </p:pic>
      <p:pic>
        <p:nvPicPr>
          <p:cNvPr id="65" name="6ocean.wav" descr=""/>
          <p:cNvPicPr/>
          <p:nvPr/>
        </p:nvPicPr>
        <p:blipFill>
          <a:blip r:embed="rId9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14" descr=""/>
          <p:cNvPicPr/>
          <p:nvPr/>
        </p:nvPicPr>
        <p:blipFill>
          <a:blip r:embed="rId10"/>
          <a:stretch/>
        </p:blipFill>
        <p:spPr>
          <a:xfrm>
            <a:off x="1725480" y="-19080"/>
            <a:ext cx="2627280" cy="1189080"/>
          </a:xfrm>
          <a:prstGeom prst="rect">
            <a:avLst/>
          </a:prstGeom>
          <a:ln w="0">
            <a:noFill/>
          </a:ln>
        </p:spPr>
      </p:pic>
      <p:sp>
        <p:nvSpPr>
          <p:cNvPr id="67" name="TextBox 16"/>
          <p:cNvSpPr/>
          <p:nvPr/>
        </p:nvSpPr>
        <p:spPr>
          <a:xfrm>
            <a:off x="4211640" y="1413000"/>
            <a:ext cx="439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28· 32 + 590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438500: 500 + 417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723· 7 – 3589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63887- 348·2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30"/>
          <p:cNvPicPr/>
          <p:nvPr/>
        </p:nvPicPr>
        <p:blipFill>
          <a:blip r:embed="rId2"/>
          <a:stretch/>
        </p:blipFill>
        <p:spPr>
          <a:xfrm rot="21257400">
            <a:off x="2027160" y="2292120"/>
            <a:ext cx="1809720" cy="104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9"/>
          <p:cNvPicPr/>
          <p:nvPr/>
        </p:nvPicPr>
        <p:blipFill>
          <a:blip r:embed="rId3"/>
          <a:stretch/>
        </p:blipFill>
        <p:spPr>
          <a:xfrm>
            <a:off x="7451640" y="0"/>
            <a:ext cx="1217520" cy="1224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30"/>
          <p:cNvPicPr/>
          <p:nvPr/>
        </p:nvPicPr>
        <p:blipFill>
          <a:blip r:embed="rId4"/>
          <a:stretch/>
        </p:blipFill>
        <p:spPr>
          <a:xfrm>
            <a:off x="2627280" y="2492280"/>
            <a:ext cx="1809720" cy="1047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30"/>
          <p:cNvPicPr/>
          <p:nvPr/>
        </p:nvPicPr>
        <p:blipFill>
          <a:blip r:embed="rId5"/>
          <a:stretch/>
        </p:blipFill>
        <p:spPr>
          <a:xfrm>
            <a:off x="3203640" y="2781360"/>
            <a:ext cx="1809720" cy="1047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1" descr="30"/>
          <p:cNvPicPr/>
          <p:nvPr/>
        </p:nvPicPr>
        <p:blipFill>
          <a:blip r:embed="rId6"/>
          <a:stretch/>
        </p:blipFill>
        <p:spPr>
          <a:xfrm>
            <a:off x="1332000" y="2060640"/>
            <a:ext cx="1809720" cy="108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1" descr="30"/>
          <p:cNvPicPr/>
          <p:nvPr/>
        </p:nvPicPr>
        <p:blipFill>
          <a:blip r:embed="rId7"/>
          <a:stretch/>
        </p:blipFill>
        <p:spPr>
          <a:xfrm>
            <a:off x="3132000" y="3213000"/>
            <a:ext cx="1809720" cy="1079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9" descr="30"/>
          <p:cNvPicPr/>
          <p:nvPr/>
        </p:nvPicPr>
        <p:blipFill>
          <a:blip r:embed="rId8"/>
          <a:stretch/>
        </p:blipFill>
        <p:spPr>
          <a:xfrm>
            <a:off x="4067280" y="3357720"/>
            <a:ext cx="1809720" cy="10476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14" descr=""/>
          <p:cNvPicPr/>
          <p:nvPr/>
        </p:nvPicPr>
        <p:blipFill>
          <a:blip r:embed="rId9"/>
          <a:stretch/>
        </p:blipFill>
        <p:spPr>
          <a:xfrm>
            <a:off x="1633680" y="-19080"/>
            <a:ext cx="2815920" cy="1189080"/>
          </a:xfrm>
          <a:prstGeom prst="rect">
            <a:avLst/>
          </a:prstGeom>
          <a:ln w="0">
            <a:noFill/>
          </a:ln>
        </p:spPr>
      </p:pic>
      <p:sp>
        <p:nvSpPr>
          <p:cNvPr id="77" name="TextBox 15"/>
          <p:cNvSpPr/>
          <p:nvPr/>
        </p:nvSpPr>
        <p:spPr>
          <a:xfrm>
            <a:off x="4284720" y="692280"/>
            <a:ext cx="4390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650 –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· 5= 6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(34+ х) : 5 = 2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99 0 : ( 25 – у) = 9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 · ( 23+ с) = 18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6ocean.wav" descr=""/>
          <p:cNvPicPr/>
          <p:nvPr/>
        </p:nvPicPr>
        <p:blipFill>
          <a:blip r:embed="rId10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30"/>
          <p:cNvPicPr/>
          <p:nvPr/>
        </p:nvPicPr>
        <p:blipFill>
          <a:blip r:embed="rId2"/>
          <a:stretch/>
        </p:blipFill>
        <p:spPr>
          <a:xfrm rot="21257400">
            <a:off x="2603520" y="2076120"/>
            <a:ext cx="1809720" cy="1047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30"/>
          <p:cNvPicPr/>
          <p:nvPr/>
        </p:nvPicPr>
        <p:blipFill>
          <a:blip r:embed="rId3"/>
          <a:stretch/>
        </p:blipFill>
        <p:spPr>
          <a:xfrm>
            <a:off x="3276720" y="2276640"/>
            <a:ext cx="1809720" cy="1047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9" descr="30"/>
          <p:cNvPicPr/>
          <p:nvPr/>
        </p:nvPicPr>
        <p:blipFill>
          <a:blip r:embed="rId4"/>
          <a:stretch/>
        </p:blipFill>
        <p:spPr>
          <a:xfrm>
            <a:off x="2556000" y="2637000"/>
            <a:ext cx="1809720" cy="1047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1" descr="30"/>
          <p:cNvPicPr/>
          <p:nvPr/>
        </p:nvPicPr>
        <p:blipFill>
          <a:blip r:embed="rId5"/>
          <a:stretch/>
        </p:blipFill>
        <p:spPr>
          <a:xfrm>
            <a:off x="1908000" y="1844640"/>
            <a:ext cx="1810080" cy="1079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1" descr="30"/>
          <p:cNvPicPr/>
          <p:nvPr/>
        </p:nvPicPr>
        <p:blipFill>
          <a:blip r:embed="rId6"/>
          <a:stretch/>
        </p:blipFill>
        <p:spPr>
          <a:xfrm>
            <a:off x="2987640" y="2997360"/>
            <a:ext cx="1809720" cy="1079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9" descr="30"/>
          <p:cNvPicPr/>
          <p:nvPr/>
        </p:nvPicPr>
        <p:blipFill>
          <a:blip r:embed="rId7"/>
          <a:stretch/>
        </p:blipFill>
        <p:spPr>
          <a:xfrm>
            <a:off x="3851280" y="3284640"/>
            <a:ext cx="1809720" cy="104760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14" descr=""/>
          <p:cNvPicPr/>
          <p:nvPr/>
        </p:nvPicPr>
        <p:blipFill>
          <a:blip r:embed="rId8"/>
          <a:stretch/>
        </p:blipFill>
        <p:spPr>
          <a:xfrm>
            <a:off x="1152360" y="-19080"/>
            <a:ext cx="3005280" cy="11890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2" descr="rebus_13.png"/>
          <p:cNvPicPr/>
          <p:nvPr/>
        </p:nvPicPr>
        <p:blipFill>
          <a:blip r:embed="rId9"/>
          <a:stretch/>
        </p:blipFill>
        <p:spPr>
          <a:xfrm>
            <a:off x="4500720" y="333360"/>
            <a:ext cx="444312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30"/>
          <p:cNvPicPr/>
          <p:nvPr/>
        </p:nvPicPr>
        <p:blipFill>
          <a:blip r:embed="rId2"/>
          <a:stretch/>
        </p:blipFill>
        <p:spPr>
          <a:xfrm rot="21257400">
            <a:off x="2674800" y="2220480"/>
            <a:ext cx="1809720" cy="1047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9"/>
          <p:cNvPicPr/>
          <p:nvPr/>
        </p:nvPicPr>
        <p:blipFill>
          <a:blip r:embed="rId3"/>
          <a:stretch/>
        </p:blipFill>
        <p:spPr>
          <a:xfrm>
            <a:off x="250920" y="260280"/>
            <a:ext cx="1217520" cy="122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30"/>
          <p:cNvPicPr/>
          <p:nvPr/>
        </p:nvPicPr>
        <p:blipFill>
          <a:blip r:embed="rId4"/>
          <a:stretch/>
        </p:blipFill>
        <p:spPr>
          <a:xfrm>
            <a:off x="3492360" y="2349360"/>
            <a:ext cx="1809720" cy="1047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9" descr="30"/>
          <p:cNvPicPr/>
          <p:nvPr/>
        </p:nvPicPr>
        <p:blipFill>
          <a:blip r:embed="rId5"/>
          <a:stretch/>
        </p:blipFill>
        <p:spPr>
          <a:xfrm>
            <a:off x="2771640" y="2708280"/>
            <a:ext cx="1809720" cy="104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1" descr="30"/>
          <p:cNvPicPr/>
          <p:nvPr/>
        </p:nvPicPr>
        <p:blipFill>
          <a:blip r:embed="rId6"/>
          <a:stretch/>
        </p:blipFill>
        <p:spPr>
          <a:xfrm>
            <a:off x="3132000" y="1700280"/>
            <a:ext cx="1809720" cy="108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1" descr="30"/>
          <p:cNvPicPr/>
          <p:nvPr/>
        </p:nvPicPr>
        <p:blipFill>
          <a:blip r:embed="rId7"/>
          <a:stretch/>
        </p:blipFill>
        <p:spPr>
          <a:xfrm>
            <a:off x="3492360" y="2997360"/>
            <a:ext cx="1809720" cy="1079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9" descr="30"/>
          <p:cNvPicPr/>
          <p:nvPr/>
        </p:nvPicPr>
        <p:blipFill>
          <a:blip r:embed="rId8"/>
          <a:stretch/>
        </p:blipFill>
        <p:spPr>
          <a:xfrm>
            <a:off x="4284720" y="3284640"/>
            <a:ext cx="1809720" cy="104760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14" descr=""/>
          <p:cNvPicPr/>
          <p:nvPr/>
        </p:nvPicPr>
        <p:blipFill>
          <a:blip r:embed="rId9"/>
          <a:stretch/>
        </p:blipFill>
        <p:spPr>
          <a:xfrm>
            <a:off x="1139760" y="-19080"/>
            <a:ext cx="3035520" cy="1189080"/>
          </a:xfrm>
          <a:prstGeom prst="rect">
            <a:avLst/>
          </a:prstGeom>
          <a:ln w="0">
            <a:noFill/>
          </a:ln>
        </p:spPr>
      </p:pic>
      <p:sp>
        <p:nvSpPr>
          <p:cNvPr id="97" name="TextBox 15"/>
          <p:cNvSpPr/>
          <p:nvPr/>
        </p:nvSpPr>
        <p:spPr>
          <a:xfrm>
            <a:off x="4932360" y="404640"/>
            <a:ext cx="421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Найти сумму чисел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MDCCXLVII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MMCDLXXX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DCCCXXI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MMDCCCI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30"/>
          <p:cNvPicPr/>
          <p:nvPr/>
        </p:nvPicPr>
        <p:blipFill>
          <a:blip r:embed="rId2"/>
          <a:stretch/>
        </p:blipFill>
        <p:spPr>
          <a:xfrm rot="21257400">
            <a:off x="3467160" y="2076120"/>
            <a:ext cx="1809720" cy="1047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9"/>
          <p:cNvPicPr/>
          <p:nvPr/>
        </p:nvPicPr>
        <p:blipFill>
          <a:blip r:embed="rId3"/>
          <a:stretch/>
        </p:blipFill>
        <p:spPr>
          <a:xfrm>
            <a:off x="1403280" y="0"/>
            <a:ext cx="1217520" cy="1224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30"/>
          <p:cNvPicPr/>
          <p:nvPr/>
        </p:nvPicPr>
        <p:blipFill>
          <a:blip r:embed="rId4"/>
          <a:stretch/>
        </p:blipFill>
        <p:spPr>
          <a:xfrm>
            <a:off x="4284720" y="2781360"/>
            <a:ext cx="1809720" cy="1047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9" descr="30"/>
          <p:cNvPicPr/>
          <p:nvPr/>
        </p:nvPicPr>
        <p:blipFill>
          <a:blip r:embed="rId5"/>
          <a:stretch/>
        </p:blipFill>
        <p:spPr>
          <a:xfrm>
            <a:off x="3203640" y="2565360"/>
            <a:ext cx="1809720" cy="1047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1" descr="30"/>
          <p:cNvPicPr/>
          <p:nvPr/>
        </p:nvPicPr>
        <p:blipFill>
          <a:blip r:embed="rId6"/>
          <a:stretch/>
        </p:blipFill>
        <p:spPr>
          <a:xfrm>
            <a:off x="4140360" y="1484280"/>
            <a:ext cx="1809720" cy="1081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1" descr="30"/>
          <p:cNvPicPr/>
          <p:nvPr/>
        </p:nvPicPr>
        <p:blipFill>
          <a:blip r:embed="rId7"/>
          <a:stretch/>
        </p:blipFill>
        <p:spPr>
          <a:xfrm>
            <a:off x="4788000" y="2133720"/>
            <a:ext cx="1809720" cy="107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9" descr="30"/>
          <p:cNvPicPr/>
          <p:nvPr/>
        </p:nvPicPr>
        <p:blipFill>
          <a:blip r:embed="rId8"/>
          <a:stretch/>
        </p:blipFill>
        <p:spPr>
          <a:xfrm>
            <a:off x="4284720" y="3500280"/>
            <a:ext cx="1809720" cy="1047960"/>
          </a:xfrm>
          <a:prstGeom prst="rect">
            <a:avLst/>
          </a:prstGeom>
          <a:ln w="0">
            <a:noFill/>
          </a:ln>
        </p:spPr>
      </p:pic>
      <p:pic>
        <p:nvPicPr>
          <p:cNvPr id="106" name="6ocean.wav" descr=""/>
          <p:cNvPicPr/>
          <p:nvPr/>
        </p:nvPicPr>
        <p:blipFill>
          <a:blip r:embed="rId9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14" descr=""/>
          <p:cNvPicPr/>
          <p:nvPr/>
        </p:nvPicPr>
        <p:blipFill>
          <a:blip r:embed="rId10"/>
          <a:stretch/>
        </p:blipFill>
        <p:spPr>
          <a:xfrm>
            <a:off x="2664000" y="55440"/>
            <a:ext cx="2846160" cy="118764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2"/>
          <p:cNvGrpSpPr/>
          <p:nvPr/>
        </p:nvGrpSpPr>
        <p:grpSpPr>
          <a:xfrm>
            <a:off x="5148360" y="0"/>
            <a:ext cx="3995640" cy="3068640"/>
            <a:chOff x="5148360" y="0"/>
            <a:chExt cx="3995640" cy="3068640"/>
          </a:xfrm>
        </p:grpSpPr>
        <p:sp>
          <p:nvSpPr>
            <p:cNvPr id="109" name="AutoShape 3"/>
            <p:cNvSpPr/>
            <p:nvPr/>
          </p:nvSpPr>
          <p:spPr>
            <a:xfrm>
              <a:off x="5148360" y="0"/>
              <a:ext cx="3995640" cy="30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 Box 4"/>
            <p:cNvSpPr/>
            <p:nvPr/>
          </p:nvSpPr>
          <p:spPr>
            <a:xfrm>
              <a:off x="5334840" y="1337400"/>
              <a:ext cx="30528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Line 5"/>
            <p:cNvSpPr/>
            <p:nvPr/>
          </p:nvSpPr>
          <p:spPr>
            <a:xfrm flipV="1">
              <a:off x="5680080" y="478080"/>
              <a:ext cx="676800" cy="10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5610240" y="1468080"/>
              <a:ext cx="81720" cy="158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Oval 7"/>
            <p:cNvSpPr/>
            <p:nvPr/>
          </p:nvSpPr>
          <p:spPr>
            <a:xfrm>
              <a:off x="7104240" y="1468080"/>
              <a:ext cx="81720" cy="158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Oval 8"/>
            <p:cNvSpPr/>
            <p:nvPr/>
          </p:nvSpPr>
          <p:spPr>
            <a:xfrm>
              <a:off x="8598960" y="1468080"/>
              <a:ext cx="81720" cy="158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5" name="Group 9"/>
            <p:cNvGrpSpPr/>
            <p:nvPr/>
          </p:nvGrpSpPr>
          <p:grpSpPr>
            <a:xfrm>
              <a:off x="6357240" y="380160"/>
              <a:ext cx="81720" cy="2335320"/>
              <a:chOff x="6357240" y="380160"/>
              <a:chExt cx="81720" cy="2335320"/>
            </a:xfrm>
          </p:grpSpPr>
          <p:sp>
            <p:nvSpPr>
              <p:cNvPr id="116" name="Oval 10"/>
              <p:cNvSpPr/>
              <p:nvPr/>
            </p:nvSpPr>
            <p:spPr>
              <a:xfrm>
                <a:off x="6357240" y="380160"/>
                <a:ext cx="81720" cy="158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Oval 11"/>
              <p:cNvSpPr/>
              <p:nvPr/>
            </p:nvSpPr>
            <p:spPr>
              <a:xfrm>
                <a:off x="6357240" y="1105560"/>
                <a:ext cx="81720" cy="158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Oval 12"/>
              <p:cNvSpPr/>
              <p:nvPr/>
            </p:nvSpPr>
            <p:spPr>
              <a:xfrm>
                <a:off x="6357240" y="1831320"/>
                <a:ext cx="81720" cy="158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Oval 13"/>
              <p:cNvSpPr/>
              <p:nvPr/>
            </p:nvSpPr>
            <p:spPr>
              <a:xfrm>
                <a:off x="6357240" y="2557080"/>
                <a:ext cx="81720" cy="158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0" name="Group 14"/>
            <p:cNvGrpSpPr/>
            <p:nvPr/>
          </p:nvGrpSpPr>
          <p:grpSpPr>
            <a:xfrm>
              <a:off x="7851240" y="380160"/>
              <a:ext cx="81720" cy="2335320"/>
              <a:chOff x="7851240" y="380160"/>
              <a:chExt cx="81720" cy="2335320"/>
            </a:xfrm>
          </p:grpSpPr>
          <p:sp>
            <p:nvSpPr>
              <p:cNvPr id="121" name="Oval 15"/>
              <p:cNvSpPr/>
              <p:nvPr/>
            </p:nvSpPr>
            <p:spPr>
              <a:xfrm>
                <a:off x="7851240" y="380160"/>
                <a:ext cx="81720" cy="158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Oval 16"/>
              <p:cNvSpPr/>
              <p:nvPr/>
            </p:nvSpPr>
            <p:spPr>
              <a:xfrm>
                <a:off x="7851240" y="1105560"/>
                <a:ext cx="81720" cy="158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Oval 17"/>
              <p:cNvSpPr/>
              <p:nvPr/>
            </p:nvSpPr>
            <p:spPr>
              <a:xfrm>
                <a:off x="7851240" y="1831320"/>
                <a:ext cx="81720" cy="158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Oval 18"/>
              <p:cNvSpPr/>
              <p:nvPr/>
            </p:nvSpPr>
            <p:spPr>
              <a:xfrm>
                <a:off x="7851240" y="2557080"/>
                <a:ext cx="81720" cy="158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5" name="Line 19"/>
            <p:cNvSpPr/>
            <p:nvPr/>
          </p:nvSpPr>
          <p:spPr>
            <a:xfrm flipV="1">
              <a:off x="5680080" y="1153080"/>
              <a:ext cx="69768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 flipV="1">
              <a:off x="6397560" y="450000"/>
              <a:ext cx="14713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1"/>
            <p:cNvSpPr/>
            <p:nvPr/>
          </p:nvSpPr>
          <p:spPr>
            <a:xfrm flipV="1">
              <a:off x="6397560" y="1177560"/>
              <a:ext cx="1471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22"/>
            <p:cNvSpPr/>
            <p:nvPr/>
          </p:nvSpPr>
          <p:spPr>
            <a:xfrm flipV="1">
              <a:off x="6397560" y="1895760"/>
              <a:ext cx="14713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23"/>
            <p:cNvSpPr/>
            <p:nvPr/>
          </p:nvSpPr>
          <p:spPr>
            <a:xfrm flipV="1">
              <a:off x="6397560" y="2623320"/>
              <a:ext cx="1471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>
              <a:off x="5680080" y="1591560"/>
              <a:ext cx="676800" cy="10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>
              <a:off x="5680080" y="1557720"/>
              <a:ext cx="693360" cy="3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26"/>
            <p:cNvSpPr/>
            <p:nvPr/>
          </p:nvSpPr>
          <p:spPr>
            <a:xfrm>
              <a:off x="7883640" y="451440"/>
              <a:ext cx="745560" cy="10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7883640" y="1188720"/>
              <a:ext cx="725760" cy="35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Line 28"/>
            <p:cNvSpPr/>
            <p:nvPr/>
          </p:nvSpPr>
          <p:spPr>
            <a:xfrm flipV="1">
              <a:off x="7883640" y="1562400"/>
              <a:ext cx="730800" cy="34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Line 29"/>
            <p:cNvSpPr/>
            <p:nvPr/>
          </p:nvSpPr>
          <p:spPr>
            <a:xfrm flipV="1">
              <a:off x="7883640" y="1601280"/>
              <a:ext cx="745560" cy="10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Line 30"/>
            <p:cNvSpPr/>
            <p:nvPr/>
          </p:nvSpPr>
          <p:spPr>
            <a:xfrm flipV="1">
              <a:off x="6420960" y="506160"/>
              <a:ext cx="1451880" cy="63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Line 31"/>
            <p:cNvSpPr/>
            <p:nvPr/>
          </p:nvSpPr>
          <p:spPr>
            <a:xfrm flipV="1">
              <a:off x="6399720" y="1967760"/>
              <a:ext cx="1462680" cy="64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Line 32"/>
            <p:cNvSpPr/>
            <p:nvPr/>
          </p:nvSpPr>
          <p:spPr>
            <a:xfrm flipV="1">
              <a:off x="5631840" y="1542240"/>
              <a:ext cx="14713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Line 33"/>
            <p:cNvSpPr/>
            <p:nvPr/>
          </p:nvSpPr>
          <p:spPr>
            <a:xfrm flipV="1">
              <a:off x="7119360" y="1542240"/>
              <a:ext cx="14713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Line 34"/>
            <p:cNvSpPr/>
            <p:nvPr/>
          </p:nvSpPr>
          <p:spPr>
            <a:xfrm flipV="1">
              <a:off x="6401160" y="1578960"/>
              <a:ext cx="715680" cy="31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Line 35"/>
            <p:cNvSpPr/>
            <p:nvPr/>
          </p:nvSpPr>
          <p:spPr>
            <a:xfrm flipV="1">
              <a:off x="7147440" y="1213560"/>
              <a:ext cx="715680" cy="3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Line 36"/>
            <p:cNvSpPr/>
            <p:nvPr/>
          </p:nvSpPr>
          <p:spPr>
            <a:xfrm>
              <a:off x="7151760" y="1539720"/>
              <a:ext cx="715680" cy="31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>
              <a:off x="6411240" y="1194480"/>
              <a:ext cx="715680" cy="31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Text Box 38"/>
            <p:cNvSpPr/>
            <p:nvPr/>
          </p:nvSpPr>
          <p:spPr>
            <a:xfrm>
              <a:off x="6239160" y="0"/>
              <a:ext cx="3052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Text Box 39"/>
            <p:cNvSpPr/>
            <p:nvPr/>
          </p:nvSpPr>
          <p:spPr>
            <a:xfrm>
              <a:off x="6347520" y="679320"/>
              <a:ext cx="30528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Text Box 40"/>
            <p:cNvSpPr/>
            <p:nvPr/>
          </p:nvSpPr>
          <p:spPr>
            <a:xfrm>
              <a:off x="6289560" y="1978920"/>
              <a:ext cx="30528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Text Box 41"/>
            <p:cNvSpPr/>
            <p:nvPr/>
          </p:nvSpPr>
          <p:spPr>
            <a:xfrm>
              <a:off x="6999120" y="1118520"/>
              <a:ext cx="30528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Text Box 42"/>
            <p:cNvSpPr/>
            <p:nvPr/>
          </p:nvSpPr>
          <p:spPr>
            <a:xfrm>
              <a:off x="7755120" y="0"/>
              <a:ext cx="3052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Text Box 43"/>
            <p:cNvSpPr/>
            <p:nvPr/>
          </p:nvSpPr>
          <p:spPr>
            <a:xfrm>
              <a:off x="7736040" y="765000"/>
              <a:ext cx="3052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З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 Box 44"/>
            <p:cNvSpPr/>
            <p:nvPr/>
          </p:nvSpPr>
          <p:spPr>
            <a:xfrm>
              <a:off x="7755120" y="2031120"/>
              <a:ext cx="30528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 Box 45"/>
            <p:cNvSpPr/>
            <p:nvPr/>
          </p:nvSpPr>
          <p:spPr>
            <a:xfrm>
              <a:off x="7764840" y="2651400"/>
              <a:ext cx="30528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 Box 46"/>
            <p:cNvSpPr/>
            <p:nvPr/>
          </p:nvSpPr>
          <p:spPr>
            <a:xfrm>
              <a:off x="8693640" y="1329120"/>
              <a:ext cx="3052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Text Box 47"/>
            <p:cNvSpPr/>
            <p:nvPr/>
          </p:nvSpPr>
          <p:spPr>
            <a:xfrm>
              <a:off x="6184080" y="2640240"/>
              <a:ext cx="30528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Г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Rectangle 8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Group 48"/>
          <p:cNvGrpSpPr/>
          <p:nvPr/>
        </p:nvGrpSpPr>
        <p:grpSpPr>
          <a:xfrm>
            <a:off x="0" y="1341360"/>
            <a:ext cx="3416400" cy="2519280"/>
            <a:chOff x="0" y="1341360"/>
            <a:chExt cx="3416400" cy="2519280"/>
          </a:xfrm>
        </p:grpSpPr>
        <p:sp>
          <p:nvSpPr>
            <p:cNvPr id="156" name="AutoShape 79"/>
            <p:cNvSpPr/>
            <p:nvPr/>
          </p:nvSpPr>
          <p:spPr>
            <a:xfrm>
              <a:off x="0" y="1341360"/>
              <a:ext cx="3416400" cy="25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 Box 78"/>
            <p:cNvSpPr/>
            <p:nvPr/>
          </p:nvSpPr>
          <p:spPr>
            <a:xfrm>
              <a:off x="0" y="2178720"/>
              <a:ext cx="25344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Line 77"/>
            <p:cNvSpPr/>
            <p:nvPr/>
          </p:nvSpPr>
          <p:spPr>
            <a:xfrm flipV="1">
              <a:off x="415080" y="1931760"/>
              <a:ext cx="69228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76"/>
            <p:cNvSpPr/>
            <p:nvPr/>
          </p:nvSpPr>
          <p:spPr>
            <a:xfrm>
              <a:off x="328320" y="2303280"/>
              <a:ext cx="130680" cy="130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75"/>
            <p:cNvSpPr/>
            <p:nvPr/>
          </p:nvSpPr>
          <p:spPr>
            <a:xfrm>
              <a:off x="1107720" y="1834920"/>
              <a:ext cx="130680" cy="130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74"/>
            <p:cNvSpPr/>
            <p:nvPr/>
          </p:nvSpPr>
          <p:spPr>
            <a:xfrm>
              <a:off x="1169640" y="2391840"/>
              <a:ext cx="130680" cy="130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73"/>
            <p:cNvSpPr/>
            <p:nvPr/>
          </p:nvSpPr>
          <p:spPr>
            <a:xfrm>
              <a:off x="1038960" y="3047400"/>
              <a:ext cx="130680" cy="130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72"/>
            <p:cNvSpPr/>
            <p:nvPr/>
          </p:nvSpPr>
          <p:spPr>
            <a:xfrm>
              <a:off x="2359800" y="1517760"/>
              <a:ext cx="130680" cy="130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71"/>
            <p:cNvSpPr/>
            <p:nvPr/>
          </p:nvSpPr>
          <p:spPr>
            <a:xfrm>
              <a:off x="3004920" y="2106720"/>
              <a:ext cx="130680" cy="130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70"/>
            <p:cNvSpPr/>
            <p:nvPr/>
          </p:nvSpPr>
          <p:spPr>
            <a:xfrm>
              <a:off x="3032280" y="2916720"/>
              <a:ext cx="130680" cy="130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69"/>
            <p:cNvSpPr/>
            <p:nvPr/>
          </p:nvSpPr>
          <p:spPr>
            <a:xfrm>
              <a:off x="2422800" y="3605400"/>
              <a:ext cx="130680" cy="130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Text Box 68"/>
            <p:cNvSpPr/>
            <p:nvPr/>
          </p:nvSpPr>
          <p:spPr>
            <a:xfrm>
              <a:off x="1008000" y="1557000"/>
              <a:ext cx="25308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 Box 67"/>
            <p:cNvSpPr/>
            <p:nvPr/>
          </p:nvSpPr>
          <p:spPr>
            <a:xfrm>
              <a:off x="935640" y="2060640"/>
              <a:ext cx="2534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Text Box 66"/>
            <p:cNvSpPr/>
            <p:nvPr/>
          </p:nvSpPr>
          <p:spPr>
            <a:xfrm>
              <a:off x="839520" y="3178440"/>
              <a:ext cx="25344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Г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Line 65"/>
            <p:cNvSpPr/>
            <p:nvPr/>
          </p:nvSpPr>
          <p:spPr>
            <a:xfrm>
              <a:off x="415080" y="2391840"/>
              <a:ext cx="623880" cy="70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Line 64"/>
            <p:cNvSpPr/>
            <p:nvPr/>
          </p:nvSpPr>
          <p:spPr>
            <a:xfrm>
              <a:off x="431640" y="2349000"/>
              <a:ext cx="754560" cy="7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Line 63"/>
            <p:cNvSpPr/>
            <p:nvPr/>
          </p:nvSpPr>
          <p:spPr>
            <a:xfrm>
              <a:off x="1107720" y="3101400"/>
              <a:ext cx="1315080" cy="54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Text Box 62"/>
            <p:cNvSpPr/>
            <p:nvPr/>
          </p:nvSpPr>
          <p:spPr>
            <a:xfrm>
              <a:off x="2490840" y="1341360"/>
              <a:ext cx="25308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 Box 61"/>
            <p:cNvSpPr/>
            <p:nvPr/>
          </p:nvSpPr>
          <p:spPr>
            <a:xfrm>
              <a:off x="3130200" y="2003040"/>
              <a:ext cx="2534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Text Box 60"/>
            <p:cNvSpPr/>
            <p:nvPr/>
          </p:nvSpPr>
          <p:spPr>
            <a:xfrm>
              <a:off x="2608920" y="3605400"/>
              <a:ext cx="25308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Text Box 59"/>
            <p:cNvSpPr/>
            <p:nvPr/>
          </p:nvSpPr>
          <p:spPr>
            <a:xfrm>
              <a:off x="3162960" y="2878560"/>
              <a:ext cx="25308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З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Line 58"/>
            <p:cNvSpPr/>
            <p:nvPr/>
          </p:nvSpPr>
          <p:spPr>
            <a:xfrm flipH="1" flipV="1">
              <a:off x="1192320" y="1966680"/>
              <a:ext cx="52200" cy="50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Line 57"/>
            <p:cNvSpPr/>
            <p:nvPr/>
          </p:nvSpPr>
          <p:spPr>
            <a:xfrm flipH="1">
              <a:off x="1110960" y="2466720"/>
              <a:ext cx="12132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Line 56"/>
            <p:cNvSpPr/>
            <p:nvPr/>
          </p:nvSpPr>
          <p:spPr>
            <a:xfrm flipV="1">
              <a:off x="1216440" y="1579680"/>
              <a:ext cx="114336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Line 55"/>
            <p:cNvSpPr/>
            <p:nvPr/>
          </p:nvSpPr>
          <p:spPr>
            <a:xfrm flipV="1">
              <a:off x="1253880" y="1621080"/>
              <a:ext cx="1140480" cy="82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Line 54"/>
            <p:cNvSpPr/>
            <p:nvPr/>
          </p:nvSpPr>
          <p:spPr>
            <a:xfrm flipV="1">
              <a:off x="1253880" y="2186640"/>
              <a:ext cx="1750680" cy="26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Line 53"/>
            <p:cNvSpPr/>
            <p:nvPr/>
          </p:nvSpPr>
          <p:spPr>
            <a:xfrm>
              <a:off x="1257480" y="2494080"/>
              <a:ext cx="1216440" cy="11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Line 52"/>
            <p:cNvSpPr/>
            <p:nvPr/>
          </p:nvSpPr>
          <p:spPr>
            <a:xfrm>
              <a:off x="1265760" y="2467800"/>
              <a:ext cx="1771920" cy="49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Line 51"/>
            <p:cNvSpPr/>
            <p:nvPr/>
          </p:nvSpPr>
          <p:spPr>
            <a:xfrm flipV="1">
              <a:off x="2501640" y="3012840"/>
              <a:ext cx="58320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Line 50"/>
            <p:cNvSpPr/>
            <p:nvPr/>
          </p:nvSpPr>
          <p:spPr>
            <a:xfrm>
              <a:off x="2451240" y="1618200"/>
              <a:ext cx="594360" cy="51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49"/>
            <p:cNvSpPr/>
            <p:nvPr/>
          </p:nvSpPr>
          <p:spPr>
            <a:xfrm>
              <a:off x="3090960" y="2213640"/>
              <a:ext cx="4320" cy="71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/>
          <p:cNvSpPr/>
          <p:nvPr/>
        </p:nvSpPr>
        <p:spPr>
          <a:xfrm>
            <a:off x="2195640" y="1052640"/>
            <a:ext cx="669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б глаза твои зорче был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б очки тебе не носить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и лёгкие дви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длагаю повтори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6" descr="8f28c9c5fc"/>
          <p:cNvPicPr/>
          <p:nvPr/>
        </p:nvPicPr>
        <p:blipFill>
          <a:blip r:embed="rId2"/>
          <a:stretch/>
        </p:blipFill>
        <p:spPr>
          <a:xfrm>
            <a:off x="0" y="189000"/>
            <a:ext cx="2303640" cy="2303280"/>
          </a:xfrm>
          <a:prstGeom prst="rect">
            <a:avLst/>
          </a:prstGeom>
          <a:ln w="0">
            <a:noFill/>
          </a:ln>
        </p:spPr>
      </p:pic>
      <p:pic>
        <p:nvPicPr>
          <p:cNvPr id="190" name="Dетская студия - Зорепад - Чип и Дэйл (орг)(224).mp3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111 -0.01619 C 0.07778 -0.03816 0.06979 -0.03376 0.0809 -0.03862 C 0.08715 -0.04741 0.08316 -0.04348 0.09357 -0.0481 C 0.09635 -0.04926 0.10208 -0.0518 0.10208 -0.05157 C 0.10955 -0.05851 0.11892 -0.05966 0.12743 -0.06313 C 0.13368 -0.06568 0.13941 -0.06845 0.14548 -0.07053 C 0.15555 -0.07909 0.16597 -0.07886 0.17812 -0.08002 C 0.21198 -0.09135 0.2908 -0.08695 0.31198 -0.08742 C 0.35573 -0.08626 0.39913 -0.08441 0.44288 -0.08187 C 0.45746 -0.08002 0.47205 -0.07701 0.48663 -0.07423 C 0.49653 -0.07238 0.50642 -0.07192 0.51614 -0.06868 C 0.53368 -0.0629 0.55069 -0.05388 0.56823 -0.0481 C 0.57083 -0.04579 0.57257 -0.04232 0.57535 -0.04047 C 0.57795 -0.03862 0.58125 -0.03885 0.58368 -0.03677 C 0.58889 -0.03237 0.59479 -0.02821 0.60069 -0.02544 C 0.60868 -0.00948 0.59809 -0.02821 0.60764 -0.01804 C 0.60903 -0.01665 0.60937 -0.0141 0.61041 -0.01249 C 0.61423 -0.00624 0.61267 -0.0104 0.61753 -0.00485 C 0.625 0.0037 0.63073 0.01619 0.63871 0.02313 C 0.64028 0.02961 0.64288 0.03539 0.64427 0.04209 C 0.64878 0.06314 0.65173 0.08488 0.65694 0.10569 C 0.6625 0.15171 0.65798 0.19542 0.65694 0.24283 C 0.65503 0.32563 0.66163 0.29626 0.65416 0.32725 C 0.65364 0.33233 0.65347 0.33719 0.65278 0.34228 C 0.65208 0.34852 0.65 0.36101 0.65 0.36124 C 0.64791 0.38969 0.64271 0.41467 0.63576 0.44172 C 0.63316 0.45144 0.63177 0.46115 0.62743 0.46971 C 0.62465 0.48104 0.61128 0.50116 0.60347 0.5074 C 0.59982 0.51041 0.59514 0.51087 0.59219 0.5148 C 0.58663 0.5222 0.58298 0.52729 0.57535 0.52984 C 0.5743 0.53169 0.57378 0.53423 0.57239 0.53516 C 0.56944 0.5377 0.55399 0.54487 0.55 0.54672 C 0.53976 0.55065 0.53021 0.55666 0.52014 0.56175 C 0.50712 0.56823 0.49201 0.56915 0.47812 0.571 C 0.46649 0.57586 0.45347 0.57609 0.44114 0.57863 C 0.41649 0.58349 0.39201 0.58788 0.36666 0.58997 C 0.30486 0.58858 0.24288 0.58788 0.1809 0.58603 C 0.16788 0.58557 0.15503 0.57748 0.14288 0.57285 C 0.12482 0.56615 0.10712 0.5599 0.08941 0.55227 C 0.08003 0.54811 0.07205 0.53839 0.06267 0.53516 C 0.05295 0.5266 0.05746 0.52937 0.05 0.52614 C 0.0467 0.52174 0.03871 0.5148 0.03871 0.5148 C 0.03559 0.50902 0.03333 0.50555 0.02882 0.50162 C 0.02396 0.49191 0.01736 0.4889 0.01041 0.48289 C 0.00798 0.47318 0.00972 0.47873 0.00347 0.46601 C 0.0026 0.46416 0.00156 0.46208 0.00069 0.46046 C -0.00035 0.45861 -0.00226 0.45467 -0.00226 0.45491 C -0.01129 0.41837 -0.02188 0.38044 -0.02465 0.34228 C -0.02535 0.33418 -0.02535 0.32586 -0.02622 0.31776 C -0.02726 0.30898 -0.03038 0.29163 -0.03038 0.29186 C -0.03125 0.27845 -0.03229 0.26527 -0.03316 0.25208 C -0.03368 0.24584 -0.03455 0.23335 -0.03455 0.23358 C -0.03403 0.20838 -0.03403 0.1834 -0.03316 0.15842 C -0.03264 0.14108 -0.02674 0.12419 -0.02327 0.10777 C -0.01945 0.08973 -0.01632 0.06892 -0.00643 0.05504 C -0.00278 0.04047 0.0092 0.02614 0.01892 0.01758 C 0.01979 0.01573 0.02031 0.01319 0.0217 0.01203 C 0.0243 0.00995 0.03021 0.00833 0.03021 0.00856 C 0.03472 0.00185 0.03194 -3.20999000000006E-006 0.03871 -0.003 C 0.04184 -0.00925 0.04305 -0.01202 0.04844 -0.01434 C 0.04948 -0.01549 0.05017 -0.01734 0.05139 -0.01804 C 0.05399 -0.01965 0.05972 -0.02174 0.05972 -0.0215 C 0.06389 -0.02706 0.06875 -0.02798 0.07378 -0.03122 E">
                                      <p:cBhvr>
                                        <p:cTn id="104" dur="8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79 -0.00879 C 0.08403 -0.02012 0.08872 -0.02937 0.10052 -0.03307 C 0.13177 -0.05388 0.16424 -0.05943 0.19914 -0.06313 C 0.23785 -0.07169 0.27743 -0.07354 0.31598 -0.08372 C 0.35209 -0.08302 0.38837 -0.08349 0.42448 -0.08187 C 0.43959 -0.08117 0.45469 -0.07377 0.46945 -0.07053 C 0.4849 -0.06707 0.50139 -0.0666 0.51736 -0.06498 C 0.52535 -0.06244 0.53299 -0.06082 0.54132 -0.05943 C 0.54792 -0.05712 0.55434 -0.05435 0.56111 -0.0518 C 0.56389 -0.05065 0.56667 -0.04926 0.56945 -0.0481 C 0.57084 -0.04741 0.57379 -0.04625 0.57379 -0.04602 C 0.58177 -0.03538 0.57761 -0.03816 0.5849 -0.03492 C 0.58594 -0.03376 0.58664 -0.03214 0.58785 -0.03122 C 0.58907 -0.03029 0.5908 -0.03053 0.59202 -0.02937 C 0.60087 -0.01966 0.58854 -0.02636 0.59914 -0.02174 C 0.60365 -0.01295 0.61111 -0.00462 0.61875 -0.00115 C 0.62101 0.00347 0.62396 0.00856 0.62726 0.01203 C 0.63004 0.0148 0.63577 0.01943 0.63577 0.01966 C 0.63872 0.02544 0.64202 0.0296 0.6441 0.03631 C 0.64844 0.05065 0.64427 0.04441 0.64983 0.05134 C 0.65625 0.07794 0.66181 0.105 0.66667 0.13206 C 0.66962 0.17831 0.66875 0.15518 0.66528 0.23312 C 0.66441 0.25347 0.66146 0.27359 0.65955 0.29348 C 0.65608 0.32886 0.65625 0.36772 0.64844 0.40218 C 0.64618 0.41212 0.64167 0.42114 0.63854 0.43039 C 0.63507 0.44103 0.63195 0.45375 0.62587 0.46231 C 0.62396 0.46994 0.62101 0.47109 0.61736 0.47734 C 0.61528 0.48081 0.61181 0.48844 0.61181 0.48867 C 0.6099 0.4963 0.60539 0.50208 0.60191 0.50925 C 0.60104 0.5111 0.59914 0.5148 0.59914 0.51503 C 0.59861 0.51688 0.59844 0.51989 0.59757 0.5222 C 0.59688 0.52359 0.59532 0.52429 0.59479 0.52614 C 0.59358 0.5296 0.59358 0.53354 0.59202 0.53724 C 0.59115 0.53909 0.59011 0.54094 0.58924 0.54279 C 0.58716 0.55389 0.58195 0.56129 0.57379 0.56499 C 0.56893 0.57169 0.56615 0.57424 0.55955 0.57678 C 0.55295 0.58256 0.54705 0.58349 0.53993 0.58603 C 0.53021 0.58904 0.52153 0.5939 0.51164 0.59737 C 0.49809 0.60176 0.48438 0.60939 0.47084 0.6124 C 0.44514 0.61795 0.41997 0.62165 0.39479 0.62535 C 0.34948 0.62211 0.30816 0.61864 0.2625 0.61795 C 0.24931 0.61494 0.23646 0.61379 0.22309 0.6124 C 0.20122 0.60361 0.17795 0.60384 0.15539 0.59922 C 0.1441 0.5939 0.15261 0.5976 0.12865 0.59367 C 0.11893 0.59205 0.10886 0.58835 0.09914 0.58603 C 0.0941 0.57979 0.08837 0.5791 0.08212 0.57678 C 0.07257 0.57308 0.06268 0.56984 0.054 0.56314 C 0.03455 0.54903 0.01962 0.52614 0.00469 0.50532 C 0.00295 0.49838 0.00018 0.4926 -0.00243 0.48659 C -0.00416 0.48266 -0.00798 0.47526 -0.00798 0.47549 C -0.00955 0.46485 -0.01336 0.46207 -0.0151 0.45282 C -0.01718 0.44219 -0.01771 0.4364 -0.02205 0.42669 C -0.02343 0.41328 -0.02604 0.40009 -0.02916 0.38714 C -0.03142 0.34806 -0.03142 0.35985 -0.02916 0.30458 C -0.02847 0.28562 -0.02343 0.26527 -0.02066 0.24653 C -0.0184 0.23173 -0.0125 0.21809 -0.01076 0.20329 C -0.00868 0.1864 -0.00659 0.15541 0.00052 0.14131 C 0.00261 0.12789 0.00452 0.11332 0.01042 0.10199 C 0.01441 0.08118 0.00886 0.10685 0.01459 0.08881 C 0.01754 0.07979 0.01736 0.07355 0.02309 0.06638 C 0.025 0.05874 0.02778 0.05574 0.03143 0.04949 C 0.0382 0.03793 0.04289 0.02243 0.054 0.01758 C 0.05695 0.00578 0.06667 0.00833 0.07084 0.0007 C 0.0724 -0.00208 0.07275 -0.00555 0.07379 -0.00879 Z">
                                      <p:cBhvr>
                                        <p:cTn id="107" dur="8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111 -0.01619 C 0.06424 -0.0037 0.06632 -0.00162 0.07517 0.00625 C 0.0849 0.0148 0.07031 0.00416 0.0809 0.01573 C 0.08212 0.01688 0.08385 0.01665 0.08507 0.01758 C 0.08802 0.01966 0.0908 0.02243 0.09358 0.02498 C 0.1 0.03053 0.10434 0.03608 0.11181 0.04001 C 0.11597 0.04533 0.12049 0.05088 0.12604 0.05319 C 0.13125 0.05851 0.13663 0.06545 0.14288 0.06822 C 0.14792 0.07493 0.15434 0.0821 0.16111 0.08511 C 0.17118 0.09783 0.15625 0.08002 0.16823 0.09066 C 0.16962 0.09205 0.17083 0.09459 0.1724 0.09621 C 0.17969 0.10384 0.18698 0.11078 0.19496 0.11702 C 0.20052 0.12142 0.20399 0.1272 0.21042 0.12997 C 0.21146 0.13136 0.21215 0.13298 0.21337 0.1339 C 0.21458 0.13483 0.21632 0.1346 0.21753 0.13575 C 0.22656 0.14524 0.21406 0.13853 0.22448 0.14316 C 0.22587 0.14501 0.22708 0.14732 0.22882 0.14894 C 0.23003 0.15009 0.23177 0.14963 0.23299 0.15079 C 0.23958 0.15726 0.2434 0.16605 0.25139 0.16952 C 0.25417 0.17206 0.25694 0.17438 0.25972 0.17692 C 0.26146 0.17854 0.26233 0.18131 0.26406 0.1827 C 0.26667 0.18455 0.2724 0.1864 0.2724 0.18663 C 0.2776 0.19311 0.28299 0.19912 0.28941 0.20328 C 0.2941 0.20953 0.29826 0.21161 0.30347 0.21647 C 0.3125 0.22502 0.30295 0.21994 0.31181 0.22387 C 0.31736 0.23081 0.32448 0.23242 0.33021 0.2389 C 0.33785 0.24746 0.34583 0.25694 0.35556 0.26133 C 0.3625 0.27105 0.35295 0.25856 0.36406 0.26896 C 0.36562 0.27035 0.36667 0.2729 0.36823 0.27452 C 0.37187 0.27798 0.37569 0.28076 0.37951 0.284 C 0.39444 0.29672 0.40816 0.31036 0.42309 0.32331 C 0.42483 0.3247 0.42917 0.33164 0.43021 0.33279 C 0.43576 0.33858 0.44496 0.34875 0.45139 0.35153 C 0.45573 0.35754 0.45955 0.36008 0.46545 0.36263 C 0.47083 0.36772 0.47292 0.37188 0.47951 0.37396 C 0.48611 0.38298 0.4941 0.39246 0.5033 0.39639 C 0.51042 0.40287 0.51753 0.40888 0.52448 0.41536 C 0.52639 0.41721 0.5283 0.41906 0.53021 0.42091 C 0.53142 0.4223 0.53437 0.42461 0.53437 0.42484 C 0.53524 0.42646 0.53594 0.42877 0.53715 0.43016 C 0.53837 0.43155 0.5401 0.43131 0.54149 0.43224 C 0.54705 0.4364 0.55087 0.44265 0.55694 0.44519 C 0.56146 0.45143 0.56701 0.45537 0.5724 0.46022 C 0.57483 0.46254 0.5809 0.46392 0.5809 0.46415 C 0.58871 0.47086 0.5967 0.47919 0.60486 0.48474 C 0.6099 0.48797 0.61215 0.49353 0.61753 0.49584 C 0.62066 0.50023 0.62413 0.50301 0.62743 0.50717 C 0.62257 0.51341 0.62656 0.51064 0.62031 0.50717 C 0.61858 0.50625 0.61667 0.50601 0.61476 0.50532 C 0.59496 0.50601 0.57535 0.50578 0.55556 0.50717 C 0.54792 0.50763 0.53299 0.51087 0.53299 0.5111 C 0.48212 0.50902 0.43472 0.50671 0.38507 0.50162 C 0.36875 0.49306 0.3474 0.49353 0.33021 0.49214 C 0.23819 0.49283 0.14618 0.49283 0.05417 0.49399 C 0.03889 0.49422 0.0217 0.50185 0.00625 0.50347 C -0.00174 0.50231 -0.0099 0.50254 -0.01771 0.49977 C -0.0191 0.49931 -0.01597 0.49699 -0.01493 0.49584 C -0.01215 0.49306 -0.0092 0.49098 -0.00642 0.48844 C -0.00017 0.48289 0.00608 0.47479 0.01337 0.47155 C 0.01615 0.4704 0.01892 0.46901 0.0217 0.46785 C 0.02309 0.46716 0.02604 0.466 0.02604 0.46624 C 0.03108 0.45884 0.0401 0.45768 0.04705 0.45467 C 0.04861 0.45398 0.04983 0.4519 0.05139 0.45097 C 0.06007 0.44519 0.07031 0.43987 0.07951 0.43594 C 0.08819 0.42831 0.09913 0.4253 0.10903 0.42091 C 0.12031 0.41605 0.1066 0.42206 0.11753 0.41721 C 0.11892 0.41651 0.1217 0.41536 0.1217 0.41559 C 0.13576 0.40264 0.15746 0.39847 0.17378 0.39269 C 0.18212 0.38969 0.18958 0.38575 0.19774 0.38159 C 0.20538 0.37766 0.2158 0.37674 0.22309 0.37211 C 0.22986 0.36772 0.23698 0.36332 0.24427 0.36078 C 0.25434 0.35199 0.24948 0.35453 0.25833 0.35153 C 0.26267 0.34551 0.26927 0.34459 0.27517 0.34205 C 0.27656 0.34135 0.27951 0.3402 0.27951 0.34043 C 0.2809 0.33904 0.28212 0.33719 0.28368 0.33649 C 0.28594 0.33534 0.28871 0.33603 0.2908 0.33464 C 0.29253 0.33349 0.29323 0.33025 0.29496 0.32886 C 0.29878 0.32586 0.30347 0.32516 0.30764 0.32331 C 0.31163 0.32146 0.31493 0.31753 0.31892 0.31591 C 0.32743 0.31267 0.32257 0.31452 0.33299 0.31013 C 0.33854 0.30782 0.33906 0.30111 0.34288 0.29695 C 0.3441 0.29579 0.34583 0.29602 0.34705 0.2951 C 0.34983 0.29302 0.35278 0.29024 0.35556 0.2877 C 0.35799 0.28562 0.36128 0.28515 0.36406 0.284 C 0.36545 0.2833 0.36823 0.28215 0.36823 0.28238 C 0.37465 0.27313 0.36684 0.28284 0.37517 0.27637 C 0.38542 0.26827 0.39288 0.25416 0.40486 0.25023 C 0.40556 0.24884 0.4066 0.24746 0.40764 0.2463 C 0.40885 0.24491 0.41059 0.24422 0.41181 0.2426 C 0.41944 0.23266 0.41233 0.23682 0.42031 0.23335 C 0.42431 0.2278 0.42847 0.22641 0.43299 0.22202 C 0.43455 0.2204 0.43524 0.21785 0.43715 0.21647 C 0.43941 0.21462 0.44201 0.21415 0.44427 0.21254 C 0.44722 0.21045 0.44983 0.20722 0.45278 0.20513 C 0.45469 0.20398 0.45625 0.20259 0.45833 0.20143 C 0.46389 0.1938 0.46649 0.18964 0.47361 0.1864 C 0.47934 0.17553 0.48819 0.16721 0.49635 0.16004 C 0.49931 0.15217 0.50104 0.14986 0.50625 0.14501 C 0.51302 0.13113 0.50365 0.14801 0.51476 0.13575 C 0.51788 0.13229 0.52326 0.12165 0.52604 0.11702 C 0.5309 0.10916 0.52691 0.11725 0.53437 0.10754 C 0.53906 0.1013 0.53906 0.09528 0.54566 0.09251 C 0.55191 0.07956 0.54375 0.09505 0.55417 0.08118 C 0.56371 0.06846 0.57378 0.04834 0.58507 0.03816 C 0.58819 0.03192 0.58958 0.02914 0.59496 0.02683 C 0.5967 0.01989 0.59983 0.01873 0.60347 0.01365 C 0.60625 0.00278 0.60278 0.01272 0.60903 0.00439 C 0.61111 0.00162 0.61267 -0.00231 0.61476 -0.00509 C 0.61597 -0.01017 0.61823 -0.01249 0.61181 -0.01249 C 0.58785 -0.01249 0.56406 -0.01133 0.5401 -0.01064 C 0.49392 -0.00393 0.44705 -0.00069 0.40069 0.00069 C 0.32795 -0.00116 0.25503 -0.00324 0.18229 -0.00509 C 0.15937 -0.00578 0.13594 -0.01318 0.11337 -0.01804 C 0.08976 -0.02313 0.06667 -0.02382 0.04288 -0.02382 E">
                                      <p:cBhvr>
                                        <p:cTn id="110" dur="8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79 -0.00879 C 0.10052 -0.00694 0.12605 -0.0007 0.15261 0.00254 C 0.19445 0.01596 0.2316 0.01457 0.27657 0.01572 C 0.31077 0.02127 0.34514 0.02544 0.37952 0.03053 C 0.46632 0.02844 0.54827 0.03307 0.6316 0.00624 C 0.63299 0.00694 0.63542 0.00624 0.63577 0.00809 C 0.63612 0.00994 0.63091 0.01619 0.63021 0.01757 C 0.62327 0.02983 0.6158 0.04047 0.60764 0.05134 C 0.59809 0.06406 0.58872 0.08002 0.57796 0.09065 C 0.57066 0.09806 0.5625 0.10499 0.55556 0.11309 C 0.54167 0.12951 0.55573 0.11633 0.53993 0.12997 C 0.53594 0.13344 0.53247 0.13899 0.52882 0.14315 C 0.5257 0.14662 0.52188 0.14893 0.51893 0.15263 C 0.50973 0.16466 0.5198 0.15657 0.50903 0.16374 C 0.50816 0.16512 0.5073 0.16651 0.50625 0.16767 C 0.50487 0.16905 0.50313 0.16975 0.50191 0.17137 C 0.49618 0.17877 0.49115 0.18686 0.48507 0.1938 C 0.47987 0.19958 0.47639 0.20583 0.46962 0.20883 C 0.46129 0.21947 0.45191 0.23011 0.4415 0.23705 C 0.44098 0.2389 0.44098 0.24121 0.43993 0.2426 C 0.43889 0.24398 0.43716 0.24352 0.43577 0.24445 C 0.43108 0.24769 0.42969 0.25162 0.42448 0.25393 C 0.41667 0.26434 0.40695 0.27359 0.39636 0.27821 C 0.38438 0.29509 0.404 0.2685 0.38924 0.28399 C 0.38785 0.28538 0.38768 0.28816 0.38646 0.28954 C 0.38143 0.29509 0.37587 0.29741 0.36962 0.29903 C 0.35868 0.30758 0.36511 0.30342 0.34983 0.31013 C 0.34184 0.3136 0.33855 0.31915 0.33021 0.32146 C 0.32327 0.32747 0.3158 0.33187 0.30764 0.33464 C 0.29636 0.34435 0.31181 0.3321 0.29636 0.34019 C 0.29375 0.34158 0.29184 0.34435 0.28924 0.34574 C 0.27934 0.35083 0.28542 0.34459 0.27796 0.34967 C 0.27309 0.35291 0.26771 0.35823 0.2625 0.36077 C 0.25886 0.36263 0.25487 0.36286 0.25122 0.36448 C 0.24688 0.37049 0.23664 0.37303 0.23021 0.37581 C 0.22518 0.38205 0.21823 0.3839 0.21181 0.38714 C 0.2007 0.39269 0.18959 0.39732 0.17796 0.40032 C 0.17118 0.40633 0.16355 0.40749 0.15556 0.40957 C 0.14358 0.41281 0.13212 0.41882 0.12032 0.42275 C 0.11007 0.43154 0.09844 0.43756 0.08646 0.44149 C 0.07674 0.45028 0.06459 0.45236 0.05417 0.46022 C 0.04757 0.46508 0.05226 0.463 0.04566 0.466 C 0.04289 0.46739 0.03716 0.4697 0.03716 0.46993 C 0.03056 0.47548 0.02535 0.48265 0.01893 0.48843 C 0.01476 0.49676 0.01789 0.49144 0.0132 0.49769 C 0.01216 0.49907 0.00903 0.50162 0.01042 0.50162 C 0.06181 0.50162 0.11389 0.49422 0.16528 0.49213 C 0.28334 0.49329 0.39844 0.49607 0.51615 0.49769 C 0.54289 0.50023 0.56858 0.50647 0.59497 0.51087 C 0.60921 0.51711 0.62431 0.51596 0.63855 0.5222 C 0.64132 0.52336 0.64427 0.52474 0.64705 0.5259 C 0.64844 0.52659 0.65122 0.52775 0.65122 0.52775 C 0.65035 0.5259 0.64983 0.52336 0.64844 0.5222 C 0.64584 0.52012 0.63993 0.5185 0.63993 0.51873 C 0.63282 0.51179 0.62448 0.50902 0.61615 0.50532 C 0.6125 0.50069 0.60921 0.50069 0.60487 0.49769 C 0.59862 0.49352 0.59323 0.48959 0.58646 0.48658 C 0.58177 0.48011 0.5783 0.47918 0.5724 0.47525 C 0.56789 0.46646 0.57118 0.4704 0.56112 0.466 C 0.55261 0.4623 0.54601 0.45513 0.53716 0.45282 C 0.52865 0.44403 0.52535 0.44819 0.51754 0.44149 C 0.5099 0.43501 0.49827 0.43224 0.48924 0.4283 C 0.48438 0.42183 0.48195 0.41929 0.47518 0.4172 C 0.47066 0.41096 0.46389 0.4068 0.45834 0.40217 C 0.45591 0.40009 0.45122 0.39639 0.45122 0.39662 C 0.44636 0.38645 0.44966 0.39176 0.43855 0.38136 C 0.43716 0.37997 0.43438 0.37766 0.43438 0.37789 C 0.43143 0.37164 0.41632 0.35407 0.41042 0.35152 C 0.40799 0.34921 0.40608 0.34574 0.4033 0.34389 C 0.4007 0.34227 0.39497 0.34019 0.39497 0.34042 C 0.39358 0.33834 0.39167 0.33695 0.39063 0.33464 C 0.38976 0.33302 0.39011 0.33048 0.38924 0.32886 C 0.38542 0.32238 0.37552 0.31637 0.37101 0.31013 C 0.36493 0.3018 0.37205 0.3062 0.36389 0.30273 C 0.3599 0.29463 0.3573 0.29671 0.35122 0.29139 C 0.34532 0.28631 0.34358 0.28099 0.33716 0.27821 C 0.33299 0.27266 0.33021 0.26942 0.32448 0.26711 C 0.31858 0.25879 0.31094 0.25162 0.3033 0.2463 C 0.29532 0.23034 0.30591 0.24907 0.29636 0.2389 C 0.28733 0.22918 0.30122 0.23612 0.28785 0.23127 C 0.27952 0.22016 0.28872 0.2308 0.27657 0.22201 C 0.26771 0.21554 0.27396 0.21855 0.26823 0.21253 C 0.26285 0.20675 0.2625 0.20953 0.25556 0.20328 C 0.24601 0.19472 0.23872 0.18362 0.22726 0.17877 C 0.21927 0.17067 0.21528 0.16489 0.20625 0.16188 C 0.20105 0.15518 0.19532 0.15194 0.18924 0.14685 C 0.18525 0.13968 0.18021 0.13483 0.17379 0.13205 C 0.16389 0.12326 0.15417 0.11448 0.14427 0.10569 C 0.13924 0.10129 0.13629 0.09713 0.13021 0.09435 C 0.12171 0.08325 0.12639 0.08626 0.11754 0.08325 C 0.10313 0.06822 0.10973 0.07308 0.09914 0.06637 C 0.09497 0.06059 0.08959 0.05874 0.08507 0.05319 C 0.079 0.04602 0.07066 0.03469 0.06684 0.02497 C 0.06424 0.01827 0.0625 0.00994 0.06112 0.00254 C 0.06059 2.15540999999988E-006 0.05973 -0.00509 0.05973 -0.00486 E">
                                      <p:cBhvr>
                                        <p:cTn id="113" dur="10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0"/>
                            </p:stCondLst>
                            <p:childTnLst>
                              <p:par>
                                <p:cTn id="1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94912E-006 C -0.01458 0.00462 -0.02604 0.01804 -0.03524 0.03376 C -0.03837 0.03885 -0.03889 0.04394 -0.04219 0.04879 C -0.04393 0.05481 -0.04774 0.05966 -0.04931 0.06568 C -0.05156 0.07447 -0.05261 0.08071 -0.05643 0.08811 C -0.05729 0.09181 -0.05747 0.0962 -0.0592 0.09944 C -0.06007 0.10129 -0.06129 0.10291 -0.06198 0.10499 C -0.06615 0.11794 -0.06858 0.13274 -0.07188 0.14616 C -0.07431 0.15587 -0.075 0.16628 -0.07743 0.17622 C -0.0809 0.21854 -0.08559 0.26133 -0.08872 0.30388 C -0.08906 0.30943 -0.08958 0.31521 -0.09011 0.32076 C -0.09115 0.33395 -0.09306 0.36008 -0.09306 0.36008 C -0.09167 0.40356 -0.09167 0.4105 -0.08455 0.44449 C -0.08281 0.45305 -0.08229 0.46068 -0.07743 0.46693 C -0.07361 0.48242 -0.07396 0.47525 -0.0691 0.48774 C -0.06528 0.49745 -0.07014 0.48959 -0.06476 0.49722 C -0.0625 0.50624 -0.05243 0.51965 -0.04653 0.52497 C -0.04358 0.53122 -0.0375 0.53978 -0.03247 0.54209 C -0.02448 0.55781 -0.0349 0.53862 -0.02535 0.55157 C -0.02049 0.55805 -0.02118 0.55943 -0.01406 0.56244 C -0.00955 0.56915 0.00087 0.58094 0.00694 0.58348 C 0.00885 0.58395 0.01076 0.58464 0.01267 0.58533 C 0.01545 0.58626 0.02118 0.5888 0.02118 0.5888 C 0.04844 0.58626 0.05885 0.58718 0.08021 0.5777 C 0.08385 0.57285 0.08576 0.56868 0.0901 0.56475 C 0.09375 0.55712 0.09774 0.55157 0.10139 0.54371 C 0.10451 0.53769 0.10503 0.53307 0.10989 0.52891 C 0.11163 0.51965 0.11302 0.51064 0.11684 0.50277 C 0.12066 0.48219 0.11545 0.50647 0.12118 0.48959 C 0.12847 0.46831 0.12014 0.48589 0.12673 0.47271 C 0.13003 0.45513 0.13212 0.42923 0.13941 0.41466 C 0.14201 0.39708 0.14514 0.37904 0.1493 0.36193 C 0.15069 0.34574 0.15208 0.3314 0.15781 0.31706 C 0.15972 0.30157 0.16094 0.28515 0.16476 0.27012 C 0.16788 0.22918 0.16528 0.24607 0.17048 0.21947 C 0.17205 0.19958 0.17274 0.17877 0.17604 0.15934 C 0.17899 0.14107 0.18385 0.12326 0.18732 0.10499 C 0.18923 0.09459 0.19114 0.07701 0.19722 0.06938 C 0.19965 0.0592 0.20364 0.05111 0.20851 0.04301 C 0.21753 0.02775 0.21111 0.03168 0.21962 0.02798 C 0.225 0.02127 0.22187 0.0259 0.22812 0.01295 C 0.22899 0.0111 0.23125 0.01087 0.23246 0.00925 C 0.23542 0.00578 0.23802 0.00185 0.2408 -0.00185 C 0.24167 -0.00324 0.24236 -0.00532 0.24357 -0.00578 C 0.24635 -0.00694 0.2493 -0.00833 0.25208 -0.00948 C 0.25347 -0.01018 0.25625 -0.01134 0.25625 -0.01134 C 0.26753 -0.00995 0.27691 -0.00717 0.28732 -0.00185 C 0.28871 4.94911999999992E-006 0.28993 0.00208 0.29149 0.0037 C 0.29288 0.00508 0.29462 0.00578 0.29583 0.0074 C 0.29826 0.0104 0.30278 0.01688 0.30278 0.01688 C 0.30746 0.03584 0.30017 0.00786 0.30694 0.02798 C 0.31059 0.03862 0.31267 0.05064 0.31545 0.06175 C 0.3184 0.07354 0.31979 0.0858 0.32257 0.09759 C 0.32413 0.11841 0.32517 0.13899 0.32951 0.15934 C 0.33264 0.19796 0.33281 0.23705 0.33385 0.27567 C 0.33437 0.29509 0.33489 0.31452 0.33524 0.33395 C 0.33576 0.35962 0.33594 0.38506 0.33663 0.41073 C 0.33715 0.42669 0.33889 0.43732 0.3408 0.45212 C 0.3441 0.47641 0.34913 0.49953 0.35347 0.52336 C 0.3559 0.537 0.35903 0.54833 0.36753 0.55689 C 0.37257 0.56221 0.37413 0.56938 0.38021 0.57215 C 0.38646 0.58002 0.39601 0.58071 0.40417 0.58348 C 0.40712 0.58441 0.41267 0.58718 0.41267 0.58718 C 0.42309 0.58464 0.42882 0.5851 0.43663 0.5777 C 0.44097 0.56891 0.44271 0.57331 0.44653 0.5666 C 0.45035 0.55966 0.45208 0.55157 0.45625 0.54579 C 0.45868 0.53746 0.46337 0.53168 0.46614 0.52336 C 0.47135 0.5074 0.47413 0.48936 0.47743 0.47271 C 0.47951 0.46253 0.48264 0.45282 0.48455 0.44264 C 0.48819 0.42206 0.48785 0.40101 0.49288 0.38089 C 0.49427 0.3691 0.49531 0.36286 0.5 0.35268 C 0.50208 0.34158 0.50278 0.32978 0.50555 0.31891 C 0.50712 0.29949 0.51111 0.28145 0.51406 0.26249 C 0.5151 0.25624 0.51562 0.25 0.51684 0.24375 C 0.51753 0.24005 0.51962 0.23265 0.51962 0.23265 C 0.52205 0.20236 0.52361 0.17067 0.52812 0.14061 C 0.52934 0.13298 0.53229 0.12581 0.53385 0.11817 C 0.53698 0.10314 0.53993 0.08788 0.54357 0.07308 C 0.54844 0.05342 0.5526 0.02682 0.56753 0.01688 C 0.57118 0.0215 0.57309 0.0259 0.57743 0.02983 C 0.58003 0.04093 0.57673 0.03076 0.58316 0.03931 C 0.58524 0.04209 0.58663 0.04579 0.58871 0.04879 C 0.59236 0.0636 0.58732 0.04463 0.59288 0.0599 C 0.59357 0.06175 0.59323 0.06429 0.59427 0.06568 C 0.59531 0.06706 0.59722 0.06683 0.59861 0.06753 C 0.60139 0.07863 0.60347 0.09343 0.60851 0.10314 C 0.61198 0.1265 0.61823 0.1494 0.62257 0.17229 C 0.62378 0.17946 0.62535 0.18617 0.62673 0.19311 C 0.62778 0.19819 0.62951 0.20814 0.62951 0.20814 C 0.63351 0.25092 0.63455 0.29533 0.6408 0.33765 C 0.63923 0.38251 0.64149 0.42067 0.6309 0.46114 C 0.62847 0.47063 0.62812 0.47965 0.62396 0.48774 C 0.62187 0.49838 0.61736 0.50786 0.61406 0.51757 C 0.6092 0.53284 0.6059 0.55111 0.59722 0.56244 C 0.59375 0.57678 0.59878 0.56013 0.59149 0.57215 C 0.59062 0.57377 0.59114 0.57608 0.5901 0.5777 C 0.58871 0.57978 0.58628 0.58002 0.58455 0.5814 C 0.58194 0.58441 0.57986 0.58788 0.57743 0.59089 C 0.57205 0.59782 0.56649 0.60939 0.56059 0.61517 C 0.54948 0.62696 0.55573 0.6191 0.54653 0.62627 C 0.52101 0.64708 0.5066 0.64916 0.47604 0.65263 C 0.44948 0.66165 0.42153 0.66235 0.39427 0.6642 C 0.32899 0.66281 0.26389 0.66212 0.19861 0.66027 C 0.17621 0.65957 0.1526 0.65402 0.1309 0.64708 C 0.11927 0.64361 0.11042 0.6376 0.09861 0.63598 C 0.08715 0.63113 0.07517 0.62858 0.06337 0.62465 C 0.05677 0.62257 0.06146 0.62326 0.05486 0.6191 C 0.05121 0.61679 0.04566 0.61586 0.04219 0.61517 C 0.03212 0.61008 0.02153 0.60684 0.01128 0.60199 C 0.00712 0.60037 0.00295 0.59644 -0.00139 0.59435 C -0.00452 0.58834 -0.0059 0.5858 -0.01129 0.58348 C -0.01215 0.5821 -0.01302 0.58071 -0.01406 0.57955 C -0.01684 0.57678 -0.02014 0.57539 -0.02257 0.57215 C -0.02813 0.56475 -0.0316 0.55805 -0.03802 0.55157 C -0.03941 0.54833 -0.04028 0.54463 -0.04219 0.54209 C -0.04323 0.5407 -0.04531 0.54116 -0.04653 0.54024 C -0.05243 0.53399 -0.05417 0.53029 -0.05781 0.52336 C -0.06042 0.51318 -0.06615 0.5037 -0.07049 0.49514 C -0.07396 0.48797 -0.0757 0.47988 -0.07882 0.47271 C -0.08125 0.46693 -0.08646 0.46392 -0.08872 0.45768 C -0.09132 0.45074 -0.09167 0.4438 -0.09445 0.43709 C -0.09618 0.42784 -0.09792 0.41767 -0.10278 0.41073 C -0.10538 0.40009 -0.1059 0.38945 -0.10851 0.37881 C -0.11337 0.33372 -0.11268 0.29764 -0.11129 0.24953 C -0.11094 0.23705 -0.11111 0.21323 -0.10417 0.20421 C -0.10208 0.19079 -0.10208 0.1753 -0.09445 0.16512 C -0.0941 0.16281 -0.09202 0.14824 -0.09149 0.14616 C -0.08993 0.13991 -0.08663 0.13529 -0.08455 0.12928 C -0.07986 0.11517 -0.07761 0.09297 -0.06754 0.08441 C -0.06545 0.07585 -0.06754 0.07238 -0.06059 0.06938 C -0.05278 0.05643 -0.04896 0.03908 -0.0408 0.02613 C -0.03733 0.02081 -0.03264 0.01688 -0.02952 0.0111 C -0.02535 0.0037 -0.01476 -0.01226 -0.00851 -0.01504 C -0.00469 -0.02313 0.00104 -0.02683 0.00694 -0.03192 C 0.02222 -0.0451 0.04149 -0.05065 0.0592 -0.05643 C 0.07014 -0.06615 0.08611 -0.06591 0.09861 -0.06753 C 0.11979 -0.07031 0.1408 -0.07424 0.16198 -0.07701 C 0.18351 -0.08418 0.20607 -0.0858 0.22812 -0.08835 C 0.27639 -0.08742 0.31371 -0.0902 0.35781 -0.08072 C 0.3651 -0.07748 0.37274 -0.07748 0.38021 -0.07516 C 0.39427 -0.07077 0.40885 -0.06591 0.42257 -0.06013 C 0.43125 -0.0525 0.44635 -0.04949 0.45625 -0.04695 C 0.46354 -0.0451 0.47153 -0.04071 0.47882 -0.0377 C 0.48472 -0.03539 0.48976 -0.03215 0.49583 -0.03007 C 0.49861 -0.02914 0.50139 -0.02752 0.50417 -0.02637 C 0.50555 -0.02567 0.50851 -0.02452 0.50851 -0.02452 C 0.51805 -0.01596 0.50625 -0.02567 0.51962 -0.01874 C 0.52396 -0.01642 0.52812 -0.01203 0.53246 -0.00948 C 0.53976 -0.00509 0.54844 -0.00255 0.55625 4.94912E-006 C 0.56076 0.0037 0.56562 0.00647 0.57048 0.00925 C 0.57309 0.01087 0.57882 0.01295 0.57882 0.01295 C 0.58437 0.02428 0.58594 0.02058 0.59288 0.02798 C 0.59687 0.03214 0.59913 0.03515 0.60417 0.03746 C 0.60868 0.04625 0.61597 0.05203 0.61962 0.06175 C 0.62396 0.07331 0.62986 0.08279 0.63524 0.09366 C 0.63889 0.10083 0.64184 0.10823 0.64653 0.11447 C 0.65156 0.13483 0.65555 0.15587 0.66059 0.17622 C 0.66337 0.18755 0.66423 0.19866 0.66753 0.20999 C 0.66805 0.21484 0.66823 0.21993 0.66892 0.22502 C 0.66927 0.22687 0.67031 0.22872 0.67048 0.2308 C 0.6717 0.2419 0.67326 0.26457 0.67326 0.26457 C 0.67239 0.28839 0.67187 0.31198 0.67048 0.3358 C 0.66979 0.34759 0.66371 0.35985 0.66198 0.37141 C 0.65989 0.38529 0.65677 0.39916 0.65347 0.41258 C 0.64878 0.43131 0.64531 0.44935 0.63941 0.46693 C 0.63437 0.48242 0.63958 0.4741 0.63385 0.48219 C 0.63107 0.49306 0.62847 0.50578 0.62257 0.5141 C 0.61857 0.53006 0.61493 0.54533 0.60555 0.55689 C 0.60451 0.56336 0.60434 0.57007 0.59861 0.57007 E">
                                      <p:cBhvr>
                                        <p:cTn id="116" dur="15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5000"/>
                            </p:stCondLst>
                            <p:childTnLst>
                              <p:par>
                                <p:cTn id="1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861 0.57007 C 0.59098 0.56683 0.59618 0.56406 0.58872 0.56105 C 0.58403 0.55157 0.57761 0.54648 0.5717 0.53862 C 0.56632 0.51757 0.575 0.55018 0.56754 0.52798 C 0.56424 0.51804 0.56268 0.50671 0.56059 0.4963 C 0.5599 0.49329 0.55973 0.48982 0.55903 0.48705 C 0.55816 0.48358 0.55625 0.47641 0.55625 0.47664 C 0.55452 0.45351 0.55174 0.43062 0.54931 0.40795 C 0.54879 0.35199 0.54861 0.29625 0.54792 0.24052 C 0.54723 0.19542 0.54289 0.17021 0.53368 0.12997 C 0.52952 0.11193 0.52813 0.09412 0.51823 0.08025 C 0.51771 0.0784 0.51754 0.07655 0.51684 0.0747 C 0.51615 0.07262 0.51476 0.07146 0.51407 0.06938 C 0.50903 0.05411 0.51424 0.06175 0.50834 0.05458 C 0.50695 0.04856 0.50139 0.03793 0.50139 0.03816 C 0.49966 0.03076 0.49306 0.01781 0.48872 0.01387 C 0.48473 -0.00208 0.49045 0.01757 0.48438 0.00485 C 0.48073 -0.00301 0.48559 0.00092 0.48021 -0.00625 C 0.47882 -0.00786 0.47726 -0.00856 0.47604 -0.00995 C 0.47448 -0.01157 0.47292 -0.01342 0.4717 -0.0155 C 0.47066 -0.01712 0.47014 -0.01943 0.46893 -0.02105 C 0.46441 -0.02637 0.45851 -0.03053 0.45348 -0.034 C 0.45052 -0.03608 0.44809 -0.04001 0.44497 -0.0414 C 0.43594 -0.04533 0.44306 -0.04255 0.42674 -0.04672 C 0.42414 -0.04741 0.41962 -0.0488 0.41962 -0.04857 C 0.41164 -0.04811 0.40348 -0.0488 0.39566 -0.04672 C 0.39323 -0.04626 0.39011 -0.03816 0.38872 -0.03585 C 0.38473 -0.02984 0.38108 -0.02405 0.37743 -0.01735 C 0.37587 -0.00879 0.3724 -0.00601 0.36893 0.00115 C 0.36667 0.01596 0.36268 0.03006 0.36059 0.0451 C 0.35712 0.06868 0.35591 0.09227 0.35209 0.1154 C 0.34966 0.18732 0.35434 0.26503 0.3408 0.33626 C 0.33959 0.35939 0.33611 0.38159 0.33368 0.40448 C 0.32952 0.44334 0.32657 0.4845 0.31684 0.5222 C 0.31459 0.54093 0.31094 0.55573 0.29861 0.56637 C 0.29445 0.57377 0.29115 0.57817 0.28438 0.58094 C 0.27483 0.5895 0.26702 0.58464 0.25625 0.58094 C 0.25434 0.57979 0.25261 0.57817 0.2507 0.57724 C 0.24792 0.57585 0.24219 0.57377 0.24219 0.574 C 0.23559 0.56776 0.24063 0.57146 0.23229 0.56822 C 0.22952 0.5673 0.22396 0.56475 0.22396 0.56498 C 0.21719 0.5562 0.21858 0.54741 0.21407 0.53862 C 0.20782 0.52659 0.20608 0.51202 0.2 0.5 C 0.19809 0.48959 0.19653 0.47918 0.19427 0.46878 C 0.19306 0.46323 0.1915 0.45768 0.19011 0.45236 C 0.18959 0.45028 0.18872 0.44681 0.18872 0.44704 C 0.1875 0.43663 0.18577 0.42715 0.18438 0.41697 C 0.18091 0.35823 0.18368 0.29926 0.17743 0.24052 C 0.17657 0.22063 0.1757 0.20513 0.1717 0.18686 C 0.16945 0.15125 0.16719 0.11586 0.16337 0.08025 C 0.16198 0.06776 0.16181 0.0555 0.15903 0.04325 C 0.15434 0.02313 0.15122 -0.00093 0.13368 -0.0081 C 0.12188 -0.00648 0.11962 -0.00833 0.11268 0.00115 C 0.10886 0.01642 0.11424 -0.00208 0.10834 0.01041 C 0.10174 0.02382 0.11233 0.00832 0.10417 0.01942 C 0.10261 0.0259 0.1007 0.02937 0.09705 0.03423 C 0.09549 0.04024 0.09011 0.05088 0.09011 0.05111 C 0.08837 0.05967 0.08698 0.0673 0.08299 0.0747 C 0.0783 0.09343 0.07188 0.11263 0.06893 0.13182 C 0.06702 0.14477 0.06511 0.15842 0.06198 0.17067 C 0.05868 0.20143 0.05851 0.23427 0.05209 0.26434 C 0.05104 0.28053 0.05226 0.30041 0.04497 0.31429 C 0.04358 0.32724 0.04098 0.33973 0.03941 0.35268 C 0.03854 0.37928 0.03785 0.40587 0.03664 0.43201 C 0.03507 0.4667 0.02535 0.5 0.01823 0.53307 C 0.01563 0.5451 0.01407 0.56475 0.00556 0.57169 C -3.05555999999957E-006 0.59412 -0.02465 0.57863 -0.03802 0.57724 C -0.04791 0.57308 -0.04375 0.57516 -0.05069 0.57169 C -0.05503 0.56637 -0.05625 0.56267 -0.06198 0.5592 C -0.06389 0.55573 -0.06527 0.55134 -0.06771 0.54787 C -0.06909 0.54625 -0.07066 0.54463 -0.07187 0.54255 C -0.07673 0.53469 -0.07899 0.52498 -0.08316 0.51665 C -0.08524 0.50277 -0.08646 0.49214 -0.08732 0.47803 C -0.08646 0.42854 -0.08472 0.38298 -0.08038 0.33441 C -0.07847 0.3129 -0.07656 0.28769 -0.06909 0.26804 C -0.06805 0.25879 -0.06805 0.24954 -0.06632 0.24052 C -0.06406 0.22849 -0.06007 0.21739 -0.05781 0.20513 C -0.05555 0.19334 -0.05468 0.18085 -0.0493 0.17067 C -0.0467 0.1531 -0.04149 0.13899 -0.03663 0.12257 C -0.03402 0.11401 -0.0335 0.10777 -0.02968 0.1006 C -0.02552 0.08349 -0.01892 0.06984 -0.01128 0.05458 C -0.00955 0.05111 -0.00885 0.04671 -0.00711 0.04325 C -0.00416 0.03746 -0.00017 0.03261 0.00278 0.02683 C 0.00469 0.02313 0.00886 0.02266 0.01129 0.01942 C 0.02414 0.00231 0.01302 0.01457 0.0224 0.00856 C 0.02934 0.00393 0.02969 -0.00185 0.03802 -0.0044 C 0.04688 -0.01157 0.04879 -0.01457 0.05903 -0.01735 C 0.06389 -0.02151 0.06771 -0.0229 0.07327 -0.02475 C 0.08455 -0.03215 0.0724 -0.02521 0.08872 -0.0303 C 0.09705 -0.03261 0.09636 -0.03469 0.10417 -0.0377 C 0.11181 -0.0407 0.12032 -0.04302 0.12813 -0.0451 C 0.1382 -0.05042 0.14827 -0.05111 0.15903 -0.0525 C 0.17865 -0.05504 0.19757 -0.05712 0.21684 -0.06129 C 0.25903 -0.06106 0.30122 -0.06106 0.34358 -0.0599 C 0.37049 -0.05921 0.39705 -0.04926 0.42396 -0.04672 C 0.42483 -0.04672 0.43802 -0.04394 0.43941 -0.04325 C 0.44098 -0.04255 0.44202 -0.04047 0.44358 -0.03955 C 0.45226 -0.03469 0.46268 -0.03354 0.4717 -0.0303 C 0.47518 -0.02729 0.48039 -0.0229 0.48438 -0.02105 C 0.48802 -0.0192 0.49566 -0.01735 0.49566 -0.01712 C 0.5 -0.01457 0.50382 -0.01064 0.50834 -0.0081 C 0.51528 -0.00393 0.51233 -0.00833 0.51823 -0.0044 C 0.52917 0.00277 0.53924 0.01179 0.5507 0.01757 C 0.55122 0.01942 0.55104 0.02197 0.55209 0.02313 C 0.55382 0.02498 0.56459 0.03076 0.56754 0.03214 C 0.57431 0.04163 0.579 0.05411 0.58872 0.05805 C 0.59202 0.071 0.58733 0.05643 0.59427 0.06753 C 0.59566 0.06961 0.59566 0.07262 0.59705 0.0747 C 0.59948 0.0784 0.60295 0.08071 0.60556 0.08418 C 0.60938 0.09875 0.60365 0.0814 0.61129 0.09135 C 0.61528 0.09644 0.61754 0.10361 0.62101 0.10962 C 0.6224 0.1154 0.62466 0.12095 0.62674 0.12627 C 0.6283 0.1302 0.63229 0.13737 0.63229 0.1376 C 0.6342 0.15032 0.63629 0.1642 0.6408 0.17576 C 0.64514 0.21115 0.64323 0.24861 0.6507 0.28284 C 0.64931 0.33742 0.65139 0.3957 0.63941 0.44866 C 0.63473 0.46924 0.63195 0.49514 0.6224 0.51318 C 0.61962 0.52405 0.61493 0.53307 0.60973 0.54255 C 0.60608 0.54903 0.60591 0.55458 0.6 0.55735 C 0.59549 0.56545 0.58993 0.57239 0.58438 0.57932 C 0.58195 0.5821 0.5783 0.58349 0.57604 0.58649 C 0.57535 0.58765 0.57136 0.5932 0.57032 0.59389 C 0.56771 0.59621 0.56476 0.59806 0.56198 0.59944 C 0.5592 0.60106 0.55348 0.60314 0.55348 0.60337 C 0.53993 0.6154 0.52431 0.62141 0.50834 0.62558 C 0.48872 0.6383 0.46389 0.63783 0.44219 0.64038 C 0.4257 0.642 0.4092 0.64477 0.39289 0.64708 C 0.32674 0.6457 0.26042 0.64685 0.19427 0.642 C 0.17014 0.64038 0.14514 0.63251 0.12101 0.62905 C 0.11129 0.62581 0.10122 0.62465 0.0915 0.62164 C 0.08195 0.61818 0.07292 0.61124 0.06337 0.60869 C 0.05747 0.60731 0.04566 0.60453 0.0408 0.60129 C 0.03594 0.59806 0.03177 0.59436 0.02674 0.59227 C 0.02327 0.58742 0.02032 0.58487 0.01545 0.58302 C 0.01129 0.57863 0.00868 0.57701 0.00556 0.57169 C -3.05555999999957E-006 0.56244 -0.00295 0.55342 -0.01128 0.54787 C -0.0158 0.53955 -0.01736 0.52844 -0.01979 0.5185 C -0.02343 0.503 -0.02864 0.48774 -0.03524 0.4741 C -0.03784 0.45328 -0.04218 0.4327 -0.04514 0.41142 C -0.04444 0.30758 -0.05017 0.18802 -0.03246 0.0821 C -0.03107 0.05388 -0.02673 0.02544 -0.02673 -0.00255 E">
                                      <p:cBhvr>
                                        <p:cTn id="119" dur="15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000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11896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30"/>
          <p:cNvPicPr/>
          <p:nvPr/>
        </p:nvPicPr>
        <p:blipFill>
          <a:blip r:embed="rId2"/>
          <a:stretch/>
        </p:blipFill>
        <p:spPr>
          <a:xfrm rot="21257400">
            <a:off x="5195880" y="1931760"/>
            <a:ext cx="1809720" cy="1047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7" descr="30"/>
          <p:cNvPicPr/>
          <p:nvPr/>
        </p:nvPicPr>
        <p:blipFill>
          <a:blip r:embed="rId3"/>
          <a:stretch/>
        </p:blipFill>
        <p:spPr>
          <a:xfrm>
            <a:off x="5796000" y="2565360"/>
            <a:ext cx="1809720" cy="1047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9" descr="30"/>
          <p:cNvPicPr/>
          <p:nvPr/>
        </p:nvPicPr>
        <p:blipFill>
          <a:blip r:embed="rId4"/>
          <a:stretch/>
        </p:blipFill>
        <p:spPr>
          <a:xfrm>
            <a:off x="6732720" y="2060640"/>
            <a:ext cx="1809720" cy="1047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1" descr="30"/>
          <p:cNvPicPr/>
          <p:nvPr/>
        </p:nvPicPr>
        <p:blipFill>
          <a:blip r:embed="rId5"/>
          <a:stretch/>
        </p:blipFill>
        <p:spPr>
          <a:xfrm>
            <a:off x="6156360" y="1484280"/>
            <a:ext cx="1809720" cy="1081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1" descr="30"/>
          <p:cNvPicPr/>
          <p:nvPr/>
        </p:nvPicPr>
        <p:blipFill>
          <a:blip r:embed="rId6"/>
          <a:stretch/>
        </p:blipFill>
        <p:spPr>
          <a:xfrm>
            <a:off x="6875640" y="2781360"/>
            <a:ext cx="1809720" cy="1079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9" descr="30"/>
          <p:cNvPicPr/>
          <p:nvPr/>
        </p:nvPicPr>
        <p:blipFill>
          <a:blip r:embed="rId7"/>
          <a:stretch/>
        </p:blipFill>
        <p:spPr>
          <a:xfrm>
            <a:off x="6012000" y="3357720"/>
            <a:ext cx="1809720" cy="1047600"/>
          </a:xfrm>
          <a:prstGeom prst="rect">
            <a:avLst/>
          </a:prstGeom>
          <a:ln w="0">
            <a:noFill/>
          </a:ln>
        </p:spPr>
      </p:pic>
      <p:pic>
        <p:nvPicPr>
          <p:cNvPr id="198" name="6ocean.wav" descr=""/>
          <p:cNvPicPr/>
          <p:nvPr/>
        </p:nvPicPr>
        <p:blipFill>
          <a:blip r:embed="rId8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9" name="Прямоугольник 14" descr=""/>
          <p:cNvPicPr/>
          <p:nvPr/>
        </p:nvPicPr>
        <p:blipFill>
          <a:blip r:embed="rId9"/>
          <a:stretch/>
        </p:blipFill>
        <p:spPr>
          <a:xfrm>
            <a:off x="2670120" y="-19080"/>
            <a:ext cx="3224160" cy="118908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15" descr="rebus_4.png"/>
          <p:cNvPicPr/>
          <p:nvPr/>
        </p:nvPicPr>
        <p:blipFill>
          <a:blip r:embed="rId10"/>
          <a:stretch/>
        </p:blipFill>
        <p:spPr>
          <a:xfrm>
            <a:off x="611280" y="1268280"/>
            <a:ext cx="4968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00:20Z</dcterms:created>
  <dc:creator>1</dc:creator>
  <dc:description/>
  <dc:language>en-US</dc:language>
  <cp:lastModifiedBy>Adel</cp:lastModifiedBy>
  <dcterms:modified xsi:type="dcterms:W3CDTF">2014-04-30T20:01:52Z</dcterms:modified>
  <cp:revision>72</cp:revision>
  <dc:subject/>
  <dc:title>Слайд 1</dc:title>
</cp:coreProperties>
</file>