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351-7603-46A2-91C2-2809D9B4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F32-3719-4194-8F32-8BDE1AE9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F92-C606-445B-ADFF-2510160B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3BC-F4B8-4E3E-AC20-84F627F8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101-1182-4923-AF6C-F6BAB0CA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E8E-CD76-4D0D-801A-DCC41F8A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D5C-3F4C-44ED-82A9-972BB8DE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5E0-3CEC-4590-8BA8-B3950B26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CA7-FF3A-4906-97E6-F9247C71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68B-612F-4729-9DF8-511AE980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186-629F-4083-BB65-37A0D398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BB8-7303-45AE-915C-CAF221A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2A4-E25F-4B58-B6CC-C61148902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ac854a__3e7604668c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riklyucheniya Elektronika - B'yut CHasy na staroi Bashne [pleer.com].mp3" descr=""/>
          <p:cNvPicPr/>
          <p:nvPr/>
        </p:nvPicPr>
        <p:blipFill>
          <a:blip r:embed="rId2"/>
          <a:stretch/>
        </p:blipFill>
        <p:spPr>
          <a:xfrm>
            <a:off x="61128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IGNAT\Desktop\7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ICT14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7113297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е 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IGNAT\Desktop\63513585.jpeg"/>
          <p:cNvPicPr/>
          <p:nvPr/>
        </p:nvPicPr>
        <p:blipFill>
          <a:blip r:embed="rId1"/>
          <a:stretch/>
        </p:blipFill>
        <p:spPr>
          <a:xfrm>
            <a:off x="5572080" y="0"/>
            <a:ext cx="35719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0031-066-Vodjanye-chasy"/>
          <p:cNvPicPr/>
          <p:nvPr/>
        </p:nvPicPr>
        <p:blipFill>
          <a:blip r:embed="rId2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яные 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_57ac8_ca2da420_L"/>
          <p:cNvPicPr/>
          <p:nvPr/>
        </p:nvPicPr>
        <p:blipFill>
          <a:blip r:embed="rId1"/>
          <a:stretch/>
        </p:blipFill>
        <p:spPr>
          <a:xfrm>
            <a:off x="0" y="4680"/>
            <a:ext cx="9144000" cy="499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IGNAT\Desktop\огонь2.jpg"/>
          <p:cNvPicPr/>
          <p:nvPr/>
        </p:nvPicPr>
        <p:blipFill>
          <a:blip r:embed="rId2"/>
          <a:stretch/>
        </p:blipFill>
        <p:spPr>
          <a:xfrm>
            <a:off x="0" y="4643280"/>
            <a:ext cx="9144000" cy="2214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гненные 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2115270_podarok_nastoyaschey_volshebnice_CHasuy_kaminnuye_Poligimniya_muza_tanca_i_poyeziiBronza_zolochenie_yem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6209_0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IGNAT\Desktop\galerie_atena_jacob_petit_clock_12470519017153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IGNAT\Desktop\images_893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IGNAT\Desktop\vashi-chasy-vash-xarakt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Users\IGNAT\Desktop\фото кот не вошли\081ac7ba5f6157654501f8202e2d9fcc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0:53:34Z</dcterms:created>
  <dc:creator>ИП Шестаков</dc:creator>
  <dc:description/>
  <dc:language>en-US</dc:language>
  <cp:lastModifiedBy>Tata</cp:lastModifiedBy>
  <dcterms:modified xsi:type="dcterms:W3CDTF">2014-03-30T18:29:32Z</dcterms:modified>
  <cp:revision>13</cp:revision>
  <dc:subject/>
  <dc:title>Слайд 1</dc:title>
</cp:coreProperties>
</file>