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8.jpeg" ContentType="image/jpeg"/>
  <Override PartName="/ppt/media/image13.jpeg" ContentType="image/jpeg"/>
  <Override PartName="/ppt/media/image23.png" ContentType="image/png"/>
  <Override PartName="/ppt/media/image24.png" ContentType="image/png"/>
  <Override PartName="/ppt/media/image22.png" ContentType="image/png"/>
  <Override PartName="/ppt/media/image19.jpeg" ContentType="image/jpeg"/>
  <Override PartName="/ppt/media/image21.png" ContentType="image/png"/>
  <Override PartName="/ppt/media/image4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1.wmf" ContentType="image/x-wmf"/>
  <Override PartName="/ppt/media/image2.png" ContentType="image/png"/>
  <Override PartName="/ppt/media/image25.jpeg" ContentType="image/jpeg"/>
  <Override PartName="/ppt/media/image3.png" ContentType="image/png"/>
  <Override PartName="/ppt/media/image1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6F2D-A7CA-45E7-95B6-BE466F792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9338-87E2-4CF6-B5AF-C61033BB1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9892-7DB4-4245-A71A-FD0154644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1899F-1084-4DC5-B993-349B2D81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EE9E-212B-4B57-BDF7-347833DBC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B104A-65DA-4732-A1B2-240402768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E648A-B903-41DD-A021-7E3A6B4AE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3A9A3-0B17-471A-9C14-A7B577B89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65DD9-6F60-4B19-AB21-70F91100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606B2-3E7B-4655-9891-E5F0DF15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B5E2-5B21-47A4-AF56-2D914AED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F6A6-C87B-4111-A8E3-12D0425D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61633-8461-4875-861E-100DC0DA1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E215B-2094-4332-8F66-2534E2580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3C4EF-DBB0-4989-8064-86C7C4234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B7D68-9D2D-4C98-BDB8-531CDCA28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0611-9151-4474-A051-D6FEFF706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6E0549-AC0C-4054-8303-E743BB6E0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53FBC-9AE2-4567-912E-AE42E60A6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A6268-E3E1-4F32-B0FA-E6459B0FB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E94CFB-7C1D-454F-9290-96A244684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162161-99A3-4E4D-9E7F-A2AB18BE9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A68C-CED6-4E7F-8014-48961D4C6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E17CE-8679-42AD-8DEB-AEE05587D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8357-F74D-4A5C-A466-1FDFA22E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1FE18-B0F2-4050-923F-FE9C179E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268DD-584F-4EE6-8B86-56F3CBC8E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D6FF9-6510-4050-902F-80B72148B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296D28-D188-4A13-99C1-FCC386CC9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E2303F-DD7D-4D40-BDB5-129064137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93648-840D-46D4-809A-363055F5A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0063BE-A919-45A8-86CD-5D625D7F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2C9488-66EA-4A67-B91D-28C8C341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1DD-B3A0-4919-AC1F-B5443674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6656C-8130-405C-9F7C-735096F1C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7A0074-A441-4646-9670-FF4D48B98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C17432-6347-4BC9-961A-91517C0F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53661-BF71-4A59-B3EB-245B09CDE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EB3446-C28C-41E7-B5F6-C3379A0B5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F7ABD-52A3-4985-8B12-DF0A16AEF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ADD578-109F-47C0-B37B-26F8760F8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28FBCB-220E-4C97-88E7-4AEFA819B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042CF-1A27-4D76-AA9B-6C6670B17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487636-7370-4DF4-8AEE-C2358C7D7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4D76-0A44-43D6-B710-C702BEDC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9333BA-F061-46A4-A37C-B32F2ECBF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70526-1AB3-4C18-BA4C-0835AB0CE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1077B2-612F-403B-A67B-9452B2CC6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5AEF-003D-4413-8B17-A58576ED8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67C099-238B-472F-8F93-FF6C9483A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DFAE6C-CB67-4524-863B-F531F130A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33C373-92E0-45C5-99C2-1C575B070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B2876-E86F-4BCE-A63C-5E0834D64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03298E-B575-4C33-B5B8-91E876997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DD9D73-A752-4336-AD0A-7B2C0FF35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9BAFF-C8DF-46A3-8726-1B083F444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A6E879-139D-416C-A80A-6F75C1BA3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279E-F296-4488-84F7-BC3D8618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5CB98-2238-4A3E-B328-C918F18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E5D-D128-425F-A73C-F27215192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F58B9-1A4F-4873-A414-05340C05B5D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e4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80CDD-D5C9-45E6-AC60-CD503B210F5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1e3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FDEE-EBE9-4411-BB5B-5D492194C41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db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0A36-9D8A-4A46-A337-C0FC7C5C6C8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fdab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D0159-CF99-4B86-8FA4-99624372AFE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image" Target="../media/image6.pn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jpeg"/><Relationship Id="rId8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16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17.jpe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6.png"/><Relationship Id="rId3" Type="http://schemas.openxmlformats.org/officeDocument/2006/relationships/image" Target="../media/image19.jpe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png"/><Relationship Id="rId3" Type="http://schemas.openxmlformats.org/officeDocument/2006/relationships/image" Target="../media/image7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1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663300"/>
                </a:solidFill>
                <a:latin typeface="Times New Roman"/>
              </a:rPr>
              <a:t>Тема:</a:t>
            </a:r>
            <a:br>
              <a:rPr sz="7200"/>
            </a:br>
            <a:r>
              <a:rPr b="0" lang="ru-RU" sz="7200" spc="-1" strike="noStrike">
                <a:solidFill>
                  <a:srgbClr val="663300"/>
                </a:solidFill>
                <a:latin typeface="Monotype Corsiva"/>
              </a:rPr>
              <a:t>«Можем ли мы услышать живопись»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fdf8cb"/>
            </a:solidFill>
            <a:miter/>
          </a:ln>
        </p:spPr>
      </p:pic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26920" y="3455640"/>
            <a:ext cx="7561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«Гартман кипит, как кипел «Борис», - звуки и мысль в воздухе повисли, глотаю и объедаюсь, едва успеваю царапать на бумаге (…). Хочу скорее и надежнее сделать. Моя физиономия в интермедиях видна… Как хорошо работается».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.П.Мусоргский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4" descr="487px-Stasov_by_Repin_1873"/>
          <p:cNvPicPr/>
          <p:nvPr/>
        </p:nvPicPr>
        <p:blipFill>
          <a:blip r:embed="rId2"/>
          <a:srcRect l="704" t="0" r="2218" b="0"/>
          <a:stretch/>
        </p:blipFill>
        <p:spPr>
          <a:xfrm>
            <a:off x="4788000" y="1916280"/>
            <a:ext cx="3240000" cy="41050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243" name="Picture 6" descr="napishi"/>
          <p:cNvPicPr/>
          <p:nvPr/>
        </p:nvPicPr>
        <p:blipFill>
          <a:blip r:embed="rId3"/>
          <a:stretch/>
        </p:blipFill>
        <p:spPr>
          <a:xfrm>
            <a:off x="2484360" y="5013360"/>
            <a:ext cx="2448000" cy="150984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Мусоргский9"/>
          <p:cNvPicPr/>
          <p:nvPr/>
        </p:nvPicPr>
        <p:blipFill>
          <a:blip r:embed="rId4"/>
          <a:srcRect l="7836" t="11991" r="0" b="0"/>
          <a:stretch/>
        </p:blipFill>
        <p:spPr>
          <a:xfrm>
            <a:off x="1187280" y="836640"/>
            <a:ext cx="3111840" cy="396072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2" descr="dd01021_"/>
          <p:cNvPicPr/>
          <p:nvPr/>
        </p:nvPicPr>
        <p:blipFill>
          <a:blip r:embed="rId1"/>
          <a:stretch/>
        </p:blipFill>
        <p:spPr>
          <a:xfrm>
            <a:off x="0" y="44280"/>
            <a:ext cx="9177480" cy="6810480"/>
          </a:xfrm>
          <a:prstGeom prst="rect">
            <a:avLst/>
          </a:prstGeom>
          <a:ln w="9360">
            <a:solidFill>
              <a:srgbClr val="fdf8d1"/>
            </a:solidFill>
            <a:miter/>
          </a:ln>
        </p:spPr>
      </p:pic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10920" y="2131560"/>
            <a:ext cx="777708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40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«Картинки с выставки» были созданы с поразительной быстротой, в течение неполных трех недель июня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Горизонтальный свиток 3"/>
          <p:cNvSpPr/>
          <p:nvPr/>
        </p:nvSpPr>
        <p:spPr>
          <a:xfrm>
            <a:off x="2700360" y="692280"/>
            <a:ext cx="3744720" cy="720720"/>
          </a:xfrm>
          <a:prstGeom prst="horizontalScroll">
            <a:avLst>
              <a:gd name="adj" fmla="val 12500"/>
            </a:avLst>
          </a:prstGeom>
          <a:solidFill>
            <a:srgbClr val="663300"/>
          </a:solidFill>
          <a:ln w="25560">
            <a:solidFill>
              <a:srgbClr val="bc6f00"/>
            </a:solidFill>
            <a:miter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1874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2" descr="dd01021_"/>
          <p:cNvPicPr/>
          <p:nvPr/>
        </p:nvPicPr>
        <p:blipFill>
          <a:blip r:embed="rId1"/>
          <a:stretch/>
        </p:blipFill>
        <p:spPr>
          <a:xfrm>
            <a:off x="0" y="47520"/>
            <a:ext cx="9177480" cy="6810480"/>
          </a:xfrm>
          <a:prstGeom prst="rect">
            <a:avLst/>
          </a:prstGeom>
          <a:ln w="9360">
            <a:solidFill>
              <a:srgbClr val="fdf8d1"/>
            </a:solidFill>
            <a:miter/>
          </a:ln>
        </p:spPr>
      </p:pic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84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Monotype Corsiva"/>
              </a:rPr>
              <a:t>СОДЕРЖА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8360" y="907920"/>
            <a:ext cx="727236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огул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Гно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огул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тарый зам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огул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Тюильрийский сад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сора детей после игр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Быдло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огул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Балет невылупившихся птенцов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Два еврея, богатый и бедный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Прогулка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Лимож. Рынок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Катакомбы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С мёртвыми на мёртвом языке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Избушка на курьих ножках (Баба-Яга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 algn="just">
              <a:lnSpc>
                <a:spcPct val="80000"/>
              </a:lnSpc>
              <a:spcBef>
                <a:spcPts val="499"/>
              </a:spcBef>
              <a:buClr>
                <a:srgbClr val="66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3300"/>
                </a:solidFill>
                <a:latin typeface="Times New Roman"/>
              </a:rPr>
              <a:t>Богатырские ворота (В стольном городе во Киев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5" descr="494px-Pictures_at_the_Exhibition_1st_edition"/>
          <p:cNvPicPr/>
          <p:nvPr/>
        </p:nvPicPr>
        <p:blipFill>
          <a:blip r:embed="rId2"/>
          <a:srcRect l="3420" t="655" r="2892" b="624"/>
          <a:stretch/>
        </p:blipFill>
        <p:spPr>
          <a:xfrm>
            <a:off x="4859280" y="981000"/>
            <a:ext cx="3433680" cy="4392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52" name="Picture 6" descr="0002-001-Sjuita-Kartinki-s-vystavki-TSikl-posvjaschen-pamjati-druga-Musorgskogo"/>
          <p:cNvPicPr/>
          <p:nvPr/>
        </p:nvPicPr>
        <p:blipFill>
          <a:blip r:embed="rId3"/>
          <a:stretch/>
        </p:blipFill>
        <p:spPr>
          <a:xfrm>
            <a:off x="4960800" y="981000"/>
            <a:ext cx="3283200" cy="43927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2000"/>
                            </p:stCondLst>
                            <p:childTnLst>
                              <p:par>
                                <p:cTn id="1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7708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0" y="5014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3300"/>
                </a:solidFill>
                <a:latin typeface="Monotype Corsiva"/>
              </a:rPr>
              <a:t>ИНТЕРМЕДИ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755640" y="1773360"/>
            <a:ext cx="7632720" cy="45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(итальянское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intermedio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,  буквально   лежащий между, промежуточный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  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Небольшая пьеса, иногда вставляемая между актами или отдельными моментами сценического действия. Встречается в виде отдельной части в инструментальных произведениях циклической фор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57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751120" y="2811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10"/>
          <p:cNvSpPr/>
          <p:nvPr/>
        </p:nvSpPr>
        <p:spPr>
          <a:xfrm>
            <a:off x="0" y="6067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Monotype Corsiva"/>
              </a:rPr>
              <a:t>«Старый замок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Старый замок.wmv" descr=""/>
          <p:cNvPicPr/>
          <p:nvPr/>
        </p:nvPicPr>
        <p:blipFill>
          <a:blip r:embed="rId2"/>
          <a:stretch/>
        </p:blipFill>
        <p:spPr>
          <a:xfrm>
            <a:off x="1692360" y="981000"/>
            <a:ext cx="6038640" cy="483084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4" descr="s030"/>
          <p:cNvPicPr/>
          <p:nvPr/>
        </p:nvPicPr>
        <p:blipFill>
          <a:blip r:embed="rId3">
            <a:lum bright="-6000"/>
          </a:blip>
          <a:srcRect l="2819" t="3305" r="3194" b="3117"/>
          <a:stretch/>
        </p:blipFill>
        <p:spPr>
          <a:xfrm>
            <a:off x="1258920" y="692280"/>
            <a:ext cx="677376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7" dur="230240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19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2" dur="1" fill="hold"/>
                                        <p:tgtEl>
                                          <p:spTgt spid="2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63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4" descr="s030"/>
          <p:cNvPicPr/>
          <p:nvPr/>
        </p:nvPicPr>
        <p:blipFill>
          <a:blip r:embed="rId2">
            <a:lum bright="-6000"/>
          </a:blip>
          <a:srcRect l="2819" t="3305" r="3194" b="3117"/>
          <a:stretch/>
        </p:blipFill>
        <p:spPr>
          <a:xfrm>
            <a:off x="1116000" y="714240"/>
            <a:ext cx="3311640" cy="3002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7" descr="Рисунок4"/>
          <p:cNvPicPr/>
          <p:nvPr/>
        </p:nvPicPr>
        <p:blipFill>
          <a:blip r:embed="rId3"/>
          <a:stretch/>
        </p:blipFill>
        <p:spPr>
          <a:xfrm>
            <a:off x="1332000" y="927000"/>
            <a:ext cx="2898720" cy="257328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8" descr="s030"/>
          <p:cNvPicPr/>
          <p:nvPr/>
        </p:nvPicPr>
        <p:blipFill>
          <a:blip r:embed="rId4">
            <a:lum bright="-6000"/>
          </a:blip>
          <a:srcRect l="2819" t="3305" r="3194" b="3117"/>
          <a:stretch/>
        </p:blipFill>
        <p:spPr>
          <a:xfrm>
            <a:off x="4643280" y="712800"/>
            <a:ext cx="3313440" cy="30034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9" descr="Рисунок2"/>
          <p:cNvPicPr/>
          <p:nvPr/>
        </p:nvPicPr>
        <p:blipFill>
          <a:blip r:embed="rId5"/>
          <a:srcRect l="2806" t="0" r="7567" b="0"/>
          <a:stretch/>
        </p:blipFill>
        <p:spPr>
          <a:xfrm>
            <a:off x="4859280" y="914400"/>
            <a:ext cx="2906640" cy="258588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10" descr="s030"/>
          <p:cNvPicPr/>
          <p:nvPr/>
        </p:nvPicPr>
        <p:blipFill>
          <a:blip r:embed="rId6">
            <a:lum bright="-6000"/>
          </a:blip>
          <a:srcRect l="2819" t="3299" r="3197" b="3119"/>
          <a:stretch/>
        </p:blipFill>
        <p:spPr>
          <a:xfrm>
            <a:off x="2916360" y="3716280"/>
            <a:ext cx="3311280" cy="280836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11" descr="Рисунок3"/>
          <p:cNvPicPr/>
          <p:nvPr/>
        </p:nvPicPr>
        <p:blipFill>
          <a:blip r:embed="rId7"/>
          <a:stretch/>
        </p:blipFill>
        <p:spPr>
          <a:xfrm>
            <a:off x="3132000" y="3836880"/>
            <a:ext cx="2880000" cy="24717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12"/>
          <p:cNvSpPr/>
          <p:nvPr/>
        </p:nvSpPr>
        <p:spPr>
          <a:xfrm>
            <a:off x="539640" y="3732120"/>
            <a:ext cx="2448000" cy="6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Ру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Владимир Мигачё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13"/>
          <p:cNvSpPr/>
          <p:nvPr/>
        </p:nvSpPr>
        <p:spPr>
          <a:xfrm>
            <a:off x="6084720" y="3645000"/>
            <a:ext cx="2808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Мира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Александр Триф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14"/>
          <p:cNvSpPr/>
          <p:nvPr/>
        </p:nvSpPr>
        <p:spPr>
          <a:xfrm>
            <a:off x="519120" y="5157720"/>
            <a:ext cx="268452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Гор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Татьяна Туличе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74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4" descr="s030"/>
          <p:cNvPicPr/>
          <p:nvPr/>
        </p:nvPicPr>
        <p:blipFill>
          <a:blip r:embed="rId2">
            <a:lum bright="-6000"/>
          </a:blip>
          <a:srcRect l="2819" t="3305" r="3194" b="3117"/>
          <a:stretch/>
        </p:blipFill>
        <p:spPr>
          <a:xfrm>
            <a:off x="1332000" y="620640"/>
            <a:ext cx="6335640" cy="57438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5" descr="Рисунок4"/>
          <p:cNvPicPr/>
          <p:nvPr/>
        </p:nvPicPr>
        <p:blipFill>
          <a:blip r:embed="rId3"/>
          <a:stretch/>
        </p:blipFill>
        <p:spPr>
          <a:xfrm>
            <a:off x="1576440" y="941400"/>
            <a:ext cx="5832360" cy="517824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5" descr="troubadour"/>
          <p:cNvPicPr/>
          <p:nvPr/>
        </p:nvPicPr>
        <p:blipFill>
          <a:blip r:embed="rId4">
            <a:lum bright="-18000"/>
          </a:blip>
          <a:srcRect l="0" t="0" r="42257" b="0"/>
          <a:stretch/>
        </p:blipFill>
        <p:spPr>
          <a:xfrm>
            <a:off x="1619280" y="4797360"/>
            <a:ext cx="603360" cy="1154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79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6" descr="s030"/>
          <p:cNvPicPr/>
          <p:nvPr/>
        </p:nvPicPr>
        <p:blipFill>
          <a:blip r:embed="rId2">
            <a:lum bright="-6000"/>
          </a:blip>
          <a:srcRect l="2819" t="3305" r="3194" b="3117"/>
          <a:stretch/>
        </p:blipFill>
        <p:spPr>
          <a:xfrm>
            <a:off x="1619280" y="712800"/>
            <a:ext cx="6192720" cy="561492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7" descr="Рисунок2"/>
          <p:cNvPicPr/>
          <p:nvPr/>
        </p:nvPicPr>
        <p:blipFill>
          <a:blip r:embed="rId3"/>
          <a:srcRect l="2806" t="0" r="7567" b="0"/>
          <a:stretch/>
        </p:blipFill>
        <p:spPr>
          <a:xfrm>
            <a:off x="1835280" y="914400"/>
            <a:ext cx="5786280" cy="5148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18" descr="troubadour"/>
          <p:cNvPicPr/>
          <p:nvPr/>
        </p:nvPicPr>
        <p:blipFill>
          <a:blip r:embed="rId4">
            <a:lum bright="-18000"/>
          </a:blip>
          <a:srcRect l="42268" t="0" r="0" b="0"/>
          <a:stretch/>
        </p:blipFill>
        <p:spPr>
          <a:xfrm>
            <a:off x="6993000" y="4941720"/>
            <a:ext cx="608040" cy="10810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0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2.96296E-006 L -0.04879 0.00532 E">
                                      <p:cBhvr>
                                        <p:cTn id="140" dur="5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84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4" descr="s030"/>
          <p:cNvPicPr/>
          <p:nvPr/>
        </p:nvPicPr>
        <p:blipFill>
          <a:blip r:embed="rId2">
            <a:lum bright="-6000"/>
          </a:blip>
          <a:srcRect l="2819" t="3305" r="3194" b="3117"/>
          <a:stretch/>
        </p:blipFill>
        <p:spPr>
          <a:xfrm>
            <a:off x="1763640" y="712800"/>
            <a:ext cx="6193080" cy="561492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7" descr="Рисунок3"/>
          <p:cNvPicPr/>
          <p:nvPr/>
        </p:nvPicPr>
        <p:blipFill>
          <a:blip r:embed="rId3"/>
          <a:stretch/>
        </p:blipFill>
        <p:spPr>
          <a:xfrm>
            <a:off x="2124000" y="1125360"/>
            <a:ext cx="5543640" cy="47577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8" descr="troubadour"/>
          <p:cNvPicPr/>
          <p:nvPr/>
        </p:nvPicPr>
        <p:blipFill>
          <a:blip r:embed="rId4">
            <a:lum bright="-18000"/>
          </a:blip>
          <a:stretch/>
        </p:blipFill>
        <p:spPr>
          <a:xfrm>
            <a:off x="5415120" y="2924280"/>
            <a:ext cx="1174680" cy="13716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6.2963E-006 C -0.01024 0.01274 -0.02031 0.0257 -0.02569 0.03843 C -0.03108 0.05116 -0.02934 0.06413 -0.03177 0.07686 C -0.0342 0.08959 -0.03472 0.10649 -0.0408 0.11528 C -0.04687 0.12408 -0.05764 0.1213 -0.06805 0.1294 C -0.07847 0.13751 -0.09167 0.15232 -0.10295 0.16366 C -0.11424 0.17501 -0.12535 0.18635 -0.13628 0.19792 E">
                                      <p:cBhvr>
                                        <p:cTn id="146" dur="5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89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Picture 9" descr=""/>
          <p:cNvPicPr/>
          <p:nvPr/>
        </p:nvPicPr>
        <p:blipFill>
          <a:blip r:embed="rId2"/>
          <a:srcRect l="10561" t="30417" r="33179" b="11460"/>
          <a:stretch/>
        </p:blipFill>
        <p:spPr>
          <a:xfrm>
            <a:off x="838080" y="990720"/>
            <a:ext cx="7508880" cy="4849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08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Picture 4" descr="s030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2112840" y="423720"/>
            <a:ext cx="5051520" cy="5958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Мусоргский Прогулка"/>
          <p:cNvPicPr/>
          <p:nvPr/>
        </p:nvPicPr>
        <p:blipFill>
          <a:blip r:embed="rId3"/>
          <a:srcRect l="6541" t="7130" r="11496" b="20358"/>
          <a:stretch/>
        </p:blipFill>
        <p:spPr>
          <a:xfrm>
            <a:off x="2627280" y="981000"/>
            <a:ext cx="3995640" cy="4883400"/>
          </a:xfrm>
          <a:prstGeom prst="rect">
            <a:avLst/>
          </a:prstGeom>
          <a:ln w="0">
            <a:noFill/>
          </a:ln>
        </p:spPr>
      </p:pic>
      <p:pic>
        <p:nvPicPr>
          <p:cNvPr id="211" name="1. М.П.Мусоргский Картинки с выставки Прогулка.mp3" descr=""/>
          <p:cNvPicPr/>
          <p:nvPr/>
        </p:nvPicPr>
        <p:blipFill>
          <a:blip r:embed="rId4"/>
          <a:stretch/>
        </p:blipFill>
        <p:spPr>
          <a:xfrm>
            <a:off x="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80823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92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6" descr=""/>
          <p:cNvPicPr/>
          <p:nvPr/>
        </p:nvPicPr>
        <p:blipFill>
          <a:blip r:embed="rId2"/>
          <a:srcRect l="10546" t="30412" r="33229" b="10501"/>
          <a:stretch/>
        </p:blipFill>
        <p:spPr>
          <a:xfrm>
            <a:off x="914400" y="990720"/>
            <a:ext cx="7429680" cy="487980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3"/>
          <p:cNvSpPr/>
          <p:nvPr/>
        </p:nvSpPr>
        <p:spPr>
          <a:xfrm>
            <a:off x="3851280" y="83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 Box 4"/>
          <p:cNvSpPr/>
          <p:nvPr/>
        </p:nvSpPr>
        <p:spPr>
          <a:xfrm>
            <a:off x="0" y="260280"/>
            <a:ext cx="914400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Times New Roman"/>
                <a:ea typeface="Times New Roman"/>
              </a:rPr>
              <a:t>Автор проекта: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br>
              <a:rPr sz="3200"/>
            </a:br>
            <a:r>
              <a:rPr b="1" lang="ru-RU" sz="4400" spc="-1" strike="noStrike">
                <a:solidFill>
                  <a:srgbClr val="663300"/>
                </a:solidFill>
                <a:latin typeface="Monotype Corsiva"/>
              </a:rPr>
              <a:t>Никифорова Наталья Михайлов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учитель музыки</a:t>
            </a:r>
            <a:r>
              <a:rPr b="0" lang="en-US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высшей категории Президент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3300"/>
                </a:solidFill>
                <a:latin typeface="Times New Roman"/>
              </a:rPr>
              <a:t>физико-математического лицея №239 Санкт-Петербур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" name="Picture 6" descr="F:\Памятник Штраусу.jpg"/>
          <p:cNvPicPr/>
          <p:nvPr/>
        </p:nvPicPr>
        <p:blipFill>
          <a:blip r:embed="rId2"/>
          <a:srcRect l="12816" t="7933" r="2503" b="9162"/>
          <a:stretch/>
        </p:blipFill>
        <p:spPr>
          <a:xfrm>
            <a:off x="2971800" y="2286000"/>
            <a:ext cx="3214800" cy="41781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13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Прогулка.wmv" descr=""/>
          <p:cNvPicPr/>
          <p:nvPr/>
        </p:nvPicPr>
        <p:blipFill>
          <a:blip r:embed="rId2"/>
          <a:stretch/>
        </p:blipFill>
        <p:spPr>
          <a:xfrm>
            <a:off x="1692360" y="1052640"/>
            <a:ext cx="5940360" cy="47527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6" descr="s030"/>
          <p:cNvPicPr/>
          <p:nvPr/>
        </p:nvPicPr>
        <p:blipFill>
          <a:blip r:embed="rId3">
            <a:lum bright="-6000"/>
          </a:blip>
          <a:srcRect l="2819" t="3305" r="3194" b="3117"/>
          <a:stretch/>
        </p:blipFill>
        <p:spPr>
          <a:xfrm>
            <a:off x="1258920" y="692280"/>
            <a:ext cx="6773760" cy="54705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79040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17" name="Text Box 3"/>
          <p:cNvSpPr/>
          <p:nvPr/>
        </p:nvSpPr>
        <p:spPr>
          <a:xfrm>
            <a:off x="4518000" y="5173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360" y="5157720"/>
            <a:ext cx="9144000" cy="1176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Модест Петрович Мусоргский</a:t>
            </a:r>
            <a:r>
              <a:rPr b="1" lang="en-US" sz="3200" spc="-1" strike="noStrike">
                <a:solidFill>
                  <a:srgbClr val="663300"/>
                </a:solidFill>
                <a:latin typeface="Monotype Corsiva"/>
              </a:rPr>
              <a:t> 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(</a:t>
            </a: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ортрет И.Е.Репина</a:t>
            </a:r>
            <a:r>
              <a:rPr b="1" lang="en-US" sz="2000" spc="-1" strike="noStrike">
                <a:solidFill>
                  <a:srgbClr val="663300"/>
                </a:solidFill>
                <a:latin typeface="Times New Roman"/>
              </a:rPr>
              <a:t>)</a:t>
            </a:r>
            <a:r>
              <a:rPr b="1" lang="ru-RU" sz="3200" spc="-1" strike="noStrike">
                <a:solidFill>
                  <a:srgbClr val="663300"/>
                </a:solidFill>
                <a:latin typeface="Monotype Corsiva"/>
              </a:rPr>
              <a:t>  </a:t>
            </a:r>
            <a:br>
              <a:rPr sz="3200"/>
            </a:br>
            <a:r>
              <a:rPr b="0" lang="ru-RU" sz="2400" spc="-1" strike="noStrike">
                <a:solidFill>
                  <a:srgbClr val="663300"/>
                </a:solidFill>
                <a:latin typeface="Monotype Corsiva"/>
              </a:rPr>
              <a:t>(1839-188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12" descr="Мусоргский Прогулка"/>
          <p:cNvPicPr/>
          <p:nvPr/>
        </p:nvPicPr>
        <p:blipFill>
          <a:blip r:embed="rId2"/>
          <a:srcRect l="6541" t="7130" r="11496" b="20358"/>
          <a:stretch/>
        </p:blipFill>
        <p:spPr>
          <a:xfrm>
            <a:off x="2790720" y="765000"/>
            <a:ext cx="3652920" cy="446256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14"/>
          <p:cNvSpPr/>
          <p:nvPr/>
        </p:nvSpPr>
        <p:spPr>
          <a:xfrm>
            <a:off x="3497040" y="6093000"/>
            <a:ext cx="205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3300"/>
                </a:solidFill>
                <a:latin typeface="Monotype Corsiva"/>
              </a:rPr>
              <a:t>«Прогул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16" descr="Ilya_Repin_-_Портрет_композитора_М"/>
          <p:cNvPicPr/>
          <p:nvPr/>
        </p:nvPicPr>
        <p:blipFill>
          <a:blip r:embed="rId3"/>
          <a:srcRect l="917" t="0" r="0" b="0"/>
          <a:stretch/>
        </p:blipFill>
        <p:spPr>
          <a:xfrm>
            <a:off x="2700360" y="549360"/>
            <a:ext cx="3771720" cy="47512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17" descr="s030"/>
          <p:cNvPicPr/>
          <p:nvPr/>
        </p:nvPicPr>
        <p:blipFill>
          <a:blip r:embed="rId4">
            <a:lum bright="-6000"/>
          </a:blip>
          <a:srcRect l="3305" t="3195" r="3118" b="2819"/>
          <a:stretch/>
        </p:blipFill>
        <p:spPr>
          <a:xfrm>
            <a:off x="2443320" y="333360"/>
            <a:ext cx="421632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85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663300"/>
                </a:solidFill>
                <a:latin typeface="Monotype Corsiva"/>
              </a:rPr>
              <a:t>Фортепианная сюита «Картинки с выставки»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77080"/>
          </a:xfrm>
          <a:prstGeom prst="rect">
            <a:avLst/>
          </a:prstGeom>
          <a:ln w="0">
            <a:noFill/>
          </a:ln>
        </p:spPr>
      </p:pic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0000" y="980640"/>
            <a:ext cx="6696360" cy="1295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7200" spc="-1" strike="noStrike">
                <a:solidFill>
                  <a:srgbClr val="663300"/>
                </a:solidFill>
                <a:latin typeface="Monotype Corsiva"/>
              </a:rPr>
              <a:t>СЮИТА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971640" y="2730600"/>
            <a:ext cx="7129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-  (французское suite, буквально - ряд, последовательность).  </a:t>
            </a:r>
            <a:br>
              <a:rPr sz="3200"/>
            </a:b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Музыкальное  </a:t>
            </a:r>
            <a:r>
              <a:rPr b="0" lang="en-US" sz="3200" spc="-1" strike="noStrike">
                <a:solidFill>
                  <a:srgbClr val="6633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663300"/>
                </a:solidFill>
                <a:latin typeface="Times New Roman"/>
              </a:rPr>
              <a:t>произведение   из нескольких   разнохарактерных  пьес, объединенных  единством замысла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9640" y="5310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3300"/>
                </a:solidFill>
                <a:latin typeface="Monotype Corsiva"/>
              </a:rPr>
              <a:t>Виктор Александрович Гартман </a:t>
            </a:r>
            <a:br>
              <a:rPr sz="3200"/>
            </a:br>
            <a:r>
              <a:rPr b="0" lang="ru-RU" sz="2400" spc="-1" strike="noStrike">
                <a:solidFill>
                  <a:srgbClr val="663300"/>
                </a:solidFill>
                <a:latin typeface="Monotype Corsiva"/>
              </a:rPr>
              <a:t>(1834—1873) </a:t>
            </a:r>
            <a:br>
              <a:rPr sz="2400"/>
            </a:b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Архитектор и худож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4" descr="Viktor_Gartman"/>
          <p:cNvPicPr/>
          <p:nvPr/>
        </p:nvPicPr>
        <p:blipFill>
          <a:blip r:embed="rId2"/>
          <a:srcRect l="0" t="4410" r="0" b="4410"/>
          <a:stretch/>
        </p:blipFill>
        <p:spPr>
          <a:xfrm>
            <a:off x="2827440" y="476280"/>
            <a:ext cx="3616200" cy="484344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fdf8cb"/>
            </a:solidFill>
            <a:miter/>
          </a:ln>
        </p:spPr>
      </p:pic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6920" y="3455640"/>
            <a:ext cx="756144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«…бойкие, изящные наброски живописца-жанриста, множество сцен, типов, фигур из вседневной жизни, схваченных из сферы того, что неслось и кружилось вокруг него…»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800" spc="-1" strike="noStrike">
                <a:solidFill>
                  <a:srgbClr val="663300"/>
                </a:solidFill>
                <a:latin typeface="Times New Roman"/>
              </a:rPr>
              <a:t>	</a:t>
            </a:r>
            <a:r>
              <a:rPr b="1" i="1" lang="ru-RU" sz="2400" spc="-1" strike="noStrike">
                <a:solidFill>
                  <a:srgbClr val="663300"/>
                </a:solidFill>
                <a:latin typeface="Times New Roman"/>
              </a:rPr>
              <a:t>В.В.Стасов</a:t>
            </a:r>
            <a:r>
              <a:rPr b="1" i="1" lang="en-US" sz="2400" spc="-1" strike="noStrike">
                <a:solidFill>
                  <a:srgbClr val="77491f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4" descr="487px-Stasov_by_Repin_1873"/>
          <p:cNvPicPr/>
          <p:nvPr/>
        </p:nvPicPr>
        <p:blipFill>
          <a:blip r:embed="rId2"/>
          <a:srcRect l="704" t="0" r="2218" b="0"/>
          <a:stretch/>
        </p:blipFill>
        <p:spPr>
          <a:xfrm>
            <a:off x="1187280" y="836640"/>
            <a:ext cx="3240360" cy="4105080"/>
          </a:xfrm>
          <a:prstGeom prst="rect">
            <a:avLst/>
          </a:prstGeom>
          <a:ln w="0">
            <a:noFill/>
          </a:ln>
          <a:effectLst>
            <a:outerShdw dist="107932" dir="13500000" blurRad="0" rotWithShape="0">
              <a:srgbClr val="663300">
                <a:alpha val="50000"/>
              </a:srgbClr>
            </a:outerShdw>
          </a:effectLst>
        </p:spPr>
      </p:pic>
      <p:pic>
        <p:nvPicPr>
          <p:cNvPr id="234" name="Picture 5" descr="napishi"/>
          <p:cNvPicPr/>
          <p:nvPr/>
        </p:nvPicPr>
        <p:blipFill>
          <a:blip r:embed="rId3"/>
          <a:stretch/>
        </p:blipFill>
        <p:spPr>
          <a:xfrm>
            <a:off x="2484360" y="5013360"/>
            <a:ext cx="2448000" cy="15098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6" descr="Viktor_Gartman"/>
          <p:cNvPicPr/>
          <p:nvPr/>
        </p:nvPicPr>
        <p:blipFill>
          <a:blip r:embed="rId4"/>
          <a:srcRect l="0" t="4410" r="0" b="9353"/>
          <a:stretch/>
        </p:blipFill>
        <p:spPr>
          <a:xfrm>
            <a:off x="4818240" y="1844640"/>
            <a:ext cx="3241440" cy="4105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663300">
                <a:alpha val="50000"/>
              </a:srgbClr>
            </a:outerShdw>
          </a:effectLst>
        </p:spPr>
      </p:pic>
    </p:spTree>
  </p:cSld>
  <p:transition spd="slow">
    <p:zoom dir="out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dd01021_"/>
          <p:cNvPicPr/>
          <p:nvPr/>
        </p:nvPicPr>
        <p:blipFill>
          <a:blip r:embed="rId1"/>
          <a:stretch/>
        </p:blipFill>
        <p:spPr>
          <a:xfrm>
            <a:off x="0" y="0"/>
            <a:ext cx="9177480" cy="6858000"/>
          </a:xfrm>
          <a:prstGeom prst="rect">
            <a:avLst/>
          </a:prstGeom>
          <a:ln w="9360">
            <a:solidFill>
              <a:srgbClr val="4a2500"/>
            </a:solidFill>
            <a:miter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551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3300"/>
                </a:solidFill>
                <a:latin typeface="Times New Roman"/>
              </a:rPr>
              <a:t>Письмо М.П.Мусоргского В.В.Стасов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Picture 4" descr="389px-Mussorgsky_letter_to_Stasov_June_1974"/>
          <p:cNvPicPr/>
          <p:nvPr/>
        </p:nvPicPr>
        <p:blipFill>
          <a:blip r:embed="rId2"/>
          <a:stretch/>
        </p:blipFill>
        <p:spPr>
          <a:xfrm>
            <a:off x="2870280" y="476280"/>
            <a:ext cx="3508200" cy="540072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239" name="Picture 5" descr="napishi"/>
          <p:cNvPicPr/>
          <p:nvPr/>
        </p:nvPicPr>
        <p:blipFill>
          <a:blip r:embed="rId3"/>
          <a:stretch/>
        </p:blipFill>
        <p:spPr>
          <a:xfrm>
            <a:off x="1835280" y="4653000"/>
            <a:ext cx="2447640" cy="15098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2T09:09:43Z</dcterms:created>
  <dc:creator>Татьяна Федоровна</dc:creator>
  <dc:description/>
  <dc:language>en-US</dc:language>
  <cp:lastModifiedBy>User</cp:lastModifiedBy>
  <dcterms:modified xsi:type="dcterms:W3CDTF">2014-01-30T08:44:52Z</dcterms:modified>
  <cp:revision>47</cp:revision>
  <dc:subject/>
  <dc:title>Музыкальная живопись Мусоргского</dc:title>
</cp:coreProperties>
</file>