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7.gif" ContentType="image/gif"/>
  <Override PartName="/ppt/media/image16.gif" ContentType="image/gif"/>
  <Override PartName="/ppt/media/image28.jpeg" ContentType="image/jpeg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21.gif" ContentType="image/gif"/>
  <Override PartName="/ppt/media/image19.gif" ContentType="image/gif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2.gif" ContentType="image/gif"/>
  <Override PartName="/ppt/media/image23.gif" ContentType="image/gif"/>
  <Override PartName="/ppt/media/image3.png" ContentType="image/png"/>
  <Override PartName="/ppt/media/image27.png" ContentType="image/png"/>
  <Override PartName="/ppt/media/image33.jpeg" ContentType="image/jpeg"/>
  <Override PartName="/ppt/media/image30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48.png" ContentType="image/png"/>
  <Override PartName="/ppt/media/image38.jpeg" ContentType="image/jpeg"/>
  <Override PartName="/ppt/media/image44.jpeg" ContentType="image/jpeg"/>
  <Override PartName="/ppt/media/image9.png" ContentType="image/png"/>
  <Override PartName="/ppt/media/image42.jpeg" ContentType="image/jpeg"/>
  <Override PartName="/ppt/media/image43.jpeg" ContentType="image/jpeg"/>
  <Override PartName="/ppt/media/image12.png" ContentType="image/png"/>
  <Override PartName="/ppt/media/image4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6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26.jpeg" ContentType="image/jpeg"/>
  <Override PartName="/ppt/media/image24.gif" ContentType="image/gif"/>
  <Override PartName="/ppt/media/image32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65DC-50F2-469A-A36F-BD1594549D7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EEB6-3FE6-4EFD-8810-2A10506E114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CD56-1B5C-4E80-BF69-646C515ED0C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57F2-F6B2-44DB-BD37-AACFD99BB07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61F5-C958-4953-A4F7-B8FE43E1D35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CB44-8FAB-4EE5-8C86-E33954BC034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42AC-8C1A-41E6-89FA-2E951F1BDCE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1FE5-7928-4EC9-A0E1-71329B0DDFF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81FA-E895-40B0-82B9-0FD67F23687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3656-886C-48DF-81D9-63917BFDD53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D3B4-4E0F-4E6B-AC3F-279D204CAC0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1BEF-BC77-4BAC-A959-3ECE320C919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C5F5-7584-4EA9-B484-EC3380F7DF0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01CA-750F-44DB-B7CA-C0DB5CD18FC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FAA4-CF07-4870-A16B-35604987C6E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7A7B-81C2-4627-822C-9213A70B053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5EB-52F0-403F-A5C0-286986ACF2F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551C-5175-4185-B444-6475EF7EEC0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4D1E-36C0-4A06-882E-15BE37D1FC0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63EA-074E-4808-BB4F-B68F654FEC5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B229-E560-4B59-9AB6-712F6E82DD8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35CC-E503-4921-A54E-D72B00B212F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64EA-82BA-4D47-8FB8-2EEF1CD13FE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8D24-F971-470F-AD21-29A4C1C5961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7A2C-ECAF-4CB8-BC9D-DAC3336ED02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AF4A-8172-45B4-B609-DCFFE23B10B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354D-AFFC-4D3A-A076-C7E00D0EF1F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E3D8-56CB-4511-B96F-462512A0D54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218D-7E0C-478B-AA5D-DFFC792F396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A68-58B5-4D42-856C-19F3F364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2DF-3A65-4A34-87A3-8FDBF11E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743-BF39-4678-8625-2E5419C4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B0D-1652-44B7-82B2-B3CB6832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DECE-44A3-4203-A452-46F7B2D8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04F2-1AC1-40AD-B398-D85DE50F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47B9-78A2-4C53-B327-77C73A17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249B-2AA1-45AF-A750-8DBFEC9F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E06D-FE43-487E-B21E-4D89F28C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FC22-5F67-41ED-8B65-7CAFE0E9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F94E-DCF2-4E90-B2A7-6AE28AAE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2E2-D4D4-4512-BD36-7C8E88D4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20D7-126B-40C4-ADD3-0BA68F4B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E565-7260-4464-A7CB-34CB51C5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1611-9265-466E-A6CF-33DE908D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23D4-F19B-4F9E-B926-1849FB83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79ED-FE21-44EC-A244-03272436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FB5A-F63C-44E7-9090-308025BB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7B27-2740-48B9-AE84-6D1F76C7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58A3-61A4-44E2-98C6-D3A17EAE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A50D-151A-40A5-BC24-F298EC32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13F0-2AB5-4820-866E-F89B1E81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120-FE29-4DEF-BB8B-D2F5C31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034E-F5A5-48D7-9F06-0147AEB1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8D4D-6C52-4910-9B59-45822B10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511DA-F785-4FBF-8971-F203B1D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E34F-FA66-4AF5-9E7E-AE99C958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7FC6-4D0A-4950-9751-D2C643B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33FC-D8AE-43B8-BE70-DF8DF199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1A97-4A55-48D0-9468-167510F7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5ECB-0857-4A5D-880E-BE2504AD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653D5-50F8-417C-8AE7-7E225557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BA8F-1B60-4D5A-A4DC-3C74BDF5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938-9E53-4454-9980-284A587D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8410-46BB-4B5A-9FA0-FDC1841F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32B81-DA83-4A53-8F8A-2A15424C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76C8-419E-475C-AC6C-42ED270D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4DB85-E20A-4A40-8E4A-21E54FE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7392-1D6E-4E6D-B3AB-65C1C04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9780-EA37-4B78-8963-70F706AC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891E9-EA01-4E85-8058-B7007DD4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0BB2-7E07-426E-9B26-6BA98412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E0CC5-CA56-4235-8F07-63140375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EC641-4E3B-4AB2-84CC-D6A9191D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555-E036-485B-9702-DE196F19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7E0B-A84C-4716-AD7D-FB475773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A2E5-66E4-4E6F-A583-3391B400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FCA5-222F-42B5-8C00-8E990F36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7571-B075-4A22-AF07-9B80CF50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AAC2-865E-49A3-B396-DE09E600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40804-1BA8-4559-BF9F-8D7CE02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75EAE-A89E-49ED-8A13-A617FC48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6A8A-E7BF-4C66-AAB8-EFAE3F36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7744-A6B9-465E-84DA-3D7544B2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8317D-0D82-40A4-99F8-78A463CF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2B6-6835-4CF9-88AC-746B91C9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1AA7A-FBF2-4381-BF2B-D00AE38A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2BA-69B0-497A-9814-89ABC355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001-B7D6-4D50-B3B4-14C52F36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114-8ECD-43B3-A3C6-1AD6AB7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5f2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CECD-AB34-4320-8B32-E14F39190C5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0E6E-540E-4B65-97FE-CAB6BDC68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A2C2-3C4B-40A4-9A9B-4580F30C9D61}" type="slidenum">
              <a:rPr b="0" lang="ru-RU" sz="1200" spc="-1" strike="noStrike">
                <a:solidFill>
                  <a:srgbClr val="4b251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C1D6-FA6B-4BBD-B9CD-48105B572614}" type="slidenum">
              <a:rPr b="0" lang="ru-RU" sz="1200" spc="-1" strike="noStrike">
                <a:solidFill>
                  <a:srgbClr val="4b251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5f2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83F4-A106-4480-BA41-B4B7B962336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8"/>
          <p:cNvSpPr txBox="1"/>
          <p:nvPr/>
        </p:nvSpPr>
        <p:spPr>
          <a:xfrm>
            <a:off x="3643200" y="3000240"/>
            <a:ext cx="25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3 класс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1285920" y="285840"/>
            <a:ext cx="7416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Урок</a:t>
            </a:r>
            <a:endParaRPr b="1" lang="en-US" sz="3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окружающего мира</a:t>
            </a:r>
            <a:endParaRPr b="1" lang="en-US" sz="3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249" name="WordArt 14"/>
          <p:cNvSpPr txBox="1"/>
          <p:nvPr/>
        </p:nvSpPr>
        <p:spPr>
          <a:xfrm>
            <a:off x="2714760" y="5357880"/>
            <a:ext cx="4537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БУ "Поярковская СОШ № 1"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50" name="WordArt 15"/>
          <p:cNvSpPr txBox="1"/>
          <p:nvPr/>
        </p:nvSpPr>
        <p:spPr>
          <a:xfrm>
            <a:off x="1785960" y="607212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ехместер Любовь Ильинична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51" name="WordArt 16"/>
          <p:cNvSpPr txBox="1"/>
          <p:nvPr/>
        </p:nvSpPr>
        <p:spPr>
          <a:xfrm>
            <a:off x="2286000" y="5715000"/>
            <a:ext cx="51609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252" name="TextBox 6" descr=""/>
          <p:cNvPicPr/>
          <p:nvPr/>
        </p:nvPicPr>
        <p:blipFill>
          <a:blip r:embed="rId1"/>
          <a:stretch/>
        </p:blipFill>
        <p:spPr>
          <a:xfrm>
            <a:off x="-42840" y="3602160"/>
            <a:ext cx="936936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http://www.clubdances.ru/dance/196.gif"/>
          <p:cNvPicPr/>
          <p:nvPr/>
        </p:nvPicPr>
        <p:blipFill>
          <a:blip r:embed="rId1"/>
          <a:stretch/>
        </p:blipFill>
        <p:spPr>
          <a:xfrm>
            <a:off x="755640" y="141300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ttp://www.clubdances.ru/dance/196.gif"/>
          <p:cNvPicPr/>
          <p:nvPr/>
        </p:nvPicPr>
        <p:blipFill>
          <a:blip r:embed="rId2"/>
          <a:stretch/>
        </p:blipFill>
        <p:spPr>
          <a:xfrm>
            <a:off x="4788000" y="134136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Photo 061"/>
          <p:cNvPicPr/>
          <p:nvPr/>
        </p:nvPicPr>
        <p:blipFill>
          <a:blip r:embed="rId1"/>
          <a:stretch/>
        </p:blipFill>
        <p:spPr>
          <a:xfrm>
            <a:off x="1258920" y="2133720"/>
            <a:ext cx="3025800" cy="285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Photo 061"/>
          <p:cNvPicPr/>
          <p:nvPr/>
        </p:nvPicPr>
        <p:blipFill>
          <a:blip r:embed="rId2"/>
          <a:stretch/>
        </p:blipFill>
        <p:spPr>
          <a:xfrm>
            <a:off x="4643280" y="2205000"/>
            <a:ext cx="3024360" cy="285444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Рисунок 16" descr="страус, анимашка, анимация"/>
          <p:cNvPicPr/>
          <p:nvPr/>
        </p:nvPicPr>
        <p:blipFill>
          <a:blip r:embed="rId1"/>
          <a:stretch/>
        </p:blipFill>
        <p:spPr>
          <a:xfrm>
            <a:off x="971640" y="1916280"/>
            <a:ext cx="3105000" cy="42480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6" descr="страус, анимашка, анимация"/>
          <p:cNvPicPr/>
          <p:nvPr/>
        </p:nvPicPr>
        <p:blipFill>
          <a:blip r:embed="rId2"/>
          <a:stretch/>
        </p:blipFill>
        <p:spPr>
          <a:xfrm>
            <a:off x="5003640" y="2133720"/>
            <a:ext cx="3105360" cy="42480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Photo 123"/>
          <p:cNvPicPr/>
          <p:nvPr/>
        </p:nvPicPr>
        <p:blipFill>
          <a:blip r:embed="rId1"/>
          <a:stretch/>
        </p:blipFill>
        <p:spPr>
          <a:xfrm>
            <a:off x="4932360" y="2565360"/>
            <a:ext cx="2879640" cy="2401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Photo 123"/>
          <p:cNvPicPr/>
          <p:nvPr/>
        </p:nvPicPr>
        <p:blipFill>
          <a:blip r:embed="rId2"/>
          <a:stretch/>
        </p:blipFill>
        <p:spPr>
          <a:xfrm>
            <a:off x="900000" y="2276640"/>
            <a:ext cx="3167280" cy="264132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Photo 027"/>
          <p:cNvPicPr/>
          <p:nvPr/>
        </p:nvPicPr>
        <p:blipFill>
          <a:blip r:embed="rId1"/>
          <a:stretch/>
        </p:blipFill>
        <p:spPr>
          <a:xfrm>
            <a:off x="5724360" y="2781360"/>
            <a:ext cx="2795760" cy="374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Photo 027"/>
          <p:cNvPicPr/>
          <p:nvPr/>
        </p:nvPicPr>
        <p:blipFill>
          <a:blip r:embed="rId2"/>
          <a:stretch/>
        </p:blipFill>
        <p:spPr>
          <a:xfrm flipH="1">
            <a:off x="611280" y="2924280"/>
            <a:ext cx="3036960" cy="3744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Photo 027"/>
          <p:cNvPicPr/>
          <p:nvPr/>
        </p:nvPicPr>
        <p:blipFill>
          <a:blip r:embed="rId3"/>
          <a:stretch/>
        </p:blipFill>
        <p:spPr>
          <a:xfrm flipH="1">
            <a:off x="3203640" y="549360"/>
            <a:ext cx="2394000" cy="295272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bird9"/>
          <p:cNvPicPr/>
          <p:nvPr/>
        </p:nvPicPr>
        <p:blipFill>
          <a:blip r:embed="rId1"/>
          <a:stretch/>
        </p:blipFill>
        <p:spPr>
          <a:xfrm>
            <a:off x="1979640" y="1773360"/>
            <a:ext cx="4537080" cy="402912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5"/>
          <p:cNvSpPr txBox="1"/>
          <p:nvPr/>
        </p:nvSpPr>
        <p:spPr>
          <a:xfrm>
            <a:off x="611280" y="907920"/>
            <a:ext cx="8229600" cy="43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7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лодцы!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16" name="Picture 4" descr="17bbf138aa3cf86a3dcc93d0b975cbfc"/>
          <p:cNvPicPr/>
          <p:nvPr/>
        </p:nvPicPr>
        <p:blipFill>
          <a:blip r:embed="rId1"/>
          <a:stretch/>
        </p:blipFill>
        <p:spPr>
          <a:xfrm>
            <a:off x="3203640" y="2997360"/>
            <a:ext cx="2950920" cy="255744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af4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6"/>
          <p:cNvSpPr txBox="1"/>
          <p:nvPr/>
        </p:nvSpPr>
        <p:spPr>
          <a:xfrm>
            <a:off x="900000" y="260280"/>
            <a:ext cx="756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пыт № 3  Строение пер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18" name="Picture 2" descr="Картинка 20 из 79264"/>
          <p:cNvPicPr/>
          <p:nvPr/>
        </p:nvPicPr>
        <p:blipFill>
          <a:blip r:embed="rId1"/>
          <a:stretch/>
        </p:blipFill>
        <p:spPr>
          <a:xfrm rot="2455200">
            <a:off x="-1260000" y="1196640"/>
            <a:ext cx="4968720" cy="4680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Изображение 054"/>
          <p:cNvPicPr/>
          <p:nvPr/>
        </p:nvPicPr>
        <p:blipFill>
          <a:blip r:embed="rId2"/>
          <a:stretch/>
        </p:blipFill>
        <p:spPr>
          <a:xfrm>
            <a:off x="6372360" y="1341360"/>
            <a:ext cx="2520720" cy="220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Копия Изображение 054"/>
          <p:cNvPicPr/>
          <p:nvPr/>
        </p:nvPicPr>
        <p:blipFill>
          <a:blip r:embed="rId3"/>
          <a:stretch/>
        </p:blipFill>
        <p:spPr>
          <a:xfrm>
            <a:off x="6443640" y="3990960"/>
            <a:ext cx="2522520" cy="2300400"/>
          </a:xfrm>
          <a:prstGeom prst="rect">
            <a:avLst/>
          </a:prstGeom>
          <a:ln w="0">
            <a:noFill/>
          </a:ln>
        </p:spPr>
      </p:pic>
      <p:sp>
        <p:nvSpPr>
          <p:cNvPr id="321" name="Line 14"/>
          <p:cNvSpPr/>
          <p:nvPr/>
        </p:nvSpPr>
        <p:spPr>
          <a:xfrm flipV="1">
            <a:off x="1763640" y="60926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2268360" y="6093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16"/>
          <p:cNvSpPr/>
          <p:nvPr/>
        </p:nvSpPr>
        <p:spPr>
          <a:xfrm flipV="1">
            <a:off x="1403280" y="508464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Line 17"/>
          <p:cNvSpPr/>
          <p:nvPr/>
        </p:nvSpPr>
        <p:spPr>
          <a:xfrm>
            <a:off x="2050920" y="508464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WordArt 18"/>
          <p:cNvSpPr txBox="1"/>
          <p:nvPr/>
        </p:nvSpPr>
        <p:spPr>
          <a:xfrm>
            <a:off x="2268360" y="4653000"/>
            <a:ext cx="151308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твол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26" name="WordArt 19"/>
          <p:cNvSpPr txBox="1"/>
          <p:nvPr/>
        </p:nvSpPr>
        <p:spPr>
          <a:xfrm>
            <a:off x="2340000" y="5734080"/>
            <a:ext cx="1441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очин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27" name="Line 20"/>
          <p:cNvSpPr/>
          <p:nvPr/>
        </p:nvSpPr>
        <p:spPr>
          <a:xfrm flipV="1">
            <a:off x="1403280" y="213372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2050920" y="213372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WordArt 22"/>
          <p:cNvSpPr txBox="1"/>
          <p:nvPr/>
        </p:nvSpPr>
        <p:spPr>
          <a:xfrm>
            <a:off x="2124000" y="1700280"/>
            <a:ext cx="17305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опахало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30" name="Line 23"/>
          <p:cNvSpPr/>
          <p:nvPr/>
        </p:nvSpPr>
        <p:spPr>
          <a:xfrm flipV="1">
            <a:off x="1692360" y="414936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2195640" y="4149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WordArt 27"/>
          <p:cNvSpPr txBox="1"/>
          <p:nvPr/>
        </p:nvSpPr>
        <p:spPr>
          <a:xfrm>
            <a:off x="2195640" y="3645000"/>
            <a:ext cx="187308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ородки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658800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род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30"/>
          <p:cNvSpPr/>
          <p:nvPr/>
        </p:nvSpPr>
        <p:spPr>
          <a:xfrm>
            <a:off x="6659640" y="6165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крюч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WordArt 35"/>
          <p:cNvSpPr txBox="1"/>
          <p:nvPr/>
        </p:nvSpPr>
        <p:spPr>
          <a:xfrm>
            <a:off x="4140360" y="260280"/>
            <a:ext cx="43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троение пер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af4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6"/>
          <p:cNvSpPr txBox="1"/>
          <p:nvPr/>
        </p:nvSpPr>
        <p:spPr>
          <a:xfrm>
            <a:off x="900000" y="260280"/>
            <a:ext cx="756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пыт № 3  Строение пер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37" name="Picture 2" descr="Картинка 20 из 79264"/>
          <p:cNvPicPr/>
          <p:nvPr/>
        </p:nvPicPr>
        <p:blipFill>
          <a:blip r:embed="rId1"/>
          <a:stretch/>
        </p:blipFill>
        <p:spPr>
          <a:xfrm rot="2455200">
            <a:off x="-1260000" y="1196640"/>
            <a:ext cx="4968720" cy="4680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1" descr="Изображение 054"/>
          <p:cNvPicPr/>
          <p:nvPr/>
        </p:nvPicPr>
        <p:blipFill>
          <a:blip r:embed="rId2"/>
          <a:stretch/>
        </p:blipFill>
        <p:spPr>
          <a:xfrm>
            <a:off x="6372360" y="1341360"/>
            <a:ext cx="2520720" cy="2203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Копия Изображение 054"/>
          <p:cNvPicPr/>
          <p:nvPr/>
        </p:nvPicPr>
        <p:blipFill>
          <a:blip r:embed="rId3"/>
          <a:stretch/>
        </p:blipFill>
        <p:spPr>
          <a:xfrm>
            <a:off x="6443640" y="3990960"/>
            <a:ext cx="2522520" cy="2300400"/>
          </a:xfrm>
          <a:prstGeom prst="rect">
            <a:avLst/>
          </a:prstGeom>
          <a:ln w="0">
            <a:noFill/>
          </a:ln>
        </p:spPr>
      </p:pic>
      <p:sp>
        <p:nvSpPr>
          <p:cNvPr id="340" name="Line 14"/>
          <p:cNvSpPr/>
          <p:nvPr/>
        </p:nvSpPr>
        <p:spPr>
          <a:xfrm flipV="1">
            <a:off x="1763640" y="60926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5"/>
          <p:cNvSpPr/>
          <p:nvPr/>
        </p:nvSpPr>
        <p:spPr>
          <a:xfrm>
            <a:off x="2268360" y="6093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16"/>
          <p:cNvSpPr/>
          <p:nvPr/>
        </p:nvSpPr>
        <p:spPr>
          <a:xfrm flipV="1">
            <a:off x="1403280" y="508464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2050920" y="508464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WordArt 18"/>
          <p:cNvSpPr txBox="1"/>
          <p:nvPr/>
        </p:nvSpPr>
        <p:spPr>
          <a:xfrm>
            <a:off x="2268360" y="4653000"/>
            <a:ext cx="151308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твол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45" name="WordArt 19"/>
          <p:cNvSpPr txBox="1"/>
          <p:nvPr/>
        </p:nvSpPr>
        <p:spPr>
          <a:xfrm>
            <a:off x="2340000" y="5734080"/>
            <a:ext cx="1441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очин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46" name="Line 20"/>
          <p:cNvSpPr/>
          <p:nvPr/>
        </p:nvSpPr>
        <p:spPr>
          <a:xfrm flipV="1">
            <a:off x="1403280" y="213372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2050920" y="213372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WordArt 22"/>
          <p:cNvSpPr txBox="1"/>
          <p:nvPr/>
        </p:nvSpPr>
        <p:spPr>
          <a:xfrm>
            <a:off x="2124000" y="1700280"/>
            <a:ext cx="17305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опахало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49" name="Line 23"/>
          <p:cNvSpPr/>
          <p:nvPr/>
        </p:nvSpPr>
        <p:spPr>
          <a:xfrm flipV="1">
            <a:off x="1692360" y="414936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195640" y="4149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WordArt 27"/>
          <p:cNvSpPr txBox="1"/>
          <p:nvPr/>
        </p:nvSpPr>
        <p:spPr>
          <a:xfrm>
            <a:off x="2195640" y="3645000"/>
            <a:ext cx="187308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ородки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658800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род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30"/>
          <p:cNvSpPr/>
          <p:nvPr/>
        </p:nvSpPr>
        <p:spPr>
          <a:xfrm>
            <a:off x="6659640" y="6165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крюч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WordArt 35"/>
          <p:cNvSpPr txBox="1"/>
          <p:nvPr/>
        </p:nvSpPr>
        <p:spPr>
          <a:xfrm>
            <a:off x="4140360" y="260280"/>
            <a:ext cx="43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троение пер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5f2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4"/>
          <p:cNvSpPr txBox="1"/>
          <p:nvPr/>
        </p:nvSpPr>
        <p:spPr>
          <a:xfrm>
            <a:off x="3492360" y="1125360"/>
            <a:ext cx="5183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тог исследования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539640" y="3357720"/>
            <a:ext cx="81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80008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нтурные перья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ётные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ерь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749"/>
              </a:spcBef>
              <a:buClr>
                <a:srgbClr val="80008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ерья лёг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749"/>
              </a:spcBef>
              <a:buClr>
                <a:srgbClr val="80008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ерья прочные и упруг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749"/>
              </a:spcBef>
              <a:buClr>
                <a:srgbClr val="80008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8000" y="189000"/>
            <a:ext cx="3384360" cy="2766960"/>
          </a:xfrm>
          <a:prstGeom prst="rect">
            <a:avLst/>
          </a:prstGeom>
          <a:ln w="0">
            <a:noFill/>
          </a:ln>
        </p:spPr>
      </p:pic>
      <p:sp>
        <p:nvSpPr>
          <p:cNvPr id="358" name="Line 18"/>
          <p:cNvSpPr/>
          <p:nvPr/>
        </p:nvSpPr>
        <p:spPr>
          <a:xfrm>
            <a:off x="3203640" y="1773360"/>
            <a:ext cx="568944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елёная пересмешка.mp3" descr=""/>
          <p:cNvPicPr/>
          <p:nvPr/>
        </p:nvPicPr>
        <p:blipFill>
          <a:blip r:embed="rId1"/>
          <a:stretch/>
        </p:blipFill>
        <p:spPr>
          <a:xfrm>
            <a:off x="4214880" y="2000160"/>
            <a:ext cx="1074600" cy="1074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1692360" y="306864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2" descr="Картинка 41 из 5139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Картинка 372 из 79082"/>
          <p:cNvPicPr/>
          <p:nvPr/>
        </p:nvPicPr>
        <p:blipFill>
          <a:blip r:embed="rId3"/>
          <a:stretch/>
        </p:blipFill>
        <p:spPr>
          <a:xfrm>
            <a:off x="6372360" y="2708280"/>
            <a:ext cx="2350800" cy="3059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Картинка 20 из 79264"/>
          <p:cNvPicPr/>
          <p:nvPr/>
        </p:nvPicPr>
        <p:blipFill>
          <a:blip r:embed="rId4"/>
          <a:stretch/>
        </p:blipFill>
        <p:spPr>
          <a:xfrm>
            <a:off x="0" y="2708280"/>
            <a:ext cx="2664000" cy="2509920"/>
          </a:xfrm>
          <a:prstGeom prst="rect">
            <a:avLst/>
          </a:prstGeom>
          <a:ln w="0">
            <a:noFill/>
          </a:ln>
        </p:spPr>
      </p:pic>
      <p:sp>
        <p:nvSpPr>
          <p:cNvPr id="258" name="WordArt 8"/>
          <p:cNvSpPr txBox="1"/>
          <p:nvPr/>
        </p:nvSpPr>
        <p:spPr>
          <a:xfrm>
            <a:off x="5508720" y="6021360"/>
            <a:ext cx="3198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ернатые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0" y="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ahoma"/>
              </a:rPr>
              <a:t>Птиц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эт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животные, тело которых покрыто перь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Приложение 1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022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ba481ca8af7d120377ca169969e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k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181316c3e98757838af55cc0595_prev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169236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ри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2" descr="Картинка 16 из 51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bird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колибри КОНЮХОВ НИКОЛАЙ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колибри2"/>
          <p:cNvPicPr/>
          <p:nvPr/>
        </p:nvPicPr>
        <p:blipFill>
          <a:blip r:embed="rId4"/>
          <a:srcRect l="855" t="1292" r="1814" b="2535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f_16161684"/>
          <p:cNvPicPr/>
          <p:nvPr/>
        </p:nvPicPr>
        <p:blipFill>
          <a:blip r:embed="rId5"/>
          <a:srcRect l="-268" t="109" r="0" b="34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06-1856"/>
          <p:cNvPicPr/>
          <p:nvPr/>
        </p:nvPicPr>
        <p:blipFill>
          <a:blip r:embed="rId6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2901545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4(29)"/>
          <p:cNvPicPr/>
          <p:nvPr/>
        </p:nvPicPr>
        <p:blipFill>
          <a:blip r:embed="rId1"/>
          <a:stretch/>
        </p:blipFill>
        <p:spPr>
          <a:xfrm>
            <a:off x="108000" y="260280"/>
            <a:ext cx="5508720" cy="6308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1(31)"/>
          <p:cNvPicPr/>
          <p:nvPr/>
        </p:nvPicPr>
        <p:blipFill>
          <a:blip r:embed="rId2"/>
          <a:srcRect l="65522" t="0" r="0" b="524"/>
          <a:stretch/>
        </p:blipFill>
        <p:spPr>
          <a:xfrm>
            <a:off x="7236000" y="260280"/>
            <a:ext cx="1693800" cy="626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1(31)"/>
          <p:cNvPicPr/>
          <p:nvPr/>
        </p:nvPicPr>
        <p:blipFill>
          <a:blip r:embed="rId3"/>
          <a:srcRect l="0" t="0" r="66378" b="-816"/>
          <a:stretch/>
        </p:blipFill>
        <p:spPr>
          <a:xfrm>
            <a:off x="5580000" y="260280"/>
            <a:ext cx="16876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03640" y="764640"/>
            <a:ext cx="2736720" cy="8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56000" y="1773360"/>
          <a:ext cx="3851280" cy="4787640"/>
        </p:xfrm>
        <a:graphic>
          <a:graphicData uri="http://schemas.openxmlformats.org/drawingml/2006/table">
            <a:tbl>
              <a:tblPr/>
              <a:tblGrid>
                <a:gridCol w="684000"/>
                <a:gridCol w="1584360"/>
                <a:gridCol w="1582920"/>
              </a:tblGrid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 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 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Прямая соединительная линия 42"/>
          <p:cNvSpPr/>
          <p:nvPr/>
        </p:nvSpPr>
        <p:spPr>
          <a:xfrm flipH="1">
            <a:off x="4066920" y="2780640"/>
            <a:ext cx="1657080" cy="71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Прямая соединительная линия 46"/>
          <p:cNvSpPr/>
          <p:nvPr/>
        </p:nvSpPr>
        <p:spPr>
          <a:xfrm flipH="1">
            <a:off x="3924000" y="3500280"/>
            <a:ext cx="14292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Полилиния 53"/>
          <p:cNvSpPr/>
          <p:nvPr/>
        </p:nvSpPr>
        <p:spPr>
          <a:xfrm>
            <a:off x="3924360" y="4292640"/>
            <a:ext cx="1789200" cy="14191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Полилиния 54"/>
          <p:cNvSpPr/>
          <p:nvPr/>
        </p:nvSpPr>
        <p:spPr>
          <a:xfrm>
            <a:off x="3851280" y="5661000"/>
            <a:ext cx="1776240" cy="7462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Oval 51"/>
          <p:cNvSpPr/>
          <p:nvPr/>
        </p:nvSpPr>
        <p:spPr>
          <a:xfrm>
            <a:off x="5651640" y="2781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Oval 52"/>
          <p:cNvSpPr/>
          <p:nvPr/>
        </p:nvSpPr>
        <p:spPr>
          <a:xfrm>
            <a:off x="4067280" y="35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Oval 53"/>
          <p:cNvSpPr/>
          <p:nvPr/>
        </p:nvSpPr>
        <p:spPr>
          <a:xfrm>
            <a:off x="3924360" y="42210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Oval 54"/>
          <p:cNvSpPr/>
          <p:nvPr/>
        </p:nvSpPr>
        <p:spPr>
          <a:xfrm>
            <a:off x="5580000" y="49417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Oval 55"/>
          <p:cNvSpPr/>
          <p:nvPr/>
        </p:nvSpPr>
        <p:spPr>
          <a:xfrm>
            <a:off x="5580000" y="5661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Oval 56"/>
          <p:cNvSpPr/>
          <p:nvPr/>
        </p:nvSpPr>
        <p:spPr>
          <a:xfrm>
            <a:off x="3924360" y="63086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>
            <a:off x="7236000" y="3573360"/>
            <a:ext cx="1245960" cy="9144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7308720" y="5734080"/>
            <a:ext cx="121464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7236000" y="184464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332000" y="620640"/>
            <a:ext cx="744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Если было интересно, легко на уроке, во всем разобрались –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расный 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цв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258920" y="2637000"/>
            <a:ext cx="75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Если иногда были трудности, сомнения, не совсем понравилась работа –   </a:t>
            </a: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зелёный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 цв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1332000" y="4941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Если не разобрались в теме, было не очень интересно –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ёлт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цве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Картинка 216 из 22651"/>
          <p:cNvPicPr/>
          <p:nvPr/>
        </p:nvPicPr>
        <p:blipFill>
          <a:blip r:embed="rId1"/>
          <a:srcRect l="8328" t="3723" r="0" b="0"/>
          <a:stretch/>
        </p:blipFill>
        <p:spPr>
          <a:xfrm rot="1416600">
            <a:off x="6372360" y="476280"/>
            <a:ext cx="2442960" cy="1941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295941"/>
          <p:cNvPicPr/>
          <p:nvPr/>
        </p:nvPicPr>
        <p:blipFill>
          <a:blip r:embed="rId2"/>
          <a:stretch/>
        </p:blipFill>
        <p:spPr>
          <a:xfrm rot="20290800">
            <a:off x="250560" y="620280"/>
            <a:ext cx="2736720" cy="1935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Картинка 5 из 4079"/>
          <p:cNvPicPr/>
          <p:nvPr/>
        </p:nvPicPr>
        <p:blipFill>
          <a:blip r:embed="rId3"/>
          <a:srcRect l="5108" t="0" r="8023" b="3144"/>
          <a:stretch/>
        </p:blipFill>
        <p:spPr>
          <a:xfrm rot="1533600">
            <a:off x="564840" y="4435560"/>
            <a:ext cx="2471760" cy="2066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Картинка 34 из 24795"/>
          <p:cNvPicPr/>
          <p:nvPr/>
        </p:nvPicPr>
        <p:blipFill>
          <a:blip r:embed="rId4"/>
          <a:stretch/>
        </p:blipFill>
        <p:spPr>
          <a:xfrm rot="20286000">
            <a:off x="6095880" y="4357440"/>
            <a:ext cx="2664000" cy="19875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7"/>
          <p:cNvSpPr/>
          <p:nvPr/>
        </p:nvSpPr>
        <p:spPr>
          <a:xfrm>
            <a:off x="971640" y="2349360"/>
            <a:ext cx="79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Боги дали нам птиц, чтобы мы видели каждый день, что такое красота полёта.</a:t>
            </a:r>
            <a:r>
              <a:rPr b="0" lang="en-US" sz="4000" spc="-1" strike="noStrike">
                <a:solidFill>
                  <a:srgbClr val="80008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80008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Picture 2" descr="Картинка 55 из 33648"/>
          <p:cNvPicPr/>
          <p:nvPr/>
        </p:nvPicPr>
        <p:blipFill>
          <a:blip r:embed="rId5"/>
          <a:stretch/>
        </p:blipFill>
        <p:spPr>
          <a:xfrm>
            <a:off x="3132000" y="0"/>
            <a:ext cx="3024360" cy="2254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" descr="20240b"/>
          <p:cNvPicPr/>
          <p:nvPr/>
        </p:nvPicPr>
        <p:blipFill>
          <a:blip r:embed="rId6"/>
          <a:srcRect l="0" t="0" r="-1663" b="3389"/>
          <a:stretch/>
        </p:blipFill>
        <p:spPr>
          <a:xfrm>
            <a:off x="3132000" y="4189320"/>
            <a:ext cx="28083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99" name="TextBox 5" descr=""/>
          <p:cNvPicPr/>
          <p:nvPr/>
        </p:nvPicPr>
        <p:blipFill>
          <a:blip r:embed="rId2"/>
          <a:stretch/>
        </p:blipFill>
        <p:spPr>
          <a:xfrm>
            <a:off x="208080" y="-212760"/>
            <a:ext cx="4655880" cy="1432080"/>
          </a:xfrm>
          <a:prstGeom prst="rect">
            <a:avLst/>
          </a:prstGeom>
          <a:ln w="0">
            <a:noFill/>
          </a:ln>
        </p:spPr>
      </p:pic>
      <p:sp>
        <p:nvSpPr>
          <p:cNvPr id="400" name="TextBox 6"/>
          <p:cNvSpPr/>
          <p:nvPr/>
        </p:nvSpPr>
        <p:spPr>
          <a:xfrm>
            <a:off x="2714760" y="5715000"/>
            <a:ext cx="6072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TextBox 7" descr=""/>
          <p:cNvPicPr/>
          <p:nvPr/>
        </p:nvPicPr>
        <p:blipFill>
          <a:blip r:embed="rId3"/>
          <a:stretch/>
        </p:blipFill>
        <p:spPr>
          <a:xfrm>
            <a:off x="3992400" y="5205240"/>
            <a:ext cx="494352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5f2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5"/>
          <p:cNvSpPr/>
          <p:nvPr/>
        </p:nvSpPr>
        <p:spPr>
          <a:xfrm>
            <a:off x="539640" y="3357720"/>
            <a:ext cx="81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80008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749"/>
              </a:spcBef>
              <a:buClr>
                <a:srgbClr val="80008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749"/>
              </a:spcBef>
              <a:buClr>
                <a:srgbClr val="80008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Box 7"/>
          <p:cNvSpPr/>
          <p:nvPr/>
        </p:nvSpPr>
        <p:spPr>
          <a:xfrm>
            <a:off x="928800" y="357120"/>
            <a:ext cx="742932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граммное обеспечение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Microsoft Power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Microsoft Office Publis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бразовательные ресурс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71680" y="3430080"/>
            <a:ext cx="7429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nevnik111.diary.ru/p115487945.htm   рисунки на перьях пти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yandex.ru/yandsearch?stype  фотографии  летящих самолё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yandex.ru/yandsearch?stype- фотографии пти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bio.1september.ru/article  строение пе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etkam.e-papa  голоса птиц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онное энциклопедическое издание «Большая энциклопедия Кирилла и Мефод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1bec018dc851e483c018e5cf438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5" descr=""/>
          <p:cNvPicPr/>
          <p:nvPr/>
        </p:nvPicPr>
        <p:blipFill>
          <a:blip r:embed="rId2"/>
          <a:stretch/>
        </p:blipFill>
        <p:spPr>
          <a:xfrm>
            <a:off x="3200400" y="182520"/>
            <a:ext cx="3760920" cy="1255680"/>
          </a:xfrm>
          <a:prstGeom prst="rect">
            <a:avLst/>
          </a:prstGeom>
          <a:ln w="0">
            <a:noFill/>
          </a:ln>
        </p:spPr>
      </p:pic>
      <p:sp>
        <p:nvSpPr>
          <p:cNvPr id="263" name="WordArt 6"/>
          <p:cNvSpPr txBox="1"/>
          <p:nvPr/>
        </p:nvSpPr>
        <p:spPr>
          <a:xfrm>
            <a:off x="3564000" y="5300640"/>
            <a:ext cx="287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ерья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1f0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6"/>
          <p:cNvSpPr/>
          <p:nvPr/>
        </p:nvSpPr>
        <p:spPr>
          <a:xfrm>
            <a:off x="179280" y="1197000"/>
            <a:ext cx="223200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2556000" y="1197000"/>
            <a:ext cx="640872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                            3                     4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WordArt 5"/>
          <p:cNvSpPr txBox="1"/>
          <p:nvPr/>
        </p:nvSpPr>
        <p:spPr>
          <a:xfrm>
            <a:off x="971640" y="404640"/>
            <a:ext cx="7792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пыт № 1   Типы перьев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7" name="WordArt 6"/>
          <p:cNvSpPr txBox="1"/>
          <p:nvPr/>
        </p:nvSpPr>
        <p:spPr>
          <a:xfrm>
            <a:off x="4716360" y="404640"/>
            <a:ext cx="4032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Типы перьев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268" name="Picture 2" descr="Картинка 20 из 79264"/>
          <p:cNvPicPr/>
          <p:nvPr/>
        </p:nvPicPr>
        <p:blipFill>
          <a:blip r:embed="rId1"/>
          <a:stretch/>
        </p:blipFill>
        <p:spPr>
          <a:xfrm rot="2805600">
            <a:off x="1937160" y="1454760"/>
            <a:ext cx="4032000" cy="3948120"/>
          </a:xfrm>
          <a:prstGeom prst="rect">
            <a:avLst/>
          </a:prstGeom>
          <a:ln w="0">
            <a:noFill/>
          </a:ln>
        </p:spPr>
      </p:pic>
      <p:sp>
        <p:nvSpPr>
          <p:cNvPr id="269" name="WordArt 11"/>
          <p:cNvSpPr txBox="1"/>
          <p:nvPr/>
        </p:nvSpPr>
        <p:spPr>
          <a:xfrm>
            <a:off x="214200" y="6286680"/>
            <a:ext cx="215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уховые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70" name="WordArt 12"/>
          <p:cNvSpPr txBox="1"/>
          <p:nvPr/>
        </p:nvSpPr>
        <p:spPr>
          <a:xfrm>
            <a:off x="2987640" y="4941720"/>
            <a:ext cx="17146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ховы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1" name="WordArt 13"/>
          <p:cNvSpPr txBox="1"/>
          <p:nvPr/>
        </p:nvSpPr>
        <p:spPr>
          <a:xfrm>
            <a:off x="5364000" y="4941720"/>
            <a:ext cx="14274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улевы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2" name="WordArt 14"/>
          <p:cNvSpPr txBox="1"/>
          <p:nvPr/>
        </p:nvSpPr>
        <p:spPr>
          <a:xfrm>
            <a:off x="7236000" y="4941720"/>
            <a:ext cx="15714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кровны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3" name="WordArt 16"/>
          <p:cNvSpPr txBox="1"/>
          <p:nvPr/>
        </p:nvSpPr>
        <p:spPr>
          <a:xfrm>
            <a:off x="4500720" y="6308640"/>
            <a:ext cx="28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онтурные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74" name="AutoShape 19"/>
          <p:cNvSpPr/>
          <p:nvPr/>
        </p:nvSpPr>
        <p:spPr>
          <a:xfrm rot="5400000">
            <a:off x="5544000" y="2601000"/>
            <a:ext cx="505080" cy="6192720"/>
          </a:xfrm>
          <a:custGeom>
            <a:avLst/>
            <a:gdLst>
              <a:gd name="textAreaLeft" fmla="*/ 0 w 505080"/>
              <a:gd name="textAreaRight" fmla="*/ 182520 w 505080"/>
              <a:gd name="textAreaTop" fmla="*/ 157680 h 6192720"/>
              <a:gd name="textAreaBottom" fmla="*/ 603504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1"/>
                  <a:pt x="10800" y="1761"/>
                </a:cubicBezTo>
                <a:lnTo>
                  <a:pt x="10800" y="8519"/>
                </a:lnTo>
                <a:cubicBezTo>
                  <a:pt x="10800" y="9400"/>
                  <a:pt x="16200" y="10280"/>
                  <a:pt x="21600" y="10280"/>
                </a:cubicBezTo>
                <a:cubicBezTo>
                  <a:pt x="16200" y="10280"/>
                  <a:pt x="10800" y="11161"/>
                  <a:pt x="10800" y="12041"/>
                </a:cubicBezTo>
                <a:lnTo>
                  <a:pt x="10800" y="19839"/>
                </a:lnTo>
                <a:cubicBezTo>
                  <a:pt x="10800" y="2072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987640" y="5229360"/>
            <a:ext cx="165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5292720" y="5229360"/>
            <a:ext cx="158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7164360" y="5229360"/>
            <a:ext cx="16574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2" descr="Картинка 107 из 373"/>
          <p:cNvPicPr/>
          <p:nvPr/>
        </p:nvPicPr>
        <p:blipFill>
          <a:blip r:embed="rId2"/>
          <a:stretch/>
        </p:blipFill>
        <p:spPr>
          <a:xfrm rot="1926600">
            <a:off x="7105680" y="2249280"/>
            <a:ext cx="1789200" cy="2340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" descr="Копия 1268661104_feathers"/>
          <p:cNvPicPr/>
          <p:nvPr/>
        </p:nvPicPr>
        <p:blipFill>
          <a:blip r:embed="rId3"/>
          <a:stretch/>
        </p:blipFill>
        <p:spPr>
          <a:xfrm>
            <a:off x="492120" y="3284640"/>
            <a:ext cx="1663560" cy="2009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Картинка 372 из 79082"/>
          <p:cNvPicPr/>
          <p:nvPr/>
        </p:nvPicPr>
        <p:blipFill>
          <a:blip r:embed="rId4"/>
          <a:stretch/>
        </p:blipFill>
        <p:spPr>
          <a:xfrm rot="2588400">
            <a:off x="4788000" y="1989000"/>
            <a:ext cx="2736720" cy="2833920"/>
          </a:xfrm>
          <a:prstGeom prst="rect">
            <a:avLst/>
          </a:prstGeom>
          <a:ln w="0">
            <a:noFill/>
          </a:ln>
        </p:spPr>
      </p:pic>
      <p:sp>
        <p:nvSpPr>
          <p:cNvPr id="281" name="Line 28"/>
          <p:cNvSpPr/>
          <p:nvPr/>
        </p:nvSpPr>
        <p:spPr>
          <a:xfrm flipH="1">
            <a:off x="6516720" y="4724280"/>
            <a:ext cx="71280" cy="14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 flipH="1">
            <a:off x="4355640" y="4724280"/>
            <a:ext cx="71640" cy="14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 flipH="1">
            <a:off x="8028000" y="4724280"/>
            <a:ext cx="71280" cy="14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 flipH="1">
            <a:off x="4932360" y="6093000"/>
            <a:ext cx="71280" cy="14436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 flipH="1">
            <a:off x="1213920" y="6072120"/>
            <a:ext cx="71640" cy="14436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25"/>
          <p:cNvSpPr/>
          <p:nvPr/>
        </p:nvSpPr>
        <p:spPr>
          <a:xfrm>
            <a:off x="214200" y="6643800"/>
            <a:ext cx="208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26"/>
          <p:cNvSpPr/>
          <p:nvPr/>
        </p:nvSpPr>
        <p:spPr>
          <a:xfrm>
            <a:off x="4140360" y="6669000"/>
            <a:ext cx="33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0"/>
          <p:cNvPicPr/>
          <p:nvPr/>
        </p:nvPicPr>
        <p:blipFill>
          <a:blip r:embed="rId1"/>
          <a:srcRect l="0" t="0" r="0" b="507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89" name="WordArt 4"/>
          <p:cNvSpPr txBox="1"/>
          <p:nvPr/>
        </p:nvSpPr>
        <p:spPr>
          <a:xfrm>
            <a:off x="2843280" y="765000"/>
            <a:ext cx="403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Опыт № 2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9" descr="колибри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91" name="WordArt 6"/>
          <p:cNvSpPr txBox="1"/>
          <p:nvPr/>
        </p:nvSpPr>
        <p:spPr>
          <a:xfrm>
            <a:off x="1835280" y="189000"/>
            <a:ext cx="5833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Физкультминутка</a:t>
            </a:r>
            <a:endParaRPr b="0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Photo 151"/>
          <p:cNvPicPr/>
          <p:nvPr/>
        </p:nvPicPr>
        <p:blipFill>
          <a:blip r:embed="rId1"/>
          <a:stretch/>
        </p:blipFill>
        <p:spPr>
          <a:xfrm>
            <a:off x="642960" y="2000160"/>
            <a:ext cx="3024000" cy="2898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Photo 151"/>
          <p:cNvPicPr/>
          <p:nvPr/>
        </p:nvPicPr>
        <p:blipFill>
          <a:blip r:embed="rId2"/>
          <a:stretch/>
        </p:blipFill>
        <p:spPr>
          <a:xfrm>
            <a:off x="5076720" y="2133720"/>
            <a:ext cx="2951280" cy="2828880"/>
          </a:xfrm>
          <a:prstGeom prst="rect">
            <a:avLst/>
          </a:prstGeom>
          <a:ln w="0">
            <a:noFill/>
          </a:ln>
        </p:spPr>
      </p:pic>
      <p:pic>
        <p:nvPicPr>
          <p:cNvPr id="294" name="Физминутка Из_кинофильма_-_Усатый_Нянь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5" name="Приложение 2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http://www.gifpark.ru/Gifs/ANIMALS/ani-penguin_dancing.gif"/>
          <p:cNvPicPr/>
          <p:nvPr/>
        </p:nvPicPr>
        <p:blipFill>
          <a:blip r:embed="rId1"/>
          <a:stretch/>
        </p:blipFill>
        <p:spPr>
          <a:xfrm>
            <a:off x="468360" y="90792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" descr="http://www.gifpark.ru/Gifs/ANIMALS/ani-penguin_dancing.gif"/>
          <p:cNvPicPr/>
          <p:nvPr/>
        </p:nvPicPr>
        <p:blipFill>
          <a:blip r:embed="rId2"/>
          <a:stretch/>
        </p:blipFill>
        <p:spPr>
          <a:xfrm>
            <a:off x="4572000" y="350028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" descr="http://www.gifpark.ru/Gifs/ANIMALS/ani-penguin_dancing.gif"/>
          <p:cNvPicPr/>
          <p:nvPr/>
        </p:nvPicPr>
        <p:blipFill>
          <a:blip r:embed="rId3"/>
          <a:stretch/>
        </p:blipFill>
        <p:spPr>
          <a:xfrm>
            <a:off x="2484360" y="213372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http://www.gifpark.ru/Gifs/ANIMALS/ani-penguin_dancing.gif"/>
          <p:cNvPicPr/>
          <p:nvPr/>
        </p:nvPicPr>
        <p:blipFill>
          <a:blip r:embed="rId4"/>
          <a:stretch/>
        </p:blipFill>
        <p:spPr>
          <a:xfrm>
            <a:off x="6732720" y="4724280"/>
            <a:ext cx="1857240" cy="18576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Photo 227"/>
          <p:cNvPicPr/>
          <p:nvPr/>
        </p:nvPicPr>
        <p:blipFill>
          <a:blip r:embed="rId1"/>
          <a:stretch/>
        </p:blipFill>
        <p:spPr>
          <a:xfrm>
            <a:off x="755640" y="2205000"/>
            <a:ext cx="1870200" cy="2376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Photo 227"/>
          <p:cNvPicPr/>
          <p:nvPr/>
        </p:nvPicPr>
        <p:blipFill>
          <a:blip r:embed="rId2"/>
          <a:stretch/>
        </p:blipFill>
        <p:spPr>
          <a:xfrm>
            <a:off x="3419640" y="2133720"/>
            <a:ext cx="1984320" cy="2520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Photo 227"/>
          <p:cNvPicPr/>
          <p:nvPr/>
        </p:nvPicPr>
        <p:blipFill>
          <a:blip r:embed="rId3"/>
          <a:stretch/>
        </p:blipFill>
        <p:spPr>
          <a:xfrm>
            <a:off x="6372360" y="2133720"/>
            <a:ext cx="1869840" cy="237636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33:48Z</dcterms:created>
  <dc:creator>Цехместер Л. И.</dc:creator>
  <dc:description/>
  <dc:language>en-US</dc:language>
  <cp:lastModifiedBy>www.PHILka.RU</cp:lastModifiedBy>
  <dcterms:modified xsi:type="dcterms:W3CDTF">2014-12-22T07:52:29Z</dcterms:modified>
  <cp:revision>81</cp:revision>
  <dc:subject/>
  <dc:title>Слайд 1</dc:title>
</cp:coreProperties>
</file>