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9C9-E9C5-4F1B-882D-9D271F68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B4B-165D-412E-9564-A9281FC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016-ECAF-4BF2-93F6-0B245DAA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D06-A357-4418-8EE3-F724CE72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A03-5372-48D4-8BD0-30FA1BBB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E1E-639D-44C6-929F-24FBBFAD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5C6-AB4C-4608-B3B0-5A7501C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D16-ADFC-4C60-8E3B-0B2F5335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539-58E6-4B56-976B-53A6DADC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33C-D7C3-4B95-8383-AACB7C86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E9C-34FD-45DD-9C8F-7691351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CCE-838E-4C7C-837A-1752238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BAFE-09EE-4694-A32D-171223A00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9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8.jpeg"/><Relationship Id="rId9" Type="http://schemas.openxmlformats.org/officeDocument/2006/relationships/image" Target="../media/image18.jpeg"/><Relationship Id="rId10" Type="http://schemas.openxmlformats.org/officeDocument/2006/relationships/image" Target="../media/image8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8.jpeg"/><Relationship Id="rId6" Type="http://schemas.openxmlformats.org/officeDocument/2006/relationships/image" Target="../media/image20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22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23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8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g.wallpaperstock.net:81/clouds-wallpapers_5056_1600x1200.jpg" TargetMode="External"/><Relationship Id="rId2" Type="http://schemas.openxmlformats.org/officeDocument/2006/relationships/hyperlink" Target="http://stat18.privet.ru/lr/0a2d62a711b1e3aada7ad6bef3555867" TargetMode="External"/><Relationship Id="rId3" Type="http://schemas.openxmlformats.org/officeDocument/2006/relationships/hyperlink" Target="http://s55.radikal.ru/i149/0810/a0/33566a3f126a.png" TargetMode="External"/><Relationship Id="rId4" Type="http://schemas.openxmlformats.org/officeDocument/2006/relationships/hyperlink" Target="http://s55.radikal.ru/i149/0810/a0/33566a3f126a.png" TargetMode="External"/><Relationship Id="rId5" Type="http://schemas.openxmlformats.org/officeDocument/2006/relationships/hyperlink" Target="http://stat18.privet.ru/lr/0a2d62a711b1e3aada7ad6bef3555867" TargetMode="External"/><Relationship Id="rId6" Type="http://schemas.openxmlformats.org/officeDocument/2006/relationships/hyperlink" Target="http://img12.nnm.ru/b/5/2/3/f/a48c47ef849882269c23c27dfb3_prev.jpg" TargetMode="External"/><Relationship Id="rId7" Type="http://schemas.openxmlformats.org/officeDocument/2006/relationships/hyperlink" Target="http://dariamysoap.narod.ru/upakovka/4b.jpg?rand=199343751560981" TargetMode="External"/><Relationship Id="rId8" Type="http://schemas.openxmlformats.org/officeDocument/2006/relationships/hyperlink" Target="http://dariamysoap.narod.ru/upakovka/4b.jpg?rand=199343751560981" TargetMode="External"/><Relationship Id="rId9" Type="http://schemas.openxmlformats.org/officeDocument/2006/relationships/hyperlink" Target="http://dariamysoap.narod.ru/upakovka/4b.jpg?rand=199343751560981" TargetMode="External"/><Relationship Id="rId10" Type="http://schemas.openxmlformats.org/officeDocument/2006/relationships/hyperlink" Target="http://dariamysoap.narod.ru/upakovka/4b.jpg?rand=199343751560981" TargetMode="External"/><Relationship Id="rId11" Type="http://schemas.openxmlformats.org/officeDocument/2006/relationships/hyperlink" Target="http://dariamysoap.narod.ru/upakovka/4b.jpg?rand=199343751560981" TargetMode="External"/><Relationship Id="rId12" Type="http://schemas.openxmlformats.org/officeDocument/2006/relationships/hyperlink" Target="http://dariamysoap.narod.ru/upakovka/4b.jpg?rand=199343751560981" TargetMode="External"/><Relationship Id="rId13" Type="http://schemas.openxmlformats.org/officeDocument/2006/relationships/hyperlink" Target="http://dariamysoap.narod.ru/upakovka/4b.jpg?rand=199343751560981" TargetMode="External"/><Relationship Id="rId14" Type="http://schemas.openxmlformats.org/officeDocument/2006/relationships/hyperlink" Target="http://img12.nnm.ru/b/5/2/3/f/a48c47ef849882269c23c27dfb3_prev.jpg" TargetMode="External"/><Relationship Id="rId15" Type="http://schemas.openxmlformats.org/officeDocument/2006/relationships/hyperlink" Target="http://img.spicecomments.com/easter/00001.jpg" TargetMode="External"/><Relationship Id="rId16" Type="http://schemas.openxmlformats.org/officeDocument/2006/relationships/hyperlink" Target="http://img.spicecomments.com/easter/00001.jpg" TargetMode="External"/><Relationship Id="rId17" Type="http://schemas.openxmlformats.org/officeDocument/2006/relationships/hyperlink" Target="http://img.spicecomments.com/easter/00001.jpg" TargetMode="External"/><Relationship Id="rId18" Type="http://schemas.openxmlformats.org/officeDocument/2006/relationships/hyperlink" Target="http://img.spicecomments.com/easter/00001.jpg" TargetMode="External"/><Relationship Id="rId19" Type="http://schemas.openxmlformats.org/officeDocument/2006/relationships/hyperlink" Target="http://img.spicecomments.com/easter/00001.jpg" TargetMode="External"/><Relationship Id="rId20" Type="http://schemas.openxmlformats.org/officeDocument/2006/relationships/hyperlink" Target="http://img.spicecomments.com/easter/00001.jpg" TargetMode="External"/><Relationship Id="rId21" Type="http://schemas.openxmlformats.org/officeDocument/2006/relationships/hyperlink" Target="http://demiart.ru/forum/uploads1/post-76674-1222088222.jpg" TargetMode="External"/><Relationship Id="rId22" Type="http://schemas.openxmlformats.org/officeDocument/2006/relationships/hyperlink" Target="http://s56.radikal.ru/i152/0810/fe/ff97b2a2a634.png" TargetMode="External"/><Relationship Id="rId23" Type="http://schemas.openxmlformats.org/officeDocument/2006/relationships/hyperlink" Target="http://s002.radikal.ru/i198/1003/11/35e84972370c.jpg" TargetMode="External"/><Relationship Id="rId24" Type="http://schemas.openxmlformats.org/officeDocument/2006/relationships/hyperlink" Target="http://emmanuildndz.com.ua/files/iesus2005(1).jpg" TargetMode="External"/><Relationship Id="rId25" Type="http://schemas.openxmlformats.org/officeDocument/2006/relationships/hyperlink" Target="http://dataup.sdasofia.org/PRESENTACII/po.doktrini/Razreshenieto-na-prolema/049.JPG" TargetMode="External"/><Relationship Id="rId26" Type="http://schemas.openxmlformats.org/officeDocument/2006/relationships/hyperlink" Target="http://bible777.my1.ru/BabyBible/64.PNG" TargetMode="External"/><Relationship Id="rId27" Type="http://schemas.openxmlformats.org/officeDocument/2006/relationships/hyperlink" Target="http://bible777.my1.ru/BabyBible/64.PNG" TargetMode="External"/><Relationship Id="rId28" Type="http://schemas.openxmlformats.org/officeDocument/2006/relationships/hyperlink" Target="http://bible777.my1.ru/BabyBible/64.PNG" TargetMode="External"/><Relationship Id="rId29" Type="http://schemas.openxmlformats.org/officeDocument/2006/relationships/hyperlink" Target="http://bible777.my1.ru/BabyBible/64.PNG" TargetMode="External"/><Relationship Id="rId30" Type="http://schemas.openxmlformats.org/officeDocument/2006/relationships/hyperlink" Target="http://www.clubochek.ru/articles/135/pasc_02.jpg" TargetMode="External"/><Relationship Id="rId31" Type="http://schemas.openxmlformats.org/officeDocument/2006/relationships/hyperlink" Target="http://content.foto.mail.ru/mail/sem-ana54/_animated/i-4224.gif" TargetMode="External"/><Relationship Id="rId32" Type="http://schemas.openxmlformats.org/officeDocument/2006/relationships/hyperlink" Target="http://i018.radikal.ru/0806/9e/13ac5697656d.jpg" TargetMode="External"/><Relationship Id="rId33" Type="http://schemas.openxmlformats.org/officeDocument/2006/relationships/hyperlink" Target="http://www.new-manege.ru/assets/galleries/37/pasha_12.jpg" TargetMode="External"/><Relationship Id="rId34" Type="http://schemas.openxmlformats.org/officeDocument/2006/relationships/hyperlink" Target="http://www.clubochek.ru/articles/135/pasc_13.jpg" TargetMode="External"/><Relationship Id="rId35" Type="http://schemas.openxmlformats.org/officeDocument/2006/relationships/hyperlink" Target="http://www.clubochek.ru/articles/135/pasc_13.jpg" TargetMode="External"/><Relationship Id="rId36" Type="http://schemas.openxmlformats.org/officeDocument/2006/relationships/hyperlink" Target="http://www.clubochek.ru/articles/135/pasc_13.jpg" TargetMode="External"/><Relationship Id="rId37" Type="http://schemas.openxmlformats.org/officeDocument/2006/relationships/hyperlink" Target="http://www.clubochek.ru/articles/135/pasc_13.jpg" TargetMode="External"/><Relationship Id="rId38" Type="http://schemas.openxmlformats.org/officeDocument/2006/relationships/hyperlink" Target="http://www.clubochek.ru/articles/135/pasc_13.jpg" TargetMode="External"/><Relationship Id="rId39" Type="http://schemas.openxmlformats.org/officeDocument/2006/relationships/hyperlink" Target="http://www.clubochek.ru/articles/135/pasc_13.jpg" TargetMode="External"/><Relationship Id="rId4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b/2/23/684/23684036_7822053_Pasha_6.jpg" TargetMode="External"/><Relationship Id="rId2" Type="http://schemas.openxmlformats.org/officeDocument/2006/relationships/hyperlink" Target="http://s40.radikal.ru/i090/0904/98/3494adf2b1bd.jpg" TargetMode="External"/><Relationship Id="rId3" Type="http://schemas.openxmlformats.org/officeDocument/2006/relationships/hyperlink" Target="http://s40.radikal.ru/i090/0904/98/3494adf2b1bd.jpg" TargetMode="External"/><Relationship Id="rId4" Type="http://schemas.openxmlformats.org/officeDocument/2006/relationships/hyperlink" Target="http://www.pravkniga.ru/pictures/site/mKoshelev_DetKatPasxYaycGRM.jpg" TargetMode="External"/><Relationship Id="rId5" Type="http://schemas.openxmlformats.org/officeDocument/2006/relationships/hyperlink" Target="http://www.pravkniga.ru/pictures/site/mKoshelev_DetKatPasxYaycGRM.jpg" TargetMode="External"/><Relationship Id="rId6" Type="http://schemas.openxmlformats.org/officeDocument/2006/relationships/hyperlink" Target="http://www.pravkniga.ru/pictures/site/mKoshelev_DetKatPasxYaycGRM.jpg" TargetMode="External"/><Relationship Id="rId7" Type="http://schemas.openxmlformats.org/officeDocument/2006/relationships/hyperlink" Target="http://www.pravkniga.ru/pictures/site/mKoshelev_DetKatPasxYaycGRM.jpg" TargetMode="External"/><Relationship Id="rId8" Type="http://schemas.openxmlformats.org/officeDocument/2006/relationships/hyperlink" Target="http://www.pravkniga.ru/pictures/site/mKoshelev_DetKatPasxYaycGRM.jpg" TargetMode="External"/><Relationship Id="rId9" Type="http://schemas.openxmlformats.org/officeDocument/2006/relationships/hyperlink" Target="http://www.pravkniga.ru/pictures/site/mKoshelev_DetKatPasxYaycGRM.jpg" TargetMode="External"/><Relationship Id="rId10" Type="http://schemas.openxmlformats.org/officeDocument/2006/relationships/hyperlink" Target="http://www.pravkniga.ru/pictures/site/mKoshelev_DetKatPasxYaycGRM.jpg" TargetMode="External"/><Relationship Id="rId11" Type="http://schemas.openxmlformats.org/officeDocument/2006/relationships/hyperlink" Target="http://www.pravkniga.ru/pictures/site/mKoshelev_DetKatPasxYaycGRM.jpg" TargetMode="External"/><Relationship Id="rId12" Type="http://schemas.openxmlformats.org/officeDocument/2006/relationships/hyperlink" Target="http://www.pravkniga.ru/pictures/site/mKoshelev_DetKatPasxYaycGRM.jpg" TargetMode="External"/><Relationship Id="rId13" Type="http://schemas.openxmlformats.org/officeDocument/2006/relationships/hyperlink" Target="http://www.clubochek.ru/articles/135/pasc_04.jpg" TargetMode="External"/><Relationship Id="rId14" Type="http://schemas.openxmlformats.org/officeDocument/2006/relationships/hyperlink" Target="http://helpix.ru/forum/uploads/post-3-1240096136.jpg" TargetMode="External"/><Relationship Id="rId15" Type="http://schemas.openxmlformats.org/officeDocument/2006/relationships/hyperlink" Target="http://www.30ru.ru/uf/img/53a8ec9f2319d46bf256515340ca3eec.jpg" TargetMode="External"/><Relationship Id="rId16" Type="http://schemas.openxmlformats.org/officeDocument/2006/relationships/hyperlink" Target="http://pravkniga.ru/pictures/site/mPimonenkoNK_PashalZautrRYB.jpg" TargetMode="External"/><Relationship Id="rId17" Type="http://schemas.openxmlformats.org/officeDocument/2006/relationships/hyperlink" Target="http://www.pravkniga.ru/pictures/site/mMakovskiyV_moleben_na_pashu_CER.jpg" TargetMode="External"/><Relationship Id="rId18" Type="http://schemas.openxmlformats.org/officeDocument/2006/relationships/hyperlink" Target="http://tphv.ru/repin/krestny-hod-kurskoi.jpg" TargetMode="External"/><Relationship Id="rId19" Type="http://schemas.openxmlformats.org/officeDocument/2006/relationships/hyperlink" Target="http://s41.radikal.ru/i093/1004/d1/35721bc98c85.jpg" TargetMode="External"/><Relationship Id="rId20" Type="http://schemas.openxmlformats.org/officeDocument/2006/relationships/hyperlink" Target="http://img0.liveinternet.ru/images/attach/c/1/57/266/57266828_b680593f53ae1.jpg" TargetMode="External"/><Relationship Id="rId21" Type="http://schemas.openxmlformats.org/officeDocument/2006/relationships/hyperlink" Target="http://www.zvon.ru/zvon4.view5.html" TargetMode="External"/><Relationship Id="rId22" Type="http://schemas.openxmlformats.org/officeDocument/2006/relationships/hyperlink" Target="http://www.zvon.ru/zvon4.view5.html" TargetMode="External"/><Relationship Id="rId23" Type="http://schemas.openxmlformats.org/officeDocument/2006/relationships/hyperlink" Target="http://www.zvon.ru/zvon4.view5.html" TargetMode="External"/><Relationship Id="rId24" Type="http://schemas.openxmlformats.org/officeDocument/2006/relationships/hyperlink" Target="http://www.zvon.ru/zvon4.view5.html" TargetMode="External"/><Relationship Id="rId25" Type="http://schemas.openxmlformats.org/officeDocument/2006/relationships/hyperlink" Target="http://stat18.privet.ru/lr/0a2d62a711b1e3aada7ad6bef3555867" TargetMode="External"/><Relationship Id="rId26" Type="http://schemas.openxmlformats.org/officeDocument/2006/relationships/hyperlink" Target="http://s55.radikal.ru/i149/0810/a0/33566a3f126a.png" TargetMode="External"/><Relationship Id="rId27" Type="http://schemas.openxmlformats.org/officeDocument/2006/relationships/hyperlink" Target="http://img.spicecomments.com/easter/00001.jpg" TargetMode="External"/><Relationship Id="rId28" Type="http://schemas.openxmlformats.org/officeDocument/2006/relationships/hyperlink" Target="http://img.spicecomments.com/easter/00001.jpg" TargetMode="External"/><Relationship Id="rId29" Type="http://schemas.openxmlformats.org/officeDocument/2006/relationships/hyperlink" Target="http://img.spicecomments.com/easter/00001.jpg" TargetMode="External"/><Relationship Id="rId30" Type="http://schemas.openxmlformats.org/officeDocument/2006/relationships/hyperlink" Target="http://img.spicecomments.com/easter/00001.jpg" TargetMode="External"/><Relationship Id="rId31" Type="http://schemas.openxmlformats.org/officeDocument/2006/relationships/hyperlink" Target="http://img.spicecomments.com/easter/00001.jpg" TargetMode="External"/><Relationship Id="rId32" Type="http://schemas.openxmlformats.org/officeDocument/2006/relationships/hyperlink" Target="http://img.spicecomments.com/easter/00001.jpg" TargetMode="External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1.jpeg"/><Relationship Id="rId9" Type="http://schemas.openxmlformats.org/officeDocument/2006/relationships/image" Target="../media/image8.jpeg"/><Relationship Id="rId10" Type="http://schemas.openxmlformats.org/officeDocument/2006/relationships/image" Target="../media/image12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13.png"/><Relationship Id="rId14" Type="http://schemas.openxmlformats.org/officeDocument/2006/relationships/slide" Target="slide6.xm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" Target="slide7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" Target="slide8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8.jpeg"/><Relationship Id="rId6" Type="http://schemas.openxmlformats.org/officeDocument/2006/relationships/image" Target="../media/image14.gif"/><Relationship Id="rId7" Type="http://schemas.openxmlformats.org/officeDocument/2006/relationships/image" Target="../media/image8.jpeg"/><Relationship Id="rId8" Type="http://schemas.openxmlformats.org/officeDocument/2006/relationships/image" Target="../media/image15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3.png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6264360" cy="465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76720" y="4888080"/>
            <a:ext cx="2160360" cy="1969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427640" y="0"/>
            <a:ext cx="4248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Дорого яичко 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 Христову дню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6021360"/>
            <a:ext cx="32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Тарасова Т.Ю., учитель МОУ «Лазурненская СОШ» Челяби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8360" y="1557360"/>
            <a:ext cx="295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Викторина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для учащихся 5-7 классо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6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9640" y="4499640"/>
            <a:ext cx="2519640" cy="1845720"/>
            <a:chOff x="539640" y="4499640"/>
            <a:chExt cx="2519640" cy="184572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539640" y="5084640"/>
              <a:ext cx="251964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rcRect l="69465" t="63809" r="3803" b="8642"/>
            <a:stretch/>
          </p:blipFill>
          <p:spPr>
            <a:xfrm rot="20749800">
              <a:off x="1403280" y="4581000"/>
              <a:ext cx="79236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5"/>
            <a:srcRect l="35431" t="778" r="35431" b="71663"/>
            <a:stretch/>
          </p:blipFill>
          <p:spPr>
            <a:xfrm>
              <a:off x="1908000" y="4581360"/>
              <a:ext cx="86364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6"/>
            <a:srcRect l="3803" t="778" r="69465" b="71663"/>
            <a:stretch/>
          </p:blipFill>
          <p:spPr>
            <a:xfrm>
              <a:off x="826920" y="4581360"/>
              <a:ext cx="79236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7"/>
            <a:srcRect l="3803" t="63809" r="69465" b="8642"/>
            <a:stretch/>
          </p:blipFill>
          <p:spPr>
            <a:xfrm>
              <a:off x="2195640" y="4653000"/>
              <a:ext cx="792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8"/>
            <a:srcRect l="3803" t="63809" r="69465" b="8642"/>
            <a:stretch/>
          </p:blipFill>
          <p:spPr>
            <a:xfrm rot="771600">
              <a:off x="684000" y="4652640"/>
              <a:ext cx="792000" cy="10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"/>
          <p:cNvSpPr/>
          <p:nvPr/>
        </p:nvSpPr>
        <p:spPr>
          <a:xfrm>
            <a:off x="3276720" y="692280"/>
            <a:ext cx="55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Что символизирует красный цвет пасхального яй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11640" y="2565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11640" y="3573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4581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558972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277020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солнеч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38512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кр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4797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алый рас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3640" y="5805360"/>
            <a:ext cx="41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раздничный на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9"/>
          <a:srcRect l="3803" t="778" r="69465" b="71663"/>
          <a:stretch/>
        </p:blipFill>
        <p:spPr>
          <a:xfrm>
            <a:off x="4356000" y="3500280"/>
            <a:ext cx="792360" cy="1008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0"/>
          <a:srcRect l="69465" t="63809" r="3803" b="8642"/>
          <a:stretch/>
        </p:blipFill>
        <p:spPr>
          <a:xfrm>
            <a:off x="4356000" y="249228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1"/>
          <a:srcRect l="3803" t="63809" r="69465" b="8642"/>
          <a:stretch/>
        </p:blipFill>
        <p:spPr>
          <a:xfrm>
            <a:off x="4356000" y="4508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00720" y="285264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427640" y="479736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2"/>
          <a:srcRect l="35431" t="778" r="35431" b="71663"/>
          <a:stretch/>
        </p:blipFill>
        <p:spPr>
          <a:xfrm>
            <a:off x="4284720" y="5516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427640" y="587700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6354E-006 L -0.31094 0.18899 E">
                                      <p:cBhvr>
                                        <p:cTn id="31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d8eb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08000" y="1052640"/>
            <a:ext cx="8891640" cy="5635440"/>
            <a:chOff x="108000" y="1052640"/>
            <a:chExt cx="8891640" cy="563544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108000" y="1052640"/>
              <a:ext cx="8891640" cy="56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755640" y="1413000"/>
              <a:ext cx="3646440" cy="49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43280" y="1341360"/>
              <a:ext cx="374508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Comic Sans MS"/>
                </a:rPr>
                <a:t>Обычай дарить яйца в Воскресение Христово ведёт начало от Марии Магдалины, которая после вознесения Господа пришла в Рим для проповедования Евангели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rcRect l="1470" t="46845" r="8355" b="32740"/>
            <a:stretch/>
          </p:blipFill>
          <p:spPr>
            <a:xfrm>
              <a:off x="4572000" y="5589720"/>
              <a:ext cx="388764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395280" y="1125360"/>
            <a:ext cx="4176720" cy="5329440"/>
            <a:chOff x="395280" y="1125360"/>
            <a:chExt cx="4176720" cy="532944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rcRect l="3230" t="1260" r="49797" b="4175"/>
            <a:stretch/>
          </p:blipFill>
          <p:spPr>
            <a:xfrm>
              <a:off x="395280" y="1125360"/>
              <a:ext cx="417672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11280" y="1413000"/>
              <a:ext cx="3960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800000"/>
                  </a:solidFill>
                  <a:latin typeface="Comic Sans MS"/>
                </a:rPr>
                <a:t>Представ перед императором Тиверием, она подала ему яйцо со словами: «Христос воскрес!»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5"/>
            <a:srcRect l="1470" t="46845" r="8355" b="32740"/>
            <a:stretch/>
          </p:blipFill>
          <p:spPr>
            <a:xfrm>
              <a:off x="539640" y="5589720"/>
              <a:ext cx="388800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395280" y="1125360"/>
            <a:ext cx="4176720" cy="5329440"/>
            <a:chOff x="395280" y="1125360"/>
            <a:chExt cx="4176720" cy="532944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rcRect l="3230" t="1260" r="49797" b="4175"/>
            <a:stretch/>
          </p:blipFill>
          <p:spPr>
            <a:xfrm>
              <a:off x="395280" y="1125360"/>
              <a:ext cx="4176720" cy="53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55640" y="1484280"/>
              <a:ext cx="3600360" cy="451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4572000" y="1125360"/>
            <a:ext cx="4105440" cy="5329440"/>
            <a:chOff x="4572000" y="1125360"/>
            <a:chExt cx="4105440" cy="532944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rcRect l="49797" t="1260" r="4041" b="4175"/>
            <a:stretch/>
          </p:blipFill>
          <p:spPr>
            <a:xfrm>
              <a:off x="4572000" y="1125360"/>
              <a:ext cx="4105440" cy="53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9"/>
            <a:stretch/>
          </p:blipFill>
          <p:spPr>
            <a:xfrm>
              <a:off x="4788000" y="1700280"/>
              <a:ext cx="3659040" cy="417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4572000" y="1125360"/>
            <a:ext cx="4105440" cy="5598720"/>
            <a:chOff x="4572000" y="1125360"/>
            <a:chExt cx="4105440" cy="5598720"/>
          </a:xfrm>
        </p:grpSpPr>
        <p:pic>
          <p:nvPicPr>
            <p:cNvPr id="248" name="" descr=""/>
            <p:cNvPicPr/>
            <p:nvPr/>
          </p:nvPicPr>
          <p:blipFill>
            <a:blip r:embed="rId10"/>
            <a:srcRect l="49797" t="1260" r="4041" b="4175"/>
            <a:stretch/>
          </p:blipFill>
          <p:spPr>
            <a:xfrm>
              <a:off x="4572000" y="1125360"/>
              <a:ext cx="410544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643280" y="1268280"/>
              <a:ext cx="3889440" cy="54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Император, усомнившись, сказал, что как яйцо из белого не становится красным, так и мёртвые не воскресают. Яйцо в тот же миг стало красным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1979640" y="26028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асхальные яйц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1"/>
          <a:stretch/>
        </p:blipFill>
        <p:spPr>
          <a:xfrm>
            <a:off x="8459640" y="0"/>
            <a:ext cx="684360" cy="9223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7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39640" y="4499640"/>
            <a:ext cx="2519640" cy="1845720"/>
            <a:chOff x="539640" y="4499640"/>
            <a:chExt cx="2519640" cy="1845720"/>
          </a:xfrm>
        </p:grpSpPr>
        <p:grpSp>
          <p:nvGrpSpPr>
            <p:cNvPr id="256" name=""/>
            <p:cNvGrpSpPr/>
            <p:nvPr/>
          </p:nvGrpSpPr>
          <p:grpSpPr>
            <a:xfrm>
              <a:off x="539640" y="4499640"/>
              <a:ext cx="2519640" cy="1845720"/>
              <a:chOff x="539640" y="4499640"/>
              <a:chExt cx="2519640" cy="1845720"/>
            </a:xfrm>
          </p:grpSpPr>
          <p:pic>
            <p:nvPicPr>
              <p:cNvPr id="2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5084640"/>
                <a:ext cx="2519640" cy="126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4"/>
              <a:srcRect l="69465" t="63809" r="3803" b="8642"/>
              <a:stretch/>
            </p:blipFill>
            <p:spPr>
              <a:xfrm rot="20749800">
                <a:off x="1403280" y="4581000"/>
                <a:ext cx="792360" cy="10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" descr=""/>
              <p:cNvPicPr/>
              <p:nvPr/>
            </p:nvPicPr>
            <p:blipFill>
              <a:blip r:embed="rId5"/>
              <a:srcRect l="35431" t="778" r="35431" b="71663"/>
              <a:stretch/>
            </p:blipFill>
            <p:spPr>
              <a:xfrm>
                <a:off x="1908000" y="4581360"/>
                <a:ext cx="863640" cy="10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6"/>
              <a:srcRect l="3803" t="778" r="69465" b="71663"/>
              <a:stretch/>
            </p:blipFill>
            <p:spPr>
              <a:xfrm>
                <a:off x="826920" y="4581360"/>
                <a:ext cx="792360" cy="10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7"/>
              <a:srcRect l="3803" t="63809" r="69465" b="8642"/>
              <a:stretch/>
            </p:blipFill>
            <p:spPr>
              <a:xfrm>
                <a:off x="2195640" y="4653000"/>
                <a:ext cx="79200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8"/>
              <a:srcRect l="3803" t="63809" r="69465" b="8642"/>
              <a:stretch/>
            </p:blipFill>
            <p:spPr>
              <a:xfrm rot="771600">
                <a:off x="684000" y="4652640"/>
                <a:ext cx="792000" cy="100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3" name="" descr=""/>
            <p:cNvPicPr/>
            <p:nvPr/>
          </p:nvPicPr>
          <p:blipFill>
            <a:blip r:embed="rId9"/>
            <a:srcRect l="3803" t="778" r="69465" b="71663"/>
            <a:stretch/>
          </p:blipFill>
          <p:spPr>
            <a:xfrm>
              <a:off x="1187280" y="4724280"/>
              <a:ext cx="792360" cy="100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3708360" y="620640"/>
            <a:ext cx="54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О ком говорят: «Дай ему яичко, да ещё и облупленно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2565360"/>
            <a:ext cx="554364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3573360"/>
            <a:ext cx="554364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5589720"/>
            <a:ext cx="554364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4581360"/>
            <a:ext cx="554364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4720" y="284148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рожорлив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3789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ленив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6360" y="478620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беспеч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00720" y="5805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осторожны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0"/>
          <a:srcRect l="69465" t="63809" r="3803" b="8642"/>
          <a:stretch/>
        </p:blipFill>
        <p:spPr>
          <a:xfrm>
            <a:off x="3635280" y="3500280"/>
            <a:ext cx="792360" cy="1008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1"/>
          <a:srcRect l="3803" t="63809" r="69465" b="8642"/>
          <a:stretch/>
        </p:blipFill>
        <p:spPr>
          <a:xfrm>
            <a:off x="3635280" y="249228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708360" y="285264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2"/>
          <a:srcRect l="3803" t="778" r="69465" b="71663"/>
          <a:stretch/>
        </p:blipFill>
        <p:spPr>
          <a:xfrm>
            <a:off x="3635280" y="4508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708360" y="479736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3"/>
          <a:srcRect l="35431" t="778" r="35431" b="71663"/>
          <a:stretch/>
        </p:blipFill>
        <p:spPr>
          <a:xfrm>
            <a:off x="3635280" y="5516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780000" y="587700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6354E-006 L -0.1849 0.17858 E">
                                      <p:cBhvr>
                                        <p:cTn id="40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3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8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9640" y="4499640"/>
            <a:ext cx="2519640" cy="1845720"/>
            <a:chOff x="539640" y="4499640"/>
            <a:chExt cx="2519640" cy="1845720"/>
          </a:xfrm>
        </p:grpSpPr>
        <p:grpSp>
          <p:nvGrpSpPr>
            <p:cNvPr id="284" name=""/>
            <p:cNvGrpSpPr/>
            <p:nvPr/>
          </p:nvGrpSpPr>
          <p:grpSpPr>
            <a:xfrm>
              <a:off x="539640" y="4499640"/>
              <a:ext cx="2519640" cy="1845720"/>
              <a:chOff x="539640" y="4499640"/>
              <a:chExt cx="2519640" cy="184572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539640" y="4499640"/>
                <a:ext cx="2519640" cy="1845720"/>
                <a:chOff x="539640" y="4499640"/>
                <a:chExt cx="2519640" cy="1845720"/>
              </a:xfrm>
            </p:grpSpPr>
            <p:pic>
              <p:nvPicPr>
                <p:cNvPr id="2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640" y="5084640"/>
                  <a:ext cx="2519640" cy="126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4"/>
                <a:srcRect l="69465" t="63809" r="3803" b="8642"/>
                <a:stretch/>
              </p:blipFill>
              <p:spPr>
                <a:xfrm rot="20749800">
                  <a:off x="1403280" y="4581000"/>
                  <a:ext cx="792360" cy="100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5"/>
                <a:srcRect l="35431" t="778" r="35431" b="71663"/>
                <a:stretch/>
              </p:blipFill>
              <p:spPr>
                <a:xfrm>
                  <a:off x="1908000" y="4581360"/>
                  <a:ext cx="863640" cy="100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6"/>
                <a:srcRect l="3803" t="778" r="69465" b="71663"/>
                <a:stretch/>
              </p:blipFill>
              <p:spPr>
                <a:xfrm>
                  <a:off x="826920" y="4581360"/>
                  <a:ext cx="792360" cy="1008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7"/>
                <a:srcRect l="3803" t="63809" r="69465" b="8642"/>
                <a:stretch/>
              </p:blipFill>
              <p:spPr>
                <a:xfrm>
                  <a:off x="2195640" y="4653000"/>
                  <a:ext cx="792000" cy="100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8"/>
                <a:srcRect l="3803" t="63809" r="69465" b="8642"/>
                <a:stretch/>
              </p:blipFill>
              <p:spPr>
                <a:xfrm rot="771600">
                  <a:off x="684000" y="4652640"/>
                  <a:ext cx="792000" cy="100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92" name="" descr=""/>
              <p:cNvPicPr/>
              <p:nvPr/>
            </p:nvPicPr>
            <p:blipFill>
              <a:blip r:embed="rId9"/>
              <a:srcRect l="3803" t="778" r="69465" b="71663"/>
              <a:stretch/>
            </p:blipFill>
            <p:spPr>
              <a:xfrm>
                <a:off x="1187280" y="4724280"/>
                <a:ext cx="792360" cy="100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3" name="" descr=""/>
            <p:cNvPicPr/>
            <p:nvPr/>
          </p:nvPicPr>
          <p:blipFill>
            <a:blip r:embed="rId10"/>
            <a:srcRect l="69465" t="63809" r="3803" b="8642"/>
            <a:stretch/>
          </p:blipFill>
          <p:spPr>
            <a:xfrm>
              <a:off x="1979640" y="4724280"/>
              <a:ext cx="792000" cy="100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3780000" y="620640"/>
            <a:ext cx="52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В какой ситуации не использовали пасхальное яйц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51280" y="2565360"/>
            <a:ext cx="518472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3573360"/>
            <a:ext cx="518472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5589720"/>
            <a:ext cx="518472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4581360"/>
            <a:ext cx="518472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1"/>
          <a:srcRect l="35431" t="778" r="35431" b="71663"/>
          <a:stretch/>
        </p:blipFill>
        <p:spPr>
          <a:xfrm>
            <a:off x="3995640" y="5516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43280" y="277020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во время пож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88000" y="37782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для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859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ом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64000" y="580536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для закал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95640" y="285264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67280" y="386064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067280" y="486900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2"/>
          <a:srcRect l="3803" t="63809" r="69465" b="8642"/>
          <a:stretch/>
        </p:blipFill>
        <p:spPr>
          <a:xfrm>
            <a:off x="3995640" y="249228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3"/>
          <a:srcRect l="3803" t="778" r="69465" b="71663"/>
          <a:stretch/>
        </p:blipFill>
        <p:spPr>
          <a:xfrm>
            <a:off x="3995640" y="3500280"/>
            <a:ext cx="792360" cy="1008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4"/>
          <a:srcRect l="69465" t="63809" r="3803" b="8642"/>
          <a:stretch/>
        </p:blipFill>
        <p:spPr>
          <a:xfrm>
            <a:off x="3995640" y="4508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36711E-006 L -0.25989 -0.10479 E">
                                      <p:cBhvr>
                                        <p:cTn id="44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d8eb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08000" y="1052640"/>
            <a:ext cx="8891640" cy="5635440"/>
            <a:chOff x="108000" y="1052640"/>
            <a:chExt cx="8891640" cy="563544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08000" y="1052640"/>
              <a:ext cx="889164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11280" y="1557360"/>
              <a:ext cx="396072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Comic Sans MS"/>
                </a:rPr>
                <a:t>Первое яйцо, полученное в Христов день, по народному поверью, никогда не должно портиться, если оба похристосовавшиеся приветствовали друг друга от чистого сердца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"/>
            <a:srcRect l="5669" t="1876" r="5499" b="7606"/>
            <a:stretch/>
          </p:blipFill>
          <p:spPr>
            <a:xfrm>
              <a:off x="4713120" y="1700280"/>
              <a:ext cx="3735720" cy="38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"/>
          <p:cNvGrpSpPr/>
          <p:nvPr/>
        </p:nvGrpSpPr>
        <p:grpSpPr>
          <a:xfrm>
            <a:off x="324000" y="1125360"/>
            <a:ext cx="4176720" cy="5329440"/>
            <a:chOff x="324000" y="1125360"/>
            <a:chExt cx="4176720" cy="532944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rcRect l="3230" t="1260" r="49797" b="4175"/>
            <a:stretch/>
          </p:blipFill>
          <p:spPr>
            <a:xfrm>
              <a:off x="324000" y="1125360"/>
              <a:ext cx="417672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11280" y="1773360"/>
              <a:ext cx="38876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Многие хранили первое яйцо, полученное в Пасху, на божнице целый год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4"/>
            <a:srcRect l="1470" t="46845" r="8355" b="32740"/>
            <a:stretch/>
          </p:blipFill>
          <p:spPr>
            <a:xfrm>
              <a:off x="611280" y="5589720"/>
              <a:ext cx="388764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4500720" y="1125360"/>
            <a:ext cx="4105080" cy="5329440"/>
            <a:chOff x="4500720" y="1125360"/>
            <a:chExt cx="4105080" cy="5329440"/>
          </a:xfrm>
        </p:grpSpPr>
        <p:pic>
          <p:nvPicPr>
            <p:cNvPr id="320" name="" descr=""/>
            <p:cNvPicPr/>
            <p:nvPr/>
          </p:nvPicPr>
          <p:blipFill>
            <a:blip r:embed="rId5"/>
            <a:srcRect l="49797" t="1260" r="4041" b="4175"/>
            <a:stretch/>
          </p:blipFill>
          <p:spPr>
            <a:xfrm>
              <a:off x="4500720" y="1125360"/>
              <a:ext cx="4105080" cy="53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6"/>
            <a:stretch/>
          </p:blipFill>
          <p:spPr>
            <a:xfrm>
              <a:off x="4788000" y="1341360"/>
              <a:ext cx="35398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716360" y="6021360"/>
              <a:ext cx="36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mic Sans MS"/>
                </a:rPr>
                <a:t>М.Мохов. Пасх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 txBox="1"/>
          <p:nvPr/>
        </p:nvSpPr>
        <p:spPr>
          <a:xfrm>
            <a:off x="1979640" y="26028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асхальные яйц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8459640" y="0"/>
            <a:ext cx="684360" cy="922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9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79280" y="4499640"/>
            <a:ext cx="2519640" cy="1845720"/>
            <a:chOff x="179280" y="4499640"/>
            <a:chExt cx="2519640" cy="1845720"/>
          </a:xfrm>
        </p:grpSpPr>
        <p:grpSp>
          <p:nvGrpSpPr>
            <p:cNvPr id="329" name=""/>
            <p:cNvGrpSpPr/>
            <p:nvPr/>
          </p:nvGrpSpPr>
          <p:grpSpPr>
            <a:xfrm>
              <a:off x="179280" y="4499640"/>
              <a:ext cx="2519640" cy="1845720"/>
              <a:chOff x="179280" y="4499640"/>
              <a:chExt cx="2519640" cy="18457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179280" y="4499640"/>
                <a:ext cx="2519640" cy="1845720"/>
                <a:chOff x="179280" y="4499640"/>
                <a:chExt cx="2519640" cy="18457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179280" y="4499640"/>
                  <a:ext cx="2519640" cy="1845720"/>
                  <a:chOff x="179280" y="4499640"/>
                  <a:chExt cx="2519640" cy="1845720"/>
                </a:xfrm>
              </p:grpSpPr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084640"/>
                    <a:ext cx="251964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rcRect l="69465" t="63809" r="3803" b="8642"/>
                  <a:stretch/>
                </p:blipFill>
                <p:spPr>
                  <a:xfrm rot="20749800">
                    <a:off x="1042920" y="4581000"/>
                    <a:ext cx="7923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rcRect l="35431" t="778" r="35431" b="71663"/>
                  <a:stretch/>
                </p:blipFill>
                <p:spPr>
                  <a:xfrm>
                    <a:off x="1547640" y="4581360"/>
                    <a:ext cx="86364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rcRect l="3803" t="778" r="69465" b="71663"/>
                  <a:stretch/>
                </p:blipFill>
                <p:spPr>
                  <a:xfrm>
                    <a:off x="466560" y="4581360"/>
                    <a:ext cx="7923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6" name="" descr=""/>
                  <p:cNvPicPr/>
                  <p:nvPr/>
                </p:nvPicPr>
                <p:blipFill>
                  <a:blip r:embed="rId7"/>
                  <a:srcRect l="3803" t="63809" r="69465" b="8642"/>
                  <a:stretch/>
                </p:blipFill>
                <p:spPr>
                  <a:xfrm>
                    <a:off x="1835280" y="4653000"/>
                    <a:ext cx="79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37" name="" descr=""/>
                  <p:cNvPicPr/>
                  <p:nvPr/>
                </p:nvPicPr>
                <p:blipFill>
                  <a:blip r:embed="rId8"/>
                  <a:srcRect l="3803" t="63809" r="69465" b="8642"/>
                  <a:stretch/>
                </p:blipFill>
                <p:spPr>
                  <a:xfrm rot="771600">
                    <a:off x="323640" y="4652640"/>
                    <a:ext cx="792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38" name="" descr=""/>
                <p:cNvPicPr/>
                <p:nvPr/>
              </p:nvPicPr>
              <p:blipFill>
                <a:blip r:embed="rId9"/>
                <a:srcRect l="3803" t="778" r="69465" b="71663"/>
                <a:stretch/>
              </p:blipFill>
              <p:spPr>
                <a:xfrm>
                  <a:off x="826920" y="4724280"/>
                  <a:ext cx="792360" cy="100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39" name="" descr=""/>
              <p:cNvPicPr/>
              <p:nvPr/>
            </p:nvPicPr>
            <p:blipFill>
              <a:blip r:embed="rId10"/>
              <a:srcRect l="69465" t="63809" r="3803" b="8642"/>
              <a:stretch/>
            </p:blipFill>
            <p:spPr>
              <a:xfrm>
                <a:off x="1619280" y="4724280"/>
                <a:ext cx="792000" cy="100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0" name="" descr=""/>
            <p:cNvPicPr/>
            <p:nvPr/>
          </p:nvPicPr>
          <p:blipFill>
            <a:blip r:embed="rId11"/>
            <a:srcRect l="35431" t="778" r="35431" b="71663"/>
            <a:stretch/>
          </p:blipFill>
          <p:spPr>
            <a:xfrm>
              <a:off x="1187280" y="4724280"/>
              <a:ext cx="863640" cy="100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3708360" y="54936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Среди загадок найдите лишню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1557360"/>
            <a:ext cx="572436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43280" y="2852640"/>
            <a:ext cx="630072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4149720"/>
            <a:ext cx="630072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43280" y="5418000"/>
            <a:ext cx="6300720" cy="1440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170028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олна бочка вина – ни клёпок, ни 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51280" y="305928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Без окон, без дверей – полна горница людей</a:t>
            </a: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435456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од ледком-ледком стоит чашечка с мед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65164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В одном калинничке два тест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2"/>
          <a:srcRect l="69465" t="63809" r="3803" b="8642"/>
          <a:stretch/>
        </p:blipFill>
        <p:spPr>
          <a:xfrm>
            <a:off x="2916360" y="306864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3"/>
          <a:srcRect l="3803" t="778" r="69465" b="71663"/>
          <a:stretch/>
        </p:blipFill>
        <p:spPr>
          <a:xfrm>
            <a:off x="3635280" y="177336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708360" y="213372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4"/>
          <a:srcRect l="3803" t="63809" r="69465" b="8642"/>
          <a:stretch/>
        </p:blipFill>
        <p:spPr>
          <a:xfrm>
            <a:off x="2843280" y="436572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916360" y="472428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5"/>
          <a:srcRect l="35431" t="778" r="35431" b="71663"/>
          <a:stretch/>
        </p:blipFill>
        <p:spPr>
          <a:xfrm>
            <a:off x="2916360" y="566100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059280" y="602136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9452E-006 L -0.27934 0.23109 E">
                                      <p:cBhvr>
                                        <p:cTn id="51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9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1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539640" y="4571280"/>
            <a:ext cx="2519640" cy="1845000"/>
            <a:chOff x="539640" y="4571280"/>
            <a:chExt cx="2519640" cy="1845000"/>
          </a:xfrm>
        </p:grpSpPr>
        <p:grpSp>
          <p:nvGrpSpPr>
            <p:cNvPr id="359" name=""/>
            <p:cNvGrpSpPr/>
            <p:nvPr/>
          </p:nvGrpSpPr>
          <p:grpSpPr>
            <a:xfrm>
              <a:off x="539640" y="4571280"/>
              <a:ext cx="2519640" cy="1845000"/>
              <a:chOff x="539640" y="4571280"/>
              <a:chExt cx="2519640" cy="184500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539640" y="4571280"/>
                <a:ext cx="2519640" cy="1845000"/>
                <a:chOff x="539640" y="4571280"/>
                <a:chExt cx="2519640" cy="184500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539640" y="4571280"/>
                  <a:ext cx="2519640" cy="1845000"/>
                  <a:chOff x="539640" y="4571280"/>
                  <a:chExt cx="2519640" cy="1845000"/>
                </a:xfrm>
              </p:grpSpPr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39640" y="4571280"/>
                    <a:ext cx="2519640" cy="1845000"/>
                    <a:chOff x="539640" y="4571280"/>
                    <a:chExt cx="2519640" cy="1845000"/>
                  </a:xfrm>
                </p:grpSpPr>
                <p:pic>
                  <p:nvPicPr>
                    <p:cNvPr id="3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5155920"/>
                      <a:ext cx="2519640" cy="12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" descr=""/>
                    <p:cNvPicPr/>
                    <p:nvPr/>
                  </p:nvPicPr>
                  <p:blipFill>
                    <a:blip r:embed="rId3"/>
                    <a:srcRect l="69465" t="63809" r="3803" b="8642"/>
                    <a:stretch/>
                  </p:blipFill>
                  <p:spPr>
                    <a:xfrm rot="20749800">
                      <a:off x="1403280" y="4653000"/>
                      <a:ext cx="79236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" descr=""/>
                    <p:cNvPicPr/>
                    <p:nvPr/>
                  </p:nvPicPr>
                  <p:blipFill>
                    <a:blip r:embed="rId4"/>
                    <a:srcRect l="35431" t="778" r="35431" b="71663"/>
                    <a:stretch/>
                  </p:blipFill>
                  <p:spPr>
                    <a:xfrm>
                      <a:off x="1908000" y="4653000"/>
                      <a:ext cx="8636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6" name="" descr=""/>
                    <p:cNvPicPr/>
                    <p:nvPr/>
                  </p:nvPicPr>
                  <p:blipFill>
                    <a:blip r:embed="rId5"/>
                    <a:srcRect l="3803" t="778" r="69465" b="71663"/>
                    <a:stretch/>
                  </p:blipFill>
                  <p:spPr>
                    <a:xfrm>
                      <a:off x="826920" y="4653000"/>
                      <a:ext cx="79236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7" name="" descr=""/>
                    <p:cNvPicPr/>
                    <p:nvPr/>
                  </p:nvPicPr>
                  <p:blipFill>
                    <a:blip r:embed="rId6"/>
                    <a:srcRect l="3803" t="63809" r="69465" b="8642"/>
                    <a:stretch/>
                  </p:blipFill>
                  <p:spPr>
                    <a:xfrm>
                      <a:off x="2195640" y="4724280"/>
                      <a:ext cx="792000" cy="100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8" name="" descr=""/>
                    <p:cNvPicPr/>
                    <p:nvPr/>
                  </p:nvPicPr>
                  <p:blipFill>
                    <a:blip r:embed="rId7"/>
                    <a:srcRect l="3803" t="63809" r="69465" b="8642"/>
                    <a:stretch/>
                  </p:blipFill>
                  <p:spPr>
                    <a:xfrm rot="771600">
                      <a:off x="684000" y="4723920"/>
                      <a:ext cx="792000" cy="100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rcRect l="3803" t="778" r="69465" b="71663"/>
                  <a:stretch/>
                </p:blipFill>
                <p:spPr>
                  <a:xfrm>
                    <a:off x="1187280" y="4795560"/>
                    <a:ext cx="792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70" name="" descr=""/>
                <p:cNvPicPr/>
                <p:nvPr/>
              </p:nvPicPr>
              <p:blipFill>
                <a:blip r:embed="rId9"/>
                <a:srcRect l="69465" t="63809" r="3803" b="8642"/>
                <a:stretch/>
              </p:blipFill>
              <p:spPr>
                <a:xfrm>
                  <a:off x="1979640" y="4795560"/>
                  <a:ext cx="792000" cy="100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71" name="" descr=""/>
              <p:cNvPicPr/>
              <p:nvPr/>
            </p:nvPicPr>
            <p:blipFill>
              <a:blip r:embed="rId10"/>
              <a:srcRect l="35431" t="778" r="35431" b="71663"/>
              <a:stretch/>
            </p:blipFill>
            <p:spPr>
              <a:xfrm>
                <a:off x="1547640" y="4795560"/>
                <a:ext cx="863640" cy="100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2" name="" descr=""/>
            <p:cNvPicPr/>
            <p:nvPr/>
          </p:nvPicPr>
          <p:blipFill>
            <a:blip r:embed="rId11"/>
            <a:srcRect l="69465" t="63809" r="3803" b="8642"/>
            <a:stretch/>
          </p:blipFill>
          <p:spPr>
            <a:xfrm>
              <a:off x="900000" y="4795560"/>
              <a:ext cx="7923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3" name="" descr=""/>
          <p:cNvPicPr/>
          <p:nvPr/>
        </p:nvPicPr>
        <p:blipFill>
          <a:blip r:embed="rId1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10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3924360" y="692280"/>
            <a:ext cx="52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Какое значение имел на Руси обряд катания яиц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9280" y="1844640"/>
            <a:ext cx="5184720" cy="1370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198900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наделить землю плодород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59280" y="3068640"/>
            <a:ext cx="5184720" cy="1370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9280" y="4292640"/>
            <a:ext cx="5184720" cy="1369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59280" y="5487840"/>
            <a:ext cx="5184720" cy="1370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32360" y="3213000"/>
            <a:ext cx="40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ридать себе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16360" y="465300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разбога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587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развить метк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3"/>
          <a:srcRect l="3803" t="63809" r="69465" b="8642"/>
          <a:stretch/>
        </p:blipFill>
        <p:spPr>
          <a:xfrm>
            <a:off x="4140360" y="1989000"/>
            <a:ext cx="792000" cy="10083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14"/>
          <a:srcRect l="3803" t="778" r="69465" b="71663"/>
          <a:stretch/>
        </p:blipFill>
        <p:spPr>
          <a:xfrm>
            <a:off x="4140360" y="321300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211640" y="350028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5"/>
          <a:srcRect l="35431" t="778" r="35431" b="71663"/>
          <a:stretch/>
        </p:blipFill>
        <p:spPr>
          <a:xfrm>
            <a:off x="4140360" y="4437000"/>
            <a:ext cx="863280" cy="100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284720" y="472428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6"/>
          <a:srcRect l="69465" t="63809" r="3803" b="8642"/>
          <a:stretch/>
        </p:blipFill>
        <p:spPr>
          <a:xfrm>
            <a:off x="4140360" y="566100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284720" y="602136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348000" y="1782720"/>
            <a:ext cx="5796000" cy="5075280"/>
            <a:chOff x="3348000" y="1782720"/>
            <a:chExt cx="5796000" cy="5075280"/>
          </a:xfrm>
        </p:grpSpPr>
        <p:pic>
          <p:nvPicPr>
            <p:cNvPr id="392" name="" descr=""/>
            <p:cNvPicPr/>
            <p:nvPr/>
          </p:nvPicPr>
          <p:blipFill>
            <a:blip r:embed="rId17"/>
            <a:stretch/>
          </p:blipFill>
          <p:spPr>
            <a:xfrm>
              <a:off x="3348000" y="1782720"/>
              <a:ext cx="5796000" cy="50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419640" y="1833480"/>
              <a:ext cx="572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Н.Кошелев. Дети, катающие пасхальные яйц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2195E-006 L -0.31094 0.40921 E">
                                      <p:cBhvr>
                                        <p:cTn id="565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dded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979640" y="26028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асха на Руси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9223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108000" y="1052640"/>
            <a:ext cx="8891640" cy="5635440"/>
            <a:chOff x="108000" y="1052640"/>
            <a:chExt cx="8891640" cy="5635440"/>
          </a:xfrm>
        </p:grpSpPr>
        <p:pic>
          <p:nvPicPr>
            <p:cNvPr id="398" name="" descr=""/>
            <p:cNvPicPr/>
            <p:nvPr/>
          </p:nvPicPr>
          <p:blipFill>
            <a:blip r:embed="rId2"/>
            <a:stretch/>
          </p:blipFill>
          <p:spPr>
            <a:xfrm>
              <a:off x="108000" y="1052640"/>
              <a:ext cx="889164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684360" y="1916280"/>
              <a:ext cx="3816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Пасха на Руси совпадает со временем, когда весна вступает в свои права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3"/>
            <a:srcRect l="1470" t="46845" r="8355" b="32740"/>
            <a:stretch/>
          </p:blipFill>
          <p:spPr>
            <a:xfrm>
              <a:off x="611280" y="5589720"/>
              <a:ext cx="38876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4859280" y="1341360"/>
              <a:ext cx="3333960" cy="500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"/>
          <p:cNvGrpSpPr/>
          <p:nvPr/>
        </p:nvGrpSpPr>
        <p:grpSpPr>
          <a:xfrm>
            <a:off x="4572000" y="1125360"/>
            <a:ext cx="4105440" cy="5329440"/>
            <a:chOff x="4572000" y="1125360"/>
            <a:chExt cx="4105440" cy="5329440"/>
          </a:xfrm>
        </p:grpSpPr>
        <p:pic>
          <p:nvPicPr>
            <p:cNvPr id="403" name="" descr=""/>
            <p:cNvPicPr/>
            <p:nvPr/>
          </p:nvPicPr>
          <p:blipFill>
            <a:blip r:embed="rId5"/>
            <a:srcRect l="49797" t="1260" r="4041" b="4175"/>
            <a:stretch/>
          </p:blipFill>
          <p:spPr>
            <a:xfrm>
              <a:off x="4572000" y="1125360"/>
              <a:ext cx="410544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788000" y="1557360"/>
              <a:ext cx="374328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Comic Sans MS"/>
                </a:rPr>
                <a:t>Ещё во время язычества русские люди красили варёные яйца в разные цвета. Они символизировали цветы бога Ярилы, поэтому их раскладывали на траве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395280" y="1125360"/>
            <a:ext cx="4176720" cy="5329440"/>
            <a:chOff x="395280" y="1125360"/>
            <a:chExt cx="4176720" cy="5329440"/>
          </a:xfrm>
        </p:grpSpPr>
        <p:pic>
          <p:nvPicPr>
            <p:cNvPr id="406" name="" descr=""/>
            <p:cNvPicPr/>
            <p:nvPr/>
          </p:nvPicPr>
          <p:blipFill>
            <a:blip r:embed="rId6"/>
            <a:srcRect l="3230" t="1260" r="49797" b="4175"/>
            <a:stretch/>
          </p:blipFill>
          <p:spPr>
            <a:xfrm>
              <a:off x="395280" y="1125360"/>
              <a:ext cx="4176720" cy="53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7"/>
            <a:stretch/>
          </p:blipFill>
          <p:spPr>
            <a:xfrm>
              <a:off x="684360" y="2133720"/>
              <a:ext cx="3744720" cy="28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"/>
          <p:cNvGrpSpPr/>
          <p:nvPr/>
        </p:nvGrpSpPr>
        <p:grpSpPr>
          <a:xfrm>
            <a:off x="395280" y="1125360"/>
            <a:ext cx="4176720" cy="5329440"/>
            <a:chOff x="395280" y="1125360"/>
            <a:chExt cx="4176720" cy="5329440"/>
          </a:xfrm>
        </p:grpSpPr>
        <p:pic>
          <p:nvPicPr>
            <p:cNvPr id="409" name="" descr=""/>
            <p:cNvPicPr/>
            <p:nvPr/>
          </p:nvPicPr>
          <p:blipFill>
            <a:blip r:embed="rId8"/>
            <a:srcRect l="3230" t="1260" r="49797" b="4175"/>
            <a:stretch/>
          </p:blipFill>
          <p:spPr>
            <a:xfrm>
              <a:off x="395280" y="1125360"/>
              <a:ext cx="417672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684360" y="1617840"/>
              <a:ext cx="37432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С приходом Христианства языческий обычай переосмыслил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9"/>
            <a:srcRect l="1470" t="46845" r="8355" b="32740"/>
            <a:stretch/>
          </p:blipFill>
          <p:spPr>
            <a:xfrm>
              <a:off x="611280" y="5516640"/>
              <a:ext cx="388764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"/>
          <p:cNvGrpSpPr/>
          <p:nvPr/>
        </p:nvGrpSpPr>
        <p:grpSpPr>
          <a:xfrm>
            <a:off x="4572000" y="1125360"/>
            <a:ext cx="4105440" cy="5329440"/>
            <a:chOff x="4572000" y="1125360"/>
            <a:chExt cx="4105440" cy="5329440"/>
          </a:xfrm>
        </p:grpSpPr>
        <p:pic>
          <p:nvPicPr>
            <p:cNvPr id="413" name="" descr=""/>
            <p:cNvPicPr/>
            <p:nvPr/>
          </p:nvPicPr>
          <p:blipFill>
            <a:blip r:embed="rId10"/>
            <a:srcRect l="49797" t="1260" r="4041" b="4175"/>
            <a:stretch/>
          </p:blipFill>
          <p:spPr>
            <a:xfrm>
              <a:off x="4572000" y="1125360"/>
              <a:ext cx="4105440" cy="53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11"/>
            <a:stretch/>
          </p:blipFill>
          <p:spPr>
            <a:xfrm>
              <a:off x="4788000" y="1341360"/>
              <a:ext cx="3647880" cy="46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43280" y="6021360"/>
              <a:ext cx="38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Book Antiqua"/>
                </a:rPr>
                <a:t>Б.Кустодиев. Пасх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dded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979640" y="26028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Картинная галере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459640" y="0"/>
            <a:ext cx="684360" cy="92232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684360" y="907920"/>
            <a:ext cx="7850160" cy="5769000"/>
            <a:chOff x="684360" y="907920"/>
            <a:chExt cx="7850160" cy="5769000"/>
          </a:xfrm>
        </p:grpSpPr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684360" y="907920"/>
              <a:ext cx="7850160" cy="541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116000" y="6308640"/>
              <a:ext cx="712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mic Sans MS"/>
                </a:rPr>
                <a:t>Н.Пимоненко. Пасхальная заутреня в Малоросс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4000" y="907920"/>
            <a:ext cx="8459640" cy="5830920"/>
            <a:chOff x="324000" y="907920"/>
            <a:chExt cx="8459640" cy="5830920"/>
          </a:xfrm>
        </p:grpSpPr>
        <p:pic>
          <p:nvPicPr>
            <p:cNvPr id="423" name="" descr=""/>
            <p:cNvPicPr/>
            <p:nvPr/>
          </p:nvPicPr>
          <p:blipFill>
            <a:blip r:embed="rId3"/>
            <a:stretch/>
          </p:blipFill>
          <p:spPr>
            <a:xfrm>
              <a:off x="324000" y="907920"/>
              <a:ext cx="8459640" cy="54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1476360" y="637056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В.Маковский. Молебен на Святой недел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24000" y="907920"/>
            <a:ext cx="8569080" cy="5830920"/>
            <a:chOff x="324000" y="907920"/>
            <a:chExt cx="8569080" cy="5830920"/>
          </a:xfrm>
        </p:grpSpPr>
        <p:pic>
          <p:nvPicPr>
            <p:cNvPr id="426" name="" descr=""/>
            <p:cNvPicPr/>
            <p:nvPr/>
          </p:nvPicPr>
          <p:blipFill>
            <a:blip r:embed="rId4"/>
            <a:stretch/>
          </p:blipFill>
          <p:spPr>
            <a:xfrm>
              <a:off x="324000" y="907920"/>
              <a:ext cx="8569080" cy="54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547640" y="6370560"/>
              <a:ext cx="633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И.Репин. Крестный ход в Курской губерн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116000" y="907920"/>
            <a:ext cx="6624720" cy="5830920"/>
            <a:chOff x="1116000" y="907920"/>
            <a:chExt cx="6624720" cy="5830920"/>
          </a:xfrm>
        </p:grpSpPr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>
              <a:off x="1116000" y="907920"/>
              <a:ext cx="6624720" cy="544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476360" y="637056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mic Sans MS"/>
                </a:rPr>
                <a:t>Ю.Кузенкова. Пасх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1332000" y="907920"/>
            <a:ext cx="6337080" cy="5432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476360" y="637056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И.Каверзнев. Святое воскрес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7"/>
          <a:stretch/>
        </p:blipFill>
        <p:spPr>
          <a:xfrm>
            <a:off x="468360" y="404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5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2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1692360" y="1324080"/>
            <a:ext cx="7451640" cy="553392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3419640" y="4120920"/>
            <a:ext cx="3094920" cy="2293560"/>
            <a:chOff x="3419640" y="4120920"/>
            <a:chExt cx="3094920" cy="2293560"/>
          </a:xfrm>
        </p:grpSpPr>
        <p:grpSp>
          <p:nvGrpSpPr>
            <p:cNvPr id="437" name=""/>
            <p:cNvGrpSpPr/>
            <p:nvPr/>
          </p:nvGrpSpPr>
          <p:grpSpPr>
            <a:xfrm>
              <a:off x="3419640" y="4120920"/>
              <a:ext cx="3094920" cy="2293560"/>
              <a:chOff x="3419640" y="4120920"/>
              <a:chExt cx="3094920" cy="229356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3419640" y="4120920"/>
                <a:ext cx="3094920" cy="2293560"/>
                <a:chOff x="3419640" y="4120920"/>
                <a:chExt cx="3094920" cy="229356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3419640" y="4120920"/>
                  <a:ext cx="3094920" cy="2293560"/>
                  <a:chOff x="3419640" y="4120920"/>
                  <a:chExt cx="3094920" cy="2293560"/>
                </a:xfrm>
              </p:grpSpPr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3419640" y="4120920"/>
                    <a:ext cx="3094920" cy="2293560"/>
                    <a:chOff x="3419640" y="4120920"/>
                    <a:chExt cx="3094920" cy="2293560"/>
                  </a:xfrm>
                </p:grpSpPr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3419640" y="4120920"/>
                      <a:ext cx="3094920" cy="2293560"/>
                      <a:chOff x="3419640" y="4120920"/>
                      <a:chExt cx="3094920" cy="2293560"/>
                    </a:xfrm>
                  </p:grpSpPr>
                  <p:pic>
                    <p:nvPicPr>
                      <p:cNvPr id="442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419640" y="4846680"/>
                        <a:ext cx="3094920" cy="1567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3" name="" descr=""/>
                      <p:cNvPicPr/>
                      <p:nvPr/>
                    </p:nvPicPr>
                    <p:blipFill>
                      <a:blip r:embed="rId4"/>
                      <a:srcRect l="69465" t="63809" r="3803" b="8642"/>
                      <a:stretch/>
                    </p:blipFill>
                    <p:spPr>
                      <a:xfrm rot="20749800">
                        <a:off x="4480560" y="4221000"/>
                        <a:ext cx="973080" cy="12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4" name="" descr=""/>
                      <p:cNvPicPr/>
                      <p:nvPr/>
                    </p:nvPicPr>
                    <p:blipFill>
                      <a:blip r:embed="rId5"/>
                      <a:srcRect l="35431" t="778" r="35431" b="71663"/>
                      <a:stretch/>
                    </p:blipFill>
                    <p:spPr>
                      <a:xfrm>
                        <a:off x="5100480" y="4221000"/>
                        <a:ext cx="1060920" cy="12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5" name="" descr=""/>
                      <p:cNvPicPr/>
                      <p:nvPr/>
                    </p:nvPicPr>
                    <p:blipFill>
                      <a:blip r:embed="rId6"/>
                      <a:srcRect l="3803" t="778" r="69465" b="71663"/>
                      <a:stretch/>
                    </p:blipFill>
                    <p:spPr>
                      <a:xfrm>
                        <a:off x="3772440" y="4221000"/>
                        <a:ext cx="973080" cy="12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6" name="" descr=""/>
                      <p:cNvPicPr/>
                      <p:nvPr/>
                    </p:nvPicPr>
                    <p:blipFill>
                      <a:blip r:embed="rId7"/>
                      <a:srcRect l="3803" t="63809" r="69465" b="8642"/>
                      <a:stretch/>
                    </p:blipFill>
                    <p:spPr>
                      <a:xfrm>
                        <a:off x="5453640" y="4309920"/>
                        <a:ext cx="972720" cy="125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447" name="" descr=""/>
                      <p:cNvPicPr/>
                      <p:nvPr/>
                    </p:nvPicPr>
                    <p:blipFill>
                      <a:blip r:embed="rId8"/>
                      <a:srcRect l="3803" t="63809" r="69465" b="8642"/>
                      <a:stretch/>
                    </p:blipFill>
                    <p:spPr>
                      <a:xfrm rot="771600">
                        <a:off x="3596760" y="4309920"/>
                        <a:ext cx="972720" cy="125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pic>
                  <p:nvPicPr>
                    <p:cNvPr id="448" name="" descr=""/>
                    <p:cNvPicPr/>
                    <p:nvPr/>
                  </p:nvPicPr>
                  <p:blipFill>
                    <a:blip r:embed="rId9"/>
                    <a:srcRect l="3803" t="778" r="69465" b="71663"/>
                    <a:stretch/>
                  </p:blipFill>
                  <p:spPr>
                    <a:xfrm>
                      <a:off x="4215240" y="4398480"/>
                      <a:ext cx="973440" cy="12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449" name="" descr=""/>
                  <p:cNvPicPr/>
                  <p:nvPr/>
                </p:nvPicPr>
                <p:blipFill>
                  <a:blip r:embed="rId10"/>
                  <a:srcRect l="69465" t="63809" r="3803" b="8642"/>
                  <a:stretch/>
                </p:blipFill>
                <p:spPr>
                  <a:xfrm>
                    <a:off x="5188680" y="4398480"/>
                    <a:ext cx="9730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450" name="" descr=""/>
                <p:cNvPicPr/>
                <p:nvPr/>
              </p:nvPicPr>
              <p:blipFill>
                <a:blip r:embed="rId11"/>
                <a:srcRect l="35431" t="778" r="35431" b="71663"/>
                <a:stretch/>
              </p:blipFill>
              <p:spPr>
                <a:xfrm>
                  <a:off x="4658040" y="4398480"/>
                  <a:ext cx="1061280" cy="125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51" name="" descr=""/>
              <p:cNvPicPr/>
              <p:nvPr/>
            </p:nvPicPr>
            <p:blipFill>
              <a:blip r:embed="rId12"/>
              <a:srcRect l="69465" t="63809" r="3803" b="8642"/>
              <a:stretch/>
            </p:blipFill>
            <p:spPr>
              <a:xfrm>
                <a:off x="3862440" y="4398840"/>
                <a:ext cx="973800" cy="1254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2" name="" descr=""/>
            <p:cNvPicPr/>
            <p:nvPr/>
          </p:nvPicPr>
          <p:blipFill>
            <a:blip r:embed="rId13"/>
            <a:srcRect l="3803" t="63809" r="69465" b="8642"/>
            <a:stretch/>
          </p:blipFill>
          <p:spPr>
            <a:xfrm>
              <a:off x="4393440" y="4489560"/>
              <a:ext cx="973440" cy="125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"/>
          <p:cNvSpPr/>
          <p:nvPr/>
        </p:nvSpPr>
        <p:spPr>
          <a:xfrm>
            <a:off x="3348000" y="18900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Спасибо вам, реб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27280" y="2017800"/>
            <a:ext cx="6516720" cy="484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1300" t="53399" r="66669" b="8935"/>
          <a:stretch/>
        </p:blipFill>
        <p:spPr>
          <a:xfrm>
            <a:off x="1042920" y="765000"/>
            <a:ext cx="1835280" cy="158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284720" y="5597640"/>
            <a:ext cx="2519280" cy="126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08360" y="0"/>
            <a:ext cx="54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Ребята, помогите Настеньке, Алёнушке и Ладушке наполнить корзину пасхальными яичка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13000"/>
            <a:ext cx="38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Отвечайте на вопросы ангелочков - получайте яич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1df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9144000" cy="75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сточники графических изображ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н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img.wallpaperstock.net:81/clouds-wallpapers_5056_1600x12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айд 1, девицы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stat18.privet.ru/lr/0a2d62a711b1e3aada7ad6bef3555867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орзинк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://s55.radikal.ru/i149/0810/a0/33566a3f126a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айд 2, девицы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stat18.privet.ru/lr/0a2d62a711b1e3aada7ad6bef3555867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ангелок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http://img12.nnm.ru/b/5/2/3/f/a48c47ef849882269c23c27dfb3_prev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орзин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dariamysoap.na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1"/>
              </a:rPr>
              <a:t>upakovk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/4b.jpg?rand=199343751560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айды 3 -4, 6 – 7, 9 – 10, 12 – 13, 15 – 16, корзин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3"/>
              </a:rPr>
              <a:t>http://dariamysoap.narod.ru/upakovka/4b.jpg?rand=199343751560981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ангелочек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4"/>
              </a:rPr>
              <a:t>http://img12.nnm.ru/b/5/2/3/f/a48c47ef849882269c23c27dfb3_prev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яичк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6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7"/>
              </a:rPr>
              <a:t>img.spicecomments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8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9"/>
              </a:rPr>
              <a:t>east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0"/>
              </a:rPr>
              <a:t>/0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айды 5, 8, 11, 14, 17, открытая книг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1"/>
              </a:rPr>
              <a:t>http://demiart.ru/forum/uploads1/post-76674-1222088222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орнамен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2"/>
              </a:rPr>
              <a:t>http://s56.radikal.ru/i152/0810/fe/ff97b2a2a634.pn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яйцо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3"/>
              </a:rPr>
              <a:t>http://s002.radikal.ru/i198/1003/11/35e84972370c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айд 5, иллюстраци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4"/>
              </a:rPr>
              <a:t>http://emmanuildndz.com.ua/files/iesus2005(1)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5"/>
              </a:rPr>
              <a:t>http://dataup.sdasofia.org/PRESENTACII/po.doktrini/Razreshenieto-na-prolema/049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7"/>
              </a:rPr>
              <a:t>://bible777.my1.ru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8"/>
              </a:rPr>
              <a:t>BabyBibl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9"/>
              </a:rPr>
              <a:t>/64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айд 8, картина Грюневальд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0"/>
              </a:rPr>
              <a:t>http://www.clubochek.ru/articles/135/pasc_02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анимированная картинк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1"/>
              </a:rPr>
              <a:t>http://content.foto.mail.ru/mail/sem-ana54/_animated/i-4224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айд 11, икон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2"/>
              </a:rPr>
              <a:t>http://i018.radikal.ru/0806/9e/13ac5697656d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иллюстраци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3"/>
              </a:rPr>
              <a:t>http://www.new-manege.ru/assets/galleries/37/pasha_12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фото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6"/>
              </a:rPr>
              <a:t>www.clubochek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8"/>
              </a:rPr>
              <a:t>articl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9"/>
              </a:rPr>
              <a:t>/135/pasc_1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dded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106200"/>
            <a:ext cx="914400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9. Слайд 14, иллюстраци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img0.liveinternet.ru/images/attach/b/2/23/684/23684036_7822053_Pasha_6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артина Мохов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://s40.radikal.ru/i090/0904/98/3494adf2b1bd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. Слайд 16, картина Кошелев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www.pravkniga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pictur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0"/>
              </a:rPr>
              <a:t>si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2"/>
              </a:rPr>
              <a:t>mKoshelev_DetKatPasxYaycGRM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1. Слайд 17, открытк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3"/>
              </a:rPr>
              <a:t>http://www.clubochek.ru/articles/135/pasc_04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артинк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4"/>
              </a:rPr>
              <a:t>http://helpix.ru/forum/uploads/post-3-1240096136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артина Кустодиев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5"/>
              </a:rPr>
              <a:t>http://www.30ru.ru/uf/img/53a8ec9f2319d46bf256515340ca3eec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2. Слайд 18, картины Пимоненко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6"/>
              </a:rPr>
              <a:t>http://pravkniga.ru/pictures/site/mPimonenkoNK_PashalZautrRYB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Маковского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7"/>
              </a:rPr>
              <a:t>http://www.pravkniga.ru/pictures/site/mMakovskiyV_moleben_na_pashu_CER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Репин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8"/>
              </a:rPr>
              <a:t>http://tphv.ru/repin/krestny-hod-kurskoi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узенковой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19"/>
              </a:rPr>
              <a:t>http://s41.radikal.ru/i093/1004/d1/35721bc98c85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аверзнев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0"/>
              </a:rPr>
              <a:t>http://img0.liveinternet.ru/images/attach/c/1/57/266/57266828_b680593f53ae1.jp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Музыкальный фон Пасхальный звон Духовной церкви Троице-Сергиевой Лавры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3"/>
              </a:rPr>
              <a:t>www.zvon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4"/>
              </a:rPr>
              <a:t>/zvon4.view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3. Слайд 19, девицы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5"/>
              </a:rPr>
              <a:t>http://stat18.privet.ru/lr/0a2d62a711b1e3aada7ad6bef3555867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корзинк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6"/>
              </a:rPr>
              <a:t>http://s55.radikal.ru/i149/0810/a0/33566a3f126a.png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яичк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29"/>
              </a:rPr>
              <a:t>img.spicecomments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1"/>
              </a:rPr>
              <a:t>easter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Comic Sans MS"/>
                <a:hlinkClick r:id="rId32"/>
              </a:rPr>
              <a:t>/00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519280" cy="126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1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549360"/>
            <a:ext cx="51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Слово «Пасха» имеет в современном русском языке несколько значений. Среди представленных значений найдите лишн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924280"/>
            <a:ext cx="8820360" cy="863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716280"/>
            <a:ext cx="8820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724280"/>
            <a:ext cx="8820360" cy="863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5589720"/>
            <a:ext cx="8785440" cy="936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068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Весенний религиозный праздник у евре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789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Религиозный праздник в честь воскрешения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941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Праздник весеннего равноден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7942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Comic Sans MS"/>
              </a:rPr>
              <a:t>Сладкое кушанье из твор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69465" t="65758" r="3803" b="6683"/>
          <a:stretch/>
        </p:blipFill>
        <p:spPr>
          <a:xfrm>
            <a:off x="8244000" y="4653000"/>
            <a:ext cx="622080" cy="79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8244000" y="306864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44000" y="400536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rcRect l="68068" t="0" r="2783" b="68543"/>
          <a:stretch/>
        </p:blipFill>
        <p:spPr>
          <a:xfrm>
            <a:off x="8244000" y="2852640"/>
            <a:ext cx="645840" cy="862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35431" t="778" r="35431" b="69715"/>
          <a:stretch/>
        </p:blipFill>
        <p:spPr>
          <a:xfrm>
            <a:off x="8172360" y="3789360"/>
            <a:ext cx="689040" cy="861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8244000" y="580536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rcRect l="2467" t="0" r="68396" b="70453"/>
          <a:stretch/>
        </p:blipFill>
        <p:spPr>
          <a:xfrm>
            <a:off x="8172360" y="5445000"/>
            <a:ext cx="747720" cy="93672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8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77585E-007 L -0.19931 -0.50867 E">
                                      <p:cBhvr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2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609480"/>
            <a:ext cx="55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лово «Пасха» восходит к древнееврейскому глаголу «passah». Укажите его 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2781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3789360"/>
            <a:ext cx="478800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4797360"/>
            <a:ext cx="478800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5776920"/>
            <a:ext cx="478800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2997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кра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4076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радо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5075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гов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6720" y="595008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ро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1280" y="5084640"/>
            <a:ext cx="2519280" cy="12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69465" t="63809" r="3803" b="8642"/>
          <a:stretch/>
        </p:blipFill>
        <p:spPr>
          <a:xfrm rot="20749800">
            <a:off x="197964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rcRect l="35431" t="778" r="35431" b="71663"/>
          <a:stretch/>
        </p:blipFill>
        <p:spPr>
          <a:xfrm>
            <a:off x="4356000" y="573408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427640" y="306864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rcRect l="69465" t="63809" r="3803" b="8642"/>
          <a:stretch/>
        </p:blipFill>
        <p:spPr>
          <a:xfrm>
            <a:off x="4356000" y="270828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07664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rcRect l="3803" t="778" r="69465" b="71663"/>
          <a:stretch/>
        </p:blipFill>
        <p:spPr>
          <a:xfrm>
            <a:off x="4356000" y="371628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427640" y="508464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rcRect l="3803" t="63809" r="69465" b="8642"/>
          <a:stretch/>
        </p:blipFill>
        <p:spPr>
          <a:xfrm>
            <a:off x="4356000" y="4724280"/>
            <a:ext cx="792360" cy="100836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11751E-007 L -0.36215 -0.14689 E">
                                      <p:cBhvr>
                                        <p:cTn id="9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e2f0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891640" cy="5635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1470" t="46845" r="8355" b="32740"/>
          <a:stretch/>
        </p:blipFill>
        <p:spPr>
          <a:xfrm>
            <a:off x="611280" y="5373720"/>
            <a:ext cx="3887640" cy="86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116000" y="1268280"/>
            <a:ext cx="28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етхий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завет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3240000" cy="2689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95280" y="1057680"/>
            <a:ext cx="4176720" cy="5396760"/>
            <a:chOff x="395280" y="1057680"/>
            <a:chExt cx="4176720" cy="5396760"/>
          </a:xfrm>
        </p:grpSpPr>
        <p:pic>
          <p:nvPicPr>
            <p:cNvPr id="97" name="" descr=""/>
            <p:cNvPicPr/>
            <p:nvPr/>
          </p:nvPicPr>
          <p:blipFill>
            <a:blip r:embed="rId4"/>
            <a:srcRect l="3230" t="1260" r="49797" b="4175"/>
            <a:stretch/>
          </p:blipFill>
          <p:spPr>
            <a:xfrm>
              <a:off x="395280" y="1125360"/>
              <a:ext cx="4176720" cy="53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5"/>
            <a:srcRect l="1470" t="46845" r="8355" b="32740"/>
            <a:stretch/>
          </p:blipFill>
          <p:spPr>
            <a:xfrm>
              <a:off x="611280" y="5517720"/>
              <a:ext cx="388764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4360" y="1057680"/>
              <a:ext cx="367164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Comic Sans MS"/>
                </a:rPr>
                <a:t>Фараон не отпускал израильтян в пустыню. Господь объявил последнюю и самую тяжёлую казнь для народа египетского – смерть первенцев.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95280" y="1125360"/>
            <a:ext cx="4176720" cy="5329080"/>
            <a:chOff x="395280" y="1125360"/>
            <a:chExt cx="4176720" cy="5329080"/>
          </a:xfrm>
        </p:grpSpPr>
        <p:pic>
          <p:nvPicPr>
            <p:cNvPr id="101" name="" descr=""/>
            <p:cNvPicPr/>
            <p:nvPr/>
          </p:nvPicPr>
          <p:blipFill>
            <a:blip r:embed="rId6"/>
            <a:srcRect l="3230" t="1260" r="49797" b="4175"/>
            <a:stretch/>
          </p:blipFill>
          <p:spPr>
            <a:xfrm>
              <a:off x="395280" y="1125360"/>
              <a:ext cx="4176720" cy="53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rcRect l="1470" t="46845" r="8355" b="32740"/>
            <a:stretch/>
          </p:blipFill>
          <p:spPr>
            <a:xfrm>
              <a:off x="611280" y="5446440"/>
              <a:ext cx="38876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755640" y="1485720"/>
              <a:ext cx="3618000" cy="36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4716360" y="1401840"/>
            <a:ext cx="374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Первоначально Пасхой называли еврейский праздник, связанный с исходом израильтян из Егип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00720" y="1125360"/>
            <a:ext cx="4105080" cy="5329080"/>
            <a:chOff x="4500720" y="1125360"/>
            <a:chExt cx="4105080" cy="5329080"/>
          </a:xfrm>
        </p:grpSpPr>
        <p:pic>
          <p:nvPicPr>
            <p:cNvPr id="106" name="" descr=""/>
            <p:cNvPicPr/>
            <p:nvPr/>
          </p:nvPicPr>
          <p:blipFill>
            <a:blip r:embed="rId9"/>
            <a:srcRect l="49797" t="1260" r="4041" b="4175"/>
            <a:stretch/>
          </p:blipFill>
          <p:spPr>
            <a:xfrm>
              <a:off x="4500720" y="1125360"/>
              <a:ext cx="4105080" cy="53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0"/>
            <a:stretch/>
          </p:blipFill>
          <p:spPr>
            <a:xfrm>
              <a:off x="4644720" y="1485720"/>
              <a:ext cx="3684240" cy="46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500720" y="1125360"/>
            <a:ext cx="4105080" cy="5784120"/>
            <a:chOff x="4500720" y="1125360"/>
            <a:chExt cx="4105080" cy="5784120"/>
          </a:xfrm>
        </p:grpSpPr>
        <p:pic>
          <p:nvPicPr>
            <p:cNvPr id="109" name="" descr=""/>
            <p:cNvPicPr/>
            <p:nvPr/>
          </p:nvPicPr>
          <p:blipFill>
            <a:blip r:embed="rId11"/>
            <a:srcRect l="49797" t="1260" r="4041" b="4175"/>
            <a:stretch/>
          </p:blipFill>
          <p:spPr>
            <a:xfrm>
              <a:off x="4500720" y="1125360"/>
              <a:ext cx="410508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71640" y="1269720"/>
              <a:ext cx="3816000" cy="56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Comic Sans MS"/>
                </a:rPr>
                <a:t>Всему народу израильскому Господь повелел кровью агнца помазать косяки и перекладины дверей дома, чтобы ангел, истребивший первенцев египтян, прошёл мимо домов евреев.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00720" y="1125360"/>
            <a:ext cx="4105080" cy="5329440"/>
            <a:chOff x="4500720" y="1125360"/>
            <a:chExt cx="4105080" cy="5329440"/>
          </a:xfrm>
        </p:grpSpPr>
        <p:pic>
          <p:nvPicPr>
            <p:cNvPr id="112" name="" descr=""/>
            <p:cNvPicPr/>
            <p:nvPr/>
          </p:nvPicPr>
          <p:blipFill>
            <a:blip r:embed="rId12"/>
            <a:srcRect l="49797" t="1260" r="4041" b="4175"/>
            <a:stretch/>
          </p:blipFill>
          <p:spPr>
            <a:xfrm>
              <a:off x="4500720" y="1125360"/>
              <a:ext cx="410508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571640" y="2133720"/>
              <a:ext cx="38160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Название «Пасха» образовано от глагола «проходить»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1979640" y="26028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Еврейская Пасх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8459640" y="0"/>
            <a:ext cx="684360" cy="92232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14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3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948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ак назывался день недели, следующий за субботой, в Древней Руси до принятия Христиан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1640" y="2565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3573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581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58972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27702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1640" y="27702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нед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37782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седм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5805360"/>
            <a:ext cx="27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етров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4797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понед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11280" y="5084640"/>
            <a:ext cx="2519280" cy="126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69465" t="63809" r="3803" b="8642"/>
          <a:stretch/>
        </p:blipFill>
        <p:spPr>
          <a:xfrm rot="20749800">
            <a:off x="1403280" y="465300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rcRect l="35431" t="778" r="35431" b="71663"/>
          <a:stretch/>
        </p:blipFill>
        <p:spPr>
          <a:xfrm>
            <a:off x="1908000" y="4724280"/>
            <a:ext cx="863640" cy="10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rcRect l="3803" t="63809" r="69465" b="8642"/>
          <a:stretch/>
        </p:blipFill>
        <p:spPr>
          <a:xfrm>
            <a:off x="4356000" y="249228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rcRect l="35431" t="778" r="35431" b="71663"/>
          <a:stretch/>
        </p:blipFill>
        <p:spPr>
          <a:xfrm>
            <a:off x="4356000" y="3500280"/>
            <a:ext cx="863640" cy="100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00720" y="386064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rcRect l="3803" t="778" r="69465" b="71663"/>
          <a:stretch/>
        </p:blipFill>
        <p:spPr>
          <a:xfrm>
            <a:off x="4356000" y="4508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427640" y="486900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rcRect l="69465" t="63809" r="3803" b="8642"/>
          <a:stretch/>
        </p:blipFill>
        <p:spPr>
          <a:xfrm>
            <a:off x="4356000" y="5516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427640" y="587700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ет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39" name="">
            <a:hlinkClick r:id="rId10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42887E-006 L -0.38195 0.31506 E">
                                      <p:cBhvr>
                                        <p:cTn id="15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4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68256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Что не символизирует пасхальное яйцо?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2565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3573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458136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589720"/>
            <a:ext cx="482436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27702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386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всел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486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чу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586728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з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11280" y="4571280"/>
            <a:ext cx="2519280" cy="1774080"/>
            <a:chOff x="611280" y="4571280"/>
            <a:chExt cx="2519280" cy="1774080"/>
          </a:xfrm>
        </p:grpSpPr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611280" y="5084640"/>
              <a:ext cx="25192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4"/>
            <a:srcRect l="35431" t="778" r="35431" b="71663"/>
            <a:stretch/>
          </p:blipFill>
          <p:spPr>
            <a:xfrm>
              <a:off x="1908000" y="4724280"/>
              <a:ext cx="863640" cy="10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5"/>
            <a:srcRect l="69465" t="63809" r="3803" b="8642"/>
            <a:stretch/>
          </p:blipFill>
          <p:spPr>
            <a:xfrm rot="20749800">
              <a:off x="1547640" y="4653000"/>
              <a:ext cx="7923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6"/>
            <a:srcRect l="3803" t="63809" r="69465" b="8642"/>
            <a:stretch/>
          </p:blipFill>
          <p:spPr>
            <a:xfrm>
              <a:off x="1116000" y="4724280"/>
              <a:ext cx="792000" cy="10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7"/>
          <a:srcRect l="3803" t="778" r="69465" b="71663"/>
          <a:stretch/>
        </p:blipFill>
        <p:spPr>
          <a:xfrm>
            <a:off x="4356000" y="551664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rcRect l="3803" t="63809" r="69465" b="8642"/>
          <a:stretch/>
        </p:blipFill>
        <p:spPr>
          <a:xfrm>
            <a:off x="4356000" y="4508640"/>
            <a:ext cx="792360" cy="100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00720" y="486900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9"/>
          <a:srcRect l="69465" t="63809" r="3803" b="8642"/>
          <a:stretch/>
        </p:blipFill>
        <p:spPr>
          <a:xfrm>
            <a:off x="4356000" y="3500280"/>
            <a:ext cx="792360" cy="1008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00720" y="386064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0"/>
          <a:srcRect l="35431" t="778" r="35431" b="71663"/>
          <a:stretch/>
        </p:blipFill>
        <p:spPr>
          <a:xfrm>
            <a:off x="4356000" y="249228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427640" y="2852640"/>
            <a:ext cx="63972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вы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63" name="">
            <a:hlinkClick r:id="rId11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36711E-006 L -0.39757 -0.12561 E">
                                      <p:cBhvr>
                                        <p:cTn id="20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d3e8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08000" y="1052640"/>
            <a:ext cx="8891640" cy="5635440"/>
            <a:chOff x="108000" y="1052640"/>
            <a:chExt cx="8891640" cy="56354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08000" y="1052640"/>
              <a:ext cx="889164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1332000" y="2060640"/>
              <a:ext cx="2735280" cy="20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Новый 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завет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"/>
            <a:srcRect l="1470" t="46845" r="8355" b="32740"/>
            <a:stretch/>
          </p:blipFill>
          <p:spPr>
            <a:xfrm>
              <a:off x="611280" y="5445000"/>
              <a:ext cx="388764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716360" y="1474920"/>
              <a:ext cx="37432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Comic Sans MS"/>
                </a:rPr>
                <a:t>Христианская пасха отмечается в честь чудесного воскрешения Иисуса Христа.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500720" y="1125360"/>
            <a:ext cx="4105080" cy="5329440"/>
            <a:chOff x="4500720" y="1125360"/>
            <a:chExt cx="4105080" cy="5329440"/>
          </a:xfrm>
        </p:grpSpPr>
        <p:pic>
          <p:nvPicPr>
            <p:cNvPr id="170" name="" descr=""/>
            <p:cNvPicPr/>
            <p:nvPr/>
          </p:nvPicPr>
          <p:blipFill>
            <a:blip r:embed="rId3"/>
            <a:srcRect l="49797" t="1260" r="4041" b="4175"/>
            <a:stretch/>
          </p:blipFill>
          <p:spPr>
            <a:xfrm>
              <a:off x="4500720" y="1125360"/>
              <a:ext cx="410508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0" y="1484280"/>
              <a:ext cx="3816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Ангел, сошедший с небес, отвалил камень от входа в пещеру, где находился гроб с телом Христа и напугал стражников.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rcRect l="1470" t="46845" r="8355" b="32740"/>
            <a:stretch/>
          </p:blipFill>
          <p:spPr>
            <a:xfrm>
              <a:off x="4572000" y="5589720"/>
              <a:ext cx="388764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4500720" y="1125360"/>
            <a:ext cx="4105080" cy="5329440"/>
            <a:chOff x="4500720" y="1125360"/>
            <a:chExt cx="4105080" cy="5329440"/>
          </a:xfrm>
        </p:grpSpPr>
        <p:pic>
          <p:nvPicPr>
            <p:cNvPr id="174" name="" descr=""/>
            <p:cNvPicPr/>
            <p:nvPr/>
          </p:nvPicPr>
          <p:blipFill>
            <a:blip r:embed="rId5"/>
            <a:srcRect l="49797" t="1260" r="4041" b="4175"/>
            <a:stretch/>
          </p:blipFill>
          <p:spPr>
            <a:xfrm>
              <a:off x="4500720" y="1125360"/>
              <a:ext cx="4105080" cy="53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4643280" y="1484280"/>
              <a:ext cx="3605400" cy="475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395280" y="1125360"/>
            <a:ext cx="4176720" cy="5329440"/>
            <a:chOff x="395280" y="1125360"/>
            <a:chExt cx="4176720" cy="5329440"/>
          </a:xfrm>
        </p:grpSpPr>
        <p:pic>
          <p:nvPicPr>
            <p:cNvPr id="177" name="" descr=""/>
            <p:cNvPicPr/>
            <p:nvPr/>
          </p:nvPicPr>
          <p:blipFill>
            <a:blip r:embed="rId7"/>
            <a:srcRect l="3230" t="1260" r="49797" b="4175"/>
            <a:stretch/>
          </p:blipFill>
          <p:spPr>
            <a:xfrm>
              <a:off x="395280" y="1125360"/>
              <a:ext cx="4176720" cy="53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1187280" y="1341360"/>
              <a:ext cx="284004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84360" y="6093000"/>
              <a:ext cx="367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800000"/>
                  </a:solidFill>
                  <a:latin typeface="Comic Sans MS"/>
                </a:rPr>
                <a:t>Грюневальд. Воскресение Христ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4000" y="1125360"/>
            <a:ext cx="4176720" cy="5329440"/>
            <a:chOff x="324000" y="1125360"/>
            <a:chExt cx="4176720" cy="5329440"/>
          </a:xfrm>
        </p:grpSpPr>
        <p:pic>
          <p:nvPicPr>
            <p:cNvPr id="181" name="" descr=""/>
            <p:cNvPicPr/>
            <p:nvPr/>
          </p:nvPicPr>
          <p:blipFill>
            <a:blip r:embed="rId9"/>
            <a:srcRect l="3230" t="1260" r="49797" b="4175"/>
            <a:stretch/>
          </p:blipFill>
          <p:spPr>
            <a:xfrm>
              <a:off x="324000" y="1125360"/>
              <a:ext cx="4176720" cy="532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971640" y="2708280"/>
              <a:ext cx="3095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00"/>
                  </a:solidFill>
                  <a:latin typeface="Comic Sans MS"/>
                </a:rPr>
                <a:t>Иисус воскрес и восстал из гроб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0"/>
            <a:srcRect l="1470" t="46845" r="8355" b="32740"/>
            <a:stretch/>
          </p:blipFill>
          <p:spPr>
            <a:xfrm>
              <a:off x="611280" y="5445000"/>
              <a:ext cx="3887640" cy="8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 txBox="1"/>
          <p:nvPr/>
        </p:nvSpPr>
        <p:spPr>
          <a:xfrm>
            <a:off x="1979640" y="26028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Христианская Пасх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>
            <a:off x="8459640" y="0"/>
            <a:ext cx="684360" cy="92232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rId12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34638" t="58563" r="33338" b="2112"/>
          <a:stretch/>
        </p:blipFill>
        <p:spPr>
          <a:xfrm>
            <a:off x="1116000" y="765000"/>
            <a:ext cx="1800360" cy="1656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6443640" y="0"/>
            <a:ext cx="2076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Вопрос 5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11280" y="4571280"/>
            <a:ext cx="2519280" cy="1774080"/>
            <a:chOff x="611280" y="4571280"/>
            <a:chExt cx="2519280" cy="1774080"/>
          </a:xfrm>
        </p:grpSpPr>
        <p:grpSp>
          <p:nvGrpSpPr>
            <p:cNvPr id="190" name=""/>
            <p:cNvGrpSpPr/>
            <p:nvPr/>
          </p:nvGrpSpPr>
          <p:grpSpPr>
            <a:xfrm>
              <a:off x="611280" y="4571280"/>
              <a:ext cx="2519280" cy="1774080"/>
              <a:chOff x="611280" y="4571280"/>
              <a:chExt cx="2519280" cy="1774080"/>
            </a:xfrm>
          </p:grpSpPr>
          <p:pic>
            <p:nvPicPr>
              <p:cNvPr id="1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5084640"/>
                <a:ext cx="2519280" cy="126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4"/>
              <a:srcRect l="35431" t="778" r="35431" b="71663"/>
              <a:stretch/>
            </p:blipFill>
            <p:spPr>
              <a:xfrm>
                <a:off x="1908000" y="4724280"/>
                <a:ext cx="863640" cy="10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5"/>
              <a:srcRect l="69465" t="63809" r="3803" b="8642"/>
              <a:stretch/>
            </p:blipFill>
            <p:spPr>
              <a:xfrm rot="20749800">
                <a:off x="1547640" y="4653000"/>
                <a:ext cx="792360" cy="10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6"/>
              <a:srcRect l="3803" t="63809" r="69465" b="8642"/>
              <a:stretch/>
            </p:blipFill>
            <p:spPr>
              <a:xfrm>
                <a:off x="1116000" y="4724280"/>
                <a:ext cx="792000" cy="100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" descr=""/>
            <p:cNvPicPr/>
            <p:nvPr/>
          </p:nvPicPr>
          <p:blipFill>
            <a:blip r:embed="rId7"/>
            <a:srcRect l="3803" t="778" r="69465" b="71663"/>
            <a:stretch/>
          </p:blipFill>
          <p:spPr>
            <a:xfrm>
              <a:off x="826920" y="4581360"/>
              <a:ext cx="792360" cy="100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140360" y="6922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Какой цвет является традиционным для пасхальных я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8"/>
          <a:srcRect l="3803" t="63809" r="69465" b="8642"/>
          <a:stretch/>
        </p:blipFill>
        <p:spPr>
          <a:xfrm>
            <a:off x="4140360" y="501336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80000" y="4508640"/>
            <a:ext cx="1512720" cy="20872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19640" y="314172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2421000"/>
            <a:ext cx="1512720" cy="2087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524720" y="314172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7236000" y="2421000"/>
            <a:ext cx="1512720" cy="2087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43640" y="5300640"/>
            <a:ext cx="100800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шибка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4508640"/>
            <a:ext cx="1512720" cy="2087280"/>
          </a:xfrm>
          <a:prstGeom prst="ellipse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9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0 w 826920"/>
              <a:gd name="textAreaRight" fmla="*/ 827280 w 8269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227E-008 L -0.2165 -0.04187 E">
                                      <p:cBhvr>
                                        <p:cTn id="28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2:42:05Z</dcterms:created>
  <dc:creator>Тарасова Т.Ю.</dc:creator>
  <dc:description/>
  <dc:language>en-US</dc:language>
  <cp:lastModifiedBy>User</cp:lastModifiedBy>
  <dcterms:modified xsi:type="dcterms:W3CDTF">2011-04-01T00:48:34Z</dcterms:modified>
  <cp:revision>43</cp:revision>
  <dc:subject/>
  <dc:title>Слайд 1</dc:title>
</cp:coreProperties>
</file>