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9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003D-AAE6-470B-A2BC-F48DF4BF4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CC1C-ADF4-4DEB-9F2C-8DE10F4E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CBAA-19A0-4B20-AD5E-71F9D6DCC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A2F1-D1DE-46A8-A4D8-2E010C36D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49F7-7092-4D3E-9BC9-7BC9F5B80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4448-B093-49AB-895B-F12EBC94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3D86-E021-4D94-B609-05268C54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559B-9BB7-4F6E-A2C7-4D4A578C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686B-5C85-4572-814A-013C11FD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A11E-F816-498E-9496-757A7A2E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03C3-DE36-4D19-B58E-3246D36C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34E7-30F9-4ABB-81B2-47A01A51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F9D5-6B54-4F07-8006-3D5E5C8C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E54E-D934-4527-84AD-7426F306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2C83-3BD1-4D1F-BD03-0E9BEAC6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AF49-94E2-48DB-BB36-0B7F18A3B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EAED-85CD-4870-8344-79E54B25D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E7663-CEF7-4838-A743-ED31CDE43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45840-1F70-44FA-A363-6D825356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2EF5B-35EA-4A16-BD62-9ADD20FD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31A19-A830-40A5-8384-B13C5A06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880B3-2EB2-4F5D-8FF2-9F8A3E7C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0582-9999-4725-88F5-B32664A5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8A343-5581-4A00-8360-EAA3B77E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3CB84-0516-4BB5-8802-6C27D29E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4C58C-B938-4824-A9B9-3D3AACA2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80617-882B-4F86-B0B4-B3A6F51B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D7236-C354-4F5F-A74B-479C3740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85920-5927-432B-9CD2-C8AF54527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BBA02-0C99-4DA4-A5C6-8DA3FD8F3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2E4C9-556C-44A7-9E05-706C0853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71165-12CB-4785-945C-5CAA8373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4A6A6-7BD4-4143-B132-FE7DB7A9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B9F6-1E32-4DAB-91BB-684CDFE5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CBF01-EC07-4E43-8F0F-06F6370E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A2D4B-B926-4C43-B6A2-281BA676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839B9-EFC7-421A-BDC0-0DBC8762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78D58-F50D-4E7F-AD07-CC7D4479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FCF28-941B-4DF2-BDDD-F6B869A4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6C8B9-24A0-413C-B67F-7B15B483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BC289-6884-476C-97E8-1FD8FF01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697F6-D223-4E7A-927A-5703ADB5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76C94-0416-4520-B028-3ED9F53C8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1D5E8-359A-4DB0-BBF9-2EE847833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EA0F-AC14-41A3-990A-9BF1A2B3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B062B-0735-4D3C-A6D8-11CDE029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15167-919F-4E18-B8AE-1511B1C5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B5DC2-DEAC-4CFE-8661-209C6BFB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A7AF6-F088-465B-BE94-9D9B9A4D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99CD6-E50D-47F6-B330-3405593B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DD0E8-2637-4C19-B6CE-A1380B70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A659F-35E3-49DC-AE35-0CF7A26D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D8673-5F50-43E8-BE89-2CA58DD0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8C834-2C82-4C59-AF9C-DEE9B0C9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F1F48-1B40-4E0F-917C-76300CE80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36C7-7852-4193-B531-4D424108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F75F9-4C57-4093-8027-868B899EA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0CA7-B57D-4CBB-97F5-B4130E62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6E86-AE6D-4743-8BEE-3A107F38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3A94-B2F9-4129-8061-01FEF87C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0854-3B58-4CAE-937E-BC97F665FFDF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1A35-3C73-432F-B002-5B75884ED8A6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44F5-6314-40B9-9DBA-6211F0AC0D91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01DA-1144-4895-8698-201C0B70B189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57F3-CA5D-4524-A367-91C66778BC1F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3B04-10A8-4963-B871-ECF2DA9AA68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4CB4-3AEC-47C3-8DFB-0953E5732637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7E58-C65E-49D5-9E9B-7E6227F9EB6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7A84-F689-4C40-ABDE-BBAA403C352C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C9A2-34DB-4C9B-A378-C9C564A4B19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0.jpeg"/><Relationship Id="rId3" Type="http://schemas.openxmlformats.org/officeDocument/2006/relationships/image" Target="../media/image25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80520" y="3573000"/>
            <a:ext cx="84582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2e2e"/>
                </a:solidFill>
                <a:latin typeface="Cambria"/>
              </a:rPr>
              <a:t>Урок окружающего мир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2e2e"/>
                </a:solidFill>
                <a:latin typeface="Cambria"/>
              </a:rPr>
              <a:t>в 1 классе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2e2e"/>
                </a:solidFill>
                <a:latin typeface="Cambria"/>
              </a:rPr>
              <a:t>Составила учитель ГОУ кш №1780 г.Москвы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2e2e"/>
                </a:solidFill>
                <a:latin typeface="Cambria"/>
              </a:rPr>
              <a:t>Дубина Н.С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380520" y="1484280"/>
            <a:ext cx="8458200" cy="14400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2e2e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ffff00"/>
                </a:solidFill>
                <a:latin typeface="Calibri"/>
              </a:rPr>
              <a:t>Кто такие насекомые ?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                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Проверь себя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9" name="Нижний колонтитул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Номер слайда 4"/>
          <p:cNvSpPr/>
          <p:nvPr/>
        </p:nvSpPr>
        <p:spPr>
          <a:xfrm>
            <a:off x="8101080" y="6093000"/>
            <a:ext cx="744480" cy="52992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Содержимое 5" descr="оса.jpg"/>
          <p:cNvPicPr/>
          <p:nvPr/>
        </p:nvPicPr>
        <p:blipFill>
          <a:blip r:embed="rId1"/>
          <a:stretch/>
        </p:blipFill>
        <p:spPr>
          <a:xfrm>
            <a:off x="1116000" y="1341360"/>
            <a:ext cx="1973160" cy="211320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6" descr="богомол.jpg"/>
          <p:cNvPicPr/>
          <p:nvPr/>
        </p:nvPicPr>
        <p:blipFill>
          <a:blip r:embed="rId2"/>
          <a:stretch/>
        </p:blipFill>
        <p:spPr>
          <a:xfrm>
            <a:off x="755640" y="3789360"/>
            <a:ext cx="3041640" cy="228132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7" descr="овод.jpg"/>
          <p:cNvPicPr/>
          <p:nvPr/>
        </p:nvPicPr>
        <p:blipFill>
          <a:blip r:embed="rId3"/>
          <a:stretch/>
        </p:blipFill>
        <p:spPr>
          <a:xfrm>
            <a:off x="5796000" y="1197000"/>
            <a:ext cx="1528560" cy="2209680"/>
          </a:xfrm>
          <a:prstGeom prst="rect">
            <a:avLst/>
          </a:prstGeom>
          <a:ln w="0">
            <a:noFill/>
          </a:ln>
        </p:spPr>
      </p:pic>
      <p:pic>
        <p:nvPicPr>
          <p:cNvPr id="294" name="Рисунок 8" descr="палочник.jpg"/>
          <p:cNvPicPr/>
          <p:nvPr/>
        </p:nvPicPr>
        <p:blipFill>
          <a:blip r:embed="rId4"/>
          <a:stretch/>
        </p:blipFill>
        <p:spPr>
          <a:xfrm>
            <a:off x="4932360" y="3789360"/>
            <a:ext cx="343224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3330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Спасибо, друзья!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6" name="Нижний колонтитул 1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Номер слайда 11"/>
          <p:cNvSpPr/>
          <p:nvPr/>
        </p:nvSpPr>
        <p:spPr>
          <a:xfrm>
            <a:off x="8229600" y="6165720"/>
            <a:ext cx="758880" cy="55584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Содержимое 3" descr="муравей.jpg"/>
          <p:cNvPicPr/>
          <p:nvPr/>
        </p:nvPicPr>
        <p:blipFill>
          <a:blip r:embed="rId1"/>
          <a:stretch/>
        </p:blipFill>
        <p:spPr>
          <a:xfrm>
            <a:off x="401760" y="170028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299" name="Рисунок 4" descr="бабочка.png"/>
          <p:cNvPicPr/>
          <p:nvPr/>
        </p:nvPicPr>
        <p:blipFill>
          <a:blip r:embed="rId2"/>
          <a:stretch/>
        </p:blipFill>
        <p:spPr>
          <a:xfrm>
            <a:off x="5867280" y="1125360"/>
            <a:ext cx="2951280" cy="2971800"/>
          </a:xfrm>
          <a:prstGeom prst="rect">
            <a:avLst/>
          </a:prstGeom>
          <a:ln w="0">
            <a:noFill/>
          </a:ln>
        </p:spPr>
      </p:pic>
      <p:sp>
        <p:nvSpPr>
          <p:cNvPr id="300" name="Сердце 5"/>
          <p:cNvSpPr/>
          <p:nvPr/>
        </p:nvSpPr>
        <p:spPr>
          <a:xfrm>
            <a:off x="4859280" y="2205000"/>
            <a:ext cx="482760" cy="554040"/>
          </a:xfrm>
          <a:custGeom>
            <a:avLst/>
            <a:gdLst>
              <a:gd name="textAreaLeft" fmla="*/ 80280 w 482760"/>
              <a:gd name="textAreaRight" fmla="*/ 402480 w 482760"/>
              <a:gd name="textAreaTop" fmla="*/ 138240 h 554040"/>
              <a:gd name="textAreaBottom" fmla="*/ 369360 h 554040"/>
            </a:gdLst>
            <a:ahLst/>
            <a:rect l="textAreaLeft" t="textAreaTop" r="textAreaRight" b="textAreaBottom"/>
            <a:pathLst>
              <a:path w="482600" h="554037">
                <a:moveTo>
                  <a:pt x="241300" y="138509"/>
                </a:moveTo>
                <a:cubicBezTo>
                  <a:pt x="341842" y="-184679"/>
                  <a:pt x="733954" y="138509"/>
                  <a:pt x="241300" y="554037"/>
                </a:cubicBezTo>
                <a:cubicBezTo>
                  <a:pt x="-251354" y="138509"/>
                  <a:pt x="140758" y="-184679"/>
                  <a:pt x="241300" y="138509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Сердце 6"/>
          <p:cNvSpPr/>
          <p:nvPr/>
        </p:nvSpPr>
        <p:spPr>
          <a:xfrm>
            <a:off x="4284720" y="1484280"/>
            <a:ext cx="480960" cy="555480"/>
          </a:xfrm>
          <a:custGeom>
            <a:avLst/>
            <a:gdLst>
              <a:gd name="textAreaLeft" fmla="*/ 79920 w 480960"/>
              <a:gd name="textAreaRight" fmla="*/ 401040 w 480960"/>
              <a:gd name="textAreaTop" fmla="*/ 138600 h 555480"/>
              <a:gd name="textAreaBottom" fmla="*/ 370440 h 555480"/>
            </a:gdLst>
            <a:ahLst/>
            <a:rect l="textAreaLeft" t="textAreaTop" r="textAreaRight" b="textAreaBottom"/>
            <a:pathLst>
              <a:path w="481012" h="555625">
                <a:moveTo>
                  <a:pt x="240506" y="138906"/>
                </a:moveTo>
                <a:cubicBezTo>
                  <a:pt x="340717" y="-185208"/>
                  <a:pt x="731539" y="138906"/>
                  <a:pt x="240506" y="555625"/>
                </a:cubicBezTo>
                <a:cubicBezTo>
                  <a:pt x="-250527" y="138906"/>
                  <a:pt x="140295" y="-185208"/>
                  <a:pt x="240506" y="138906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Сердце 7"/>
          <p:cNvSpPr/>
          <p:nvPr/>
        </p:nvSpPr>
        <p:spPr>
          <a:xfrm>
            <a:off x="3635280" y="2637000"/>
            <a:ext cx="555840" cy="554040"/>
          </a:xfrm>
          <a:custGeom>
            <a:avLst/>
            <a:gdLst>
              <a:gd name="textAreaLeft" fmla="*/ 92520 w 555840"/>
              <a:gd name="textAreaRight" fmla="*/ 463320 w 555840"/>
              <a:gd name="textAreaTop" fmla="*/ 138240 h 554040"/>
              <a:gd name="textAreaBottom" fmla="*/ 369360 h 554040"/>
            </a:gdLst>
            <a:ahLst/>
            <a:rect l="textAreaLeft" t="textAreaTop" r="textAreaRight" b="textAreaBottom"/>
            <a:pathLst>
              <a:path w="555625" h="554037">
                <a:moveTo>
                  <a:pt x="277813" y="138509"/>
                </a:moveTo>
                <a:cubicBezTo>
                  <a:pt x="393568" y="-184679"/>
                  <a:pt x="845013" y="138509"/>
                  <a:pt x="277813" y="554037"/>
                </a:cubicBezTo>
                <a:cubicBezTo>
                  <a:pt x="-289388" y="138509"/>
                  <a:pt x="162057" y="-184679"/>
                  <a:pt x="277813" y="138509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Сердце 8"/>
          <p:cNvSpPr/>
          <p:nvPr/>
        </p:nvSpPr>
        <p:spPr>
          <a:xfrm>
            <a:off x="3203640" y="1916280"/>
            <a:ext cx="482400" cy="482400"/>
          </a:xfrm>
          <a:custGeom>
            <a:avLst/>
            <a:gdLst>
              <a:gd name="textAreaLeft" fmla="*/ 80280 w 482400"/>
              <a:gd name="textAreaRight" fmla="*/ 402120 w 482400"/>
              <a:gd name="textAreaTop" fmla="*/ 120600 h 482400"/>
              <a:gd name="textAreaBottom" fmla="*/ 321480 h 482400"/>
            </a:gdLst>
            <a:ahLst/>
            <a:rect l="textAreaLeft" t="textAreaTop" r="textAreaRight" b="textAreaBottom"/>
            <a:pathLst>
              <a:path w="482600" h="482600">
                <a:moveTo>
                  <a:pt x="241300" y="120650"/>
                </a:moveTo>
                <a:cubicBezTo>
                  <a:pt x="341842" y="-160867"/>
                  <a:pt x="733954" y="120650"/>
                  <a:pt x="241300" y="482600"/>
                </a:cubicBezTo>
                <a:cubicBezTo>
                  <a:pt x="-251354" y="120650"/>
                  <a:pt x="140758" y="-160867"/>
                  <a:pt x="241300" y="12065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Сердце 9"/>
          <p:cNvSpPr/>
          <p:nvPr/>
        </p:nvSpPr>
        <p:spPr>
          <a:xfrm>
            <a:off x="5364000" y="1341360"/>
            <a:ext cx="482760" cy="554040"/>
          </a:xfrm>
          <a:custGeom>
            <a:avLst/>
            <a:gdLst>
              <a:gd name="textAreaLeft" fmla="*/ 80280 w 482760"/>
              <a:gd name="textAreaRight" fmla="*/ 402480 w 482760"/>
              <a:gd name="textAreaTop" fmla="*/ 138240 h 554040"/>
              <a:gd name="textAreaBottom" fmla="*/ 369360 h 554040"/>
            </a:gdLst>
            <a:ahLst/>
            <a:rect l="textAreaLeft" t="textAreaTop" r="textAreaRight" b="textAreaBottom"/>
            <a:pathLst>
              <a:path w="482600" h="554037">
                <a:moveTo>
                  <a:pt x="241300" y="138509"/>
                </a:moveTo>
                <a:cubicBezTo>
                  <a:pt x="341842" y="-184679"/>
                  <a:pt x="733954" y="138509"/>
                  <a:pt x="241300" y="554037"/>
                </a:cubicBezTo>
                <a:cubicBezTo>
                  <a:pt x="-251354" y="138509"/>
                  <a:pt x="140758" y="-184679"/>
                  <a:pt x="241300" y="138509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песня муравья для презентации.wma" descr=""/>
          <p:cNvPicPr/>
          <p:nvPr/>
        </p:nvPicPr>
        <p:blipFill>
          <a:blip r:embed="rId3"/>
          <a:stretch/>
        </p:blipFill>
        <p:spPr>
          <a:xfrm>
            <a:off x="324000" y="5732640"/>
            <a:ext cx="69984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035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де лиственное дерево, а где хвойное 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Нижний колонтитул 1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Номер слайда 10"/>
          <p:cNvSpPr/>
          <p:nvPr/>
        </p:nvSpPr>
        <p:spPr>
          <a:xfrm>
            <a:off x="8229600" y="6308640"/>
            <a:ext cx="762120" cy="41292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Содержимое 8" descr="ель.jpg"/>
          <p:cNvPicPr/>
          <p:nvPr/>
        </p:nvPicPr>
        <p:blipFill>
          <a:blip r:embed="rId1"/>
          <a:stretch/>
        </p:blipFill>
        <p:spPr>
          <a:xfrm>
            <a:off x="755640" y="1603440"/>
            <a:ext cx="3432240" cy="4664160"/>
          </a:xfrm>
          <a:prstGeom prst="rect">
            <a:avLst/>
          </a:prstGeom>
          <a:ln w="0">
            <a:noFill/>
          </a:ln>
        </p:spPr>
      </p:pic>
      <p:pic>
        <p:nvPicPr>
          <p:cNvPr id="234" name="Содержимое 9" descr="клён.jpg"/>
          <p:cNvPicPr/>
          <p:nvPr/>
        </p:nvPicPr>
        <p:blipFill>
          <a:blip r:embed="rId2"/>
          <a:stretch/>
        </p:blipFill>
        <p:spPr>
          <a:xfrm>
            <a:off x="5094360" y="14479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6" descr="муравей 2.jpg"/>
          <p:cNvPicPr/>
          <p:nvPr/>
        </p:nvPicPr>
        <p:blipFill>
          <a:blip r:embed="rId3"/>
          <a:stretch/>
        </p:blipFill>
        <p:spPr>
          <a:xfrm>
            <a:off x="7667640" y="5516640"/>
            <a:ext cx="83340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1125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96464"/>
                </a:solidFill>
                <a:latin typeface="Calibri"/>
              </a:rPr>
              <a:t>            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зови одним словом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7" name="Нижний колонтитул 1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Номер слайда 12"/>
          <p:cNvSpPr/>
          <p:nvPr/>
        </p:nvSpPr>
        <p:spPr>
          <a:xfrm>
            <a:off x="8229600" y="6308640"/>
            <a:ext cx="758880" cy="41292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Содержимое 3" descr="бабочка фото.jpg"/>
          <p:cNvPicPr/>
          <p:nvPr/>
        </p:nvPicPr>
        <p:blipFill>
          <a:blip r:embed="rId1"/>
          <a:stretch/>
        </p:blipFill>
        <p:spPr>
          <a:xfrm>
            <a:off x="324000" y="1268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4" descr="божья коровка.jpg"/>
          <p:cNvPicPr/>
          <p:nvPr/>
        </p:nvPicPr>
        <p:blipFill>
          <a:blip r:embed="rId2"/>
          <a:stretch/>
        </p:blipFill>
        <p:spPr>
          <a:xfrm>
            <a:off x="6732720" y="4797360"/>
            <a:ext cx="1699920" cy="170028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5" descr="комар.jpg"/>
          <p:cNvPicPr/>
          <p:nvPr/>
        </p:nvPicPr>
        <p:blipFill>
          <a:blip r:embed="rId3"/>
          <a:stretch/>
        </p:blipFill>
        <p:spPr>
          <a:xfrm>
            <a:off x="324000" y="4941720"/>
            <a:ext cx="2087280" cy="156528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6" descr="майский жук.jpg"/>
          <p:cNvPicPr/>
          <p:nvPr/>
        </p:nvPicPr>
        <p:blipFill>
          <a:blip r:embed="rId4"/>
          <a:stretch/>
        </p:blipFill>
        <p:spPr>
          <a:xfrm>
            <a:off x="3564000" y="4292640"/>
            <a:ext cx="2060640" cy="206064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7" descr="муравей 2.jpg"/>
          <p:cNvPicPr/>
          <p:nvPr/>
        </p:nvPicPr>
        <p:blipFill>
          <a:blip r:embed="rId5"/>
          <a:stretch/>
        </p:blipFill>
        <p:spPr>
          <a:xfrm>
            <a:off x="3419640" y="2060640"/>
            <a:ext cx="2376360" cy="176508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8" descr="муха.bmp"/>
          <p:cNvPicPr/>
          <p:nvPr/>
        </p:nvPicPr>
        <p:blipFill>
          <a:blip r:embed="rId6"/>
          <a:stretch/>
        </p:blipFill>
        <p:spPr>
          <a:xfrm>
            <a:off x="6588000" y="1268280"/>
            <a:ext cx="2289240" cy="172908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9" descr="пчела.jpg"/>
          <p:cNvPicPr/>
          <p:nvPr/>
        </p:nvPicPr>
        <p:blipFill>
          <a:blip r:embed="rId7"/>
          <a:stretch/>
        </p:blipFill>
        <p:spPr>
          <a:xfrm>
            <a:off x="324000" y="3141720"/>
            <a:ext cx="2232000" cy="167328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10" descr="стрекоза.jpg"/>
          <p:cNvPicPr/>
          <p:nvPr/>
        </p:nvPicPr>
        <p:blipFill>
          <a:blip r:embed="rId8"/>
          <a:stretch/>
        </p:blipFill>
        <p:spPr>
          <a:xfrm>
            <a:off x="6588000" y="3068640"/>
            <a:ext cx="230976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1916280"/>
            <a:ext cx="8686800" cy="2233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ru-RU" sz="10000" spc="-1" strike="noStrike">
                <a:solidFill>
                  <a:srgbClr val="ff0000"/>
                </a:solidFill>
                <a:latin typeface="Calibri"/>
              </a:rPr>
              <a:t>Н</a:t>
            </a:r>
            <a:r>
              <a:rPr b="1" lang="ru-RU" sz="10000" spc="-1" strike="noStrike">
                <a:solidFill>
                  <a:srgbClr val="00b050"/>
                </a:solidFill>
                <a:latin typeface="Calibri"/>
              </a:rPr>
              <a:t>А</a:t>
            </a:r>
            <a:r>
              <a:rPr b="1" lang="ru-RU" sz="10000" spc="-1" strike="noStrike">
                <a:solidFill>
                  <a:srgbClr val="ffc000"/>
                </a:solidFill>
                <a:latin typeface="Calibri"/>
              </a:rPr>
              <a:t>С</a:t>
            </a:r>
            <a:r>
              <a:rPr b="1" lang="ru-RU" sz="10000" spc="-1" strike="noStrike">
                <a:solidFill>
                  <a:srgbClr val="0070c0"/>
                </a:solidFill>
                <a:latin typeface="Calibri"/>
              </a:rPr>
              <a:t>Е</a:t>
            </a:r>
            <a:r>
              <a:rPr b="1" lang="ru-RU" sz="10000" spc="-1" strike="noStrike">
                <a:solidFill>
                  <a:srgbClr val="644646"/>
                </a:solidFill>
                <a:latin typeface="Calibri"/>
              </a:rPr>
              <a:t>К</a:t>
            </a:r>
            <a:r>
              <a:rPr b="1" lang="ru-RU" sz="10000" spc="-1" strike="noStrike">
                <a:solidFill>
                  <a:srgbClr val="c00000"/>
                </a:solidFill>
                <a:latin typeface="Calibri"/>
              </a:rPr>
              <a:t>О</a:t>
            </a:r>
            <a:r>
              <a:rPr b="1" lang="ru-RU" sz="10000" spc="-1" strike="noStrike">
                <a:solidFill>
                  <a:srgbClr val="92d050"/>
                </a:solidFill>
                <a:latin typeface="Calibri"/>
              </a:rPr>
              <a:t>М</a:t>
            </a:r>
            <a:r>
              <a:rPr b="1" lang="ru-RU" sz="10000" spc="-1" strike="noStrike">
                <a:solidFill>
                  <a:srgbClr val="ffff00"/>
                </a:solidFill>
                <a:latin typeface="Calibri"/>
              </a:rPr>
              <a:t>Ы</a:t>
            </a:r>
            <a:r>
              <a:rPr b="1" lang="ru-RU" sz="10000" spc="-1" strike="noStrike">
                <a:solidFill>
                  <a:srgbClr val="7030a0"/>
                </a:solidFill>
                <a:latin typeface="Calibri"/>
              </a:rPr>
              <a:t>Е</a:t>
            </a:r>
            <a:endParaRPr b="0" lang="en-US" sz="10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8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8229600" y="6308640"/>
            <a:ext cx="762120" cy="41292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2204640"/>
            <a:ext cx="81471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Ты – насекомое !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mbria"/>
              </a:rPr>
              <a:t>                                    </a:t>
            </a:r>
            <a:r>
              <a:rPr b="1" lang="ru-RU" sz="3600" spc="-1" strike="noStrike">
                <a:solidFill>
                  <a:srgbClr val="00b050"/>
                </a:solidFill>
                <a:latin typeface="Cambria"/>
              </a:rPr>
              <a:t>Кто такие насекомые ?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Нижний колонтитул 9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Номер слайда 8"/>
          <p:cNvSpPr/>
          <p:nvPr/>
        </p:nvSpPr>
        <p:spPr>
          <a:xfrm>
            <a:off x="8229600" y="6165720"/>
            <a:ext cx="762120" cy="55584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Содержимое 6" descr="муравей.jpg"/>
          <p:cNvPicPr/>
          <p:nvPr/>
        </p:nvPicPr>
        <p:blipFill>
          <a:blip r:embed="rId1"/>
          <a:stretch/>
        </p:blipFill>
        <p:spPr>
          <a:xfrm>
            <a:off x="4284720" y="83664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        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6" name="Нижний колонтитул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Номер слайда 4"/>
          <p:cNvSpPr/>
          <p:nvPr/>
        </p:nvSpPr>
        <p:spPr>
          <a:xfrm>
            <a:off x="8229600" y="6308640"/>
            <a:ext cx="758880" cy="41292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Cambria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Cambria"/>
              </a:rPr>
              <a:t>Тема</a:t>
            </a:r>
            <a:r>
              <a:rPr b="0" lang="ru-RU" sz="3600" spc="-1" strike="noStrike">
                <a:solidFill>
                  <a:srgbClr val="ff0000"/>
                </a:solidFill>
                <a:latin typeface="Cambria"/>
              </a:rPr>
              <a:t>: </a:t>
            </a:r>
            <a:r>
              <a:rPr b="1" lang="ru-RU" sz="4100" spc="-1" strike="noStrike">
                <a:solidFill>
                  <a:srgbClr val="000000"/>
                </a:solidFill>
                <a:latin typeface="Cambria"/>
              </a:rPr>
              <a:t>Кто такие насекомые ?</a:t>
            </a:r>
            <a:endParaRPr b="0" lang="en-US" sz="41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Cambria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Cambria"/>
              </a:rPr>
              <a:t>Цели</a:t>
            </a:r>
            <a:r>
              <a:rPr b="0" lang="ru-RU" sz="3600" spc="-1" strike="noStrike">
                <a:solidFill>
                  <a:srgbClr val="ff0000"/>
                </a:solidFill>
                <a:latin typeface="Cambria"/>
              </a:rPr>
              <a:t>: </a:t>
            </a: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- узнать признаки насекомых;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                 </a:t>
            </a: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-  какие бывают насекомые;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                 </a:t>
            </a: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- учиться узнавать насекомых;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                 </a:t>
            </a: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- узнать строение тела    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                    </a:t>
            </a: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насекомого.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11001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              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лько  ?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Нижний колонтитул 1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Номер слайда 14"/>
          <p:cNvSpPr/>
          <p:nvPr/>
        </p:nvSpPr>
        <p:spPr>
          <a:xfrm>
            <a:off x="8229600" y="6237360"/>
            <a:ext cx="758880" cy="484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Содержимое 3" descr="бабочка.png"/>
          <p:cNvPicPr/>
          <p:nvPr/>
        </p:nvPicPr>
        <p:blipFill>
          <a:blip r:embed="rId1"/>
          <a:stretch/>
        </p:blipFill>
        <p:spPr>
          <a:xfrm>
            <a:off x="6012000" y="1197000"/>
            <a:ext cx="2765160" cy="278604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4" descr="муравей.jpg"/>
          <p:cNvPicPr/>
          <p:nvPr/>
        </p:nvPicPr>
        <p:blipFill>
          <a:blip r:embed="rId2"/>
          <a:stretch/>
        </p:blipFill>
        <p:spPr>
          <a:xfrm>
            <a:off x="3348000" y="371628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5" descr="туфли.jpg"/>
          <p:cNvPicPr/>
          <p:nvPr/>
        </p:nvPicPr>
        <p:blipFill>
          <a:blip r:embed="rId3"/>
          <a:stretch/>
        </p:blipFill>
        <p:spPr>
          <a:xfrm>
            <a:off x="611280" y="2421000"/>
            <a:ext cx="2305080" cy="3351240"/>
          </a:xfrm>
          <a:prstGeom prst="rect">
            <a:avLst/>
          </a:prstGeom>
          <a:ln w="0">
            <a:noFill/>
          </a:ln>
        </p:spPr>
      </p:pic>
      <p:sp>
        <p:nvSpPr>
          <p:cNvPr id="265" name="Стрелка вверх 10"/>
          <p:cNvSpPr/>
          <p:nvPr/>
        </p:nvSpPr>
        <p:spPr>
          <a:xfrm>
            <a:off x="6804000" y="4581360"/>
            <a:ext cx="504720" cy="1049400"/>
          </a:xfrm>
          <a:prstGeom prst="upArrow">
            <a:avLst>
              <a:gd name="adj1" fmla="val 50000"/>
              <a:gd name="adj2" fmla="val 50016"/>
            </a:avLst>
          </a:prstGeom>
          <a:solidFill>
            <a:srgbClr val="00b0f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Стрелка вправо 11"/>
          <p:cNvSpPr/>
          <p:nvPr/>
        </p:nvSpPr>
        <p:spPr>
          <a:xfrm>
            <a:off x="3924360" y="278136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b0f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981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йдите общий признак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8" name="Нижний колонтитул 18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омер слайда 17"/>
          <p:cNvSpPr/>
          <p:nvPr/>
        </p:nvSpPr>
        <p:spPr>
          <a:xfrm>
            <a:off x="8229600" y="6308640"/>
            <a:ext cx="758880" cy="41292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Содержимое 12" descr="бабочка на листике.jpg"/>
          <p:cNvPicPr/>
          <p:nvPr/>
        </p:nvPicPr>
        <p:blipFill>
          <a:blip r:embed="rId1"/>
          <a:stretch/>
        </p:blipFill>
        <p:spPr>
          <a:xfrm>
            <a:off x="684360" y="9810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4" descr="божья коровка.jpg"/>
          <p:cNvPicPr/>
          <p:nvPr/>
        </p:nvPicPr>
        <p:blipFill>
          <a:blip r:embed="rId2"/>
          <a:stretch/>
        </p:blipFill>
        <p:spPr>
          <a:xfrm>
            <a:off x="1042920" y="4797360"/>
            <a:ext cx="1701720" cy="170028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5" descr="комар.jpg"/>
          <p:cNvPicPr/>
          <p:nvPr/>
        </p:nvPicPr>
        <p:blipFill>
          <a:blip r:embed="rId3"/>
          <a:stretch/>
        </p:blipFill>
        <p:spPr>
          <a:xfrm>
            <a:off x="6084720" y="2924280"/>
            <a:ext cx="2303640" cy="173016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6" descr="майский жук.jpg"/>
          <p:cNvPicPr/>
          <p:nvPr/>
        </p:nvPicPr>
        <p:blipFill>
          <a:blip r:embed="rId4"/>
          <a:stretch/>
        </p:blipFill>
        <p:spPr>
          <a:xfrm>
            <a:off x="6372360" y="4797360"/>
            <a:ext cx="1701720" cy="170028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7" descr="муравей 2.jpg"/>
          <p:cNvPicPr/>
          <p:nvPr/>
        </p:nvPicPr>
        <p:blipFill>
          <a:blip r:embed="rId5"/>
          <a:stretch/>
        </p:blipFill>
        <p:spPr>
          <a:xfrm>
            <a:off x="611280" y="2852640"/>
            <a:ext cx="2376360" cy="176688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13" descr="муха 2.jpg"/>
          <p:cNvPicPr/>
          <p:nvPr/>
        </p:nvPicPr>
        <p:blipFill>
          <a:blip r:embed="rId6"/>
          <a:stretch/>
        </p:blipFill>
        <p:spPr>
          <a:xfrm>
            <a:off x="6084720" y="1015920"/>
            <a:ext cx="2360880" cy="177156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14" descr="стрекоза 2.jpg"/>
          <p:cNvPicPr/>
          <p:nvPr/>
        </p:nvPicPr>
        <p:blipFill>
          <a:blip r:embed="rId7"/>
          <a:stretch/>
        </p:blipFill>
        <p:spPr>
          <a:xfrm>
            <a:off x="3132000" y="4724280"/>
            <a:ext cx="2743200" cy="171468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5" descr="оса.jpg"/>
          <p:cNvPicPr/>
          <p:nvPr/>
        </p:nvPicPr>
        <p:blipFill>
          <a:blip r:embed="rId8"/>
          <a:stretch/>
        </p:blipFill>
        <p:spPr>
          <a:xfrm>
            <a:off x="3492360" y="1916280"/>
            <a:ext cx="1970280" cy="21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6524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                                                    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гусеница                   оса                         паук                       слепень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ак                                       богомол                        палочник</a:t>
            </a: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9" name="Нижний колонтитул 12"/>
          <p:cNvSpPr/>
          <p:nvPr/>
        </p:nvSpPr>
        <p:spPr>
          <a:xfrm>
            <a:off x="1835280" y="0"/>
            <a:ext cx="5545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Найди насеком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Номер слайда 11"/>
          <p:cNvSpPr/>
          <p:nvPr/>
        </p:nvSpPr>
        <p:spPr>
          <a:xfrm>
            <a:off x="8229600" y="6381720"/>
            <a:ext cx="758880" cy="33984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Содержимое 3" descr="богомол.jpg"/>
          <p:cNvPicPr/>
          <p:nvPr/>
        </p:nvPicPr>
        <p:blipFill>
          <a:blip r:embed="rId1"/>
          <a:stretch/>
        </p:blipFill>
        <p:spPr>
          <a:xfrm>
            <a:off x="3564000" y="4005360"/>
            <a:ext cx="2206440" cy="165420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4" descr="гусеница.jpg"/>
          <p:cNvPicPr/>
          <p:nvPr/>
        </p:nvPicPr>
        <p:blipFill>
          <a:blip r:embed="rId2"/>
          <a:stretch/>
        </p:blipFill>
        <p:spPr>
          <a:xfrm>
            <a:off x="468360" y="907920"/>
            <a:ext cx="1211040" cy="166392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5" descr="овод.jpg"/>
          <p:cNvPicPr/>
          <p:nvPr/>
        </p:nvPicPr>
        <p:blipFill>
          <a:blip r:embed="rId3"/>
          <a:stretch/>
        </p:blipFill>
        <p:spPr>
          <a:xfrm>
            <a:off x="7286760" y="620640"/>
            <a:ext cx="1276200" cy="184968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6" descr="оса.jpg"/>
          <p:cNvPicPr/>
          <p:nvPr/>
        </p:nvPicPr>
        <p:blipFill>
          <a:blip r:embed="rId4"/>
          <a:stretch/>
        </p:blipFill>
        <p:spPr>
          <a:xfrm>
            <a:off x="2556000" y="981000"/>
            <a:ext cx="1466640" cy="157176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7" descr="палочник.jpg"/>
          <p:cNvPicPr/>
          <p:nvPr/>
        </p:nvPicPr>
        <p:blipFill>
          <a:blip r:embed="rId5"/>
          <a:stretch/>
        </p:blipFill>
        <p:spPr>
          <a:xfrm>
            <a:off x="6227640" y="3933720"/>
            <a:ext cx="2497320" cy="166392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8" descr="паук.jpg"/>
          <p:cNvPicPr/>
          <p:nvPr/>
        </p:nvPicPr>
        <p:blipFill>
          <a:blip r:embed="rId6"/>
          <a:stretch/>
        </p:blipFill>
        <p:spPr>
          <a:xfrm>
            <a:off x="4932360" y="692280"/>
            <a:ext cx="1461960" cy="172080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9" descr="рак.jpg"/>
          <p:cNvPicPr/>
          <p:nvPr/>
        </p:nvPicPr>
        <p:blipFill>
          <a:blip r:embed="rId7"/>
          <a:stretch/>
        </p:blipFill>
        <p:spPr>
          <a:xfrm>
            <a:off x="503280" y="3933720"/>
            <a:ext cx="248436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4:08:44Z</dcterms:created>
  <dc:creator>Наталья</dc:creator>
  <dc:description/>
  <dc:language>en-US</dc:language>
  <cp:lastModifiedBy>User</cp:lastModifiedBy>
  <dcterms:modified xsi:type="dcterms:W3CDTF">2012-01-15T14:33:12Z</dcterms:modified>
  <cp:revision>81</cp:revision>
  <dc:subject/>
  <dc:title>Кто такие насекомые ?</dc:title>
</cp:coreProperties>
</file>