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5.png" ContentType="image/png"/>
  <Override PartName="/ppt/media/image19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45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37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6.png" ContentType="image/png"/>
  <Override PartName="/ppt/media/image36.png" ContentType="image/png"/>
  <Override PartName="/ppt/media/image6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25A-91C8-4BE8-9BC1-6D34CB5B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58A-502B-44BB-9398-7EBCE6CD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A9E-FC09-454B-9DB3-F83DE9B4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CBA-ED8C-416E-A9E5-42086E62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9D34-908B-4692-AED3-6BE9C922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96E7-6013-47EE-94CA-1A9C92B9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DD7A-97D6-488D-BFCC-EC64A0AF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6765-E322-4CAB-8A5B-D2DBDC5F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87CE-6781-462E-86A6-1B40F9FE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D59B-3B3D-425F-89AA-AAC9CA35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9D48-BFB5-46FB-8E6B-E09E694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7A7-C798-4D89-ACAD-7A9FA2F4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AFE2-A4DD-495E-9C24-1C3E852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5840-5A0E-4018-9083-CF1BD0CF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66E7-7ADC-4762-9E82-8DB5C46D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70C1-CF9E-4583-893C-1CF7496B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5379-EDBB-404F-9D28-5AD82DE8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AAC-1F0A-4986-8B91-BB44620D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5FF-D993-4B1B-91E0-600279F0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631-3247-47C6-BD54-7E4C969D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8AE-1380-447B-8C49-B501B27E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D08-DFBF-4287-8B43-F8EF58B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6A2-1F70-489D-8F79-448549D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744-A6BC-4147-BC74-64D5164E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C524-CB63-4E40-B35B-8FEB84EE1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0237-D41F-475A-BFB6-EA1E22129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Broadway"/>
              </a:rPr>
              <a:t>Игорь Стравинский: мастер в творчеств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9280" y="4797360"/>
            <a:ext cx="8785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ОУ «Северодвинская городская гимназ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Учитель Каторина Т. 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15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40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Жан Кокт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19440" y="1052640"/>
            <a:ext cx="3573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Пабло Пикасс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5113080" cy="4978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2063880" cy="2664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012000" y="4365720"/>
            <a:ext cx="24476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3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3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3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Коко Шанел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627280" y="1413000"/>
            <a:ext cx="3933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3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2680" y="260280"/>
            <a:ext cx="4983120" cy="6408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35640" y="189000"/>
            <a:ext cx="3522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Stravinsky_Igor_Postcard-1910" descr=""/>
          <p:cNvPicPr/>
          <p:nvPr/>
        </p:nvPicPr>
        <p:blipFill>
          <a:blip r:embed="rId2"/>
          <a:stretch/>
        </p:blipFill>
        <p:spPr>
          <a:xfrm>
            <a:off x="247680" y="404640"/>
            <a:ext cx="310824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708360" y="1413000"/>
            <a:ext cx="4969080" cy="4495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79280" y="5950080"/>
            <a:ext cx="46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орь Страви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0360" y="260280"/>
            <a:ext cx="4086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лай Андреевич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мский-Корсаков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Модерн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(«новое искусство», «молодой стиль») – направление в искусстве популярное во второй половине Х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Х – начале ХХ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Неоклассицизм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– художественное явление, в котором присуще обращение к традициям искусства античности, искусства эпохи Возрождения или классиц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300"/>
                            </p:stCondLst>
                            <p:childTnLst>
                              <p:par>
                                <p:cTn id="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24000" y="1916280"/>
            <a:ext cx="18954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етрушка"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42920" y="6308640"/>
            <a:ext cx="20574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Жар Птица"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92720" y="6308640"/>
            <a:ext cx="2990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есна священная"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4608720" cy="3260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960720" cy="2628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500720" y="3675240"/>
            <a:ext cx="43192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93468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4846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946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7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Х. К. Андерсен: 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сказка «Соловей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72728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3456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2692440" cy="3284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689440" y="476280"/>
            <a:ext cx="3044880" cy="6192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68360" y="262080"/>
            <a:ext cx="460836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286520" cy="5352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2865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439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«Оценить меня правильно смог бы только лев.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 Если бы он съел меня, то сказал: «Старик был жестковат, но со вкусом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30840" y="476280"/>
            <a:ext cx="398628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05360" cy="312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4932360" cy="273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332000" y="1197000"/>
            <a:ext cx="4856040" cy="2228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979640" y="1700280"/>
            <a:ext cx="4824360" cy="2400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627280" y="2133720"/>
            <a:ext cx="4824360" cy="2628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276720" y="2781360"/>
            <a:ext cx="489744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3995640" y="3573360"/>
            <a:ext cx="48960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56000" y="6165720"/>
            <a:ext cx="3867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есня соловья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158760"/>
            <a:ext cx="792144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62829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7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90600" y="6021360"/>
            <a:ext cx="875340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редставлени механического соловья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55640" y="21420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4459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86440" cy="3828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4791240" cy="3828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492360" y="2060640"/>
            <a:ext cx="4734000" cy="370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791320" y="2286000"/>
            <a:ext cx="3352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Игорь Федорович Стравинский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1882 -197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2495520"/>
            <a:ext cx="87138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Сергей Дягилев и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 Игорь Стравинск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464000" cy="366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508720" y="4608360"/>
            <a:ext cx="34560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Николай Рери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508640" cy="4608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19640" y="1773360"/>
            <a:ext cx="3564000" cy="21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219640" y="4076640"/>
            <a:ext cx="3600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3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Вацлав Нижинск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3097080" cy="532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96000" y="2133720"/>
            <a:ext cx="29941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Ида Рубинштей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103640" cy="3956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43196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3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Клод Дебюсс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3992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Музыкальный импрессионизм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правление в музыке, аналогичное импрессионизму в живописи, появившееся во Франции в кон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9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ека. Характерные черты: утонченность, ясность, эмоциональная сдержанность, бесконфликт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40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3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6:38:50Z</dcterms:created>
  <dc:creator>Tanya</dc:creator>
  <dc:description/>
  <dc:language>en-US</dc:language>
  <cp:lastModifiedBy>Tanya</cp:lastModifiedBy>
  <dcterms:modified xsi:type="dcterms:W3CDTF">2011-10-30T17:12:53Z</dcterms:modified>
  <cp:revision>15</cp:revision>
  <dc:subject/>
  <dc:title>Игорь Стравинский: мастер в творчестве</dc:title>
</cp:coreProperties>
</file>