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A1B-E9DD-41DC-945A-E80D31B5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744-BD97-4E06-9427-6E6CA2F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E78-3EAC-4C8C-8990-4188C558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575-7DCB-42AF-813C-2650DB89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B852-C46F-4ADE-90C4-32681C09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9AA0-90EE-45D7-A8C1-439661F7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4C4-BB81-483F-BA79-D586FEC9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4C9D-61E0-4989-A45B-96056FD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9F0C-7452-43FE-9BA5-813D3AC3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A522-0444-4326-9362-3419CE9E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EEDB-35A4-4B9A-B9D5-13C285F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F27-6C24-4504-B39E-A7B184EC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7BB8-4E63-4606-8CB7-E95FB50B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F0A9-AE25-4FFD-AC76-8C41500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13A-548B-43BA-B072-4083104B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99D-6B85-4ABC-8E2F-E2E2FFE5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E9A0-B9D0-4DB9-B57B-E0168BF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C39-0E7F-4CD7-89F5-A65ACC7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823-523F-4B4F-8F12-F2FFFA11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A54-BEBB-4C22-9828-99A5148B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B70-B464-4451-8853-77C6149B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383-ED5B-4804-A3D0-B4FE83DB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2BE-F44A-4666-8526-E2B8C1E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BDA-60E6-418F-B5A0-B4F32F4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76EF-3F4B-4EDA-B8D7-CA92339AB4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39C0-8F07-4ED8-9266-481BA91F38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16.privet.ru/lr/0b04b7f77d2df9e6513de2c3cad2a50b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ou1512.edusite.ru/images/kolokol34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06/mistina.6/0_1bb95_d00cfb69_X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596880"/>
            <a:ext cx="8469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8000"/>
                </a:solidFill>
                <a:latin typeface="Verdana"/>
              </a:rPr>
              <a:t>УРОК МАТЕМАТИКИ </a:t>
            </a:r>
            <a:br>
              <a:rPr sz="5200"/>
            </a:br>
            <a:r>
              <a:rPr b="1" lang="en-US" sz="5200" spc="-1" strike="noStrike">
                <a:solidFill>
                  <a:srgbClr val="008000"/>
                </a:solidFill>
                <a:latin typeface="Verdana"/>
              </a:rPr>
              <a:t>во 2 классе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97000" y="3789000"/>
            <a:ext cx="58957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ема: Прямая. Луч.        Отрезок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8801280" y="560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-4532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Картинка 54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76280"/>
            <a:ext cx="5076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258560" y="4508640"/>
            <a:ext cx="144360" cy="504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5229360"/>
            <a:ext cx="0" cy="504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27280" y="4508640"/>
            <a:ext cx="73080" cy="57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5445000"/>
            <a:ext cx="216000" cy="432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68000" y="5445000"/>
            <a:ext cx="142920" cy="360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3933720"/>
            <a:ext cx="360360" cy="432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5157720"/>
            <a:ext cx="1008000" cy="719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0000" y="3500280"/>
            <a:ext cx="863640" cy="360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1989000"/>
            <a:ext cx="1224000" cy="287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1944720" cy="936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59280" y="836640"/>
            <a:ext cx="108108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51640" y="1268280"/>
            <a:ext cx="86544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51640" y="3645000"/>
            <a:ext cx="649440" cy="215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1557360"/>
            <a:ext cx="432000" cy="142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2852640"/>
            <a:ext cx="289080" cy="7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80360" y="4581360"/>
            <a:ext cx="57636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28000" y="2708280"/>
            <a:ext cx="43164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933720"/>
            <a:ext cx="36036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437000"/>
            <a:ext cx="144360" cy="7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5445000"/>
            <a:ext cx="144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5229360"/>
            <a:ext cx="216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6000" y="4508640"/>
            <a:ext cx="1443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492360" y="5373360"/>
            <a:ext cx="216000" cy="142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08000" y="3860640"/>
            <a:ext cx="142920" cy="7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284360" y="5084640"/>
            <a:ext cx="142920" cy="144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796000" y="4797360"/>
            <a:ext cx="7128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858920" y="3860640"/>
            <a:ext cx="144360" cy="144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308360" y="4437000"/>
            <a:ext cx="142920" cy="287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579640" y="3429000"/>
            <a:ext cx="7164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451280" y="3573360"/>
            <a:ext cx="73080" cy="142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156360" y="2708280"/>
            <a:ext cx="71280" cy="289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956360" y="2565360"/>
            <a:ext cx="14436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08720" y="1916280"/>
            <a:ext cx="7128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788000" y="692280"/>
            <a:ext cx="71280" cy="215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587640" y="1484280"/>
            <a:ext cx="7164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451280" y="1125360"/>
            <a:ext cx="7308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5445000"/>
            <a:ext cx="716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00360" y="5661000"/>
            <a:ext cx="71280" cy="504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5661000"/>
            <a:ext cx="1443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88000" y="476280"/>
            <a:ext cx="79236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84720" y="5877000"/>
            <a:ext cx="35892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5373720"/>
            <a:ext cx="360360" cy="142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64360" y="2708280"/>
            <a:ext cx="57636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4000" y="4292640"/>
            <a:ext cx="28728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15640" y="5950080"/>
            <a:ext cx="142920" cy="3585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16720" y="404640"/>
            <a:ext cx="71280" cy="144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092720" y="2565360"/>
            <a:ext cx="142920" cy="287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4221000"/>
            <a:ext cx="73080" cy="7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172000" y="5300640"/>
            <a:ext cx="71640" cy="144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1640" y="5734080"/>
            <a:ext cx="144360" cy="216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5877000"/>
            <a:ext cx="216000" cy="7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-381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587640" y="907920"/>
            <a:ext cx="180036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634920" y="2997360"/>
            <a:ext cx="230508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042920" y="5300640"/>
            <a:ext cx="187344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2349360"/>
            <a:ext cx="1429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5229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67160" y="40053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9410600">
            <a:off x="737280" y="5805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9530600">
            <a:off x="2129040" y="49842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9208400">
            <a:off x="5976000" y="1829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9262400">
            <a:off x="7463520" y="68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1484280"/>
            <a:ext cx="144000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331640" y="134136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71640" y="1773360"/>
            <a:ext cx="144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3068640"/>
            <a:ext cx="1295280" cy="26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2852640"/>
            <a:ext cx="2951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71640" y="270828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5589720"/>
            <a:ext cx="432000" cy="431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80000" y="620640"/>
            <a:ext cx="720720" cy="72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4360" y="3933720"/>
            <a:ext cx="647640" cy="57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8560" y="2792520"/>
            <a:ext cx="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22000" y="9050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76680" y="12794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6200" y="23590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87840" y="494172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623736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8064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116000" y="531648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Verdana"/>
              </a:rPr>
              <a:t>МОЛОДЦЫ</a:t>
            </a:r>
            <a:r>
              <a:rPr b="0" lang="en-US" sz="8000" spc="-1" strike="noStrike">
                <a:solidFill>
                  <a:srgbClr val="ff0000"/>
                </a:solidFill>
                <a:latin typeface="Verdana"/>
              </a:rPr>
              <a:t>!</a:t>
            </a:r>
            <a:r>
              <a:rPr b="0" lang="en-US" sz="8000" spc="-1" strike="noStrike">
                <a:solidFill>
                  <a:srgbClr val="008000"/>
                </a:solidFill>
                <a:latin typeface="Verdana"/>
              </a:rPr>
              <a:t>!</a:t>
            </a:r>
            <a:r>
              <a:rPr b="0" lang="en-US" sz="8000" spc="-1" strike="noStrike">
                <a:solidFill>
                  <a:srgbClr val="0000ff"/>
                </a:solidFill>
                <a:latin typeface="Verdana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11280" y="333360"/>
            <a:ext cx="784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7290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0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Вывод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: Через одну точку можно провести сколько угодно ли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3851280" y="3284640"/>
            <a:ext cx="1008000" cy="86508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95280" y="1773360"/>
            <a:ext cx="410508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27640" y="1484280"/>
            <a:ext cx="73080" cy="48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341360"/>
            <a:ext cx="417528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8000" y="3068640"/>
            <a:ext cx="5977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55280" y="2924280"/>
            <a:ext cx="626436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2276640"/>
            <a:ext cx="684072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132000" y="1341360"/>
            <a:ext cx="244800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413000"/>
            <a:ext cx="2232000" cy="49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4000" y="103320"/>
            <a:ext cx="8362800" cy="10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Вывод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: 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Через две точки можно провести только одну линию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844640"/>
            <a:ext cx="813780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1773360"/>
            <a:ext cx="914400" cy="863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67640" y="5516640"/>
            <a:ext cx="936720" cy="79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Verdana"/>
              </a:rPr>
              <a:t>А теперь повтори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50752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05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11280" y="2997360"/>
            <a:ext cx="352908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4437000"/>
            <a:ext cx="0" cy="14436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4508640"/>
            <a:ext cx="338436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5805360"/>
            <a:ext cx="0" cy="14472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5877000"/>
            <a:ext cx="34560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5805360"/>
            <a:ext cx="0" cy="14472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14120" y="2597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83400" y="4037040"/>
            <a:ext cx="9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Л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08720" y="54770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ОТРЕ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103320"/>
            <a:ext cx="788508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ЧТО ВЫ УЗНАЛИ О КАЖДОЙ ИЗ ЭТИХ ФИГУР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395280" y="1989000"/>
            <a:ext cx="830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Verdana"/>
              </a:rPr>
              <a:t>ПРЯМАЯ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3399ff"/>
                </a:solidFill>
                <a:latin typeface="Verdana"/>
              </a:rPr>
              <a:t>НЕ ИМЕЕТ НИ НАЧАЛА,  НИ КОНЦА, МЫ МОЖЕМ НАЧЕРТИТЬ ТОЛЬКО ЧАСТЬ ПРЯМОЙ, ТАК КАК ЕЁ МОЖНО ПРОДОЛЖИТЬ, ПРЯМУЮ ПРИНЯТО ОБОЗНАЧАТЬ ОДНОЙ ИЛИ ДВУМЯ БУК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7840" y="4164120"/>
            <a:ext cx="81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ЛУЧ</a:t>
            </a: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ИМЕЕТ НАЧАЛО, НО НЕ ИМЕЕТ КОНЦА, ЕГО МОЖНО ПРОДОЛЖИТЬ ТОЛЬКО В ОДНУ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9120" y="5445000"/>
            <a:ext cx="81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ОТРЕЗОК</a:t>
            </a: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ИМЕЕТ НАЧАЛО И КОНЕЦ, ЕГО НЕЛЬЗЯ ПРОДОЛ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013400">
            <a:off x="7953120" y="925200"/>
            <a:ext cx="777600" cy="720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 rot="1382400">
            <a:off x="8170920" y="406440"/>
            <a:ext cx="83016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Verdana"/>
              </a:rPr>
              <a:t>НУ ВОТ И ВСЕ. МОЛОДЦЫ!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40000" cy="1728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771640" y="3789360"/>
            <a:ext cx="3592800" cy="25970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42560" y="2781000"/>
            <a:ext cx="7201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416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ff"/>
                </a:solidFill>
                <a:latin typeface="Verdana"/>
              </a:rPr>
              <a:t>ДОЛГОЖДАННЫЙ ДАН ЗВОНОК, НАЧИНАЕТСЯ УРОК</a:t>
            </a:r>
            <a:r>
              <a:rPr b="0" lang="en-US" sz="5400" spc="-1" strike="noStrike">
                <a:solidFill>
                  <a:srgbClr val="3333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Картинка 6 из 27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08280"/>
            <a:ext cx="5832360" cy="414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Bernard MT Condensed"/>
              </a:rPr>
              <a:t>Расшифруйте слово, расположив результаты действий в порядке возрастания. Прочитав это слово, вы поймете в чье королевство мы сегодня отправим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4581360"/>
          <a:ext cx="8147160" cy="2132280"/>
        </p:xfrm>
        <a:graphic>
          <a:graphicData uri="http://schemas.openxmlformats.org/drawingml/2006/table">
            <a:tbl>
              <a:tblPr/>
              <a:tblGrid>
                <a:gridCol w="1630440"/>
                <a:gridCol w="1627200"/>
                <a:gridCol w="1631880"/>
                <a:gridCol w="1627200"/>
                <a:gridCol w="163044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79280" y="1773360"/>
            <a:ext cx="2089080" cy="1150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96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1773360"/>
            <a:ext cx="216036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00 - 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1773360"/>
            <a:ext cx="2232000" cy="107928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4 - 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3213000"/>
            <a:ext cx="2303640" cy="1224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4 + 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3213000"/>
            <a:ext cx="2303280" cy="1224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18 + 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440000" cy="1224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6836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1428840" cy="115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21964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 flipH="1" rot="21559200">
            <a:off x="7162560" y="3067560"/>
            <a:ext cx="1582560" cy="121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85080" y="35733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4"/>
          <a:stretch/>
        </p:blipFill>
        <p:spPr>
          <a:xfrm>
            <a:off x="3348000" y="3068640"/>
            <a:ext cx="1511280" cy="1225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635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5"/>
          <a:stretch/>
        </p:blipFill>
        <p:spPr>
          <a:xfrm flipH="1" rot="9600">
            <a:off x="7876800" y="1626120"/>
            <a:ext cx="1257480" cy="1220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440560" y="1989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0116E-006 L 0.38594 0.56138 E">
                                      <p:cBhvr>
                                        <p:cTn id="1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67052E-007 L 0.39375 0.56439 E">
                                      <p:cBhvr>
                                        <p:cTn id="1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93642E-007 L -0.29079 0.56647 E">
                                      <p:cBhvr>
                                        <p:cTn id="1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L -0.29131 0.56439 E">
                                      <p:cBhvr>
                                        <p:cTn id="2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46821E-007 L -0.80035 0.58266 E">
                                      <p:cBhvr>
                                        <p:cTn id="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965E-006 L -0.79878 0.58543 E">
                                      <p:cBhvr>
                                        <p:cTn id="2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0.41355 0.36185 E">
                                      <p:cBhvr>
                                        <p:cTn id="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13873E-006 L 0.42535 0.39653 E">
                                      <p:cBhvr>
                                        <p:cTn id="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4335E-006 L -0.36979 0.36231 E">
                                      <p:cBhvr>
                                        <p:cTn id="3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457E-006 L -0.38819 0.35468 E">
                                      <p:cBhvr>
                                        <p:cTn id="3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2057400"/>
            <a:ext cx="43210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32000" y="6093000"/>
            <a:ext cx="403200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Картинка 19 из 89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3141720"/>
            <a:ext cx="496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Verdana"/>
              </a:rPr>
              <a:t>Королева точка – хозяйка страны Геометрии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240000" cy="1692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51200" y="3429000"/>
            <a:ext cx="3592440" cy="25970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99"/>
              </a:gs>
              <a:gs pos="100000">
                <a:srgbClr val="ff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1413000"/>
            <a:ext cx="9144000" cy="49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0450400">
            <a:off x="3132000" y="2491920"/>
            <a:ext cx="1584360" cy="14414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autoRev="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47 -0.35653 L -0.51198 0.53086 E">
                                      <p:cBhvr>
                                        <p:cTn id="70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autoRev="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083 -0.28717 L -0.5316 0.53086 E">
                                      <p:cBhvr>
                                        <p:cTn id="73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Verdana"/>
              </a:rPr>
              <a:t>БЕЗ КОНЦА И КРАЯ,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Verdana"/>
              </a:rPr>
              <a:t>ЛИНИЯ  ПРЯМАЯ.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Verdana"/>
              </a:rPr>
              <a:t>ХОТЬ СТО ЛЕТ ПО НЕЙ ИДТИ,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Verdana"/>
              </a:rPr>
              <a:t>НЕ НАЙТИ КОНЦА ПУТИ!!!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Verdana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63480" y="8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7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42800" y="-237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56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04000" y="1197000"/>
            <a:ext cx="1441440" cy="136836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932000" y="1844640"/>
            <a:ext cx="3600360" cy="410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1 -0.08023 C 0.33421 -0.0585 0.54948 -0.03676 0.55035 -0.01549 C 0.55122 0.00601 0.1283 0.01017 0.12414 0.04786 C 0.12014 0.08532 0.54757 0.18312 0.52553 0.2104 C 0.50348 0.23792 0.08073 0.21225 -0.00815 0.21248 E">
                                      <p:cBhvr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-165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516720" y="1844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360" y="3357720"/>
            <a:ext cx="244764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10920" y="4941720"/>
            <a:ext cx="20890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278136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3284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4508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27280" y="4869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492280"/>
            <a:ext cx="1368360" cy="129708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16720" y="1844640"/>
            <a:ext cx="2016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7 L -0.23628 0.14682 E">
                                      <p:cBhvr>
                                        <p:cTn id="10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9 0.14682 L 0.00798 -4.62428E-007 E">
                                      <p:cBhvr>
                                        <p:cTn id="10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-0.23629 0.14682 E">
                                      <p:cBhvr>
                                        <p:cTn id="10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4.16667E-006 3.69942E-006 E">
                                      <p:cBhvr>
                                        <p:cTn id="11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69942E-006 L -0.22049 0.13618 E">
                                      <p:cBhvr>
                                        <p:cTn id="11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4682 L -0.00781 0.01064 E">
                                      <p:cBhvr>
                                        <p:cTn id="11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9:07:20Z</dcterms:created>
  <dc:creator>d</dc:creator>
  <dc:description/>
  <dc:language>en-US</dc:language>
  <cp:lastModifiedBy>надежда</cp:lastModifiedBy>
  <dcterms:modified xsi:type="dcterms:W3CDTF">2012-01-02T17:05:02Z</dcterms:modified>
  <cp:revision>36</cp:revision>
  <dc:subject/>
  <dc:title>УРОК МАТЕМАТИКИ  во 2 классе</dc:title>
</cp:coreProperties>
</file>