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0E53-5111-48A9-9011-9C82AF656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56E3-F4EE-4A42-8C54-B82BF4139F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0342-0FFB-4F87-B496-CD02AF1344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5EA-20AD-4F05-A69F-62E686B0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3F1-A6C8-46D6-90C2-71F42A8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5A6-6D97-4AEC-B0C6-8805BC49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7E6-097E-4453-A897-755EF9A7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8023-1E49-4B9B-BFDE-CC58D1BA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0458-A1DE-440C-9D5C-9B24ACA3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92B-4831-4205-9316-E225C1D5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22F2-6B0B-4DF4-9829-31E532BE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B1B9-C3FC-4BA9-A2A8-6E380DE3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2C77-4837-42FE-87FE-4E395834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7C71-FE93-4349-9F34-E815CA8A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AF2-1F4F-47C7-B7F6-74F1E6D5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3759-9241-4EB8-A92A-EAA6EBE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DEAA-AA88-43DC-9458-B27B721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5DEF-3092-4F0F-9FB5-101FC968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EFCB-A41D-4745-BEDF-27E0C282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1140-569B-4199-9D5C-1371D3A9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0DDBF-F4E4-40B5-915A-E897FA09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8C699-BF54-4856-A318-CC97EF56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27FFA-CEBA-4756-A1A2-65D8BF0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F3696-CBDE-4C41-8869-A520D3A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63B08-7198-4BB2-B2AA-DC530F0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42B-B956-4275-976F-9A278AB1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3D858-AA69-4B58-9203-0322AED6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FCE9F-2F31-4C70-9C32-D424740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53810-8B79-440C-9D58-4622AB9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F8489-597C-42F9-A9BA-2D08079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1184B-1D36-4004-8B76-DDD94374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4691D-D88F-4EC9-9000-37FC40C8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E90FE-2E79-40F9-9C10-C1989088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6BB1-57F5-4F31-B93A-8BD8EBAA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D45EF-5DD5-4394-BE28-D45C0552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B2A11-9750-42C2-A492-50956200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C42-B7F2-4E9D-B405-FFBB7792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FE7D-7671-47C2-AA4E-6C765901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696C-769B-40D3-BD7B-3CEAFB7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2E7A-6409-441B-AED7-B3AC44B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FF27-4890-49BA-BBDB-DEC2994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A401-61ED-427E-AD14-9D94061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4255C-B3AC-4339-B703-3E11FD3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C806-D01F-471D-9735-20EB7E75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8847-F5E9-4FAE-948D-04462D8D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04884-EF9A-4BD4-A88E-3A1FE4F6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0A7F7-7C97-484D-A580-3488C0E2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29F-2D94-419E-9EE3-ABADCAE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9E372-153C-447B-950D-6210C0EA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86D76-E8AB-4C1D-9620-00BC7BCD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65FB1-3A90-4DE5-ABA3-9839046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A68FC-5F1B-4C90-9385-6B31DD44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FBA04-BC65-44C6-B5CF-F62F668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AFE56-F6DC-4E6D-B6B9-1928423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3BD7A-040F-4493-8331-3E221CDA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C7445-729B-4B5D-A776-F43B0E8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6B4C1-CF41-4307-9F07-11C84FB5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BBE9E-724D-4EF5-8B12-F48CB100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54D-8165-40FF-9AD1-2F58B686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A801D-BB1D-4016-A6B5-F66E2D32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439-D372-4083-B9F4-BA2350E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57D-C68B-4CC6-A26F-A57D1965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A4E-8179-4B91-8464-8FA5654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258F-7425-45BF-9EDC-04DAFFD59FF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F1B1-55EE-4BEC-BDA6-F6B478933644}" type="slidenum">
              <a:rPr b="0" lang="ru-RU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876C-5452-49A2-A532-477E6509C6E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F23-99EB-431B-B27C-13D77DEEB0B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D1D-63CD-46C1-9F16-BE514B362F2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vive-liberta.narod.ru/journal/revol_songs.htm" TargetMode="External"/><Relationship Id="rId2" Type="http://schemas.openxmlformats.org/officeDocument/2006/relationships/hyperlink" Target="http://portfolio.1september.ru/work.php?id=575491" TargetMode="External"/><Relationship Id="rId3" Type="http://schemas.openxmlformats.org/officeDocument/2006/relationships/hyperlink" Target="http://www.it-n.ru/communities.aspx?cat_no=2715&amp;lib_no=21203&amp;tmpl=lib&amp;page=3" TargetMode="External"/><Relationship Id="rId4" Type="http://schemas.openxmlformats.org/officeDocument/2006/relationships/hyperlink" Target="http://www.it-n.ru/communities.aspx?cat_no=2715&amp;lib_no=21203&amp;tmpl=lib&amp;page=3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gitclub.ru/museum/revolution1/1789/rambofoto/third1.jpg" TargetMode="External"/><Relationship Id="rId2" Type="http://schemas.openxmlformats.org/officeDocument/2006/relationships/hyperlink" Target="http://img0.liveinternet.ru/images/attach/c/0/30/368/30368684_lyudovik_16_XVI.jpg" TargetMode="External"/><Relationship Id="rId3" Type="http://schemas.openxmlformats.org/officeDocument/2006/relationships/hyperlink" Target="http://i067.radikal.ru/0910/b5/3eeba5be51dd.jpg" TargetMode="External"/><Relationship Id="rId4" Type="http://schemas.openxmlformats.org/officeDocument/2006/relationships/hyperlink" Target="http://kolizej.at.ua/_pu/2/51025376.png" TargetMode="External"/><Relationship Id="rId5" Type="http://schemas.openxmlformats.org/officeDocument/2006/relationships/hyperlink" Target="http://knowhistory.ru/uploads/posts/2010-09/1284040763_ludovik-xv.jpg" TargetMode="External"/><Relationship Id="rId6" Type="http://schemas.openxmlformats.org/officeDocument/2006/relationships/hyperlink" Target="http://i034.radikal.ru/0801/31/5fa819c3ea52.jpg" TargetMode="External"/><Relationship Id="rId7" Type="http://schemas.openxmlformats.org/officeDocument/2006/relationships/hyperlink" Target="http://andmeronov.narod.ru/images/oflogotip.png" TargetMode="External"/><Relationship Id="rId8" Type="http://schemas.openxmlformats.org/officeDocument/2006/relationships/hyperlink" Target="http://ru.wikipedia.org/wiki/&#1060;&#1072;&#1081;&#1083;:Sans-culotte.jpg" TargetMode="External"/><Relationship Id="rId9" Type="http://schemas.openxmlformats.org/officeDocument/2006/relationships/hyperlink" Target="http://ru.wikipedia.org/wiki/&#1060;&#1072;&#1081;&#1083;:Sans-culotte.jpg" TargetMode="External"/><Relationship Id="rId10" Type="http://schemas.openxmlformats.org/officeDocument/2006/relationships/hyperlink" Target="http://ru.wikipedia.org/wiki/&#1060;&#1072;&#1081;&#1083;:Sans-culotte.jpg" TargetMode="External"/><Relationship Id="rId11" Type="http://schemas.openxmlformats.org/officeDocument/2006/relationships/hyperlink" Target="http://www.ukrmap.kiev.ua/program2010/wh9/vsesvit_history_9_files/image007.gif" TargetMode="External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gitclub.ru/museum/revolution1/1789/declarat/declaration2.jpg" TargetMode="External"/><Relationship Id="rId2" Type="http://schemas.openxmlformats.org/officeDocument/2006/relationships/hyperlink" Target="http://ru.wikipedia.org/wiki/&#1060;&#1072;&#1081;&#1083;:Prise_de_la_Bastille.jpg" TargetMode="External"/><Relationship Id="rId3" Type="http://schemas.openxmlformats.org/officeDocument/2006/relationships/hyperlink" Target="http://ru.wikipedia.org/wiki/&#1060;&#1072;&#1081;&#1083;:Prise_de_la_Bastille.jpg" TargetMode="External"/><Relationship Id="rId4" Type="http://schemas.openxmlformats.org/officeDocument/2006/relationships/hyperlink" Target="http://ru.wikipedia.org/wiki/&#1060;&#1072;&#1081;&#1083;:Prise_de_la_Bastille.jpg" TargetMode="External"/><Relationship Id="rId5" Type="http://schemas.openxmlformats.org/officeDocument/2006/relationships/hyperlink" Target="http://www.ukrmap.kiev.ua/program2010/wh9/vsesvit_history_9_files/image009.jpg" TargetMode="External"/><Relationship Id="rId6" Type="http://schemas.openxmlformats.org/officeDocument/2006/relationships/hyperlink" Target="http://www.ukrmap.kiev.ua/program2010/wh9/vsesvit_history_9_files/image015.jpg" TargetMode="External"/><Relationship Id="rId7" Type="http://schemas.openxmlformats.org/officeDocument/2006/relationships/hyperlink" Target="http://1.bp.blogspot.com/_vYPIDwOMhm4/SttwusIV8DI/AAAAAAAAb-Q/JDUgE_D-_UA/s400/09-10-035.jpg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Учитель истории 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гимназии «Лаборатория Салахова» г. Сургута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Бобейко Т.С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Полилиния 9"/>
          <p:cNvSpPr/>
          <p:nvPr/>
        </p:nvSpPr>
        <p:spPr>
          <a:xfrm>
            <a:off x="3708360" y="1052640"/>
            <a:ext cx="5219640" cy="420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Причины и начало Велико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Французско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революц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france.mp3" descr=""/>
          <p:cNvPicPr/>
          <p:nvPr/>
        </p:nvPicPr>
        <p:blipFill>
          <a:blip r:embed="rId1"/>
          <a:stretch/>
        </p:blipFill>
        <p:spPr>
          <a:xfrm>
            <a:off x="5396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60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48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0"/>
          <p:cNvSpPr/>
          <p:nvPr/>
        </p:nvSpPr>
        <p:spPr>
          <a:xfrm>
            <a:off x="1187280" y="5516640"/>
            <a:ext cx="39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 чем свидетель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арикатур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Пользователь\Pictures\Рисунок7.jpg"/>
          <p:cNvPicPr/>
          <p:nvPr/>
        </p:nvPicPr>
        <p:blipFill>
          <a:blip r:embed="rId1"/>
          <a:stretch/>
        </p:blipFill>
        <p:spPr>
          <a:xfrm>
            <a:off x="250920" y="1268280"/>
            <a:ext cx="2859120" cy="382932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9"/>
          <p:cNvSpPr/>
          <p:nvPr/>
        </p:nvSpPr>
        <p:spPr>
          <a:xfrm>
            <a:off x="3851280" y="2924280"/>
            <a:ext cx="4176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dc8c"/>
                </a:solidFill>
                <a:uFillTx/>
                <a:latin typeface="Arial"/>
              </a:rPr>
              <a:t>III </a:t>
            </a:r>
            <a:r>
              <a:rPr b="1" lang="ru-RU" sz="2400" spc="-1" strike="noStrike" u="sng">
                <a:solidFill>
                  <a:srgbClr val="fcdc8c"/>
                </a:solidFill>
                <a:uFillTx/>
                <a:latin typeface="Arial"/>
              </a:rPr>
              <a:t>сословие –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крестьяне и горожа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купцы и банки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предприниматели и наемные рабоч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11"/>
          <p:cNvSpPr/>
          <p:nvPr/>
        </p:nvSpPr>
        <p:spPr>
          <a:xfrm>
            <a:off x="3780000" y="1197000"/>
            <a:ext cx="2232000" cy="1557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слов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ухове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слов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дворя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14"/>
          <p:cNvSpPr/>
          <p:nvPr/>
        </p:nvSpPr>
        <p:spPr>
          <a:xfrm>
            <a:off x="6732720" y="1557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4 % ОТ ВСЕГО НАСЕ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авая фигурная скобка 15"/>
          <p:cNvSpPr/>
          <p:nvPr/>
        </p:nvSpPr>
        <p:spPr>
          <a:xfrm>
            <a:off x="6084720" y="1268280"/>
            <a:ext cx="433440" cy="1584360"/>
          </a:xfrm>
          <a:custGeom>
            <a:avLst/>
            <a:gdLst>
              <a:gd name="textAreaLeft" fmla="*/ 0 w 433440"/>
              <a:gd name="textAreaRight" fmla="*/ 156600 w 433440"/>
              <a:gd name="textAreaTop" fmla="*/ 11160 h 1584360"/>
              <a:gd name="textAreaBottom" fmla="*/ 157320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2"/>
                </a:cubicBezTo>
                <a:lnTo>
                  <a:pt x="10800" y="10308"/>
                </a:lnTo>
                <a:cubicBezTo>
                  <a:pt x="10800" y="10554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2"/>
                </a:cubicBezTo>
                <a:lnTo>
                  <a:pt x="10800" y="21108"/>
                </a:lnTo>
                <a:cubicBezTo>
                  <a:pt x="10800" y="2135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2"/>
          <p:cNvSpPr/>
          <p:nvPr/>
        </p:nvSpPr>
        <p:spPr>
          <a:xfrm>
            <a:off x="-181080" y="981000"/>
            <a:ext cx="34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bd97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bd97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кругленная прямоугольная выноска 5"/>
          <p:cNvSpPr/>
          <p:nvPr/>
        </p:nvSpPr>
        <p:spPr>
          <a:xfrm>
            <a:off x="5940360" y="4365720"/>
            <a:ext cx="2995560" cy="2158920"/>
          </a:xfrm>
          <a:prstGeom prst="wedgeRoundRectCallout">
            <a:avLst>
              <a:gd name="adj1" fmla="val -76268"/>
              <a:gd name="adj2" fmla="val -40134"/>
              <a:gd name="adj3" fmla="val 16667"/>
            </a:avLst>
          </a:prstGeom>
          <a:solidFill>
            <a:srgbClr val="953735"/>
          </a:solidFill>
          <a:ln w="190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аше Величеств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зне больше денег нет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Users\Пользователь\Pictures\Рисунок8.jpg"/>
          <p:cNvPicPr/>
          <p:nvPr/>
        </p:nvPicPr>
        <p:blipFill>
          <a:blip r:embed="rId1"/>
          <a:stretch/>
        </p:blipFill>
        <p:spPr>
          <a:xfrm>
            <a:off x="250920" y="2997360"/>
            <a:ext cx="4821120" cy="360180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4"/>
          <p:cNvSpPr/>
          <p:nvPr/>
        </p:nvSpPr>
        <p:spPr>
          <a:xfrm>
            <a:off x="25092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Общие расходы государства составили 629 млн. лив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Из года в год рос государственный долг Франции, который к 1788 году достиг  4,5 млрд. ливров. На содержание только Версаля шла 1/10 доходов государ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1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ОЛИТИЧЕСКИЕ И ИДЕЙНЫЕ ПРИЧ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250920" y="2708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зис абсолютной монарх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250920" y="342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ловный строй и сословные привиле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>
            <a:off x="250920" y="4149720"/>
            <a:ext cx="864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овые идеи просвет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5"/>
          <p:cNvSpPr/>
          <p:nvPr/>
        </p:nvSpPr>
        <p:spPr>
          <a:xfrm>
            <a:off x="250920" y="4869000"/>
            <a:ext cx="864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американской ре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Сформулируйте задачи ре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кругленный прямоугольник 6"/>
          <p:cNvSpPr/>
          <p:nvPr/>
        </p:nvSpPr>
        <p:spPr>
          <a:xfrm>
            <a:off x="250920" y="1268280"/>
            <a:ext cx="8642160" cy="45370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был запрещён ввоз иностранных товаров, за исключением тех, которые являются сырьём и не производятся во Франци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все таможни были отодвинуты к границам, чтобы были отменены все сборы за провоз товаров и другие платежи без всякого исключени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всякие привилегии на исключительное право торговли были уничтожены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ни один налог не мог быть установлен без согласия н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все без исключения церковные и дворянские владения облагались налогом в том же размере, как земли непривилегированных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была дарована свобода печати – это глас наро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7"/>
          <p:cNvSpPr/>
          <p:nvPr/>
        </p:nvSpPr>
        <p:spPr>
          <a:xfrm>
            <a:off x="0" y="6030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наказа купечества города Тру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путатам Генеральных шт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23"/>
          <p:cNvSpPr/>
          <p:nvPr/>
        </p:nvSpPr>
        <p:spPr>
          <a:xfrm>
            <a:off x="250920" y="1413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Ликвидация феодаль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орядк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48"/>
          <p:cNvSpPr/>
          <p:nvPr/>
        </p:nvSpPr>
        <p:spPr>
          <a:xfrm>
            <a:off x="5364000" y="155736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Утверждение нового поряд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ЗАДАЧИ РЕВОЛЮ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8"/>
          <p:cNvSpPr/>
          <p:nvPr/>
        </p:nvSpPr>
        <p:spPr>
          <a:xfrm>
            <a:off x="250920" y="270828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солют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ловного стр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одальн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одальных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и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енних таможенных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ш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ховых поряд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олевских моноп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рковной десят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11"/>
          <p:cNvSpPr/>
          <p:nvPr/>
        </p:nvSpPr>
        <p:spPr>
          <a:xfrm>
            <a:off x="4572000" y="2852640"/>
            <a:ext cx="42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ие в управлен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ом  на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енство перед зако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мократическ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принима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ити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екциониз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5877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5 мая 1789 год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оль открыл заседание Генеральных шта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2" descr="C:\Users\Пользователь\Pictures\гш.jpg"/>
          <p:cNvPicPr/>
          <p:nvPr/>
        </p:nvPicPr>
        <p:blipFill>
          <a:blip r:embed="rId1"/>
          <a:stretch/>
        </p:blipFill>
        <p:spPr>
          <a:xfrm>
            <a:off x="1116000" y="1628640"/>
            <a:ext cx="6932520" cy="38880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0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ОЗЫВ ГЕНЕРАЛЬНЫХ ШТА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начало революции.mp3" descr=""/>
          <p:cNvPicPr/>
          <p:nvPr/>
        </p:nvPicPr>
        <p:blipFill>
          <a:blip r:embed="rId2"/>
          <a:stretch/>
        </p:blipFill>
        <p:spPr>
          <a:xfrm>
            <a:off x="838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26376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3"/>
          <p:cNvSpPr/>
          <p:nvPr/>
        </p:nvSpPr>
        <p:spPr>
          <a:xfrm>
            <a:off x="5292720" y="1268280"/>
            <a:ext cx="36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7 июня 1789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путат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словия провозгласили себя представителями всей нации -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ациональным собр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3" descr="C:\Users\Пользователь\Pictures\Рисунок13.jpg"/>
          <p:cNvPicPr/>
          <p:nvPr/>
        </p:nvPicPr>
        <p:blipFill>
          <a:blip r:embed="rId1"/>
          <a:stretch/>
        </p:blipFill>
        <p:spPr>
          <a:xfrm>
            <a:off x="250920" y="1268280"/>
            <a:ext cx="4321080" cy="30592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5"/>
          <p:cNvSpPr/>
          <p:nvPr/>
        </p:nvSpPr>
        <p:spPr>
          <a:xfrm>
            <a:off x="611280" y="501336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изображали "пробуждение третьего сословия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C:\Users\Пользователь\Pictures\Рисунок12.jpg"/>
          <p:cNvPicPr/>
          <p:nvPr/>
        </p:nvPicPr>
        <p:blipFill>
          <a:blip r:embed="rId1"/>
          <a:stretch/>
        </p:blipFill>
        <p:spPr>
          <a:xfrm>
            <a:off x="250920" y="1268280"/>
            <a:ext cx="4344840" cy="33847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7"/>
          <p:cNvSpPr/>
          <p:nvPr/>
        </p:nvSpPr>
        <p:spPr>
          <a:xfrm>
            <a:off x="5292720" y="126828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9 июля 1789 год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циональное собрание провозгласило себя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редительны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собрание взяло на себя обязанность и право учредить Конституцию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5"/>
          <p:cNvSpPr/>
          <p:nvPr/>
        </p:nvSpPr>
        <p:spPr>
          <a:xfrm flipV="1" rot="10800000">
            <a:off x="755640" y="486864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ятва в зале для игры в мя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Пользователь\Pictures\мир.jpg"/>
          <p:cNvPicPr/>
          <p:nvPr/>
        </p:nvPicPr>
        <p:blipFill>
          <a:blip r:embed="rId1"/>
          <a:stretch/>
        </p:blipFill>
        <p:spPr>
          <a:xfrm>
            <a:off x="971640" y="1268280"/>
            <a:ext cx="2520720" cy="347976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4572000" y="126828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естящий оратор, депутат Генеральных штатов от третьего сословия, граф Мирабо выразил мнение, которое разделяли парижские газеты: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Эта великая революция обойдется без злодеяний и слез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5"/>
          <p:cNvSpPr/>
          <p:nvPr/>
        </p:nvSpPr>
        <p:spPr>
          <a:xfrm>
            <a:off x="3851280" y="1268280"/>
            <a:ext cx="50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d9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в Париж и Версаль стягивались войска для разгона Учредительного Собрания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" descr="C:\Users\Пользователь\Pictures\Рисунок1.jpg"/>
          <p:cNvPicPr/>
          <p:nvPr/>
        </p:nvPicPr>
        <p:blipFill>
          <a:blip r:embed="rId1"/>
          <a:stretch/>
        </p:blipFill>
        <p:spPr>
          <a:xfrm>
            <a:off x="250920" y="1268280"/>
            <a:ext cx="3432240" cy="424368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7"/>
          <p:cNvSpPr/>
          <p:nvPr/>
        </p:nvSpPr>
        <p:spPr>
          <a:xfrm>
            <a:off x="3780000" y="2924280"/>
            <a:ext cx="511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dc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« Враг приготовил нападен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Он окружил Париж кольц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Испуг, смущенье и волнен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Внезапно поднялись кру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Но страх сейчас же отступа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И страстью все полны 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Тебя, Свобода! призыв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И вот Париж спасен тобой…»</a:t>
            </a:r>
            <a:r>
              <a:rPr b="1" lang="ru-RU" sz="1800" spc="-1" strike="noStrike">
                <a:solidFill>
                  <a:srgbClr val="fcdc8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2"/>
          <p:cNvSpPr/>
          <p:nvPr/>
        </p:nvSpPr>
        <p:spPr>
          <a:xfrm>
            <a:off x="250920" y="1989000"/>
            <a:ext cx="86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Выяснить причины ре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Сформулировать задачи ре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Определить слои общества, заинтересованные в  ре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Изучить события, приведшие к началу ре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16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ЗАДАЧИ 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Пользователь\Pictures\Рисунок16.jpg"/>
          <p:cNvPicPr/>
          <p:nvPr/>
        </p:nvPicPr>
        <p:blipFill>
          <a:blip r:embed="rId1"/>
          <a:stretch/>
        </p:blipFill>
        <p:spPr>
          <a:xfrm>
            <a:off x="250920" y="1844640"/>
            <a:ext cx="3747960" cy="403236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ВЗЯТИЕ БАСТИЛ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427640" y="1557360"/>
            <a:ext cx="4465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4 июля 1789 год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ставшие  парижане взяли штурмом крепость Бастилию, освободили узников и растерзали коменданта креп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Людовику XVI сообщили о взятии Бастилии, он воскликнул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Но ведь это бунт!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 что ему возраз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Нет, государь, это – революци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bd9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Прокофьев.mp3" descr=""/>
          <p:cNvPicPr/>
          <p:nvPr/>
        </p:nvPicPr>
        <p:blipFill>
          <a:blip r:embed="rId2"/>
          <a:stretch/>
        </p:blipFill>
        <p:spPr>
          <a:xfrm>
            <a:off x="831708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3383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2"/>
          <p:cNvSpPr/>
          <p:nvPr/>
        </p:nvSpPr>
        <p:spPr>
          <a:xfrm>
            <a:off x="0" y="566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очему взятие Бастил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стало началом револю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250920" y="126828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«...Бастилия! Твоя горды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Не в силах нам противост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И если вступишь в бой, то ны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Ты будешь ниц челом леж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Народу пушек гром не страш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Он бьется у ворот тво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Ему не страшны восемь ба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cdc8c"/>
                </a:solidFill>
                <a:latin typeface="Arial"/>
              </a:rPr>
              <a:t>И толща этих стен седых.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са-ира.mp3" descr=""/>
          <p:cNvPicPr/>
          <p:nvPr/>
        </p:nvPicPr>
        <p:blipFill>
          <a:blip r:embed="rId1"/>
          <a:stretch/>
        </p:blipFill>
        <p:spPr>
          <a:xfrm>
            <a:off x="817236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952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6"/>
          <p:cNvSpPr/>
          <p:nvPr/>
        </p:nvSpPr>
        <p:spPr>
          <a:xfrm>
            <a:off x="5003640" y="1484280"/>
            <a:ext cx="38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оль вынужден был признать законность существования Учредительного собр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Абсолютизм сверг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монархия фактически стала конституцион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C:\Users\Пользователь\Pictures\Рисунок17.jpg"/>
          <p:cNvPicPr/>
          <p:nvPr/>
        </p:nvPicPr>
        <p:blipFill>
          <a:blip r:embed="rId1"/>
          <a:stretch/>
        </p:blipFill>
        <p:spPr>
          <a:xfrm>
            <a:off x="539640" y="1700280"/>
            <a:ext cx="3544920" cy="25574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7"/>
          <p:cNvSpPr/>
          <p:nvPr/>
        </p:nvSpPr>
        <p:spPr>
          <a:xfrm>
            <a:off x="539640" y="4724280"/>
            <a:ext cx="43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верждено новое знамя Франции: к красному и синему цветам третьего сословия добавился белый цвет Бурбо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ЗНАМЯ ПОБЕ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2"/>
          <p:cNvSpPr/>
          <p:nvPr/>
        </p:nvSpPr>
        <p:spPr>
          <a:xfrm>
            <a:off x="4500720" y="1268280"/>
            <a:ext cx="43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волюция распространялась по всей стра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ородах образовались выборные органы власти  -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муниципалитеты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валась вооруженная сила -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ациональная гвард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395280" y="530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льбер де Лафай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C:\Users\Пользователь\Pictures\Рисунок1.jpg"/>
          <p:cNvPicPr/>
          <p:nvPr/>
        </p:nvPicPr>
        <p:blipFill>
          <a:blip r:embed="rId1"/>
          <a:stretch/>
        </p:blipFill>
        <p:spPr>
          <a:xfrm>
            <a:off x="684360" y="1268280"/>
            <a:ext cx="2741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4"/>
          <p:cNvSpPr/>
          <p:nvPr/>
        </p:nvSpPr>
        <p:spPr>
          <a:xfrm>
            <a:off x="250920" y="198900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очь на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4 августа 1789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редительное собрание приняло декрет об уничтожении сеньориальных привиле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умент начинался слов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Учредительное собрание полностью отменяет феодальный порядо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е сделали вывод, что они сеньор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чего не должны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«НОЧЬ ЧУДЕС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ДЕКЛАРАЦИЯ ПРАВ ЧЕЛОВЕКА И ГРАЖДАН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2"/>
          <p:cNvSpPr/>
          <p:nvPr/>
        </p:nvSpPr>
        <p:spPr>
          <a:xfrm>
            <a:off x="3564000" y="1773360"/>
            <a:ext cx="5329080" cy="4483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рождаются и остаются свободными и равными в правах. Общественные различия могут основываться лишь на общей польз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всякого политического союза - обеспечение естественных и неотъемлемых прав человека. Таковые - свобода, собственность, безопасность и сопротивление угнет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ая выноска 3"/>
          <p:cNvSpPr/>
          <p:nvPr/>
        </p:nvSpPr>
        <p:spPr>
          <a:xfrm>
            <a:off x="395280" y="2133720"/>
            <a:ext cx="1476360" cy="1368360"/>
          </a:xfrm>
          <a:prstGeom prst="wedgeRectCallout">
            <a:avLst>
              <a:gd name="adj1" fmla="val 86120"/>
              <a:gd name="adj2" fmla="val -105578"/>
            </a:avLst>
          </a:prstGeom>
          <a:solidFill>
            <a:srgbClr val="fcdc8c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 авгу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89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" descr="C:\Users\Пользователь\Pictures\Рисунок19.jpg"/>
          <p:cNvPicPr/>
          <p:nvPr/>
        </p:nvPicPr>
        <p:blipFill>
          <a:blip r:embed="rId1"/>
          <a:stretch/>
        </p:blipFill>
        <p:spPr>
          <a:xfrm>
            <a:off x="179280" y="1773360"/>
            <a:ext cx="322272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Загнутый угол 3"/>
          <p:cNvSpPr/>
          <p:nvPr/>
        </p:nvSpPr>
        <p:spPr>
          <a:xfrm>
            <a:off x="250920" y="620640"/>
            <a:ext cx="8642160" cy="4680000"/>
          </a:xfrm>
          <a:prstGeom prst="foldedCorner">
            <a:avLst>
              <a:gd name="adj" fmla="val 16666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ом суверенной власти является нация. Никакое учреждение, никакое лицо не могут обладать властью, которая не исходит явно от н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а состоит в возможности делать все, что не наносит вреда друг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имеет право запрещать лишь действия, вредные для общества. Все, что не запрещено законом, то дозвол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есть выражение общей воли. Все граждане имеют право участвовать лично или через своих представителей в его созд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Содержимое 7"/>
          <p:cNvSpPr/>
          <p:nvPr/>
        </p:nvSpPr>
        <p:spPr>
          <a:xfrm>
            <a:off x="0" y="5516640"/>
            <a:ext cx="91440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 чем вы видите сходство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«Декларацией независимости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Заголовок 1"/>
          <p:cNvSpPr/>
          <p:nvPr/>
        </p:nvSpPr>
        <p:spPr>
          <a:xfrm>
            <a:off x="0" y="59500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ыберите верные утвер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2"/>
          <p:cNvSpPr/>
          <p:nvPr/>
        </p:nvSpPr>
        <p:spPr>
          <a:xfrm>
            <a:off x="468360" y="765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орянство было первым, привилегированным сословием во Фра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ранцузская революция началась 5 мая 1789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редительное собрание было создано для принятия Конститу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стилия  была символом  королевского произв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ларация прав человека и гражданина была принята 26 августа 1789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чью чудес» назвали  принятие Конституции Учредительным собра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ный лозунг Французской революции: «Свобода, равенство, братство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8"/>
          <p:cNvSpPr/>
          <p:nvPr/>
        </p:nvSpPr>
        <p:spPr>
          <a:xfrm>
            <a:off x="3059280" y="4149720"/>
            <a:ext cx="2868480" cy="2143080"/>
          </a:xfrm>
          <a:prstGeom prst="rect">
            <a:avLst/>
          </a:prstGeom>
          <a:solidFill>
            <a:srgbClr val="bfbfbf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9"/>
          <p:cNvSpPr/>
          <p:nvPr/>
        </p:nvSpPr>
        <p:spPr>
          <a:xfrm>
            <a:off x="5940360" y="4149720"/>
            <a:ext cx="2879640" cy="2143080"/>
          </a:xfrm>
          <a:prstGeom prst="rect">
            <a:avLst/>
          </a:prstGeom>
          <a:solidFill>
            <a:srgbClr val="953735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11"/>
          <p:cNvSpPr/>
          <p:nvPr/>
        </p:nvSpPr>
        <p:spPr>
          <a:xfrm>
            <a:off x="250920" y="4149720"/>
            <a:ext cx="2892240" cy="2143080"/>
          </a:xfrm>
          <a:prstGeom prst="rect">
            <a:avLst/>
          </a:prstGeom>
          <a:solidFill>
            <a:srgbClr val="0759ff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револю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й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Заголовок 1"/>
          <p:cNvSpPr/>
          <p:nvPr/>
        </p:nvSpPr>
        <p:spPr>
          <a:xfrm>
            <a:off x="971640" y="549360"/>
            <a:ext cx="720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сравните причи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уржуазных револю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 1: Нидерланды и 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 2: Англия и Франц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 3: Америка и Франция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-76320" y="549360"/>
            <a:ext cx="922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Использованные матери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оугольник 3"/>
          <p:cNvSpPr/>
          <p:nvPr/>
        </p:nvSpPr>
        <p:spPr>
          <a:xfrm>
            <a:off x="0" y="5157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ve-liberta.narod.ru/journal/revol_songs.htm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- сайт, посвященный  Французской револю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4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ortfolio.1september.ru/work.php?id=575491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– Куюжуклу В., Мясников И. Великая Французская револю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Юдовская А.Я., Баранов П.А., Ванюшкина Л.М. Всеобщая история. История Нового времени,1500-1800. 7 класс. - М.: Просвещение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7"/>
          <p:cNvSpPr/>
          <p:nvPr/>
        </p:nvSpPr>
        <p:spPr>
          <a:xfrm>
            <a:off x="0" y="3716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it-n.ru/communities.aspx?cat_no=2715&amp;lib_no=21203&amp;tmpl=lib&amp;page=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Тимотыш А.Н. Великая французская революция. Причины. Нач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8"/>
          <p:cNvSpPr/>
          <p:nvPr/>
        </p:nvSpPr>
        <p:spPr>
          <a:xfrm>
            <a:off x="0" y="206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it-n.ru/communities.aspx?cat_no=2715&amp;lib_no=21203&amp;tmpl=lib&amp;page=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Земляненко Н.В. Великая французская револю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1619280" y="119700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Какие процессы в экономике и в обществе свидетельствуют о развитии капитализ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1619280" y="3429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Какие необходимы условия для его развит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1619280" y="486900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Какие препятствия существуют на пути развития капитализ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5"/>
          <p:cNvSpPr/>
          <p:nvPr/>
        </p:nvSpPr>
        <p:spPr>
          <a:xfrm>
            <a:off x="0" y="414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gitclub.ru/museum/revolution1/1789/rambofoto/third1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карикатура на со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10"/>
          <p:cNvSpPr/>
          <p:nvPr/>
        </p:nvSpPr>
        <p:spPr>
          <a:xfrm>
            <a:off x="0" y="292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g0.liveinternet.ru/images/attach/c/0/30/368/30368684_lyudovik_16_XVI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Людовик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X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11"/>
          <p:cNvSpPr/>
          <p:nvPr/>
        </p:nvSpPr>
        <p:spPr>
          <a:xfrm>
            <a:off x="0" y="3716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067.radikal.ru/0910/b5/3eeba5be51dd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Мария-Антуанет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12"/>
          <p:cNvSpPr/>
          <p:nvPr/>
        </p:nvSpPr>
        <p:spPr>
          <a:xfrm>
            <a:off x="0" y="249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kolizej.at.ua/_pu/2/51025376.pn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 королевский герб Фра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13"/>
          <p:cNvSpPr/>
          <p:nvPr/>
        </p:nvSpPr>
        <p:spPr>
          <a:xfrm>
            <a:off x="0" y="184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knowhistory.ru/uploads/posts/2010-09/1284040763_ludovik-xv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Людовик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X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8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сылки на рису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9"/>
          <p:cNvSpPr/>
          <p:nvPr/>
        </p:nvSpPr>
        <p:spPr>
          <a:xfrm>
            <a:off x="0" y="4869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034.radikal.ru/0801/31/5fa819c3ea52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санкю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оугольник 14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andmeronov.narod.ru/images/oflogotip.pn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французская револю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15"/>
          <p:cNvSpPr/>
          <p:nvPr/>
        </p:nvSpPr>
        <p:spPr>
          <a:xfrm>
            <a:off x="0" y="530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Файл: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Sans-culotte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санкю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16"/>
          <p:cNvSpPr/>
          <p:nvPr/>
        </p:nvSpPr>
        <p:spPr>
          <a:xfrm>
            <a:off x="0" y="5661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ukrmap.kiev.ua/program2010/wh9/vsesvit_history_9_files/image007.gi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Генеральные шт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gitclub.ru/museum/revolution1/1789/declarat/declaration2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Декларация прав человека и граждан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0" y="357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Файл: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rise_de_la_Bastille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взятие Бастил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0" y="1341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ukrmap.kiev.ua/program2010/wh9/vsesvit_history_9_files/image009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клятва в зале для игры в м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0" y="206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ukrmap.kiev.ua/program2010/wh9/vsesvit_history_9_files/image015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Мира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0" y="278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1.bp.blogspot.com/_vYPIDwOMhm4/SttwusIV8DI/AAAAAAAAb-Q/JDUgE_D-_UA/s400/09-10-035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Камилл Дему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7"/>
          <p:cNvSpPr/>
          <p:nvPr/>
        </p:nvSpPr>
        <p:spPr>
          <a:xfrm>
            <a:off x="0" y="429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tourismeu.ru/uploads/posts/2011-02/1296859942_56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- флаг Французской республ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8"/>
          <p:cNvSpPr/>
          <p:nvPr/>
        </p:nvSpPr>
        <p:spPr>
          <a:xfrm>
            <a:off x="0" y="692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agitclub.ru/museum/revolution1/1789/rambofoto/third2.gi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робуждение третьего со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9"/>
          <p:cNvSpPr/>
          <p:nvPr/>
        </p:nvSpPr>
        <p:spPr>
          <a:xfrm>
            <a:off x="0" y="5229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ru.wikipedia.org/wiki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lbert_du_Motier_Marquis_de_Lafayette.jp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Жильбер де Лафай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2"/>
          <p:cNvSpPr/>
          <p:nvPr/>
        </p:nvSpPr>
        <p:spPr>
          <a:xfrm>
            <a:off x="250920" y="5805360"/>
            <a:ext cx="86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работы А.Рамбо "История Французской революции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50920" y="692280"/>
            <a:ext cx="8642160" cy="4667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оряне пользовались правами господ: всякий раз, когда земля переходила от одного владельца к другому, уплачивался особый налог, достигавший обычно шестой части продажной цены участ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тем господину платился ценз - постоянная ежегодная рента. К этому надо добавить господский оброк, который в некоторых случаях удваивал ценз; барщину, отнимавшую у земледельца 52 дня в году; дорожные пошлины на мостах, дорогах, рынках; помещичьи монополии, обязывавшие мелких собственников за особую плату пользоваться виноградными прессами, мельницами и печами, устроенными господином; право господина иметь голубятни, что отдавало в жертву голубям  крестьянские посев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были лишь обычные повинности, но существовало немало и других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2"/>
          <p:cNvSpPr/>
          <p:nvPr/>
        </p:nvSpPr>
        <p:spPr>
          <a:xfrm>
            <a:off x="179280" y="5157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 письма Д.И.Фонвизина графу П.И.Панину о положении во Фра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3"/>
          <p:cNvSpPr/>
          <p:nvPr/>
        </p:nvSpPr>
        <p:spPr>
          <a:xfrm>
            <a:off x="250920" y="1268280"/>
            <a:ext cx="8642160" cy="30200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ги, частые и тяжкие, служат одному обогащению ненасытных начальников; никто не смеет слова молвить против сих угнет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нция вся на откупу. Невозможно выехать на несколько шагов от Парижа, чтоб, воротясь, не быть остановленным таможней. Почти за все ввозимое в город платится столько пошлины, сколько сама вещь стои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7"/>
          <p:cNvSpPr/>
          <p:nvPr/>
        </p:nvSpPr>
        <p:spPr>
          <a:xfrm flipV="1" rot="10800000">
            <a:off x="250920" y="20221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Противоречие между развитием капитализма и препятствиями на его пути в ви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СОЦИАЛЬНО-ЭКОНОМИЧЕСКИЕ ПРИЧ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5092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оких налог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одальных пови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ховых поряд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утренни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моженных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ш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ополии 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зводство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ажу прод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5292720" y="400536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изис в эконом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нищание народных м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общее недово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Круговая стрелка 11"/>
          <p:cNvSpPr/>
          <p:nvPr/>
        </p:nvSpPr>
        <p:spPr>
          <a:xfrm rot="1708200">
            <a:off x="5981760" y="2976480"/>
            <a:ext cx="1512720" cy="1542960"/>
          </a:xfrm>
          <a:custGeom>
            <a:avLst/>
            <a:gdLst>
              <a:gd name="textAreaLeft" fmla="*/ 295200 w 1512720"/>
              <a:gd name="textAreaRight" fmla="*/ 1217520 w 1512720"/>
              <a:gd name="textAreaTop" fmla="*/ 299520 h 1542960"/>
              <a:gd name="textAreaBottom" fmla="*/ 1243440 h 1542960"/>
            </a:gdLst>
            <a:ahLst/>
            <a:rect l="textAreaLeft" t="textAreaTop" r="textAreaRight" b="textAreaBottom"/>
            <a:pathLst>
              <a:path w="1512888" h="1543050">
                <a:moveTo>
                  <a:pt x="104253" y="771524"/>
                </a:moveTo>
                <a:lnTo>
                  <a:pt x="104253" y="771524"/>
                </a:lnTo>
                <a:arcTo wR="652191" hR="667272" stAng="-10799995" swAng="9827262"/>
                <a:lnTo>
                  <a:pt x="1483849" y="589117"/>
                </a:lnTo>
                <a:lnTo>
                  <a:pt x="1314079" y="771526"/>
                </a:lnTo>
                <a:lnTo>
                  <a:pt x="1086231" y="589117"/>
                </a:lnTo>
                <a:lnTo>
                  <a:pt x="1184504" y="589117"/>
                </a:lnTo>
                <a:lnTo>
                  <a:pt x="1184504" y="589117"/>
                </a:lnTo>
                <a:arcTo wR="463080" hR="478161" stAng="-1384801" swAng="-9415199"/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Пользователь\Pictures\луи.jpg"/>
          <p:cNvPicPr/>
          <p:nvPr/>
        </p:nvPicPr>
        <p:blipFill>
          <a:blip r:embed="rId1"/>
          <a:stretch/>
        </p:blipFill>
        <p:spPr>
          <a:xfrm>
            <a:off x="2484360" y="1989000"/>
            <a:ext cx="2809800" cy="3313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8"/>
          <p:cNvSpPr/>
          <p:nvPr/>
        </p:nvSpPr>
        <p:spPr>
          <a:xfrm>
            <a:off x="2916360" y="5589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Людовик </a:t>
            </a:r>
            <a:r>
              <a:rPr b="1" lang="en-US" sz="1800" spc="-1" strike="noStrike">
                <a:solidFill>
                  <a:srgbClr val="dce6f2"/>
                </a:solidFill>
                <a:latin typeface="Arial"/>
              </a:rPr>
              <a:t>X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(1715 – 1774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3" descr="C:\Users\Пользователь\Pictures\гер.jpg"/>
          <p:cNvPicPr/>
          <p:nvPr/>
        </p:nvPicPr>
        <p:blipFill>
          <a:blip r:embed="rId2"/>
          <a:stretch/>
        </p:blipFill>
        <p:spPr>
          <a:xfrm>
            <a:off x="176040" y="1989000"/>
            <a:ext cx="2225880" cy="288000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7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ОЛИТИЧЕСКИЙ СТР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ая прямоугольная выноска 12"/>
          <p:cNvSpPr/>
          <p:nvPr/>
        </p:nvSpPr>
        <p:spPr>
          <a:xfrm>
            <a:off x="5580000" y="1413000"/>
            <a:ext cx="3313080" cy="4319640"/>
          </a:xfrm>
          <a:prstGeom prst="wedgeRoundRectCallout">
            <a:avLst>
              <a:gd name="adj1" fmla="val -57638"/>
              <a:gd name="adj2" fmla="val 60819"/>
              <a:gd name="adj3" fmla="val 16667"/>
            </a:avLst>
          </a:prstGeom>
          <a:solidFill>
            <a:srgbClr val="953735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0"/>
          <p:cNvSpPr/>
          <p:nvPr/>
        </p:nvSpPr>
        <p:spPr>
          <a:xfrm>
            <a:off x="5651640" y="155736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Только в одной моей особе пребывает королевская вла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сь общественный порядок во всем его объеме исходит от меня, интересы и права нации – все здесь, в моей ру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1"/>
          <p:cNvSpPr/>
          <p:nvPr/>
        </p:nvSpPr>
        <p:spPr>
          <a:xfrm>
            <a:off x="2916360" y="765000"/>
            <a:ext cx="316836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Из дневника Людовика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XVI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накануне революции во Франц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«Ию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20-е – охота на оленя в 9 часов в Бютар,  застрелил од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22-е – нич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25-е – ничего, охота на оленя в Сент-Аполл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30-е – ничег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227640" y="4292640"/>
            <a:ext cx="262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Мария-Антуанет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(1755 – 17</a:t>
            </a:r>
            <a:r>
              <a:rPr b="1" lang="en-US" sz="1800" spc="-1" strike="noStrike">
                <a:solidFill>
                  <a:srgbClr val="dce6f2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11"/>
          <p:cNvSpPr/>
          <p:nvPr/>
        </p:nvSpPr>
        <p:spPr>
          <a:xfrm>
            <a:off x="324000" y="414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Людовик </a:t>
            </a:r>
            <a:r>
              <a:rPr b="1" lang="en-US" sz="1800" spc="-1" strike="noStrike">
                <a:solidFill>
                  <a:srgbClr val="dce6f2"/>
                </a:solidFill>
                <a:latin typeface="Arial"/>
              </a:rPr>
              <a:t>X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(175</a:t>
            </a:r>
            <a:r>
              <a:rPr b="1" lang="en-US" sz="1800" spc="-1" strike="noStrike">
                <a:solidFill>
                  <a:srgbClr val="dce6f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 – 17</a:t>
            </a:r>
            <a:r>
              <a:rPr b="1" lang="en-US" sz="1800" spc="-1" strike="noStrike">
                <a:solidFill>
                  <a:srgbClr val="dce6f2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dce6f2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2" descr="C:\Users\Пользователь\Pictures\Рисунок5.jpg"/>
          <p:cNvPicPr/>
          <p:nvPr/>
        </p:nvPicPr>
        <p:blipFill>
          <a:blip r:embed="rId1"/>
          <a:stretch/>
        </p:blipFill>
        <p:spPr>
          <a:xfrm>
            <a:off x="6372360" y="692280"/>
            <a:ext cx="2431800" cy="3492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C:\Users\Пользователь\Pictures\Рисунок6.jpg"/>
          <p:cNvPicPr/>
          <p:nvPr/>
        </p:nvPicPr>
        <p:blipFill>
          <a:blip r:embed="rId2"/>
          <a:stretch/>
        </p:blipFill>
        <p:spPr>
          <a:xfrm>
            <a:off x="250920" y="765000"/>
            <a:ext cx="2444760" cy="3024360"/>
          </a:xfrm>
          <a:prstGeom prst="rect">
            <a:avLst/>
          </a:prstGeom>
          <a:ln w="0">
            <a:noFill/>
          </a:ln>
        </p:spPr>
      </p:pic>
      <p:sp>
        <p:nvSpPr>
          <p:cNvPr id="317" name="Скругленная прямоугольная выноска 7"/>
          <p:cNvSpPr/>
          <p:nvPr/>
        </p:nvSpPr>
        <p:spPr>
          <a:xfrm>
            <a:off x="6084720" y="5013360"/>
            <a:ext cx="3059280" cy="1440000"/>
          </a:xfrm>
          <a:prstGeom prst="wedgeRoundRectCallout">
            <a:avLst>
              <a:gd name="adj1" fmla="val 33273"/>
              <a:gd name="adj2" fmla="val -66500"/>
              <a:gd name="adj3" fmla="val 16667"/>
            </a:avLst>
          </a:prstGeom>
          <a:solidFill>
            <a:srgbClr val="953735"/>
          </a:solidFill>
          <a:ln w="190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сли нет хлеб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сть едят пирожные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4"/>
          <p:cNvSpPr/>
          <p:nvPr/>
        </p:nvSpPr>
        <p:spPr>
          <a:xfrm>
            <a:off x="1763640" y="436572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письма Д.И.Фонвизина графу П.И.Пани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ая прямоугольная выноска 5"/>
          <p:cNvSpPr/>
          <p:nvPr/>
        </p:nvSpPr>
        <p:spPr>
          <a:xfrm>
            <a:off x="1692360" y="2133720"/>
            <a:ext cx="5616360" cy="1755720"/>
          </a:xfrm>
          <a:prstGeom prst="wedgeRoundRectCallout">
            <a:avLst>
              <a:gd name="adj1" fmla="val 1810"/>
              <a:gd name="adj2" fmla="val 76282"/>
              <a:gd name="adj3" fmla="val 16667"/>
            </a:avLst>
          </a:prstGeom>
          <a:solidFill>
            <a:srgbClr val="f2dcdb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роль имеет в руках всю власть попирать законы. Каждый министр есть деспот в своем департаменте.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250920" y="573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Из дневниковых записей англичанина Артура Юнга (1787 г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24000" y="1268280"/>
            <a:ext cx="8569080" cy="411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спорядок в финансах; двор, потонувший в удовольствиях и расточительности; великое брожение среди людей всех состояний, которые стремятся к новому, не зная, чего желать, на что надеяться; сверх того, необычайное развитие свободолюбия, которое растет со дня на день со времени американской войны, - вот стечение обстоятельств, могущих в скором времени вызвать движение, если чья-нибудь твердая рука не возьмет бразды правления, чтобы управлять событиями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6:43:26Z</dcterms:created>
  <dc:creator>Пользователь</dc:creator>
  <dc:description/>
  <dc:language>en-US</dc:language>
  <cp:lastModifiedBy>ольга</cp:lastModifiedBy>
  <dcterms:modified xsi:type="dcterms:W3CDTF">2012-01-07T14:18:23Z</dcterms:modified>
  <cp:revision>303</cp:revision>
  <dc:subject/>
  <dc:title>Слайд 1</dc:title>
</cp:coreProperties>
</file>