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D41-670A-4BC4-84D6-7D03778C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2CBA-A001-4A0E-B3B3-E9407A6E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F60-3361-4592-A125-68AFA9A2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56C-DCED-4C91-B2E1-4601CFC6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FA0F-0E32-44A2-A88B-772120EB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FEF-3CD0-4C43-8E93-14FC1944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B00-CF90-41D8-81F3-258DF1C9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D07E-370C-4CC6-B082-AF20E4A8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4F4-AC4A-47D0-8F1D-A092A4AC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7FA-DC5A-4903-B1E5-75A460BF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AC96-1077-4C10-8F27-7AFE4CDA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F0A-5784-4281-A20E-AC0D8159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0E8E-7BCA-4A4C-85A7-60959D6A5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5.xml"/><Relationship Id="rId3" Type="http://schemas.openxmlformats.org/officeDocument/2006/relationships/image" Target="../media/image11.jpeg"/><Relationship Id="rId4" Type="http://schemas.openxmlformats.org/officeDocument/2006/relationships/slide" Target="slide26.xm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7.xm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22100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Символика государства – </a:t>
            </a:r>
            <a:br>
              <a:rPr sz="4800"/>
            </a:br>
            <a:r>
              <a:rPr b="0" lang="en-US" sz="4800" spc="-1" strike="noStrike">
                <a:solidFill>
                  <a:srgbClr val="800000"/>
                </a:solidFill>
                <a:latin typeface="Arial"/>
              </a:rPr>
              <a:t>это национальное достоя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645000"/>
            <a:ext cx="4788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по культуре родного к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595008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работала:      Тренюшева Тамара Мурато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  МОУ «Кувак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655344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-465120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yrev2%5b1%5d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478400" cy="6381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20040" y="4840200"/>
            <a:ext cx="399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ли Михайл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р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07920" y="5848200"/>
            <a:ext cx="29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936-2001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3480" y="-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4280" y="189000"/>
            <a:ext cx="460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рба и фла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lebedev2%5b1%5d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79280" y="620640"/>
            <a:ext cx="4105440" cy="5472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87280" y="6381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13-1980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ый  гимн Чувашской Республики был написан Германом Степановичем Лебедевым  на слова Ильи Семёновича Семёнова (Тукташ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8320" y="6093000"/>
            <a:ext cx="36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рман Степанович Лебед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uctash2%5b1%5d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88000" y="620640"/>
            <a:ext cx="4182840" cy="547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793040" y="6093000"/>
            <a:ext cx="42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ья Семёнович Семёнов (Тукташ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84720" y="6381720"/>
            <a:ext cx="17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07-1957 г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4495680" y="25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-main-pic" descr="Картинка 1 из 7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404640"/>
            <a:ext cx="5715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-main-pic" descr="Картинка 2 из 7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971640" y="907920"/>
            <a:ext cx="74880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11280" y="519480"/>
            <a:ext cx="8353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й гимн Чувашской Республики - символ государства, его суверенитета. Глубокое уважение к нему - патриотический долг каждого гражданина нашей республики. В основу гимна Чувашии положена песня "Тăван Çĕршыв" (Родная страна), музыку которой написал заслуженный деятель искусств Чувашии и Российской Федерации Герман Лебедев, слова - Член Союза писателей СССР Илья Тукташ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увашский текст Государственного гимна Чувашской Республики выражает три круга образов: пробуждение природы к новой жизни; родные, отец, мать, дети - круг семьи; единение и согласие всех родных в чувашском мире - Чувашской Республике. Мелодия и слова гимна очень близки к чувашской народной песне, но имеют также современное звучание и знач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028000" y="602136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0" t="0" r="4797" b="0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5640" y="519408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пробуйте разработать герб своего села (можно семьи, школы), работа может   выполнятся  и  групп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241200"/>
            <a:ext cx="864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ношение граждан к государственной символике во многом определяет уровень общественного сознания. Статья 1 Закона гласит: "Государственные символы Чувашской Республики - достояние народа Чувашской Республики, его высшие святыни, охраняемые и защищаемые государством". Президент республики Н.В.Федоров, рассмотрев предложение Чувашского республиканского общественного фонда историко-культурологических исследований имени Э.М.Юрьева, принял решение установить 29 апреля Днем государственных символов Чувашской Республики. Смысл решения - в том, чтобы подчеркнуть их важнейшее значение, способствовать воспитанию у граждан подлинного патриотизма. Инициатива главы республики была поддержана Государственным Советом Чувашии, который 16 апреля 2004 г. принял Закон "О Дне Государственных символов Чувашской Республики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08000" y="187200"/>
            <a:ext cx="90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ициальное утверждение собственных Государственных герба и флага Чувашской АССР состоялось на II (VII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ъезд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ветов республики 30 и 31 марта 1927 г. Их автором был художник и фотограф П.Е. Мартенс, выпускник знаменитого в России учебного заведения барона Штиглица (ныне - Академия прикладного искусства). Идея своего националь- ного флага не умерла. Уже после образования Чувашской АССР в 1925 году был поставлен вопрос о возвращении национального флага. Утвержденный на 2 (7) съезде Советов 31 марта 1927 года флаг концептуально воспроиз- водил флаг 1918 года. Флаг представлял собой красное или алое полотнище, в верхнем углу которого находился белый прямоугольник с красными буквами "ЧАССР" и золотым изображением серпа и молота. Место для знака и надписей обрамлял узор, заимствованный со старинных свадебных платков. В оформлении флага выдерживался традиционный и в то же время как бы осовремененный национальный колор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856764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0920" y="254520"/>
            <a:ext cx="856908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одный орнамент вошел и в оформление герба 1927 года. Герб состоял из двух кругов, между которыми свободно размещались название "Чувашская Автономная Советская Социалистическая Республика" на чувашском и русском языках, а в нижней части - надпись "РСФСР". С правой стороны, параллельно линиям кругов, изображены сноп, колосья пшеницы, с левой - ель, еловые и дубовые ветви. Обе части венка перевивали широкие ленты с геометрическими узорами на концах. Хотя внешне герб Чувашской АССР и напоминал свой российский прототип, но имел и свои отличия: кроме традиционных колосьев - еловые и дубовые ветки, а также ленту с чувашским национальным орнаментом на концах. На красном флаге молодой республики в верхнем левом углу было помещено “обрамленное чувашским орнаментом белое полотно с красными буквами “ЧАССР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10800"/>
                </a:moveTo>
                <a:lnTo>
                  <a:pt x="19374" y="3794"/>
                </a:lnTo>
                <a:lnTo>
                  <a:pt x="193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640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формировать отношение к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символике Чувашской Республики как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     к национальному  достоянию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496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знакомить учащихся с историей возникнов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волики Чувашской Республ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ть символы как отражение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исхождения чувашского государства с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циональными традициями и особен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зяйства и прир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питать у учащихся чувства уважения  к символ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шей республ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рез бережное  отношение  к символам воспит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учащихся чувство патриот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71640" y="1197000"/>
            <a:ext cx="60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86720"/>
            <a:ext cx="87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в конце 20-х гг. в СССР началась борьба против так называемого «великодержавного шовинизма» и местного национализма». Под критику попал и чувашский флаг. 12 февраля 1931 г. IV (IX) съезд Советов Чувашской АССР внес коррективы в изображения герба и флага, приняв постановление “О государственном гербе и флаге Чувашской АССР”. Из официальных символов государства были убраны декоративные элементы в виде чувашского национального орнамента “как не отражающие правильную национальную политику пролетарского государства”. Постановлением этого съезда чувашский флаг стал полностью красного цвета, лишившись белого полотна с национальными узорами. Эти флаг и герб оставались в Чувашской АССР до Конституции 193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244000" y="602136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10800"/>
                </a:moveTo>
                <a:lnTo>
                  <a:pt x="22469" y="3794"/>
                </a:lnTo>
                <a:lnTo>
                  <a:pt x="2246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549360"/>
            <a:ext cx="878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в конце 20-х гг. в СССР началась борьба против так называемого «великодержавного шовинизма» и местного национализма». Под критику попал и чувашский флаг. 12 февраля 1931 г. IV (IX) съезд Советов Чувашской АССР внес коррективы в изображения герба и флага, приняв постановление “О государственном гербе и флаге Чувашской АССР”. Из официальных символов государства были убраны декоративные элементы в виде чувашского национального орнамента “как не отражающие правильную национальную политику пролетарского государства”. Постановлением этого съезда чувашский флаг стал полностью красного цвета, лишившись белого полотна с национальными узорами. Эти флаг и герб оставались в Чувашской АССР до Конституции 1937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7740720" y="5950080"/>
            <a:ext cx="863640" cy="574560"/>
          </a:xfrm>
          <a:custGeom>
            <a:avLst/>
            <a:gdLst>
              <a:gd name="textAreaLeft" fmla="*/ 37080 w 863640"/>
              <a:gd name="textAreaRight" fmla="*/ 826560 w 8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461" h="21600">
                <a:moveTo>
                  <a:pt x="0" y="0"/>
                </a:moveTo>
                <a:lnTo>
                  <a:pt x="32461" y="0"/>
                </a:lnTo>
                <a:lnTo>
                  <a:pt x="32461" y="21600"/>
                </a:lnTo>
                <a:lnTo>
                  <a:pt x="0" y="21600"/>
                </a:lnTo>
                <a:close/>
              </a:path>
              <a:path fill="lightenLess" w="32461" h="21600">
                <a:moveTo>
                  <a:pt x="0" y="0"/>
                </a:moveTo>
                <a:lnTo>
                  <a:pt x="32461" y="0"/>
                </a:lnTo>
                <a:lnTo>
                  <a:pt x="31061" y="1400"/>
                </a:lnTo>
                <a:lnTo>
                  <a:pt x="1400" y="1400"/>
                </a:lnTo>
                <a:close/>
              </a:path>
              <a:path fill="darken" w="32461" h="21600">
                <a:moveTo>
                  <a:pt x="32461" y="0"/>
                </a:moveTo>
                <a:lnTo>
                  <a:pt x="32461" y="21600"/>
                </a:lnTo>
                <a:lnTo>
                  <a:pt x="31061" y="20200"/>
                </a:lnTo>
                <a:lnTo>
                  <a:pt x="31061" y="1400"/>
                </a:lnTo>
                <a:close/>
              </a:path>
              <a:path fill="darkenLess" w="32461" h="21600">
                <a:moveTo>
                  <a:pt x="32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61" y="20200"/>
                </a:lnTo>
                <a:close/>
              </a:path>
              <a:path fill="lighten" w="32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61" h="21600">
                <a:moveTo>
                  <a:pt x="9224" y="10800"/>
                </a:moveTo>
                <a:lnTo>
                  <a:pt x="23237" y="3794"/>
                </a:lnTo>
                <a:lnTo>
                  <a:pt x="232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95280" y="476280"/>
            <a:ext cx="856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илу определенной национальной политики в государственных символах всех автономных республик стала преобладать унифицирующая атрибутика. Это в полной мере относится и к символике Чувашской АССР. Принятая 18 июля 1937 г. Конституция Чувашской АССР окончательно лишила государственные атрибуты республики своей индивидуальности,      объявив Государственными гербом и флагом Чувашской АССР Государственные герб и флаг РСФСР с надписями на русском и чувашском языках "Пролетарии всех стран, соединяйтесь!" и "с добавлением под надписью "РСФСР" буквами меньшего размера надписи "Чувашская АССР" на русском и чувашском языках" - на гербе. Конституция Чувашской АССР 1978 года вновь подтвердила данный облик национально-государственных символов Чуваш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244000" y="6237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5280" y="476280"/>
            <a:ext cx="856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илу определенной национальной политики в государственных символах всех автономных республик стала преобладать унифицирующая атрибутика. Это в полной мере относится и к символике Чувашской АССР. Принятая 18 июля 1937 г. Конституция Чувашской АССР окончательно лишила государственные атрибуты республики своей индивидуальности,      объявив Государственными гербом и флагом Чувашской АССР Государственные герб и флаг РСФСР с надписями на русском и чувашском языках "Пролетарии всех стран, соединяйтесь!" и "с добавлением под надписью "РСФСР" буквами меньшего размера надписи "Чувашская АССР" на русском и чувашском языках" - на гербе. Конституция Чувашской АССР 1978 года вновь подтвердила данный облик национально-государственных символов Чуваш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44000" y="6237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10800"/>
                </a:moveTo>
                <a:lnTo>
                  <a:pt x="26815" y="3794"/>
                </a:lnTo>
                <a:lnTo>
                  <a:pt x="268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8000" y="260280"/>
            <a:ext cx="90360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сле окончания вуза Элли Михайлович Юрьев вернулся на родину, обосновался в Чебоксарах и стал работать старшим художественным редактором Чувашского книжного издательства. Одновременно преподавал в Чебоксарском художественном училище, а затем на художественно-графичеком факультете Чувашского государственного педагогического института имени И.Я. Яковлева.  Первым из художников республики очень серьезно начал заниматься промышленной графикой на профессиональной основе, Элли Юрьев параллельно разрабатывал собственные шрифты и орнаментальные мотивы. Благодаря его таланту, чувашская промышленная графика заговорила собственным языком, имеющим национальные корни.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ли Юрьев навсегда вошел в историю отечественного искусства как автор Государственного герба и Государственного флага Чувашской Республики.  Раскрывая идейно-смысловой строй герба, сам   Элли  Михайлович говорил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Главное в гербе – древо жизни в центре геральдического щита. Корнями древо врастает в землю. Крону древа жизни составляют три этнические ветви: чувашей коренных, что ближе к стволу, затем с краю – ветвь чувашской диаспоры, а между двумя этими ветвями, не достигая корней – ветвь, символизирующая все те народности, что проживают на данный момент в Чувашии. Таким образом, на основе этнической данности складывается общественно-политическая ситуация. Этот аспект мне тоже хотелось отразить в символе герба. Все эти народности являются участниками исторического события – создания нового Чувашского государства, независимой республики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з преувеличения можно сказать, что все творчество Элли Юрьева пронизано неустанными поисками и  не прерывающейся цепью экспериментов, дававших художнику возможность совершенствовать свой собственный стиль в искусстве и открывать в себе все новые грани дарования. Член союза художников СССР с 1967 г. В 1976 г. присвоено звание заслуженного художника ЧАССР. Присуждена Государственная премия Чувашской Республики им. К.В. Иванова за 1989 г. В 1994 г. присвоено звание народного художника Чувашской Республ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рдце художника остановилось 17 января 2001 года. Его имя присвоено Чебоксарской детской художественной школе № 4, земляки из Красноармейского района назвали в честь художника 8 улиц. Учрежден республиканский конкурс детского творчества на приз имени Элли Юрье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8101080" y="6237360"/>
            <a:ext cx="720720" cy="433440"/>
          </a:xfrm>
          <a:custGeom>
            <a:avLst/>
            <a:gdLst>
              <a:gd name="textAreaLeft" fmla="*/ 28080 w 720720"/>
              <a:gd name="textAreaRight" fmla="*/ 692640 w 720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4" h="21600">
                <a:moveTo>
                  <a:pt x="10946" y="10800"/>
                </a:moveTo>
                <a:lnTo>
                  <a:pt x="24959" y="3794"/>
                </a:lnTo>
                <a:lnTo>
                  <a:pt x="249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9280" y="333360"/>
            <a:ext cx="87138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ман Степанович Лебед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лся 28апреля 1913 года в д. Салабайкасы (ныне Чебоксарский района Чувашской Республики) в бедной крестьянской семье. В 1930-1935 гг. учился в Чувашском государственном музыкально-театральном техникуме. Тогда же начал петь в Чувашском государственном хоре. В 1936—1940 гг. Г.С. Лебедев жил и работал в г. Шумерля. С 1941 г. работает в Чебоксарах: сначала – заведующим учебной частью, затем – директором музыкального училища. В первые годы войны одновременно он участвует как баянист-аккомпаниатор в концертах Чувашского  государственного ансамбля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сни и танца, в составе которого выезжает на Брянский и Калининский фронты для культурного обслуживания бойцов Советской Армии. С 1943 по 1975 гг. постоянно работает в Чувашском Государственном ансамбле песни и танц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45 г. ему присвоено почетное звание заслуженного деятеля искусств Чувашии, а в 1970 г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заслуженного деятеля искусств Российской Федерации. Основная область его творчества — песня. Всего около 400 песен.  Скончался Герман Степанович 3 февраля 1980 года в г. Чебокса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6720" y="609300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10800"/>
                </a:moveTo>
                <a:lnTo>
                  <a:pt x="24988" y="3794"/>
                </a:lnTo>
                <a:lnTo>
                  <a:pt x="24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9280" y="115920"/>
            <a:ext cx="896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ья Семёнович Семёнов (Тукташ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ился 3 августа 1907 года в д. Большие Токташи Аликовского района Чувашской Республики в бедной крестьянской семье. Окончил Красночетайскую школу-восьмилетку. В 1926-1928 гг. учился в Чебоксарской партийной школе. Затем в течение 2 лет работал ответственным секретарем редакци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Будь готов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редактором Чувашского книжного издательства.  В 1933-1935 гг. он – редактор Чувашского книжного издательства, а в 1935-1942 гг. – научный сотрудник Научно-исследовательского инстит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ворческое наследие его богато и разнообразно. Он является автором многих стихов и песен, рассказов и повестей: «Бычий лог» (1931), «Хозяева земли» (1954), сборника стихов в прозе «Букет» (, 1939); очерков «Павел Лаптев» (1944), «Золотая Звезда»   (1945), пьесы-сказки «Цветок счастья» (1953) и других. Перу И. Тукташа принадлежат перевод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Слова о полку Игорев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(совместно с И. Ивником),  1-го том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Тихого Дона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Шолохова, произведений Горького, Тагора, песен Лебедева-Кумача, сонетов Шекспира. Член Союза писателей СССР с 1934 года. И. Тукташ - участник  Великой Отечественной войны (1942—1944 гг.),   военный корреспондент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фронта он вернулся неизлечимо больным  и  20 января 1957 года сконч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56720" y="623736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10800"/>
                </a:moveTo>
                <a:lnTo>
                  <a:pt x="24960" y="3794"/>
                </a:lnTo>
                <a:lnTo>
                  <a:pt x="249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193680"/>
            <a:ext cx="8964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й герб Чувашской Республики представляет собой золотой окаймленный вырезной (германской формы) щит, пересеченный на желтое (вверху) и пурпуровое (внизу) поля, с находящейся в центре щита пурпуровой древнечувашской эмблемой - "Древо Жизни". Щит, обрамленный пурпуровой, подложенной золотом девизной лентой с надписью золотыми буквами "Чаваш Республики - Чувашская Республика", завершающейся стилизованным золотом изображением листьев и шишек хмеля, венчает золотая, окаймленная пурпуром,эмблема "Три солнц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   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а государственного герба - желтый (золото) и пурпуровый - традиционные цвета чувашского народа. Желтый   цвет в чувашском фольклоре наделен понятием самого красивого цвета, олицетворяющего все самое прекрасное и светлое. Золото в геральдическом толковании - богатство, справедливость, милосердие, великодушие, постоянство, сила, верность. Пурпур в геральдическом толковании - достоинство, могущество, мужество, си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459640" y="6237360"/>
            <a:ext cx="576360" cy="43164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36" h="21600">
                <a:moveTo>
                  <a:pt x="0" y="0"/>
                </a:moveTo>
                <a:lnTo>
                  <a:pt x="28836" y="0"/>
                </a:lnTo>
                <a:lnTo>
                  <a:pt x="28836" y="21600"/>
                </a:lnTo>
                <a:lnTo>
                  <a:pt x="0" y="21600"/>
                </a:lnTo>
                <a:close/>
              </a:path>
              <a:path fill="lightenLess" w="28836" h="21600">
                <a:moveTo>
                  <a:pt x="0" y="0"/>
                </a:moveTo>
                <a:lnTo>
                  <a:pt x="28836" y="0"/>
                </a:lnTo>
                <a:lnTo>
                  <a:pt x="27436" y="1400"/>
                </a:lnTo>
                <a:lnTo>
                  <a:pt x="1400" y="1400"/>
                </a:lnTo>
                <a:close/>
              </a:path>
              <a:path fill="darken" w="28836" h="21600">
                <a:moveTo>
                  <a:pt x="28836" y="0"/>
                </a:moveTo>
                <a:lnTo>
                  <a:pt x="28836" y="21600"/>
                </a:lnTo>
                <a:lnTo>
                  <a:pt x="27436" y="20200"/>
                </a:lnTo>
                <a:lnTo>
                  <a:pt x="27436" y="1400"/>
                </a:lnTo>
                <a:close/>
              </a:path>
              <a:path fill="darkenLess" w="28836" h="21600">
                <a:moveTo>
                  <a:pt x="28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36" y="20200"/>
                </a:lnTo>
                <a:close/>
              </a:path>
              <a:path fill="lighten" w="28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36" h="21600">
                <a:moveTo>
                  <a:pt x="7412" y="10800"/>
                </a:moveTo>
                <a:lnTo>
                  <a:pt x="21424" y="3794"/>
                </a:lnTo>
                <a:lnTo>
                  <a:pt x="214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9280" y="186840"/>
            <a:ext cx="878544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сударственный флаг Чувашской Республики представляет собой прямоугольное полотнище с отношением сторон 5:8, пересеченное на желтое (вверху) и пурпуровое (внизу) поля, с находящимися в центре флага пурпуровыми древнечувашскими эмблемами - "Древо Жизни" и "Три Солнца". Цвета государственного флага - желтый (золото) и пурпуровый - традиционные цвета чувашского народа. Желтый  цвет в чувашском фольклоре наделен понятием самого красивого цвета, олицетворяющего все самое прекрасное и светлое. Верхнее желтое поле, составляющее 4/5 части высоты флага, обозначает пространство под солнцем, населяемое народом Чувашской Республики. Нижнее пурпуровое поле, составляющее 1/5 часть высоты флага, обозначает Чувашскую землю. Эмблема "Древо жизни" - знак, выполненный на основе древнечувашского рунического письма, силуэт которого напоминает почитаемое чувашами дерево дуб, могучее и долговечное, стойкое в природных ненастьях. Кроме того, "Древо жизни", как единый организм, олицетворяет собой единство народов, проживающих на территории Чувашской Республик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8101080" y="6237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 ИЗУЧЕНИЯ ТЕ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История Чувашской государствен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Проекты новых государственных символ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 Государственного герба и Государственного флага Чувашской Республ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ры Государственного гимна Чувашской Республи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Символика Чувашской республик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рб, флаг и гим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4076640"/>
            <a:ext cx="91440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осударственный флаг, герб и гимн Чувашской Республики - символы, призванные объединять всех граждан, живущих на одной территории. В них полно и ёмко отражен чувашский националь-  ный колорит как свидетельство связи времен"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 Чувашии Н. В. Федоров с 1996 по 2010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95640" y="333360"/>
            <a:ext cx="5113080" cy="37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76360" y="404640"/>
            <a:ext cx="662472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0" t="2638" r="0" b="4110"/>
          <a:stretch/>
        </p:blipFill>
        <p:spPr>
          <a:xfrm>
            <a:off x="684360" y="476280"/>
            <a:ext cx="799308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676908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2063" t="2881" r="0" b="4106"/>
          <a:stretch/>
        </p:blipFill>
        <p:spPr>
          <a:xfrm>
            <a:off x="611280" y="476280"/>
            <a:ext cx="820872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4:09:34Z</dcterms:created>
  <dc:creator>user06</dc:creator>
  <dc:description/>
  <dc:language>en-US</dc:language>
  <cp:lastModifiedBy>user06</cp:lastModifiedBy>
  <dcterms:modified xsi:type="dcterms:W3CDTF">2011-01-17T18:55:34Z</dcterms:modified>
  <cp:revision>9</cp:revision>
  <dc:subject/>
  <dc:title>Цель урока: сформировать отношение к символике Чувашской Республики как                       к национальному  достоянию. </dc:title>
</cp:coreProperties>
</file>