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717-957E-45A8-BF69-F87CF6D6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5CA-5759-4D45-BC2A-24E08C2B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B00-F98C-40B5-8916-718BB533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37D-D01B-44BF-B047-3A28960E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88A-1B5C-4686-B8E9-2488C2A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179-E1A8-4AFE-BA29-CD731741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0B8-D76A-4B6C-93C3-C00055B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BE8-6BCB-49EC-8CAD-FCD7287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FA1-819A-432E-8A61-88099A45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16E-A699-4545-95A1-5A341A9A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C41-7C61-447C-A6F4-CE18DC6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D79-1187-499E-B0FD-7BFED6E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17CE-2DC8-4DF7-8396-EED122972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6.xml"/><Relationship Id="rId12" Type="http://schemas.openxmlformats.org/officeDocument/2006/relationships/audio" Target="file:///tmp/home/.config/libreoffice/4/user/gallery/&#1092;&#1083;&#1077;&#1081;&#1090;&#1072;.WAV" TargetMode="External"/><Relationship Id="rId13" Type="http://schemas.microsoft.com/office/2007/relationships/media" Target="file:///tmp/home/.config/libreoffice/4/user/gallery/&#1092;&#1083;&#1077;&#1081;&#1090;&#1072;.WAV" TargetMode="External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slide" Target="slide6.xml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6.xml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slide" Target="slide6.xml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6.xml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921" t="15395" r="45958" b="37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33336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зыкальная игр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4581360"/>
            <a:ext cx="6697440" cy="16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"Угадай музыкальный инструмент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36640" cy="237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85080" y="1052640"/>
            <a:ext cx="83664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050920" y="2349360"/>
            <a:ext cx="3384720" cy="244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5400000">
            <a:off x="3588120" y="811440"/>
            <a:ext cx="158436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067280" y="2205000"/>
            <a:ext cx="26668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2750" t="0" r="14012" b="75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572000" y="1773360"/>
            <a:ext cx="2087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15829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3230" t="0" r="12595" b="69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348000" y="119700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г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3348000" y="170028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3348000" y="227664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фле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3348000" y="2852640"/>
            <a:ext cx="2448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т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3348000" y="342900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гит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250920" y="260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161928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3059280" y="26028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3348000" y="400536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9"/>
          <a:stretch/>
        </p:blipFill>
        <p:spPr>
          <a:xfrm>
            <a:off x="7885080" y="33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0"/>
          <a:stretch/>
        </p:blipFill>
        <p:spPr>
          <a:xfrm>
            <a:off x="4356000" y="260280"/>
            <a:ext cx="792360" cy="61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1"/>
          <a:stretch/>
        </p:blipFill>
        <p:spPr>
          <a:xfrm>
            <a:off x="5796000" y="333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96360" y="6237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A6D-D31E-40B8-A9C7-05CC36FD2A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0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37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03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40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168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78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921" t="15395" r="45958" b="40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3203640" y="119700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3203640" y="170028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астань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6" action="ppaction://hlinksldjump"/>
          </p:cNvPr>
          <p:cNvSpPr/>
          <p:nvPr/>
        </p:nvSpPr>
        <p:spPr>
          <a:xfrm>
            <a:off x="3203640" y="2205000"/>
            <a:ext cx="2448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8" action="ppaction://hlinksldjump"/>
          </p:cNvPr>
          <p:cNvSpPr/>
          <p:nvPr/>
        </p:nvSpPr>
        <p:spPr>
          <a:xfrm>
            <a:off x="3203640" y="270828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фаг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3203640" y="3213000"/>
            <a:ext cx="2448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тар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539640" y="1773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1116000" y="33336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3132000" y="2602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076720" y="260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7596360" y="333360"/>
            <a:ext cx="728640" cy="72864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17" action="ppaction://hlinksldjump"/>
          </p:cNvPr>
          <p:cNvSpPr/>
          <p:nvPr/>
        </p:nvSpPr>
        <p:spPr>
          <a:xfrm>
            <a:off x="3203640" y="3716280"/>
            <a:ext cx="2448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фанф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9"/>
          <a:stretch/>
        </p:blipFill>
        <p:spPr>
          <a:xfrm>
            <a:off x="8028000" y="1628640"/>
            <a:ext cx="657360" cy="65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 rot="10078800">
            <a:off x="684360" y="2204280"/>
            <a:ext cx="2684160" cy="2211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1547640" y="3213000"/>
            <a:ext cx="2927520" cy="3068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2"/>
          <a:srcRect l="5827" t="4264" r="12220" b="1601"/>
          <a:stretch/>
        </p:blipFill>
        <p:spPr>
          <a:xfrm rot="1554600">
            <a:off x="5867280" y="1989000"/>
            <a:ext cx="1552680" cy="4175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5164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84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43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87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25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928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3230" t="0" r="13532" b="65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203640" y="119700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фортепья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3203640" y="177336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аве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3203640" y="2349360"/>
            <a:ext cx="2448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т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203640" y="2997360"/>
            <a:ext cx="2448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электрогит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" action="ppaction://hlinksldjump"/>
          </p:cNvPr>
          <p:cNvSpPr/>
          <p:nvPr/>
        </p:nvSpPr>
        <p:spPr>
          <a:xfrm>
            <a:off x="3203640" y="3716280"/>
            <a:ext cx="2448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метал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468360" y="1052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7812000" y="1341360"/>
            <a:ext cx="657360" cy="65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421164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6300720" y="33336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1258920" y="33336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8172360" y="609300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78" h="21600">
                <a:moveTo>
                  <a:pt x="14133" y="3794"/>
                </a:moveTo>
                <a:lnTo>
                  <a:pt x="28146" y="10800"/>
                </a:lnTo>
                <a:lnTo>
                  <a:pt x="1413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23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087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25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96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229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921" t="15395" r="46941" b="37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68360" y="1773360"/>
            <a:ext cx="439128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тебя превосходный сл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85928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341964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341964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7" action="ppaction://hlinksldjump"/>
          </p:cNvPr>
          <p:cNvSpPr/>
          <p:nvPr/>
        </p:nvSpPr>
        <p:spPr>
          <a:xfrm>
            <a:off x="485928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lastslide"/>
          </p:cNvPr>
          <p:cNvSpPr/>
          <p:nvPr/>
        </p:nvSpPr>
        <p:spPr>
          <a:xfrm>
            <a:off x="8172360" y="6453360"/>
            <a:ext cx="792360" cy="404640"/>
          </a:xfrm>
          <a:custGeom>
            <a:avLst/>
            <a:gdLst>
              <a:gd name="textAreaLeft" fmla="*/ 25920 w 792360"/>
              <a:gd name="textAreaRight" fmla="*/ 766440 w 7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78" h="21600">
                <a:moveTo>
                  <a:pt x="0" y="0"/>
                </a:moveTo>
                <a:lnTo>
                  <a:pt x="42278" y="0"/>
                </a:lnTo>
                <a:lnTo>
                  <a:pt x="42278" y="21600"/>
                </a:lnTo>
                <a:lnTo>
                  <a:pt x="0" y="21600"/>
                </a:lnTo>
                <a:close/>
              </a:path>
              <a:path fill="lightenLess" w="42278" h="21600">
                <a:moveTo>
                  <a:pt x="0" y="0"/>
                </a:moveTo>
                <a:lnTo>
                  <a:pt x="42278" y="0"/>
                </a:lnTo>
                <a:lnTo>
                  <a:pt x="40878" y="1400"/>
                </a:lnTo>
                <a:lnTo>
                  <a:pt x="1400" y="1400"/>
                </a:lnTo>
                <a:close/>
              </a:path>
              <a:path fill="darken" w="42278" h="21600">
                <a:moveTo>
                  <a:pt x="42278" y="0"/>
                </a:moveTo>
                <a:lnTo>
                  <a:pt x="42278" y="21600"/>
                </a:lnTo>
                <a:lnTo>
                  <a:pt x="40878" y="20200"/>
                </a:lnTo>
                <a:lnTo>
                  <a:pt x="40878" y="1400"/>
                </a:lnTo>
                <a:close/>
              </a:path>
              <a:path fill="darkenLess" w="42278" h="21600">
                <a:moveTo>
                  <a:pt x="4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78" y="20200"/>
                </a:lnTo>
                <a:close/>
              </a:path>
              <a:path fill="lighten" w="4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78" h="21600">
                <a:moveTo>
                  <a:pt x="14133" y="3794"/>
                </a:moveTo>
                <a:lnTo>
                  <a:pt x="28146" y="10800"/>
                </a:lnTo>
                <a:lnTo>
                  <a:pt x="1413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921" t="15395" r="46941" b="37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8000" y="1773360"/>
            <a:ext cx="518508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ниматель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слушай еще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1844640"/>
            <a:ext cx="669960" cy="110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627280" y="1844640"/>
            <a:ext cx="669960" cy="110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5928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8101080" y="645336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14123" y="3794"/>
                </a:moveTo>
                <a:lnTo>
                  <a:pt x="28136" y="10800"/>
                </a:lnTo>
                <a:lnTo>
                  <a:pt x="14123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3921" t="15395" r="45958" b="37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43280" y="1413000"/>
            <a:ext cx="331128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 ИГ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6300720" y="6453360"/>
            <a:ext cx="2374920" cy="404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48000" y="2852640"/>
            <a:ext cx="233352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flipH="1">
            <a:off x="5867280" y="1989000"/>
            <a:ext cx="2244960" cy="23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217836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831708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56995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3:38:03Z</dcterms:created>
  <dc:creator>Людмила</dc:creator>
  <dc:description/>
  <dc:language>en-US</dc:language>
  <cp:lastModifiedBy>Людмила</cp:lastModifiedBy>
  <dcterms:modified xsi:type="dcterms:W3CDTF">2012-01-27T11:33:50Z</dcterms:modified>
  <cp:revision>15</cp:revision>
  <dc:subject/>
  <dc:title>Слайд 1</dc:title>
</cp:coreProperties>
</file>