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52.jpeg" ContentType="image/jpeg"/>
  <Override PartName="/ppt/media/image1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42.png" ContentType="image/png"/>
  <Override PartName="/ppt/media/image35.jpeg" ContentType="image/jpeg"/>
  <Override PartName="/ppt/media/image56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9.jpeg" ContentType="image/jpeg"/>
  <Override PartName="/ppt/media/image39.jpeg" ContentType="image/jpeg"/>
  <Override PartName="/ppt/media/image17.png" ContentType="image/png"/>
  <Override PartName="/ppt/media/image19.jpeg" ContentType="image/jpeg"/>
  <Override PartName="/ppt/media/image21.jpeg" ContentType="image/jpeg"/>
  <Override PartName="/ppt/media/image71.png" ContentType="image/png"/>
  <Override PartName="/ppt/media/image63.jpeg" ContentType="image/jpeg"/>
  <Override PartName="/ppt/media/image29.png" ContentType="image/png"/>
  <Override PartName="/ppt/media/image22.jpeg" ContentType="image/jpeg"/>
  <Override PartName="/ppt/media/image75.png" ContentType="image/png"/>
  <Override PartName="/ppt/media/image27.png" ContentType="image/png"/>
  <Override PartName="/ppt/media/image15.jpeg" ContentType="image/jpeg"/>
  <Override PartName="/ppt/media/image26.png" ContentType="image/png"/>
  <Override PartName="/ppt/media/image61.jpeg" ContentType="image/jpeg"/>
  <Override PartName="/ppt/media/image77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4.png" ContentType="image/png"/>
  <Override PartName="/ppt/media/image60.jpeg" ContentType="image/jpeg"/>
  <Override PartName="/ppt/media/image3.jpeg" ContentType="image/jpeg"/>
  <Override PartName="/ppt/media/image30.png" ContentType="image/png"/>
  <Override PartName="/ppt/media/image85.jpeg" ContentType="image/jpeg"/>
  <Override PartName="/ppt/media/image83.jpeg" ContentType="image/jpeg"/>
  <Override PartName="/ppt/media/image86.png" ContentType="image/png"/>
  <Override PartName="/ppt/media/image69.png" ContentType="image/png"/>
  <Override PartName="/ppt/media/image67.jpeg" ContentType="image/jpeg"/>
  <Override PartName="/ppt/media/image25.jpeg" ContentType="image/jpeg"/>
  <Override PartName="/ppt/media/image84.jpeg" ContentType="image/jpeg"/>
  <Override PartName="/ppt/media/image80.png" ContentType="image/png"/>
  <Override PartName="/ppt/media/image65.jpeg" ContentType="image/jpeg"/>
  <Override PartName="/ppt/media/image79.png" ContentType="image/png"/>
  <Override PartName="/ppt/media/image76.png" ContentType="image/png"/>
  <Override PartName="/ppt/media/image32.jpeg" ContentType="image/jpeg"/>
  <Override PartName="/ppt/media/image72.png" ContentType="image/png"/>
  <Override PartName="/ppt/media/image70.jpeg" ContentType="image/jpeg"/>
  <Override PartName="/ppt/media/image88.png" ContentType="image/png"/>
  <Override PartName="/ppt/media/image49.jpeg" ContentType="image/jpeg"/>
  <Override PartName="/ppt/media/image24.png" ContentType="image/png"/>
  <Override PartName="/ppt/media/image2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jpeg" ContentType="image/jpeg"/>
  <Override PartName="/ppt/media/image6.png" ContentType="image/png"/>
  <Override PartName="/ppt/media/image11.jpeg" ContentType="image/jpeg"/>
  <Override PartName="/ppt/media/image87.jpeg" ContentType="image/jpeg"/>
  <Override PartName="/ppt/media/image28.jpeg" ContentType="image/jpeg"/>
  <Override PartName="/ppt/media/image51.jpeg" ContentType="image/jpeg"/>
  <Override PartName="/ppt/media/image81.png" ContentType="image/png"/>
  <Override PartName="/ppt/media/image16.png" ContentType="image/png"/>
  <Override PartName="/ppt/media/image7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8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0BC-BFF6-4656-841D-DDB846A7E834}" type="slidenum">
              <a:rPr b="1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739-045C-46F9-857B-CE12D7106706}" type="slidenum">
              <a:rPr b="1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E1D-0C4F-4912-BCE2-139C3AB5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AD0-8011-4B68-918C-1DCB394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216-28CE-409F-8377-DD4101F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258-5C09-435C-BD3F-D71D943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61A-1488-4DD7-873A-7A1A5C26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558-C021-4CAD-910E-2518B25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1AC-ABFE-420B-8397-B84BB79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134-32BE-46D6-AC2E-ECE19E56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884-EA49-4297-9712-DE766FAD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892-E9E4-4F21-BC43-F0FBCD6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A95-4B48-4BC0-8122-5F70870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EBB-07A8-45D9-B412-64F7FA5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79B-05FA-4092-96A9-BD445C170C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slide" Target="slide20.xml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.wmf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jpeg"/><Relationship Id="rId19" Type="http://schemas.openxmlformats.org/officeDocument/2006/relationships/image" Target="../media/image8.png"/><Relationship Id="rId20" Type="http://schemas.openxmlformats.org/officeDocument/2006/relationships/image" Target="../media/image9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image" Target="../media/image14.jpeg"/><Relationship Id="rId26" Type="http://schemas.openxmlformats.org/officeDocument/2006/relationships/image" Target="../media/image15.jpeg"/><Relationship Id="rId27" Type="http://schemas.openxmlformats.org/officeDocument/2006/relationships/slide" Target="slide18.xml"/><Relationship Id="rId28" Type="http://schemas.openxmlformats.org/officeDocument/2006/relationships/image" Target="../media/image6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8.jpeg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&#1087;&#1088;&#1086;&#1076;&#1086;&#1083;&#1078;&#1080;&#8230;.xml"/><Relationship Id="rId6" Type="http://schemas.openxmlformats.org/officeDocument/2006/relationships/slide" Target="slide30.xml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jpe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24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572080" y="2928960"/>
            <a:ext cx="49068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9"/>
          <p:cNvSpPr/>
          <p:nvPr/>
        </p:nvSpPr>
        <p:spPr>
          <a:xfrm rot="885000">
            <a:off x="436680" y="3014640"/>
            <a:ext cx="1974600" cy="14349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узел 19"/>
          <p:cNvSpPr/>
          <p:nvPr/>
        </p:nvSpPr>
        <p:spPr>
          <a:xfrm>
            <a:off x="0" y="4071960"/>
            <a:ext cx="1143000" cy="121428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20"/>
          <p:cNvSpPr/>
          <p:nvPr/>
        </p:nvSpPr>
        <p:spPr>
          <a:xfrm>
            <a:off x="1071720" y="4357800"/>
            <a:ext cx="1500120" cy="135720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ручное управление 21"/>
          <p:cNvSpPr/>
          <p:nvPr/>
        </p:nvSpPr>
        <p:spPr>
          <a:xfrm rot="794400">
            <a:off x="836280" y="2408040"/>
            <a:ext cx="500040" cy="500040"/>
          </a:xfrm>
          <a:prstGeom prst="flowChartManualOperation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ручное управление 22"/>
          <p:cNvSpPr/>
          <p:nvPr/>
        </p:nvSpPr>
        <p:spPr>
          <a:xfrm rot="1050000">
            <a:off x="1982520" y="2768760"/>
            <a:ext cx="428400" cy="428400"/>
          </a:xfrm>
          <a:prstGeom prst="flowChartManualOperation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войная стрелка влево/вправо 23"/>
          <p:cNvSpPr/>
          <p:nvPr/>
        </p:nvSpPr>
        <p:spPr>
          <a:xfrm>
            <a:off x="2143080" y="4071960"/>
            <a:ext cx="500040" cy="428760"/>
          </a:xfrm>
          <a:prstGeom prst="leftRightArrow">
            <a:avLst>
              <a:gd name="adj1" fmla="val 50000"/>
              <a:gd name="adj2" fmla="val 4998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 rot="870600">
            <a:off x="595440" y="3097080"/>
            <a:ext cx="1633320" cy="1168560"/>
          </a:xfrm>
          <a:prstGeom prst="rect">
            <a:avLst/>
          </a:prstGeom>
          <a:ln w="0">
            <a:noFill/>
          </a:ln>
        </p:spPr>
      </p:pic>
      <p:sp>
        <p:nvSpPr>
          <p:cNvPr id="58" name="Выноска-облако 54"/>
          <p:cNvSpPr/>
          <p:nvPr/>
        </p:nvSpPr>
        <p:spPr>
          <a:xfrm>
            <a:off x="785880" y="1214280"/>
            <a:ext cx="1785960" cy="1214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3286080" y="3000240"/>
            <a:ext cx="428760" cy="35424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57"/>
          <p:cNvSpPr/>
          <p:nvPr/>
        </p:nvSpPr>
        <p:spPr>
          <a:xfrm>
            <a:off x="2643120" y="3286080"/>
            <a:ext cx="1857600" cy="1428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58"/>
          <p:cNvSpPr/>
          <p:nvPr/>
        </p:nvSpPr>
        <p:spPr>
          <a:xfrm>
            <a:off x="378612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узел 59"/>
          <p:cNvSpPr/>
          <p:nvPr/>
        </p:nvSpPr>
        <p:spPr>
          <a:xfrm>
            <a:off x="471492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60"/>
          <p:cNvSpPr/>
          <p:nvPr/>
        </p:nvSpPr>
        <p:spPr>
          <a:xfrm>
            <a:off x="4929120" y="3357720"/>
            <a:ext cx="1785960" cy="1285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62"/>
          <p:cNvSpPr/>
          <p:nvPr/>
        </p:nvSpPr>
        <p:spPr>
          <a:xfrm>
            <a:off x="600084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63"/>
          <p:cNvSpPr/>
          <p:nvPr/>
        </p:nvSpPr>
        <p:spPr>
          <a:xfrm>
            <a:off x="257184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71"/>
          <p:cNvSpPr/>
          <p:nvPr/>
        </p:nvSpPr>
        <p:spPr>
          <a:xfrm>
            <a:off x="3357720" y="3500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2"/>
          <p:cNvSpPr/>
          <p:nvPr/>
        </p:nvSpPr>
        <p:spPr>
          <a:xfrm>
            <a:off x="278604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73"/>
          <p:cNvSpPr/>
          <p:nvPr/>
        </p:nvSpPr>
        <p:spPr>
          <a:xfrm>
            <a:off x="392904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74"/>
          <p:cNvSpPr/>
          <p:nvPr/>
        </p:nvSpPr>
        <p:spPr>
          <a:xfrm>
            <a:off x="5643720" y="3500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75"/>
          <p:cNvSpPr/>
          <p:nvPr/>
        </p:nvSpPr>
        <p:spPr>
          <a:xfrm>
            <a:off x="621504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76"/>
          <p:cNvSpPr/>
          <p:nvPr/>
        </p:nvSpPr>
        <p:spPr>
          <a:xfrm>
            <a:off x="507204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ручное управление 77"/>
          <p:cNvSpPr/>
          <p:nvPr/>
        </p:nvSpPr>
        <p:spPr>
          <a:xfrm>
            <a:off x="6215040" y="2928960"/>
            <a:ext cx="357120" cy="428760"/>
          </a:xfrm>
          <a:prstGeom prst="flowChartManualOperation">
            <a:avLst/>
          </a:prstGeom>
          <a:solidFill>
            <a:srgbClr val="00b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ручное управление 78"/>
          <p:cNvSpPr/>
          <p:nvPr/>
        </p:nvSpPr>
        <p:spPr>
          <a:xfrm>
            <a:off x="5072040" y="2928960"/>
            <a:ext cx="357120" cy="428760"/>
          </a:xfrm>
          <a:prstGeom prst="flowChartManualOperation">
            <a:avLst/>
          </a:prstGeom>
          <a:solidFill>
            <a:srgbClr val="ffff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ручное управление 79"/>
          <p:cNvSpPr/>
          <p:nvPr/>
        </p:nvSpPr>
        <p:spPr>
          <a:xfrm>
            <a:off x="2786040" y="2857680"/>
            <a:ext cx="357120" cy="428400"/>
          </a:xfrm>
          <a:prstGeom prst="flowChartManualOperation">
            <a:avLst/>
          </a:prstGeom>
          <a:solidFill>
            <a:srgbClr val="ffc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учное управление 80"/>
          <p:cNvSpPr/>
          <p:nvPr/>
        </p:nvSpPr>
        <p:spPr>
          <a:xfrm>
            <a:off x="4000680" y="2857680"/>
            <a:ext cx="357120" cy="428400"/>
          </a:xfrm>
          <a:prstGeom prst="flowChartManualOperation">
            <a:avLst/>
          </a:prstGeom>
          <a:solidFill>
            <a:srgbClr val="ff00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войная стрелка влево/вправо 81"/>
          <p:cNvSpPr/>
          <p:nvPr/>
        </p:nvSpPr>
        <p:spPr>
          <a:xfrm>
            <a:off x="6732720" y="4005360"/>
            <a:ext cx="428400" cy="341280"/>
          </a:xfrm>
          <a:prstGeom prst="leftRightArrow">
            <a:avLst>
              <a:gd name="adj1" fmla="val 54417"/>
              <a:gd name="adj2" fmla="val 5021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7199280" y="0"/>
          <a:ext cx="1944720" cy="192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Object 3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9280" y="0"/>
                    <a:ext cx="19447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Двойная стрелка влево/вправо 101"/>
          <p:cNvSpPr/>
          <p:nvPr/>
        </p:nvSpPr>
        <p:spPr>
          <a:xfrm>
            <a:off x="4500720" y="4000680"/>
            <a:ext cx="428400" cy="341280"/>
          </a:xfrm>
          <a:prstGeom prst="leftRightArrow">
            <a:avLst>
              <a:gd name="adj1" fmla="val 50000"/>
              <a:gd name="adj2" fmla="val 4997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14"/>
          <p:cNvGraphicFramePr/>
          <p:nvPr/>
        </p:nvGraphicFramePr>
        <p:xfrm>
          <a:off x="2643120" y="4714920"/>
          <a:ext cx="64296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43120" y="4714920"/>
                    <a:ext cx="642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5"/>
          <p:cNvGraphicFramePr/>
          <p:nvPr/>
        </p:nvGraphicFramePr>
        <p:xfrm>
          <a:off x="1500120" y="4857840"/>
          <a:ext cx="6429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00120" y="4857840"/>
                    <a:ext cx="6429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Скругленный прямоугольник 104"/>
          <p:cNvSpPr/>
          <p:nvPr/>
        </p:nvSpPr>
        <p:spPr>
          <a:xfrm>
            <a:off x="7143840" y="3357720"/>
            <a:ext cx="1785960" cy="1285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114"/>
          <p:cNvSpPr/>
          <p:nvPr/>
        </p:nvSpPr>
        <p:spPr>
          <a:xfrm>
            <a:off x="707220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115"/>
          <p:cNvSpPr/>
          <p:nvPr/>
        </p:nvSpPr>
        <p:spPr>
          <a:xfrm>
            <a:off x="8143920" y="4643280"/>
            <a:ext cx="785880" cy="785880"/>
          </a:xfrm>
          <a:prstGeom prst="flowChartConnector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1"/>
          <a:stretch/>
        </p:blipFill>
        <p:spPr>
          <a:xfrm>
            <a:off x="7143840" y="4786200"/>
            <a:ext cx="612720" cy="50652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119"/>
          <p:cNvSpPr/>
          <p:nvPr/>
        </p:nvSpPr>
        <p:spPr>
          <a:xfrm>
            <a:off x="7786800" y="3500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20"/>
          <p:cNvSpPr/>
          <p:nvPr/>
        </p:nvSpPr>
        <p:spPr>
          <a:xfrm>
            <a:off x="721512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21"/>
          <p:cNvSpPr/>
          <p:nvPr/>
        </p:nvSpPr>
        <p:spPr>
          <a:xfrm>
            <a:off x="8358120" y="3500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15b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ручное управление 126"/>
          <p:cNvSpPr/>
          <p:nvPr/>
        </p:nvSpPr>
        <p:spPr>
          <a:xfrm>
            <a:off x="7286760" y="2928960"/>
            <a:ext cx="357120" cy="428760"/>
          </a:xfrm>
          <a:prstGeom prst="flowChartManualOperation">
            <a:avLst/>
          </a:prstGeom>
          <a:solidFill>
            <a:srgbClr val="92d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ручное управление 127"/>
          <p:cNvSpPr/>
          <p:nvPr/>
        </p:nvSpPr>
        <p:spPr>
          <a:xfrm>
            <a:off x="8358120" y="2928960"/>
            <a:ext cx="357120" cy="428760"/>
          </a:xfrm>
          <a:prstGeom prst="flowChartManualOperation">
            <a:avLst/>
          </a:prstGeom>
          <a:solidFill>
            <a:srgbClr val="00b05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A:\MIKSIKE2\Kartinki\landysh.gif"/>
          <p:cNvPicPr/>
          <p:nvPr/>
        </p:nvPicPr>
        <p:blipFill>
          <a:blip r:embed="rId12"/>
          <a:stretch/>
        </p:blipFill>
        <p:spPr>
          <a:xfrm rot="231000">
            <a:off x="49320" y="2798280"/>
            <a:ext cx="444240" cy="149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A:\MIKSIKE2\Kartinki\landysh.gif"/>
          <p:cNvPicPr/>
          <p:nvPr/>
        </p:nvPicPr>
        <p:blipFill>
          <a:blip r:embed="rId13"/>
          <a:stretch/>
        </p:blipFill>
        <p:spPr>
          <a:xfrm rot="1140000">
            <a:off x="399600" y="3096720"/>
            <a:ext cx="357120" cy="120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A:\MIKSIKE2\Kartinki\landysh.gif"/>
          <p:cNvPicPr/>
          <p:nvPr/>
        </p:nvPicPr>
        <p:blipFill>
          <a:blip r:embed="rId14"/>
          <a:stretch/>
        </p:blipFill>
        <p:spPr>
          <a:xfrm flipH="1" rot="21165600">
            <a:off x="68400" y="2730600"/>
            <a:ext cx="328320" cy="110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:\MIKSIKE2\Kartinki\landysh.gif"/>
          <p:cNvPicPr/>
          <p:nvPr/>
        </p:nvPicPr>
        <p:blipFill>
          <a:blip r:embed="rId15"/>
          <a:stretch/>
        </p:blipFill>
        <p:spPr>
          <a:xfrm rot="2529600">
            <a:off x="863280" y="5011560"/>
            <a:ext cx="463680" cy="156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:\MIKSIKE2\Kartinki\landysh.gif"/>
          <p:cNvPicPr/>
          <p:nvPr/>
        </p:nvPicPr>
        <p:blipFill>
          <a:blip r:embed="rId16"/>
          <a:stretch/>
        </p:blipFill>
        <p:spPr>
          <a:xfrm rot="20091000">
            <a:off x="47520" y="4812840"/>
            <a:ext cx="500040" cy="168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A:\MIKSIKE2\Kartinki\landysh.gif"/>
          <p:cNvPicPr/>
          <p:nvPr/>
        </p:nvPicPr>
        <p:blipFill>
          <a:blip r:embed="rId17"/>
          <a:stretch/>
        </p:blipFill>
        <p:spPr>
          <a:xfrm rot="1140000">
            <a:off x="587160" y="4818240"/>
            <a:ext cx="442800" cy="149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18"/>
          <a:stretch/>
        </p:blipFill>
        <p:spPr>
          <a:xfrm>
            <a:off x="2714760" y="3492360"/>
            <a:ext cx="571320" cy="508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4" descr=""/>
          <p:cNvPicPr/>
          <p:nvPr/>
        </p:nvPicPr>
        <p:blipFill>
          <a:blip r:embed="rId19"/>
          <a:stretch/>
        </p:blipFill>
        <p:spPr>
          <a:xfrm>
            <a:off x="3929040" y="3500280"/>
            <a:ext cx="500040" cy="50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"/>
          <p:cNvPicPr/>
          <p:nvPr/>
        </p:nvPicPr>
        <p:blipFill>
          <a:blip r:embed="rId20"/>
          <a:stretch/>
        </p:blipFill>
        <p:spPr>
          <a:xfrm>
            <a:off x="3357720" y="3500280"/>
            <a:ext cx="509400" cy="53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"/>
          <p:cNvPicPr/>
          <p:nvPr/>
        </p:nvPicPr>
        <p:blipFill>
          <a:blip r:embed="rId21"/>
          <a:stretch/>
        </p:blipFill>
        <p:spPr>
          <a:xfrm>
            <a:off x="7286760" y="3571920"/>
            <a:ext cx="28548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2"/>
          <a:stretch/>
        </p:blipFill>
        <p:spPr>
          <a:xfrm>
            <a:off x="8358120" y="4929120"/>
            <a:ext cx="35712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23"/>
          <a:stretch/>
        </p:blipFill>
        <p:spPr>
          <a:xfrm>
            <a:off x="5643720" y="3500280"/>
            <a:ext cx="500040" cy="5004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"/>
          <p:cNvPicPr/>
          <p:nvPr/>
        </p:nvPicPr>
        <p:blipFill>
          <a:blip r:embed="rId24"/>
          <a:stretch/>
        </p:blipFill>
        <p:spPr>
          <a:xfrm>
            <a:off x="8358120" y="3500280"/>
            <a:ext cx="428760" cy="543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2" descr=""/>
          <p:cNvPicPr/>
          <p:nvPr/>
        </p:nvPicPr>
        <p:blipFill>
          <a:blip r:embed="rId25"/>
          <a:stretch/>
        </p:blipFill>
        <p:spPr>
          <a:xfrm>
            <a:off x="7715160" y="3500280"/>
            <a:ext cx="517680" cy="47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6"/>
          <a:stretch/>
        </p:blipFill>
        <p:spPr>
          <a:xfrm>
            <a:off x="4857840" y="4857840"/>
            <a:ext cx="503280" cy="404640"/>
          </a:xfrm>
          <a:prstGeom prst="rect">
            <a:avLst/>
          </a:prstGeom>
          <a:ln w="0">
            <a:noFill/>
          </a:ln>
        </p:spPr>
      </p:pic>
      <p:sp>
        <p:nvSpPr>
          <p:cNvPr id="108" name="Облако 151">
            <a:hlinkClick r:id="rId27" action="ppaction://hlinksldjump"/>
          </p:cNvPr>
          <p:cNvSpPr/>
          <p:nvPr/>
        </p:nvSpPr>
        <p:spPr>
          <a:xfrm>
            <a:off x="4429080" y="1000080"/>
            <a:ext cx="1643040" cy="914400"/>
          </a:xfrm>
          <a:prstGeom prst="pie">
            <a:avLst/>
          </a:prstGeom>
          <a:solidFill>
            <a:srgbClr val="00b0f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блако 153"/>
          <p:cNvSpPr/>
          <p:nvPr/>
        </p:nvSpPr>
        <p:spPr>
          <a:xfrm>
            <a:off x="5786280" y="285840"/>
            <a:ext cx="1643400" cy="914400"/>
          </a:xfrm>
          <a:prstGeom prst="pie">
            <a:avLst/>
          </a:prstGeom>
          <a:solidFill>
            <a:srgbClr val="00b0f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блако 159"/>
          <p:cNvSpPr/>
          <p:nvPr/>
        </p:nvSpPr>
        <p:spPr>
          <a:xfrm>
            <a:off x="2000160" y="357120"/>
            <a:ext cx="2857680" cy="1057320"/>
          </a:xfrm>
          <a:prstGeom prst="pie">
            <a:avLst/>
          </a:prstGeom>
          <a:solidFill>
            <a:srgbClr val="00b0f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Начальна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школа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A:\MIKSIKE2\Kartinki\landysh.gif"/>
          <p:cNvPicPr/>
          <p:nvPr/>
        </p:nvPicPr>
        <p:blipFill>
          <a:blip r:embed="rId28"/>
          <a:stretch/>
        </p:blipFill>
        <p:spPr>
          <a:xfrm rot="2529600">
            <a:off x="821880" y="4954320"/>
            <a:ext cx="463680" cy="15634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3"/>
          <p:cNvSpPr/>
          <p:nvPr/>
        </p:nvSpPr>
        <p:spPr>
          <a:xfrm>
            <a:off x="2195640" y="5429160"/>
            <a:ext cx="655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Bodoni MT Condensed"/>
              </a:rPr>
              <a:t>Бекиш  Марина  Анатольевна,</a:t>
            </a:r>
            <a:br>
              <a:rPr sz="1400"/>
            </a:br>
            <a:r>
              <a:rPr b="1" i="1" lang="ru-RU" sz="1400" spc="-1" strike="noStrike">
                <a:solidFill>
                  <a:srgbClr val="0000ff"/>
                </a:solidFill>
                <a:latin typeface="Bodoni MT Condensed"/>
              </a:rPr>
              <a:t> учитель начальных классов </a:t>
            </a:r>
            <a:br>
              <a:rPr sz="1400"/>
            </a:br>
            <a:r>
              <a:rPr b="1" i="1" lang="ru-RU" sz="1400" spc="-1" strike="noStrike">
                <a:solidFill>
                  <a:srgbClr val="0000ff"/>
                </a:solidFill>
                <a:latin typeface="Bodoni MT Condensed"/>
              </a:rPr>
              <a:t>ГОУ СОШ  с  углублённым  изучением английского  языка  № 128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A:\MIKSIKE2\Kartinki\forget.gif"/>
          <p:cNvPicPr/>
          <p:nvPr/>
        </p:nvPicPr>
        <p:blipFill>
          <a:blip r:embed="rId29"/>
          <a:stretch/>
        </p:blipFill>
        <p:spPr>
          <a:xfrm>
            <a:off x="1428840" y="5929200"/>
            <a:ext cx="1228680" cy="7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4"/>
          <p:cNvSpPr/>
          <p:nvPr/>
        </p:nvSpPr>
        <p:spPr>
          <a:xfrm>
            <a:off x="3643200" y="192888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Игровые приёмы на уроках и во     внеуроч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носка-облако 85"/>
          <p:cNvSpPr/>
          <p:nvPr/>
        </p:nvSpPr>
        <p:spPr>
          <a:xfrm>
            <a:off x="2786040" y="2428920"/>
            <a:ext cx="928800" cy="285840"/>
          </a:xfrm>
          <a:prstGeom prst="cloudCallout">
            <a:avLst>
              <a:gd name="adj1" fmla="val -34259"/>
              <a:gd name="adj2" fmla="val 91592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0"/>
          <a:stretch/>
        </p:blipFill>
        <p:spPr>
          <a:xfrm>
            <a:off x="6215040" y="3500280"/>
            <a:ext cx="428760" cy="511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9" descr=""/>
          <p:cNvPicPr/>
          <p:nvPr/>
        </p:nvPicPr>
        <p:blipFill>
          <a:blip r:embed="rId31"/>
          <a:stretch/>
        </p:blipFill>
        <p:spPr>
          <a:xfrm>
            <a:off x="5072040" y="3429000"/>
            <a:ext cx="43020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КРАСНАЯ  КНИГ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кумент временного действия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Сигнал опасности. Наша совест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акты, собранные учеными о растениях и животных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Первый вариант составляли 14 лет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упреждает об исчезновени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Список растений и животных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ываю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дународные, национальные и региональные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Моск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Игра «Вести из лес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Москве по данным столичного Департамента природопользования, живут 10 - 12 лосей. Деревьям в парке Лосиный Остров - 150 - 180 лет. Кору на всех молодых сосенках они давно съели. Поэтому всю зиму, когда нет зелени, животные голодают. В поисках пищи лоси идут в город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ояб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шлого года шесть лосей забре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арк "Сокольники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429760" cy="56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5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 Игра «Вести из лес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6633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006633"/>
                </a:solidFill>
                <a:latin typeface="Arial"/>
              </a:rPr>
              <a:t>Здравствуйте, уважаемые телезрители. Сегодня в парке Сокольники появились неожиданные гост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943760" cy="578628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42976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. Игра «Вот иду я по лесу».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14800" y="29289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f0"/>
                </a:solidFill>
                <a:latin typeface="Arial"/>
              </a:rPr>
              <a:t>СНЕЖНЫЙ  БАР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286680" y="28576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КРАСНЫЙ ВОЛ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143080" y="5857920"/>
            <a:ext cx="24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ФЛАМИНГ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"/>
          <p:cNvPicPr/>
          <p:nvPr/>
        </p:nvPicPr>
        <p:blipFill>
          <a:blip r:embed="rId1"/>
          <a:stretch/>
        </p:blipFill>
        <p:spPr>
          <a:xfrm>
            <a:off x="1000080" y="3786120"/>
            <a:ext cx="2214720" cy="20480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7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57480" cy="19908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7"/>
          <p:cNvSpPr/>
          <p:nvPr/>
        </p:nvSpPr>
        <p:spPr>
          <a:xfrm>
            <a:off x="4572000" y="55008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ЯСТРЕБ-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тетеревятни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8"/>
          <p:cNvSpPr/>
          <p:nvPr/>
        </p:nvSpPr>
        <p:spPr>
          <a:xfrm>
            <a:off x="642960" y="32860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БЕЛЫЕ ТИГР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7" descr=""/>
          <p:cNvPicPr/>
          <p:nvPr/>
        </p:nvPicPr>
        <p:blipFill>
          <a:blip r:embed="rId3"/>
          <a:stretch/>
        </p:blipFill>
        <p:spPr>
          <a:xfrm>
            <a:off x="6715080" y="1204920"/>
            <a:ext cx="1995480" cy="1419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31" descr=""/>
          <p:cNvPicPr/>
          <p:nvPr/>
        </p:nvPicPr>
        <p:blipFill>
          <a:blip r:embed="rId4"/>
          <a:stretch/>
        </p:blipFill>
        <p:spPr>
          <a:xfrm>
            <a:off x="3643200" y="1120680"/>
            <a:ext cx="2286000" cy="1757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8" descr=""/>
          <p:cNvPicPr/>
          <p:nvPr/>
        </p:nvPicPr>
        <p:blipFill>
          <a:blip r:embed="rId5"/>
          <a:stretch/>
        </p:blipFill>
        <p:spPr>
          <a:xfrm>
            <a:off x="857160" y="1143000"/>
            <a:ext cx="1928880" cy="21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9" descr=""/>
          <p:cNvPicPr/>
          <p:nvPr/>
        </p:nvPicPr>
        <p:blipFill>
          <a:blip r:embed="rId2"/>
          <a:stretch/>
        </p:blipFill>
        <p:spPr>
          <a:xfrm>
            <a:off x="714240" y="357120"/>
            <a:ext cx="3924360" cy="58705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2" descr=""/>
          <p:cNvPicPr/>
          <p:nvPr/>
        </p:nvPicPr>
        <p:blipFill>
          <a:blip r:embed="rId3"/>
          <a:stretch/>
        </p:blipFill>
        <p:spPr>
          <a:xfrm>
            <a:off x="5000760" y="3643200"/>
            <a:ext cx="3681360" cy="26352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5" descr=""/>
          <p:cNvPicPr/>
          <p:nvPr/>
        </p:nvPicPr>
        <p:blipFill>
          <a:blip r:embed="rId4"/>
          <a:stretch/>
        </p:blipFill>
        <p:spPr>
          <a:xfrm>
            <a:off x="5072040" y="642960"/>
            <a:ext cx="3676680" cy="27604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1285920" y="62150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ЛЫЕ ТИГР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072120" cy="5616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714680" y="607212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642960" y="3643200"/>
            <a:ext cx="3718080" cy="26863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7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248360" cy="3017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4"/>
          <a:stretch/>
        </p:blipFill>
        <p:spPr>
          <a:xfrm>
            <a:off x="2143080" y="357120"/>
            <a:ext cx="450072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642960" y="62150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АСНЫЕ ВОЛ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6" name="Рисунок 7" descr=""/>
          <p:cNvPicPr/>
          <p:nvPr/>
        </p:nvPicPr>
        <p:blipFill>
          <a:blip r:embed="rId1"/>
          <a:stretch/>
        </p:blipFill>
        <p:spPr>
          <a:xfrm>
            <a:off x="714240" y="662040"/>
            <a:ext cx="7429680" cy="48355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928800" y="578628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Jastreb_teterevjatnik.mp3" descr=""/>
          <p:cNvPicPr/>
          <p:nvPr/>
        </p:nvPicPr>
        <p:blipFill>
          <a:blip r:embed="rId2"/>
          <a:stretch/>
        </p:blipFill>
        <p:spPr>
          <a:xfrm>
            <a:off x="764388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600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785880" y="-326880"/>
            <a:ext cx="7643880" cy="62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7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  <a:ea typeface="Times New Roman"/>
              </a:rPr>
              <a:t>. Игра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  «Жалобная книга»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Экологическая игра.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 плохо, плохо, плохо!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шл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д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убили старые сосны и вычистили лесную опушку от обломков стволов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нали из дупла. Улетела. А там ведь домик мой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Ворон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гнали из своего прошлогоднего гнезд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ёрный дятел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т из большого дупл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ел убираться, полёвок и лесных мышей ловить.  А куда добычу складывать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зерно как охранять, если дома нет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неясыть.mp3" descr=""/>
          <p:cNvPicPr/>
          <p:nvPr/>
        </p:nvPicPr>
        <p:blipFill>
          <a:blip r:embed="rId1"/>
          <a:stretch/>
        </p:blipFill>
        <p:spPr>
          <a:xfrm>
            <a:off x="8429760" y="585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642960" y="1230480"/>
            <a:ext cx="8001000" cy="56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62909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8433000" cy="63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42960" y="1071720"/>
            <a:ext cx="8001000" cy="80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Игра «Веришь – не веришь?»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….</a:t>
            </a:r>
            <a:r>
              <a:rPr b="1" i="1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3-4</a:t>
            </a:r>
            <a:r>
              <a:rPr b="1" i="1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cc33"/>
                </a:solidFill>
                <a:latin typeface="Arial"/>
              </a:rPr>
              <a:t>Игра «Кто здесь был и что забыл?»</a:t>
            </a:r>
            <a:r>
              <a:rPr b="1" i="1" lang="en-US" sz="2000" spc="-1" strike="noStrike">
                <a:solidFill>
                  <a:srgbClr val="33cc33"/>
                </a:solidFill>
                <a:latin typeface="Arial"/>
              </a:rPr>
              <a:t>…5-6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Улица загадок. «Найди лишнюю картинку»…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10f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10f9a"/>
                </a:solidFill>
                <a:latin typeface="Arial"/>
              </a:rPr>
              <a:t>Игра «Кто ты? Откуда ты?»…8</a:t>
            </a:r>
            <a:r>
              <a:rPr b="1" i="1" lang="en-US" sz="2000" spc="-1" strike="noStrike">
                <a:solidFill>
                  <a:srgbClr val="b10f9a"/>
                </a:solidFill>
                <a:latin typeface="Arial"/>
              </a:rPr>
              <a:t>-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гра «Вести из леса».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….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-12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Загадка «Вот иду я по лесу»…13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-1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гра «Жалобная книга»…18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-21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россворд «Красная книга»…22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Экологическая загадка…23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гры «Художник»…</a:t>
            </a:r>
            <a:r>
              <a:rPr b="1" i="1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24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11. Ласковое слово разгадать попробуй…</a:t>
            </a:r>
            <a:r>
              <a:rPr b="1" i="1" lang="ru-RU" sz="20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25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2. Игра «Отгадай-ка» или «Центон»…2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-2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b10f9a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10f9a"/>
                </a:solidFill>
                <a:latin typeface="Arial"/>
              </a:rPr>
              <a:t>Игра «Я начну, а ты продолжи»…</a:t>
            </a:r>
            <a:r>
              <a:rPr b="1" i="1" lang="ru-RU" sz="20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28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гра «Волшебный ключ»…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15. 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«Почемучкины вопросы»…</a:t>
            </a:r>
            <a:r>
              <a:rPr b="1" i="1" lang="ru-RU" sz="20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3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6. Игра в кругу </a:t>
            </a:r>
            <a:r>
              <a:rPr b="1" i="1" lang="ru-RU" sz="2000" spc="-1" strike="noStrike">
                <a:solidFill>
                  <a:srgbClr val="3399ff"/>
                </a:solidFill>
                <a:latin typeface="Arial"/>
              </a:rPr>
              <a:t>«Оказывается»…31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7"/>
          <a:stretch/>
        </p:blipFill>
        <p:spPr>
          <a:xfrm>
            <a:off x="6804000" y="4437000"/>
            <a:ext cx="1943280" cy="157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8"/>
          <a:stretch/>
        </p:blipFill>
        <p:spPr>
          <a:xfrm>
            <a:off x="7596360" y="765000"/>
            <a:ext cx="1274760" cy="1928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260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Игры и игровые приёмы.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одержание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28760" y="-538200"/>
            <a:ext cx="835812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алобная книг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ба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пугают, прятаться надо. А прятаться куда?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Люд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лес  убирают: листья осенние собирают, выворотни  ломают, старые «пустые» деревья в костры бросают.   Думают чисто будет. А нам зачем эта чистота? Где жить? Прячем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арых плодовых садах, на лесных дачах и посёлках с застройками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хищники, ночью спасаемся, охоту ведём. Иголки спасаю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чень любим насекомых, червяков, лягушек, мышек, змей, растения. А днём 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лесу шумят, пугают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имой спать не дают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005680" cy="600084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rcRect l="9535" t="0" r="3911" b="-684"/>
          <a:stretch/>
        </p:blipFill>
        <p:spPr>
          <a:xfrm>
            <a:off x="0" y="-39600"/>
            <a:ext cx="932508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2"/>
          <p:cNvSpPr/>
          <p:nvPr/>
        </p:nvSpPr>
        <p:spPr>
          <a:xfrm>
            <a:off x="1285920" y="27147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РАСНАЯ     КНИГ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3857760" y="1643040"/>
            <a:ext cx="78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"/>
              </a:rPr>
              <a:t>4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3929040" y="3357720"/>
            <a:ext cx="50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500200" y="928800"/>
            <a:ext cx="78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2357280" y="3286080"/>
            <a:ext cx="5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Е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6643800" y="1357200"/>
            <a:ext cx="92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6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6500880" y="3357720"/>
            <a:ext cx="50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Р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Ы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5572080" y="1000080"/>
            <a:ext cx="50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5.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В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О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Л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5429160" y="3429000"/>
            <a:ext cx="57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Р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А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С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Ы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3143160" y="328608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3214800" y="2428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3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8"/>
          <p:cNvSpPr/>
          <p:nvPr/>
        </p:nvSpPr>
        <p:spPr>
          <a:xfrm>
            <a:off x="500040" y="535788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МОЛОДЕЦ 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9"/>
          <p:cNvSpPr/>
          <p:nvPr/>
        </p:nvSpPr>
        <p:spPr>
          <a:xfrm>
            <a:off x="1071720" y="21420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8. КРОССВОРД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9. </a:t>
            </a:r>
            <a:r>
              <a:rPr b="1" lang="ru-RU" sz="3800" spc="-1" strike="noStrike">
                <a:solidFill>
                  <a:srgbClr val="008000"/>
                </a:solidFill>
                <a:latin typeface="Arial"/>
              </a:rPr>
              <a:t>Эко</a:t>
            </a: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загадка. Письмо  от  Иринк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unga"/>
                <a:ea typeface="Calibri"/>
              </a:rPr>
              <a:t>«У … малое тело, но великое сердце», – говорят восточные сокольники, прославляя бесстрашие и любовь к охоте этой птицы.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unga"/>
              </a:rPr>
              <a:t>Птица размером с ворону. Спина сизая, брюхо светло-серое с темными поперечными полосками. Бровь белая, лапы и глаза желтые. В полете видны две узкие и одна более широкая краевая полоса на хвосте.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ung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Tunga"/>
              </a:rPr>
              <a:t>Пение звонкое короткое, похожее на крик : “кьяк-кьяк-кьяк” или “гик-гик-гик”. Встречаются в основном в лесу и  в лесопарках. Часто селится в лесах и садах вблизи человеческого жиль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4" descr=""/>
          <p:cNvPicPr/>
          <p:nvPr/>
        </p:nvPicPr>
        <p:blipFill>
          <a:blip r:embed="rId1"/>
          <a:stretch/>
        </p:blipFill>
        <p:spPr>
          <a:xfrm>
            <a:off x="3929040" y="981000"/>
            <a:ext cx="521496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854520" cy="526284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388360" y="609300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3837"/>
                </a:moveTo>
                <a:lnTo>
                  <a:pt x="15181" y="6448"/>
                </a:ln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lnTo>
                  <a:pt x="19567" y="10800"/>
                </a:lnTo>
                <a:lnTo>
                  <a:pt x="17914" y="10800"/>
                </a:lnTo>
                <a:lnTo>
                  <a:pt x="17914" y="17989"/>
                </a:lnTo>
                <a:lnTo>
                  <a:pt x="7295" y="17989"/>
                </a:lnTo>
                <a:lnTo>
                  <a:pt x="7295" y="10800"/>
                </a:lnTo>
                <a:lnTo>
                  <a:pt x="5642" y="10800"/>
                </a:lnTo>
                <a:close/>
              </a:path>
              <a:path fill="darkenLess" w="25209" h="21600">
                <a:moveTo>
                  <a:pt x="15181" y="6448"/>
                </a:moveTo>
                <a:lnTo>
                  <a:pt x="15181" y="4707"/>
                </a:lnTo>
                <a:lnTo>
                  <a:pt x="16956" y="4707"/>
                </a:lnTo>
                <a:lnTo>
                  <a:pt x="16956" y="8224"/>
                </a:lnTo>
                <a:close/>
              </a:path>
              <a:path fill="darkenLess" w="25209" h="21600">
                <a:moveTo>
                  <a:pt x="11682" y="14299"/>
                </a:moveTo>
                <a:lnTo>
                  <a:pt x="13527" y="14299"/>
                </a:lnTo>
                <a:lnTo>
                  <a:pt x="13527" y="17989"/>
                </a:lnTo>
                <a:lnTo>
                  <a:pt x="17914" y="17989"/>
                </a:lnTo>
                <a:lnTo>
                  <a:pt x="17914" y="10800"/>
                </a:lnTo>
                <a:lnTo>
                  <a:pt x="7295" y="10800"/>
                </a:lnTo>
                <a:lnTo>
                  <a:pt x="7295" y="17989"/>
                </a:lnTo>
                <a:lnTo>
                  <a:pt x="11682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604360" y="551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11640" y="602136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82004"/>
                </a:solidFill>
                <a:latin typeface="Arial"/>
              </a:rPr>
              <a:t>ЯСТРЕБ -ТЕТЕРЕВЯТНИ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0.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«Ты - художник».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000080" y="3573360"/>
            <a:ext cx="1548000" cy="2055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6" descr="Изображение 001"/>
          <p:cNvPicPr/>
          <p:nvPr/>
        </p:nvPicPr>
        <p:blipFill>
          <a:blip r:embed="rId2"/>
          <a:stretch/>
        </p:blipFill>
        <p:spPr>
          <a:xfrm>
            <a:off x="3357720" y="3429000"/>
            <a:ext cx="1917720" cy="25495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" descr=""/>
          <p:cNvPicPr/>
          <p:nvPr/>
        </p:nvPicPr>
        <p:blipFill>
          <a:blip r:embed="rId3"/>
          <a:stretch/>
        </p:blipFill>
        <p:spPr>
          <a:xfrm>
            <a:off x="5357880" y="1143000"/>
            <a:ext cx="1514520" cy="1833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3" descr=""/>
          <p:cNvPicPr/>
          <p:nvPr/>
        </p:nvPicPr>
        <p:blipFill>
          <a:blip r:embed="rId4"/>
          <a:stretch/>
        </p:blipFill>
        <p:spPr>
          <a:xfrm>
            <a:off x="642960" y="1108080"/>
            <a:ext cx="2071800" cy="20559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80" descr=""/>
          <p:cNvPicPr/>
          <p:nvPr/>
        </p:nvPicPr>
        <p:blipFill>
          <a:blip r:embed="rId5"/>
          <a:stretch/>
        </p:blipFill>
        <p:spPr>
          <a:xfrm>
            <a:off x="6500880" y="3929040"/>
            <a:ext cx="1547640" cy="2021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6"/>
          <a:stretch/>
        </p:blipFill>
        <p:spPr>
          <a:xfrm>
            <a:off x="3357720" y="1000080"/>
            <a:ext cx="1512720" cy="2100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7"/>
          <a:stretch/>
        </p:blipFill>
        <p:spPr>
          <a:xfrm>
            <a:off x="7143840" y="857160"/>
            <a:ext cx="1714320" cy="184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0"/>
          <p:cNvSpPr/>
          <p:nvPr/>
        </p:nvSpPr>
        <p:spPr>
          <a:xfrm>
            <a:off x="3357720" y="592920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абай-Ага. Рисовала Юл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1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 Ласковое слово разгадать  попробуй.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zпgи, дnиsтя моwzё, уfсs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sадzкиzй сон к сfеwбе мlанf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яzньwки я  теlбzе взzялw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fетzер, соjлнwце и орfлzs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63" descr=""/>
          <p:cNvPicPr/>
          <p:nvPr/>
        </p:nvPicPr>
        <p:blipFill>
          <a:blip r:embed="rId1"/>
          <a:stretch/>
        </p:blipFill>
        <p:spPr>
          <a:xfrm>
            <a:off x="3276720" y="4286160"/>
            <a:ext cx="1822320" cy="1808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2268360" y="1484280"/>
            <a:ext cx="511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пи, дитя моё, усни!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адкий сон к себе мани,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яньки я тебе взял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тер, солнце и орл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571680" y="4143240"/>
            <a:ext cx="1452240" cy="1976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6000840" y="4286160"/>
            <a:ext cx="2403360" cy="16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4"/>
          <a:stretch/>
        </p:blipFill>
        <p:spPr>
          <a:xfrm>
            <a:off x="165240" y="1928880"/>
            <a:ext cx="1515960" cy="1317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5"/>
          <a:stretch/>
        </p:blipFill>
        <p:spPr>
          <a:xfrm>
            <a:off x="7643880" y="2357280"/>
            <a:ext cx="1116000" cy="166716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2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 Игра  «Отгадай-ка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!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997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он приходит втихомолк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робирается сквозь щёл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н для каждого из нас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Сны счастливые припа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ужжали зебры на куст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июльскую жа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вели, качаясь на хв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Живые кенг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0" y="52862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 Угомон.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 Про одного ученика и шесть единиц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"/>
          <p:cNvPicPr/>
          <p:nvPr/>
        </p:nvPicPr>
        <p:blipFill>
          <a:blip r:embed="rId1"/>
          <a:stretch/>
        </p:blipFill>
        <p:spPr>
          <a:xfrm>
            <a:off x="5929200" y="1071720"/>
            <a:ext cx="2446560" cy="1699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1333440" cy="1771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3"/>
          <a:stretch/>
        </p:blipFill>
        <p:spPr>
          <a:xfrm>
            <a:off x="6572160" y="3786120"/>
            <a:ext cx="2336760" cy="15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2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 Игра  «Отгадай-ка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!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Белый шут и рыжий шу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азговор такой ведут: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 теперь без грам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падёш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леко без грамоты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 уйдё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143000" y="54291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1. Цирк.      2. Кот и лодыри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271960" cy="2443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5929200" y="3286080"/>
            <a:ext cx="1513080" cy="2100240"/>
          </a:xfrm>
          <a:prstGeom prst="rect">
            <a:avLst/>
          </a:prstGeom>
          <a:ln w="0">
            <a:noFill/>
          </a:ln>
        </p:spPr>
      </p:pic>
      <p:sp>
        <p:nvSpPr>
          <p:cNvPr id="278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13</a:t>
            </a:r>
            <a:r>
              <a:rPr b="1" lang="en-US" sz="4400" spc="-1" strike="noStrike">
                <a:solidFill>
                  <a:srgbClr val="336600"/>
                </a:solidFill>
                <a:latin typeface="Garamond"/>
              </a:rPr>
              <a:t>. Я начну, а ты продолжи</a:t>
            </a: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357200"/>
            <a:ext cx="74008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Заповеди фотоохот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0" y="23572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чешь в лесу снимать -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4429080" y="235728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научись по лесу ходить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"/>
          <p:cNvSpPr/>
          <p:nvPr/>
        </p:nvSpPr>
        <p:spPr>
          <a:xfrm>
            <a:off x="428760" y="32148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Хоче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увидеть –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3643200" y="3143160"/>
            <a:ext cx="47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тань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 невидимым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71680" y="4000680"/>
            <a:ext cx="42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ять зверя быстро,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 flipH="1">
            <a:off x="4357800" y="40006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да отыскать долго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571680" y="4857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и снимать что попало –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5500800" y="48578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вредно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"/>
          <p:cNvPicPr/>
          <p:nvPr/>
        </p:nvPicPr>
        <p:blipFill>
          <a:blip r:embed="rId1"/>
          <a:stretch/>
        </p:blipFill>
        <p:spPr>
          <a:xfrm>
            <a:off x="7000920" y="4500720"/>
            <a:ext cx="1639800" cy="1285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"/>
          <p:cNvPicPr/>
          <p:nvPr/>
        </p:nvPicPr>
        <p:blipFill>
          <a:blip r:embed="rId2"/>
          <a:stretch/>
        </p:blipFill>
        <p:spPr>
          <a:xfrm>
            <a:off x="6572160" y="1214280"/>
            <a:ext cx="126360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4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.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гра. Волшебный ключ.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???????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121428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Arial"/>
              </a:rPr>
              <a:t>Р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5"/>
          <p:cNvSpPr/>
          <p:nvPr/>
        </p:nvSpPr>
        <p:spPr>
          <a:xfrm>
            <a:off x="5857920" y="407196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1"/>
          <p:cNvSpPr/>
          <p:nvPr/>
        </p:nvSpPr>
        <p:spPr>
          <a:xfrm>
            <a:off x="442908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3"/>
          <p:cNvSpPr/>
          <p:nvPr/>
        </p:nvSpPr>
        <p:spPr>
          <a:xfrm>
            <a:off x="378612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4"/>
          <p:cNvSpPr/>
          <p:nvPr/>
        </p:nvSpPr>
        <p:spPr>
          <a:xfrm>
            <a:off x="185724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5"/>
          <p:cNvSpPr/>
          <p:nvPr/>
        </p:nvSpPr>
        <p:spPr>
          <a:xfrm>
            <a:off x="314316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6"/>
          <p:cNvSpPr/>
          <p:nvPr/>
        </p:nvSpPr>
        <p:spPr>
          <a:xfrm>
            <a:off x="507204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18"/>
          <p:cNvSpPr/>
          <p:nvPr/>
        </p:nvSpPr>
        <p:spPr>
          <a:xfrm>
            <a:off x="1071720" y="300024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19"/>
          <p:cNvSpPr/>
          <p:nvPr/>
        </p:nvSpPr>
        <p:spPr>
          <a:xfrm>
            <a:off x="1714680" y="300024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0"/>
          <p:cNvSpPr/>
          <p:nvPr/>
        </p:nvSpPr>
        <p:spPr>
          <a:xfrm>
            <a:off x="2357280" y="30002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21"/>
          <p:cNvSpPr/>
          <p:nvPr/>
        </p:nvSpPr>
        <p:spPr>
          <a:xfrm>
            <a:off x="3000240" y="30002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22"/>
          <p:cNvSpPr/>
          <p:nvPr/>
        </p:nvSpPr>
        <p:spPr>
          <a:xfrm>
            <a:off x="4286160" y="30002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23"/>
          <p:cNvSpPr/>
          <p:nvPr/>
        </p:nvSpPr>
        <p:spPr>
          <a:xfrm>
            <a:off x="3643200" y="30002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24"/>
          <p:cNvSpPr/>
          <p:nvPr/>
        </p:nvSpPr>
        <p:spPr>
          <a:xfrm>
            <a:off x="4929120" y="30002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25"/>
          <p:cNvSpPr/>
          <p:nvPr/>
        </p:nvSpPr>
        <p:spPr>
          <a:xfrm>
            <a:off x="7500960" y="292896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26"/>
          <p:cNvSpPr/>
          <p:nvPr/>
        </p:nvSpPr>
        <p:spPr>
          <a:xfrm>
            <a:off x="6929280" y="2928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27"/>
          <p:cNvSpPr/>
          <p:nvPr/>
        </p:nvSpPr>
        <p:spPr>
          <a:xfrm>
            <a:off x="6357960" y="292896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28"/>
          <p:cNvSpPr/>
          <p:nvPr/>
        </p:nvSpPr>
        <p:spPr>
          <a:xfrm>
            <a:off x="392904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29"/>
          <p:cNvSpPr/>
          <p:nvPr/>
        </p:nvSpPr>
        <p:spPr>
          <a:xfrm>
            <a:off x="328608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30"/>
          <p:cNvSpPr/>
          <p:nvPr/>
        </p:nvSpPr>
        <p:spPr>
          <a:xfrm>
            <a:off x="264312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1"/>
          <p:cNvSpPr/>
          <p:nvPr/>
        </p:nvSpPr>
        <p:spPr>
          <a:xfrm>
            <a:off x="200016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32"/>
          <p:cNvSpPr/>
          <p:nvPr/>
        </p:nvSpPr>
        <p:spPr>
          <a:xfrm>
            <a:off x="135720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33"/>
          <p:cNvSpPr/>
          <p:nvPr/>
        </p:nvSpPr>
        <p:spPr>
          <a:xfrm>
            <a:off x="71424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Р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35"/>
          <p:cNvSpPr/>
          <p:nvPr/>
        </p:nvSpPr>
        <p:spPr>
          <a:xfrm>
            <a:off x="5286240" y="407196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36"/>
          <p:cNvSpPr/>
          <p:nvPr/>
        </p:nvSpPr>
        <p:spPr>
          <a:xfrm>
            <a:off x="2357280" y="50720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37"/>
          <p:cNvSpPr/>
          <p:nvPr/>
        </p:nvSpPr>
        <p:spPr>
          <a:xfrm>
            <a:off x="1785960" y="507204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38"/>
          <p:cNvSpPr/>
          <p:nvPr/>
        </p:nvSpPr>
        <p:spPr>
          <a:xfrm>
            <a:off x="3000240" y="50720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9"/>
          <p:cNvSpPr/>
          <p:nvPr/>
        </p:nvSpPr>
        <p:spPr>
          <a:xfrm>
            <a:off x="3571920" y="507204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40"/>
          <p:cNvSpPr/>
          <p:nvPr/>
        </p:nvSpPr>
        <p:spPr>
          <a:xfrm>
            <a:off x="2500200" y="214308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41"/>
          <p:cNvSpPr/>
          <p:nvPr/>
        </p:nvSpPr>
        <p:spPr>
          <a:xfrm>
            <a:off x="1214280" y="507204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43"/>
          <p:cNvSpPr/>
          <p:nvPr/>
        </p:nvSpPr>
        <p:spPr>
          <a:xfrm>
            <a:off x="4357800" y="507204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4"/>
          <p:cNvSpPr/>
          <p:nvPr/>
        </p:nvSpPr>
        <p:spPr>
          <a:xfrm>
            <a:off x="0" y="150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РУССКИЙ ЧЕЛОВЕК БЕЗ РАДУГИ НЕ  ЖИВЁТ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.П.БАЖ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71280" y="1000080"/>
            <a:ext cx="907272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1. Игра  «Веришь - не веришь?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зеро   Ямное.  Хрустальное озер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Холодной зимней ночью вблизи  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зера Ямного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 послышался сильный грохот, кто-то потом сравнил его с раскатами грома, хотя небо было чистое и звёздное. И озера не стало. Вместе с рыбой. Говорят, за одну ночь. Хорошо, хоть рыбаков над лунками не было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857160" y="9540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Arial"/>
              </a:rPr>
              <a:t>15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. «Почемучкины»  вопросы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Почему под снегом крапива мягка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Почему розу называют «царицей цветов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Почему полярную сову в наших краях называют незваным гост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Почему лесные тайны просто так человеку не открываютс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286000" cy="12924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" descr=""/>
          <p:cNvPicPr/>
          <p:nvPr/>
        </p:nvPicPr>
        <p:blipFill>
          <a:blip r:embed="rId2"/>
          <a:stretch/>
        </p:blipFill>
        <p:spPr>
          <a:xfrm>
            <a:off x="6516720" y="4221000"/>
            <a:ext cx="1930320" cy="15764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"/>
          <p:cNvPicPr/>
          <p:nvPr/>
        </p:nvPicPr>
        <p:blipFill>
          <a:blip r:embed="rId3"/>
          <a:stretch/>
        </p:blipFill>
        <p:spPr>
          <a:xfrm>
            <a:off x="3635280" y="4508640"/>
            <a:ext cx="214308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9178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16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. Игра в кругу «Оказывается»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Меня удивило»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ме у Андерсенов у мальчика был только один благодарный слушатель – старый кот по имени Карл. Но у Карла был крупный недостаток: кот часто засыпал, не дослушав до конца интересную сказку. Кошачьи годы, как говорится, брали своё. Но мальчик не сердился на старого кота: он всё ему прощал за то, что Карл никогда не сомневался в существовании колдуний, трубочистов, говорящих цвет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3643200" y="4786200"/>
            <a:ext cx="928800" cy="1495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468360" y="0"/>
            <a:ext cx="842328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35812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3929040" cy="594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4572000" y="285840"/>
            <a:ext cx="3672000" cy="58878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9"/>
          <p:cNvSpPr/>
          <p:nvPr/>
        </p:nvSpPr>
        <p:spPr>
          <a:xfrm>
            <a:off x="4357800" y="62866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ДОМО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1. Игра  «Веришь - не веришь?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лс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жды в редакцию детской газеты позвонил…Карлсон и пожелал, чтобы его поздравили с днём рождения. Как известно,  с Карлсоном не спор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ишь - не веришь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857160" y="992160"/>
            <a:ext cx="7215120" cy="586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857160" y="992160"/>
            <a:ext cx="7215120" cy="586584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2.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Улица «Растеряшек».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Игра </a:t>
            </a:r>
            <a:r>
              <a:rPr b="1" lang="en-US" sz="4200" spc="-1" strike="noStrike">
                <a:solidFill>
                  <a:srgbClr val="0033cc"/>
                </a:solidFill>
                <a:latin typeface="Garamond"/>
              </a:rPr>
              <a:t>«Кто здесь был и что забыл?»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71360" y="1599840"/>
            <a:ext cx="761508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4" descr=""/>
          <p:cNvPicPr/>
          <p:nvPr/>
        </p:nvPicPr>
        <p:blipFill>
          <a:blip r:embed="rId1"/>
          <a:stretch/>
        </p:blipFill>
        <p:spPr>
          <a:xfrm>
            <a:off x="547560" y="1928880"/>
            <a:ext cx="168444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3071880" y="1785960"/>
            <a:ext cx="2071800" cy="2584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"/>
          <p:cNvPicPr/>
          <p:nvPr/>
        </p:nvPicPr>
        <p:blipFill>
          <a:blip r:embed="rId3"/>
          <a:stretch/>
        </p:blipFill>
        <p:spPr>
          <a:xfrm>
            <a:off x="5500800" y="1857240"/>
            <a:ext cx="3321000" cy="2503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" descr=""/>
          <p:cNvPicPr/>
          <p:nvPr/>
        </p:nvPicPr>
        <p:blipFill>
          <a:blip r:embed="rId4"/>
          <a:stretch/>
        </p:blipFill>
        <p:spPr>
          <a:xfrm>
            <a:off x="571680" y="4357800"/>
            <a:ext cx="1785600" cy="1900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240" y="138960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880" y="24944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160" y="34563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1800" y="4618440"/>
            <a:ext cx="52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286080" y="471852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чать, герб, книга, букварь  Ивана Фёдорова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000840" y="3357720"/>
            <a:ext cx="1496880" cy="99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6715080" y="928800"/>
            <a:ext cx="1825560" cy="219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642960" y="3929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3357720" y="4500720"/>
            <a:ext cx="19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5"/>
          <a:stretch/>
        </p:blipFill>
        <p:spPr>
          <a:xfrm>
            <a:off x="357120" y="1928880"/>
            <a:ext cx="2071800" cy="128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6"/>
          <a:stretch/>
        </p:blipFill>
        <p:spPr>
          <a:xfrm>
            <a:off x="3786120" y="1928880"/>
            <a:ext cx="1663920" cy="2155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3"/>
          <p:cNvSpPr/>
          <p:nvPr/>
        </p:nvSpPr>
        <p:spPr>
          <a:xfrm>
            <a:off x="5857920" y="471492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6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ссеянны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6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Дам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6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роб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6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н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0" y="428760"/>
            <a:ext cx="7215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 Улица «Растеряшек». Игра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«Кто здесь был и что забыл?»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7"/>
          <a:stretch/>
        </p:blipFill>
        <p:spPr>
          <a:xfrm>
            <a:off x="2571840" y="2786040"/>
            <a:ext cx="577800" cy="81900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37960" y="1357200"/>
            <a:ext cx="1476720" cy="177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3286080" y="1357200"/>
            <a:ext cx="2286000" cy="165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5286240" y="3857760"/>
            <a:ext cx="2001960" cy="15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4"/>
          <a:stretch/>
        </p:blipFill>
        <p:spPr>
          <a:xfrm>
            <a:off x="1857240" y="1405080"/>
            <a:ext cx="1249560" cy="166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5"/>
          <a:stretch/>
        </p:blipFill>
        <p:spPr>
          <a:xfrm>
            <a:off x="57240" y="3929040"/>
            <a:ext cx="2085840" cy="14907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2"/>
          <p:cNvSpPr/>
          <p:nvPr/>
        </p:nvSpPr>
        <p:spPr>
          <a:xfrm flipH="1">
            <a:off x="500040" y="923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6"/>
          <a:stretch/>
        </p:blipFill>
        <p:spPr>
          <a:xfrm>
            <a:off x="7429680" y="3714840"/>
            <a:ext cx="1357200" cy="171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7"/>
          <a:stretch/>
        </p:blipFill>
        <p:spPr>
          <a:xfrm>
            <a:off x="2340000" y="3714840"/>
            <a:ext cx="1393920" cy="171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8"/>
          <a:stretch/>
        </p:blipFill>
        <p:spPr>
          <a:xfrm>
            <a:off x="5857920" y="1357200"/>
            <a:ext cx="2422440" cy="1571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9"/>
          <a:stretch/>
        </p:blipFill>
        <p:spPr>
          <a:xfrm>
            <a:off x="3857760" y="3643200"/>
            <a:ext cx="1287360" cy="20113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2"/>
          <p:cNvSpPr/>
          <p:nvPr/>
        </p:nvSpPr>
        <p:spPr>
          <a:xfrm>
            <a:off x="2500200" y="928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3"/>
          <p:cNvSpPr/>
          <p:nvPr/>
        </p:nvSpPr>
        <p:spPr>
          <a:xfrm>
            <a:off x="285840" y="2142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Улица «Загадок»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йди лишнюю картинку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4786200" y="9288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7286760" y="928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1357200" y="5500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3143160" y="5500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8"/>
          <p:cNvSpPr/>
          <p:nvPr/>
        </p:nvSpPr>
        <p:spPr>
          <a:xfrm>
            <a:off x="4643280" y="5715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9"/>
          <p:cNvSpPr/>
          <p:nvPr/>
        </p:nvSpPr>
        <p:spPr>
          <a:xfrm>
            <a:off x="6715080" y="53578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0"/>
          <p:cNvSpPr/>
          <p:nvPr/>
        </p:nvSpPr>
        <p:spPr>
          <a:xfrm>
            <a:off x="8143920" y="54291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4.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Улица «Сказочных героев». Игра «Кто ты? Откуда ты?»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859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оздал первый печа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ок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великий художник?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напечатал первую книгу?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оё имя помнят в веках?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кто? Откуда т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714920" y="500076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ван Фёдоров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 типограф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5857920" y="1500120"/>
            <a:ext cx="2517840" cy="34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4200" spc="-1" strike="noStrike">
                <a:solidFill>
                  <a:srgbClr val="0033cc"/>
                </a:solidFill>
                <a:latin typeface="Garamond"/>
              </a:rPr>
              <a:t>. Улица «Сказочных героев». Игра «Кто ты? Откуда ты?»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.Я.Марша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идел на стене?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валился во сне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бя может соб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левская конница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ты? Откуда ты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785880" y="49291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алтай-Болтай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 стихотворения С.Я.Маршак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98" descr=""/>
          <p:cNvPicPr/>
          <p:nvPr/>
        </p:nvPicPr>
        <p:blipFill>
          <a:blip r:embed="rId1"/>
          <a:stretch/>
        </p:blipFill>
        <p:spPr>
          <a:xfrm>
            <a:off x="5500800" y="2143080"/>
            <a:ext cx="2500200" cy="240984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омой 13">
            <a:hlinkClick r:id="" action="ppaction://hlinkshowjump?jump=firstslide"/>
          </p:cNvPr>
          <p:cNvSpPr/>
          <p:nvPr/>
        </p:nvSpPr>
        <p:spPr>
          <a:xfrm>
            <a:off x="82152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12594" y="3837"/>
                </a:moveTo>
                <a:lnTo>
                  <a:pt x="15170" y="6448"/>
                </a:ln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lnTo>
                  <a:pt x="19557" y="10800"/>
                </a:lnTo>
                <a:lnTo>
                  <a:pt x="17903" y="10800"/>
                </a:lnTo>
                <a:lnTo>
                  <a:pt x="17903" y="17989"/>
                </a:lnTo>
                <a:lnTo>
                  <a:pt x="7285" y="17989"/>
                </a:lnTo>
                <a:lnTo>
                  <a:pt x="7285" y="10800"/>
                </a:lnTo>
                <a:lnTo>
                  <a:pt x="5631" y="10800"/>
                </a:lnTo>
                <a:close/>
              </a:path>
              <a:path fill="darkenLess" w="25188" h="21600">
                <a:moveTo>
                  <a:pt x="15170" y="6448"/>
                </a:moveTo>
                <a:lnTo>
                  <a:pt x="15170" y="4707"/>
                </a:lnTo>
                <a:lnTo>
                  <a:pt x="16946" y="4707"/>
                </a:lnTo>
                <a:lnTo>
                  <a:pt x="16946" y="8224"/>
                </a:lnTo>
                <a:close/>
              </a:path>
              <a:path fill="darkenLess" w="25188" h="21600">
                <a:moveTo>
                  <a:pt x="11671" y="14299"/>
                </a:moveTo>
                <a:lnTo>
                  <a:pt x="13517" y="14299"/>
                </a:lnTo>
                <a:lnTo>
                  <a:pt x="13517" y="17989"/>
                </a:lnTo>
                <a:lnTo>
                  <a:pt x="17903" y="17989"/>
                </a:lnTo>
                <a:lnTo>
                  <a:pt x="17903" y="10800"/>
                </a:lnTo>
                <a:lnTo>
                  <a:pt x="7285" y="10800"/>
                </a:lnTo>
                <a:lnTo>
                  <a:pt x="7285" y="17989"/>
                </a:lnTo>
                <a:lnTo>
                  <a:pt x="11671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7:35:42Z</dcterms:created>
  <dc:creator>207-9</dc:creator>
  <dc:description/>
  <dc:language>en-US</dc:language>
  <cp:lastModifiedBy>ольга</cp:lastModifiedBy>
  <dcterms:modified xsi:type="dcterms:W3CDTF">2012-01-04T18:00:01Z</dcterms:modified>
  <cp:revision>216</cp:revision>
  <dc:subject/>
  <dc:title>КРАСНАЯ  КНИГА</dc:title>
</cp:coreProperties>
</file>